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03D4A-F687-4D43-B8FF-7F226493C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1DF04-CE1F-4690-A751-81E7667DC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3A8A7-E04E-45ED-ADE5-4A0441A79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F9107-32C7-4BA7-9DC8-F13989D39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2CB91-FD21-4F6A-BBF8-202A13084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8F08A-6B50-474D-A1D6-752D0BB13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898C6-9D7D-4FCF-8954-E541A3C11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8592C-53D5-4DFA-9A98-1237A606D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8A86C-5AF1-4C57-9793-418009079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E1998-A450-4A79-8632-E0E4DFDD8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DF124-A7FF-454E-9916-BF85F5C81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E215C-2067-4DAC-AF1D-C937AAE17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EE69F-B464-4970-A26C-BBE28B75C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4DEDA-53E4-4E0F-868B-B5FA69DA4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1C67F-DDF3-4AF3-B06C-B98FFA134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A6D09-83E2-4FDD-8A6E-49DED71F7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479-261D-4D93-8AE9-75362164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732-8F17-4CDC-A466-B2963A51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4FE-07E8-41C0-BBED-49A526AC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992-8DDE-4855-930D-DE330352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FD6-05D2-4D91-A539-A2955ECB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CC5-15C0-4FC2-9446-1B2772DC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6D4-9913-4603-8975-D4926C58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AAA-72A9-45C5-957A-38C8D6F3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50C-8E7D-4D4C-A0E0-A824EC2C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95D-08B2-451D-9EC1-44D43AF3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B07-7517-49F7-895C-13DECCE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1AE-3C92-4D52-B23C-1026F66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35782-A389-4644-98AD-2ADD65921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4000"/>
            <a:ext cx="1008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дошкольное образовательное учреждение детский сад №39 Невского района 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1306440"/>
            <a:ext cx="10080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4586"/>
                </a:solidFill>
                <a:latin typeface="Comic Sans MS"/>
              </a:rPr>
              <a:t>Презентаци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4586"/>
                </a:solidFill>
                <a:latin typeface="Comic Sans MS"/>
              </a:rPr>
              <a:t>«Какие бывают музе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0080" y="6734160"/>
            <a:ext cx="99806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спитатель: Петрова Юлия Владими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3676320"/>
            <a:ext cx="9070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Краеведчески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9840" y="4206960"/>
            <a:ext cx="98661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4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Краеведческий музей – это музей, в котором представленны экспонаты, рассказывающие о прошлом и настоящем того или иного края или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-289080" y="4900680"/>
            <a:ext cx="67690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Государственный краеведческий музей «Нарвская заста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6335640" y="4932360"/>
            <a:ext cx="3408480" cy="2422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44360" y="6083280"/>
            <a:ext cx="435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В основе экспозиции лежит история дороги вдоль юго-западного берега Финского залива, начиная с VIII века по настоящ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2969280" y="17460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рхеологически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131760" y="603360"/>
            <a:ext cx="99378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Археологический музей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— музей, в котором хранятся и выставляются археологические нах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3203280" y="930240"/>
            <a:ext cx="33901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Музей «Ниеншан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452760" y="1663560"/>
            <a:ext cx="30272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Экспозиция состоит из памятников археологии, обнаруженных в ходе изучения территории в устье реки Охты в начале 199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47600" y="1450800"/>
            <a:ext cx="3029040" cy="2130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770520" y="1409760"/>
            <a:ext cx="302904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280" y="3522240"/>
            <a:ext cx="10080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Музеи истории блокады Ленинграда и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4597560"/>
            <a:ext cx="684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6699"/>
                </a:solidFill>
                <a:latin typeface="Comic Sans MS"/>
              </a:rPr>
              <a:t>Государственный мемориальный музей обороны и блокады Ленин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840360" y="4608360"/>
            <a:ext cx="3084840" cy="2232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60360" y="5586480"/>
            <a:ext cx="383364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7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Музей, посвящённый истории Ленинградской битвы в годы Великой Отечественной Вой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960720" y="6099120"/>
            <a:ext cx="2808360" cy="13366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3404880" y="13824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Историко-бытовые муз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46080" y="507960"/>
            <a:ext cx="9963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Историко-бытовой музей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это исторических музей, документирующих бытовой аспект жизни различных слоёв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2468880" y="1085760"/>
            <a:ext cx="4730040" cy="4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6699"/>
                </a:solidFill>
                <a:latin typeface="Comic Sans MS"/>
              </a:rPr>
              <a:t>Санкт-Петербургский музей игр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7920" y="1677960"/>
            <a:ext cx="418608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Музей показывает игрушку не только как уникальное явление материальной культуры, но и как особый вид искусства, в котором сплетаются древние национальные традиции и самые современные художественны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7432560" y="971640"/>
            <a:ext cx="2492640" cy="197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4230720" y="1803240"/>
            <a:ext cx="260964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20240"/>
            <a:ext cx="100807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Военно-исторические муз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320" y="1015920"/>
            <a:ext cx="10058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7000"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Военный музей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— музей, целиком посвящённый вооружённым силам, военной технике и истор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1979640"/>
            <a:ext cx="4680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Comic Sans MS"/>
              </a:rPr>
              <a:t>Крейсер «Авро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2700360"/>
            <a:ext cx="4140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51000"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Экспозиции «100-летняя история крейсера „Аврора“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79280" y="4211640"/>
            <a:ext cx="4556160" cy="3041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4896000" y="2068560"/>
            <a:ext cx="5005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3000"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Военно-исторический музей артиллерии, инженерных войск и войск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4896000" y="6227640"/>
            <a:ext cx="503856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Музей обладающий обширными коллекциями артиллерии, стрелкового и холодного оружия, военно-инженерной техники, средств военной связи, боевых знамен, военной формы оде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084640" y="3543480"/>
            <a:ext cx="466272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0" y="56880"/>
            <a:ext cx="9394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отанический музей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отаниче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218120" y="2363760"/>
            <a:ext cx="266040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12680" y="1763640"/>
            <a:ext cx="3843360" cy="2338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7572240" y="1563840"/>
            <a:ext cx="2000520" cy="252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0" y="720720"/>
            <a:ext cx="10191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Ботани́ческий сад — территория, на которой с научно-исследовательской, просветительной и учебной целью культивируются, изучаются и демонстрируются коллекции живых растений из разных частей света и различных климатических з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3703320" y="428472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Музеи-памя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4"/>
          <a:stretch/>
        </p:blipFill>
        <p:spPr>
          <a:xfrm>
            <a:off x="171360" y="5292720"/>
            <a:ext cx="3322800" cy="207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6673680" y="4830840"/>
            <a:ext cx="3235320" cy="2539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3608280" y="5288040"/>
            <a:ext cx="2863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1008072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Comic Sans MS"/>
              </a:rPr>
              <a:t>Дворцово-парковые музеи-запове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5400720" y="930240"/>
            <a:ext cx="4454640" cy="2376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08080" y="930240"/>
            <a:ext cx="5192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3000"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Comic Sans MS"/>
              </a:rPr>
              <a:t>Государственный музей-заповедник «Царское Се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08080" y="2035080"/>
            <a:ext cx="4832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амятник мировой архитектуры и садово-паркового искусства XVIII — начала XX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5295960" y="4289400"/>
            <a:ext cx="4535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Дворцово-парковый ансамбль «Петергоф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5184720" y="6040440"/>
            <a:ext cx="50389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амятник мировой архитектуры и дворцово-паркового искусства XVIII — XIX ве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49120" y="4268880"/>
            <a:ext cx="459756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6920" y="107640"/>
            <a:ext cx="9070920" cy="6838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ие еще музеи в нашем городе вы знаете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В каких побывали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особенно понравилось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-179280"/>
            <a:ext cx="9612360" cy="77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юдям всегда хотелось сохранить что-то необычное, интересное или красивое, чтобы  показать  своим  детям, внукам. Одни  люди очень любил и  живопись и покупали картины, которые потом оставались их детям. Другие собирали посуду, игрушки, книги  и т.д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Большое количество каких-то определенных предметов называетс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лекци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лек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систематизированное собрание предметов, объединённое по какому-то конкретному признаку, имеющее внутреннюю целостность и принадлежащее конкретному владельцу - частному лицу, организации, государству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лекции находились дома  у тех, кто их собирал, и  их могли  увидеть совсем  мало людей. И тогда люди стали размещать   свои  коллекции в специальных помещениях, куда могли  прийти  все желающие и  посмотреть эти коллекции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А как же называется такое помещение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ерно!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уз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ов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музей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очень интересное. Что оно означает? Давайте попробуем объяснить, что такое музей? Откроем тайну музея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чтобы точно найти определение слова «Музей» обратимся к умным книгам. Откроем «Детскую энциклопедию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Музей – это греческое слово. «Муза» – богиня творчества, красоты, а слово «muzeon» – дворец музы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Самый первый музей был открыт очень давно, несколько веков назад, в Греции. Музей – это место под открытым небом, здания, дворцы, где собраны коллекции вещей по темам, по видам. Но бывают и малые музеи: дом, квартира, комната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ервый музей в России появился в нашем городе при царе Петре I и назывался „кабинет редкостей“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25280"/>
            <a:ext cx="90709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Кто работает в муз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46160" y="762120"/>
            <a:ext cx="97200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080" bIns="45000" anchor="t">
            <a:normAutofit fontScale="94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Times New Roman"/>
              </a:rPr>
              <a:t>Экскурсоводы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- они проводят экскурсии, интересно рассказывают о музейных экспонатах, их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Times New Roman"/>
              </a:rPr>
              <a:t>Смотрители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помогают соблюдать порядок в зале при экскурсиях, могут подсказать, где и что посмотр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Times New Roman"/>
              </a:rPr>
              <a:t>Реставраторы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они работают в музейных мастерских, восстанавливают, приводят в порядок, сохраняют от повреждений музейные экспон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И конечно </a:t>
            </a:r>
            <a:r>
              <a:rPr b="1" lang="de-DE" sz="1800" spc="-1" strike="noStrike">
                <a:solidFill>
                  <a:srgbClr val="0000cc"/>
                </a:solidFill>
                <a:latin typeface="Times New Roman"/>
              </a:rPr>
              <a:t>ученые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без работы которых мы не смогли бы получить знания о тех или иных предметах, событиях. Они готовят выставки редки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Прежде чем отправиться в музей, нужно знать, как себя вести. Давайте вспомн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Comic Sans MS"/>
              </a:rPr>
              <a:t>Правила поведения в муз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В музее нельзя громко разговаривать, чтобы не мешать другим посетител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Следует внимательно слушать экскурсов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Нельзя трогать руками музейные экспон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Не бегать по муз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120240"/>
            <a:ext cx="90709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Художественные муз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900000"/>
            <a:ext cx="9961560" cy="15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7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Худо́жественная галере́я — пространство, предназначенное для демонстрации изобразительного искусства. Выставленные произведения часто предлагаются на продажу. Иногда художественными галереями называются художественные музе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240" y="5411880"/>
            <a:ext cx="98964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Эрмитаж - государственный-художественный и культурно-исторический музей в Санкт-Петербурге, один из крупнейших музеев мира. Занимает пять зданий. Почти за два с половиной столетия в Эрмитаже собрана одна из крупнейших коллекций, насчитывающая около трех миллионов произведений искусства и памятников мировой культуры, начиная с каменного века и до нашего стол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008000" y="2558880"/>
            <a:ext cx="77043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93600"/>
            <a:ext cx="90709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Русский музей -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крупнейшее собрание российского искусства в ми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446120"/>
            <a:ext cx="1003608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8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Госуда́рственный Ру́сский музе́й - крупнейшее собрание российского искусства в мире. Находится в центральной части Санкт-Петербурга. Современный Русский музей представляет собой сложный музейный комплекс. Основная экспозиционная часть музея занимает пять зданий: Михайловский дворец (главное здание музея) с выставочным корпусом Бенуа, Михайловский (Инженерный) замок, Мраморный дворец, Строгановский дворец и Летний дворец Петра 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044720" y="4356000"/>
            <a:ext cx="77025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9539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В состав Русского музея входя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2400" y="3139920"/>
            <a:ext cx="46796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Михайлов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73640" y="826920"/>
            <a:ext cx="3564000" cy="2345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335640" y="3095640"/>
            <a:ext cx="3240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Летн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179280" y="900000"/>
            <a:ext cx="4249800" cy="234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79280" y="3765600"/>
            <a:ext cx="4846680" cy="2809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180720" y="6861240"/>
            <a:ext cx="45471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Сад Михайловского (Инженерного) за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5369040" y="3765600"/>
            <a:ext cx="4368600" cy="2809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5286240" y="6575400"/>
            <a:ext cx="5038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Домик Петра I на Петровской набереж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0"/>
            <a:ext cx="90709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4d"/>
                </a:solidFill>
                <a:latin typeface="Comic Sans MS"/>
              </a:rPr>
              <a:t>Естественно-научные муз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3760" y="768240"/>
            <a:ext cx="999324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Профильная группа музеев, собрания которых документируют процессы, происходящие в природе, и развитие естественнонаучных дисциплин. Включает антропологические, биологические, ботанические, зоологические, минералогические, почвенные и другие музе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Российский государственный музей Арктики и Антар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Музей в Санкт-Петербурге, посвящённый историческим страницам научных исследований Арктики и Антарктики, а также прилегающих к Арктике советских и российских территорий и Северного морского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16000" y="2676600"/>
            <a:ext cx="2879640" cy="243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3332160" y="2676600"/>
            <a:ext cx="3090960" cy="1942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546960" y="305928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3480" y="5116680"/>
            <a:ext cx="9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Зоологический музей Зоологического института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3600360" y="6505560"/>
            <a:ext cx="33829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Здесь выставлено около 30 тысяч экземпляров животных из всех районов Земного ш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179280" y="558000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5"/>
          <a:stretch/>
        </p:blipFill>
        <p:spPr>
          <a:xfrm>
            <a:off x="7272360" y="5533920"/>
            <a:ext cx="1612800" cy="18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20240"/>
            <a:ext cx="84596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Литературные муз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900000"/>
            <a:ext cx="1008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Это музей литературного наследия, истории литературы и литературных процес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248000" y="2095560"/>
            <a:ext cx="5688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73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Всеросси́йский музе́й А. С. Пу́шкина — музейный комплекс в Санкт-Петербурге и городе Пушк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360360" y="1403280"/>
            <a:ext cx="3166920" cy="2419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063800" y="3892680"/>
            <a:ext cx="795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Театральные и музыкальные муз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4699080" y="4524480"/>
            <a:ext cx="5113080" cy="29145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0" y="4559400"/>
            <a:ext cx="482436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Санкт-Петербургский музей циркового искусства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— это первый в мире музей, посвященный истории цирка. Музей расположен в здании Большого Санкт-Петербургского государственного цирка на Фонт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56880"/>
            <a:ext cx="9070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Этнографиче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3760" y="900000"/>
            <a:ext cx="100569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rmAutofit fontScale="97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Научные учреждения, осуществляющие сбор, хранение, изучение и популяризацию коллекций, характеризующих культуру и быт, социальные отношения и общественный строй различных нар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735280" y="4038480"/>
            <a:ext cx="4429080" cy="2470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36360" y="6595920"/>
            <a:ext cx="1011708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rmAutofit fontScale="97000"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Обладает уникальной коллекцией предметов старины, раскрывающих историю и быт многих народов.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6560" y="2160720"/>
            <a:ext cx="92538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Музей антропологии и этнографии имени Петра Великого Российской академии наук </a:t>
            </a:r>
            <a:r>
              <a:rPr b="1" lang="de-DE" sz="3200" spc="-1" strike="noStrike">
                <a:solidFill>
                  <a:srgbClr val="22228b"/>
                </a:solidFill>
                <a:latin typeface="Comic Sans MS"/>
              </a:rPr>
              <a:t>(Кунсткаме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>Acer</dc:creator>
  <dc:description/>
  <dc:language>en-US</dc:language>
  <cp:lastModifiedBy>Юлия Петрова</cp:lastModifiedBy>
  <dcterms:modified xsi:type="dcterms:W3CDTF">2022-11-21T21:56:57Z</dcterms:modified>
  <cp:revision>23</cp:revision>
  <dc:subject/>
  <dc:title>Государственное бюджетное дошкольное образовательное учреждение детский сад №39 Невского района Санкт-Петербурга</dc:title>
</cp:coreProperties>
</file>