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C46-3529-4206-92A7-50252210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CC2-B580-4FF5-BBB8-B367C31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551-D323-43D8-B283-56B70A0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4FC-B3E1-4823-99CC-3C1CE87A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7FE-2FF6-462E-B910-6431226F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EA8-B2F4-41AC-976C-3933A43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9B8A-FE52-4E04-A759-4D13C7A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D462-5C0C-4BA1-9BC8-C73E2682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1A7-1D8E-44F8-9078-B7705C0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8E0-0372-41F9-A299-09A5D0CF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E6F-B14A-43C5-8051-ADF714A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B4A-CFBF-4E05-B55B-9E93A38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8C9F-9965-41B8-B561-CE00EE41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9A8C-88AC-4352-B84F-3464D15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8BD7-FCE3-445A-8B34-3A557A0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E961-F772-4E9D-9B37-A55A6F90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874-EF7F-41E1-9276-81D11EB5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0BFB-D5DA-46A0-A401-E96CD8E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5B4C-15F5-43FE-BE31-AB16CDF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5743-1686-48A0-809A-988943F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868D-F693-4BB0-8E13-3A9A04A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539F-2A7D-4560-BA06-39BF570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147-E100-4677-B769-BF4DD25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E736-572F-4C64-8E63-EDC48B21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7CED-658F-4D90-87F0-36012AF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3E37-EA72-45B9-A42C-67F8778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9614-E793-4909-80EF-3A704651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78AD-D454-4794-B54C-F93FF87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3B14-0B20-4D07-B942-24A7959C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A083-2898-4D32-8F97-9B1C0A8A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BD8C2-E2EE-4521-A713-74D3DA59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F42F-6CFB-4C9A-95F7-F2005C71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40DD-87B1-4B45-B470-0AE37BD1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E07-DEB4-477F-A146-3A4CEEF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590DD-42D7-414B-B1C4-558AC4C2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75A5-6657-4DCB-BF68-4B4FE62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4F76-7A18-4A92-AB19-8164068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F7A6-2063-46D1-8160-B670AB4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01DC-8F41-4123-960F-FF585B9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56C2-CC87-419A-AF61-F20A9E5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8F81-733A-4127-A321-EEB0A016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E4BC-94E0-4231-AC59-0C72F6FD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2993-5295-4D52-8D46-A4F9908B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A607-6D58-40F9-9FCF-2E6C71E1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B4D-F76A-4A6D-A2D5-423EA9A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7749-A8DF-4292-91B1-93855D2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2490-A8F9-47BB-A8DA-30B5D6DD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1E8B-FFCC-4991-83E9-5651572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AD18-B240-4E27-BC6B-DE03ED96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0397-A293-45C7-B966-EFC5E23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B8E7-0864-49A9-9A20-148AB83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FB180-C365-48FF-BF86-6146E52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7E24-D644-4A15-B26F-EF397E9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487F-9728-4142-BBFC-F0C5AEC7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30F3-1144-4BBC-AB8A-D6631B53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77E-B187-4905-B3E5-8776701B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E798-E19F-4AD3-A80E-F791E099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0628-F167-4C20-96EC-71C748D2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3440-9C7B-41E8-903F-C576388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644C2-B298-4448-A860-5E6C24E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678F-13A1-4A9D-9638-2B66111E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83E1-3974-46B1-9C1C-C5BB19BD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F162-2AD4-4E91-A07D-1F86560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65CD5-721E-4747-8026-2294CB6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EBFF-104A-4075-A49C-1D05CBE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E9F2-260E-4355-934C-C98D3BF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658-51A0-4E1A-9B4C-94BFDD8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A80E-C7E4-4660-BBDF-B84F51B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3AF7-06B2-4791-BCAE-D291B131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F85C-C9E1-4BF8-8D7F-5EF6721D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4477B-AD16-4131-894C-07D8D581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C4EC-08AE-4C53-B091-52444B3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C131-AAE6-49C8-A0D2-8DE1C89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C11C-3751-493C-9E41-6E44395A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368A-CF49-49D2-A877-3A59215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5441E-D4CC-45B3-B1D3-307FEE2F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96F50-BFE3-40DD-8B7D-C1ECD7D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CC0-3411-43C2-9915-4F9029D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79C7-3458-4CFD-B128-EB9FFE4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B18E5-D6EA-489B-A362-60C057E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6CB64-BDF1-4A52-B64D-3161922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3976-3F3F-415D-972B-F93EEA0A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E7FA-2CDE-4AF7-A5BB-411E74D6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036-D07C-49D7-9C65-9D23B81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2C7-D75F-462F-89FB-4A01C70EF69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A9EA-3691-4710-9BA0-C86E77EF9E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8A18-628A-4177-BEE6-A1D0F01C85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D182-0949-4BC5-9E8A-E1D7F10248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CBD5-09B1-40BE-965F-2BE44BA023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133C-18E7-4CAC-9CE5-A9F21FD874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4039-211E-4D75-BF5C-779F682DC9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mistergid.ru/image/upload/2011-08-07/330026694634_1272141389_23.jpg" TargetMode="External"/><Relationship Id="rId3" Type="http://schemas.openxmlformats.org/officeDocument/2006/relationships/hyperlink" Target="http://detsad-kitty.ru/uploads/posts/2011-06/1307198404_zh.jpg" TargetMode="External"/><Relationship Id="rId4" Type="http://schemas.openxmlformats.org/officeDocument/2006/relationships/hyperlink" Target="http://nov-school11.ucoz.ru/_si/0/55085238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1"/>
          <a:stretch/>
        </p:blipFill>
        <p:spPr>
          <a:xfrm>
            <a:off x="1042920" y="2376360"/>
            <a:ext cx="2622600" cy="3311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2"/>
          <a:stretch/>
        </p:blipFill>
        <p:spPr>
          <a:xfrm>
            <a:off x="4284720" y="328464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3"/>
          <a:stretch/>
        </p:blipFill>
        <p:spPr>
          <a:xfrm>
            <a:off x="6622920" y="2467080"/>
            <a:ext cx="2521080" cy="28335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316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Правила дорожного движ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амка 1" descr=""/>
          <p:cNvPicPr/>
          <p:nvPr/>
        </p:nvPicPr>
        <p:blipFill>
          <a:blip r:embed="rId1"/>
          <a:stretch/>
        </p:blipFill>
        <p:spPr>
          <a:xfrm>
            <a:off x="1676520" y="622440"/>
            <a:ext cx="6370560" cy="5904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1692360" y="148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1692360" y="1844640"/>
            <a:ext cx="68403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Регулировщик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http://mistergid.ru/image/upload/2011-08-07/330026694634_1272141389_23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Переход по зебре 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http://detsad-kitty.ru/uploads/posts/2011-06/1307198404_zh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rbel"/>
              </a:rPr>
              <a:t>Светофор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http://nov-school11.ucoz.ru/_si/0/55085238.jpg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763640" y="364500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5"/>
          <a:stretch/>
        </p:blipFill>
        <p:spPr>
          <a:xfrm>
            <a:off x="6300720" y="3500280"/>
            <a:ext cx="2087640" cy="29242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7"/>
          <p:cNvSpPr/>
          <p:nvPr/>
        </p:nvSpPr>
        <p:spPr>
          <a:xfrm>
            <a:off x="1403280" y="4005360"/>
            <a:ext cx="4861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ированные страницы книги «Правила Дорожного Движения». Автор книги: Алиса Бочко 2014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teacher</cp:lastModifiedBy>
  <dcterms:modified xsi:type="dcterms:W3CDTF">2022-11-22T12:01:46Z</dcterms:modified>
  <cp:revision>10</cp:revision>
  <dc:subject/>
  <dc:title>ПРАВИЛА ДОРОЖНОГО ДВИЖЕНИЯ</dc:title>
</cp:coreProperties>
</file>