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05E-7CDB-4B6C-B98F-C7EB05F7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AF3-A88F-4A2D-9B37-AE9A4A4E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3DD-C552-4B05-8583-96FF973E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164-BF2D-4CD5-8AEF-D196A1D9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D54-300F-4FEF-94DB-592E4C6D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E1D1-F5A7-4CE6-ACF1-9972E1A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64BA-C1BA-45EF-8EC6-8F75109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E78D-A9A5-408E-AC8B-71D8567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A278-0DF8-4537-83E9-5D76D6F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BB40-59E5-4598-A47F-1A080900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DF9-0E88-4D7B-BE9B-782E293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634-6A30-46E6-881B-E951DD0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7DF-F4C1-4209-B3E7-F6A8BEB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0B8-B23C-4390-B02F-03CFB46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9B7B-9F8E-4516-B7E8-639AD68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89A-5035-447C-BD10-D6D99667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159F-9EB1-4B3B-AE3E-7E3CCF53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C87E-FF05-49EF-B654-9C06BB0A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0AB4-48E0-40AF-9429-782A393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A1B3-4449-44B7-9F80-EE52A22B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0228-5A8B-4BBF-828E-F32D43A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6BE0-CA3A-4503-B2AF-C8503E2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E12-7E63-4F84-B003-A513B04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4E9F-3F72-473C-852A-A3ACC29A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27E8-ECB4-4445-AB62-998A894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7072-0740-4F37-A100-99F099B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52E6-6805-44CC-B47D-3EC84C1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40B5-507B-44BE-926F-B361996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4115-A858-429F-ACB1-48E05D87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148E3-E8E6-4654-AFA7-FC8847E0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01C8-0DDB-4EE5-B6E0-A544227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5255-9EFA-45B7-B299-B4EBCEC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339A-3F73-4D03-B19F-CFCED6E4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E6A-353D-4B7D-BD4D-861609C7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EA89-7AFF-4428-BF67-A0ABE80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318E-CD8C-4717-8F87-A24BAB97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8033-D5C3-4F22-A42B-6243324A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3D05-4B7B-42C2-98CE-0A991D9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64D6-CBA0-4A07-8FB5-9923FD3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0BAA-48EA-446A-88B2-CF4ACDA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385E-2561-423D-8A1F-BEA2C6BB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A041-B9A3-4664-B69B-16A9207D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0319-1633-420A-A908-5E29E7E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0BCB-6256-46A4-8477-A6B9078A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088-A295-4032-8193-58C993CB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9CF7-682E-4424-A8BC-D3FFE245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164A-F089-4F0E-8A28-7C94EF4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AE41-74FD-41B2-8B98-3FB02626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1416-825E-49F0-8FF3-5FC96113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9749-F191-49A0-BC44-E38B359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F16E-FB70-4404-AE23-275CE9F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7C2C-7D03-42A0-86C9-2039A5F4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5F83-508B-467D-959C-1DE27CD2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6E6B-6A71-45C4-96D2-5457CF7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A744-D84E-49BB-85F0-0C72D36D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68E-C74D-4A70-9F17-D515557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C014-1645-49F4-BF9E-B0EF83A5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A4F4-D3A5-44D7-9645-FD278233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ADFFC-E6BE-40CF-AB0F-2317167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0AA9D-0503-4AD0-A903-DB9F2ABA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735C-0D20-4EF4-B5AE-4B5406A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431F-EB42-467A-B98F-D2DD5BEE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F3ED-7F66-4665-A4AD-F39368BD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AC8B-510C-4A2E-9B73-BB5110D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B313-72A0-4B23-AECE-C685E63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EDB41-E103-4676-83BB-52D5EAC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499-E3E5-4CA1-AE54-A5365FB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CE56-1980-4F3E-B4E7-A842160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77CF-6543-4F95-920A-09ED5430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3262-73EF-44FD-945F-F22A9419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F6A69-E36C-46D1-8393-4F9F2014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0C6F-2986-486D-BFF3-E146965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CAE2A-C3DB-430A-ADCC-5A71C3F0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943D1-E3A7-4C47-BA8D-B4C5D694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F4F1-A0C2-4C1B-A607-27A55169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478B-09C3-4B76-9186-0E83C3EC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414EC-FA73-4F82-B848-8C1DB0B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6AC-2E9F-439F-AECA-7E66019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16272-3A5F-4AD8-AD62-DE8489A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DE19-EAB9-4E80-B5C0-4A1A14C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4936-55D9-48E6-92C9-F7F46AB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6815-64F4-4CCE-A0B5-C73C7298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6602-96B7-4479-A6CF-9A5D752A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200-F782-4236-867F-205C908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1D66-E3DE-442C-A9FD-DDD7559262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A012-1164-47C9-82D9-369F743FEF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4D2A-285C-4558-8EEE-22970918B2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839-F18A-44A6-B30F-1491E96247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8A7-31CB-4250-9E99-124D037F70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FE0-91B6-4176-BD66-71BBFA0D6C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CD8B-F576-441E-BBE8-0DA531B521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mistergid.ru/image/upload/2011-08-07/330026694634_1272141389_23.jpg" TargetMode="External"/><Relationship Id="rId3" Type="http://schemas.openxmlformats.org/officeDocument/2006/relationships/hyperlink" Target="http://detsad-kitty.ru/uploads/posts/2011-06/1307198404_zh.jpg" TargetMode="External"/><Relationship Id="rId4" Type="http://schemas.openxmlformats.org/officeDocument/2006/relationships/hyperlink" Target="http://nov-school11.ucoz.ru/_si/0/55085238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1"/>
          <a:stretch/>
        </p:blipFill>
        <p:spPr>
          <a:xfrm>
            <a:off x="1042920" y="2376360"/>
            <a:ext cx="2622600" cy="3311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2"/>
          <a:stretch/>
        </p:blipFill>
        <p:spPr>
          <a:xfrm>
            <a:off x="4284720" y="328464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3"/>
          <a:stretch/>
        </p:blipFill>
        <p:spPr>
          <a:xfrm>
            <a:off x="6622920" y="2467080"/>
            <a:ext cx="2521080" cy="28335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316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Правила дорожного движ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амка 1" descr=""/>
          <p:cNvPicPr/>
          <p:nvPr/>
        </p:nvPicPr>
        <p:blipFill>
          <a:blip r:embed="rId1"/>
          <a:stretch/>
        </p:blipFill>
        <p:spPr>
          <a:xfrm>
            <a:off x="1676520" y="622440"/>
            <a:ext cx="6370560" cy="5904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1692360" y="148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1692360" y="1844640"/>
            <a:ext cx="68403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Регулировщик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mistergid.ru/image/upload/2011-08-07/330026694634_1272141389_23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Переход по зебре 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detsad-kitty.ru/uploads/posts/2011-06/1307198404_zh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Светофор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http://nov-school11.ucoz.ru/_si/0/55085238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763640" y="36450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5"/>
          <a:stretch/>
        </p:blipFill>
        <p:spPr>
          <a:xfrm>
            <a:off x="6300720" y="3500280"/>
            <a:ext cx="2087640" cy="29242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7"/>
          <p:cNvSpPr/>
          <p:nvPr/>
        </p:nvSpPr>
        <p:spPr>
          <a:xfrm>
            <a:off x="1403280" y="4005360"/>
            <a:ext cx="4861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ованные страницы книги «Правила Дорожного Движения». Автор книги: Алиса Бочко 2014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teacher</cp:lastModifiedBy>
  <dcterms:modified xsi:type="dcterms:W3CDTF">2022-11-22T12:01:46Z</dcterms:modified>
  <cp:revision>10</cp:revision>
  <dc:subject/>
  <dc:title>ПРАВИЛА ДОРОЖНОГО ДВИЖЕНИЯ</dc:title>
</cp:coreProperties>
</file>