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3F3-04B5-419F-8709-5D2C3396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145-7134-4270-AE7F-83CC926E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2E4-99D5-4F3A-8676-AC4D3691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2C7-AC50-4D49-838F-8016A032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E32C-7180-4687-921F-47E3B41D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077C-68D3-421F-B940-242555AC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1506-EDCE-409F-B0D3-EE1233C5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B979-60E5-4DC1-A418-C2E3ECDC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4859-C2D4-4E56-9ED4-668AD744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C247-D305-47DE-BC10-66873563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772D-11AE-41DF-B684-E9E95A7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38B-9713-438F-B8EF-F38A3625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2110-A38C-405C-9FF1-AAA0AC72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58F7-6ED5-49CF-920C-4B9483E6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4429-4F50-4153-9C22-CD01CC6C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BA01-C92B-4311-A63A-70B70683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22F3-0699-4EDC-9BB3-0C782562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7F2-C6EE-45CA-98F1-9FB78867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4D1-AD13-43F0-94F0-EFE17488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5D5-0C7F-496F-8986-8B495AD2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58A-1706-4B7D-B5F7-7EF649B4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F1C-47EF-4160-9DC4-2311CD44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54E-DFB6-460A-B7CA-BF5087EC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1A7-906F-4551-936C-333131EC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CB4B-01A2-4604-8EE2-FA04C682433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0FA0-D47D-45AF-8B36-66707F0A740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file:///&#1075;&#1086;&#1074;&#1086;&#1088;&#1080;&#1090;%20&#1052;&#1086;&#1089;&#1082;&#1074;&#1072;.mp3" TargetMode="External"/><Relationship Id="rId4" Type="http://schemas.openxmlformats.org/officeDocument/2006/relationships/hyperlink" Target="file:///&#1075;&#1086;&#1074;&#1086;&#1088;&#1080;&#1090;%20&#1052;&#1086;&#1089;&#1082;&#1074;&#1072;.mp3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-6480" y="4280040"/>
            <a:ext cx="9156960" cy="2584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85840" y="214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иём «Прогнозирование»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ема: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«Наш демографический портрет»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Разбираем каждое слово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ртрет –изображени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емографический – выделяем 2 сло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емо – народ, граф – пиш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А теперь определите тему урока и что мы узна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285840" y="5857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ием «Оратор»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1 минуту убедите своего собеседника в том, что изучение этой темы просто необходимо. Доказываем что ноябрь ещё не зима или иней это не сне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схт убеждаем о необходимости знаний по посадке растений и сроках рос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5712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ием «Профи»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ходя из будущей профессии, зачем нужно изучение этой тем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428760" y="578628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2" descr=""/>
          <p:cNvPicPr/>
          <p:nvPr/>
        </p:nvPicPr>
        <p:blipFill>
          <a:blip r:embed="rId1"/>
          <a:stretch/>
        </p:blipFill>
        <p:spPr>
          <a:xfrm>
            <a:off x="-347760" y="-189000"/>
            <a:ext cx="5211720" cy="1554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вода4.jpg"/>
          <p:cNvPicPr/>
          <p:nvPr/>
        </p:nvPicPr>
        <p:blipFill>
          <a:blip r:embed="rId2"/>
          <a:stretch/>
        </p:blipFill>
        <p:spPr>
          <a:xfrm>
            <a:off x="0" y="2021040"/>
            <a:ext cx="3564000" cy="4836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вода6.jpg"/>
          <p:cNvPicPr/>
          <p:nvPr/>
        </p:nvPicPr>
        <p:blipFill>
          <a:blip r:embed="rId3"/>
          <a:stretch/>
        </p:blipFill>
        <p:spPr>
          <a:xfrm>
            <a:off x="4140360" y="0"/>
            <a:ext cx="2571480" cy="25160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1" descr="вода13.jpg"/>
          <p:cNvPicPr/>
          <p:nvPr/>
        </p:nvPicPr>
        <p:blipFill>
          <a:blip r:embed="rId4"/>
          <a:stretch/>
        </p:blipFill>
        <p:spPr>
          <a:xfrm>
            <a:off x="3470400" y="2276640"/>
            <a:ext cx="3189240" cy="216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Вода: Великая тайна воды / Water (2006/DVDRip) &quot; Super-Warez.Net Скачать бесплатно программу, фильм, музыку, игру, книгу, crack,"/>
          <p:cNvPicPr/>
          <p:nvPr/>
        </p:nvPicPr>
        <p:blipFill>
          <a:blip r:embed="rId5"/>
          <a:stretch/>
        </p:blipFill>
        <p:spPr>
          <a:xfrm>
            <a:off x="6588000" y="0"/>
            <a:ext cx="2916360" cy="24177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2" descr="babe_0.jpg"/>
          <p:cNvPicPr/>
          <p:nvPr/>
        </p:nvPicPr>
        <p:blipFill>
          <a:blip r:embed="rId6"/>
          <a:stretch/>
        </p:blipFill>
        <p:spPr>
          <a:xfrm>
            <a:off x="2843280" y="3860640"/>
            <a:ext cx="3457440" cy="2997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7" descr="вода5.jpg"/>
          <p:cNvPicPr/>
          <p:nvPr/>
        </p:nvPicPr>
        <p:blipFill>
          <a:blip r:embed="rId7"/>
          <a:stretch/>
        </p:blipFill>
        <p:spPr>
          <a:xfrm>
            <a:off x="5940360" y="3716280"/>
            <a:ext cx="3203640" cy="3141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дождь.jpg"/>
          <p:cNvPicPr/>
          <p:nvPr/>
        </p:nvPicPr>
        <p:blipFill>
          <a:blip r:embed="rId8"/>
          <a:stretch/>
        </p:blipFill>
        <p:spPr>
          <a:xfrm>
            <a:off x="6588000" y="2060640"/>
            <a:ext cx="277200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714240" y="1500120"/>
          <a:ext cx="8001000" cy="5357880"/>
        </p:xfrm>
        <a:graphic>
          <a:graphicData uri="http://schemas.openxmlformats.org/drawingml/2006/table">
            <a:tbl>
              <a:tblPr/>
              <a:tblGrid>
                <a:gridCol w="2619360"/>
                <a:gridCol w="2691000"/>
                <a:gridCol w="269064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твер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сл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Мировой океан – вода всей план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Можно выделить только 4 оке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Моря и заливы это части Зем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В Проливах вода не движ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Через заливы океаны обмениваются вод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139" name="TextBox 13"/>
          <p:cNvSpPr/>
          <p:nvPr/>
        </p:nvSpPr>
        <p:spPr>
          <a:xfrm>
            <a:off x="857160" y="62150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1" name="Picture 5" descr="D:\mygeography\Презентации\Океаны\pacific.gif"/>
          <p:cNvPicPr/>
          <p:nvPr/>
        </p:nvPicPr>
        <p:blipFill>
          <a:blip r:embed="rId1"/>
          <a:stretch/>
        </p:blipFill>
        <p:spPr>
          <a:xfrm>
            <a:off x="0" y="-252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3708360" y="2060640"/>
            <a:ext cx="2232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357120" y="5857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риемы повторения пройденного на уроке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рием «Своя опора».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-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Д- О. н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НД- О е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ем «Карты»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числи морских соседей Росс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вет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ША, Япо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2071800" y="4519440"/>
            <a:ext cx="48574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ием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«Повторение с одновременным контролем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214200" y="60008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На этапе самоконтроля и самооценки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ём «Открытые задания»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социологические опросы. Например какие реки протекают в вашей местности – 6 класс. 8 класс – какие национальные традиции в вашей семье. Расскажи про профессию своих родите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920960"/>
            <a:ext cx="4209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спользование дифференцированных зада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Заголовок 1" descr=""/>
          <p:cNvPicPr/>
          <p:nvPr/>
        </p:nvPicPr>
        <p:blipFill>
          <a:blip r:embed="rId2"/>
          <a:stretch/>
        </p:blipFill>
        <p:spPr>
          <a:xfrm>
            <a:off x="493560" y="566640"/>
            <a:ext cx="824256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3" descr=""/>
          <p:cNvPicPr/>
          <p:nvPr/>
        </p:nvPicPr>
        <p:blipFill>
          <a:blip r:embed="rId1"/>
          <a:stretch/>
        </p:blipFill>
        <p:spPr>
          <a:xfrm>
            <a:off x="530280" y="-262080"/>
            <a:ext cx="8418600" cy="3468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олнила: Пименова Ю.В., учитель географии МОУ ИРМО «Бутырская СОШ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02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214200" y="6286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596880"/>
            <a:ext cx="9163080" cy="5273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357120" y="6000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357120" y="571680"/>
            <a:ext cx="8001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тивация – важнейший компонент структуры учебной деятельности, а для личности выработанная внутренняя мотивация есть основной критерий ее сформированности. Он заключается в том, что ребенок получает «удовольствие от самой деятельности, значимости для личности непосредственного ее результата» Б.И. Додон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ыделяют пять уровней мотивации: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285920"/>
            <a:ext cx="91440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ервый уровень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высокий уровень мотивации, учебной активности. (У таких учащихся есть познавательный мотив, стремление наиболее успешно выполнять все предъявляемые школьные требования.Учащиеся четко следуют всем указаниям педагога, добросовестны и ответственны, сильно переживают, если получают неудовлетворительные отметк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–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хорошая мотивация. (Учащиеся успешно справляются с учебной деятельностью.) Подобный уровень мотивации является средней норм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– положительное отношение к учебному заведению, но оно привлекает таких учащихся внеучебной деятельностью. (Такие учащиеся достаточно благополучно чувствуют себя в школе, чтобы общаться с друзьями, с учителями. Им нравиться ощущать себя учащимися, иметь красивые принадлежности. Познавательные мотивы у таких учащихся сформированы в меньшей степени, и учебный процесс их мало привлекает.) 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Четвертый уровень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низкая мотивация. (Эти учащиеся посещают учебное заведение неохотно, предпочитают пропускать занятия. На уроках часто занимаются посторонними делами. Испытывают серьезные затруднения в учебной деятельности. Находятся в серьезной адаптации к учебному заведению.) 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ятый уровень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– негативное отношение к учебному заведению, школьнаядезадаптация. (Такие учащиеся испытывают серьезные трудности в обучение: они не справляются с учебной деятельностью, испытывают проблемы в общении с одноклассниками, во взаимоотношениях с педагогом.Учебное заведение нередко воспринимается ими как враждебная среда, пребывание в ней для них невыносимо. В других случаях учащиеся могут проявлять агрессию, отказываться выполнять задания, следовать тем или иным нормам и правилам. Часто у подобных учащихсяотмечаются нервно психические нарушения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85840" y="2858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«Скажи мне - и я забуду, покажи мне - и я запомню, дай сделать - и я пойму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00040" y="6215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Какие же  условия способствуют развитию познавательного интереса у учащихся?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1934640"/>
            <a:ext cx="8929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рганизация обучения, при которой учащийся вовлекается в процесс самостоятельного поиска и “открытия” новых зна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бота в группах и пар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менение ИКТ на урока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нимание учащимся нужности, важности, целесообразности изучения предмета в целом и отдельных его раздел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больше новый материал связан с усвоенными ранее знаниями, тем он интереснее для учащих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учение должно быть трудным, но посильным – разноуровневые зад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чаще проверяется и оценивается работа учащегося, тем интереснее ему работа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итивная психологическая атмосфера уро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обучении должны создаваться возможности для творче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здание на уроке ситуации успеха для учащихс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6429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тоды и приё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тод «Дидактические игры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тод «Ситуация успех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тод «Соревнование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спользование метода проек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тод создания проблемной ситу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396720" y="907920"/>
            <a:ext cx="8283600" cy="236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тод создания проблемной ситу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5-конечная звезда 4"/>
          <p:cNvSpPr/>
          <p:nvPr/>
        </p:nvSpPr>
        <p:spPr>
          <a:xfrm>
            <a:off x="1214280" y="4214880"/>
            <a:ext cx="2928960" cy="17859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143080" y="50007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говорит Москва.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214200" y="60008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11:00:00Z</dcterms:created>
  <dc:creator>Юлия</dc:creator>
  <dc:description/>
  <dc:language>en-US</dc:language>
  <cp:lastModifiedBy>Home</cp:lastModifiedBy>
  <dcterms:modified xsi:type="dcterms:W3CDTF">2022-11-07T08:50:48Z</dcterms:modified>
  <cp:revision>111</cp:revision>
  <dc:subject/>
  <dc:title>Тема урока:   Океаны в сравнении</dc:title>
</cp:coreProperties>
</file>