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897-B517-42F3-848E-45CE8504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C05-8592-4B33-B43D-90C115A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F1F-EFB6-4F90-958B-E1DB50EA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C73-F842-4CF6-8674-A0179F0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DA1-02D8-4AD8-8502-B21DE2E6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48EE-1FAC-4261-ADE0-0C7D675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5FB2-5A2B-489C-B243-6BDB31D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924-ABDF-427F-8F6C-036B8FF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F98-7993-478D-BB87-F4BBBF3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F6B-0968-4E01-A51A-9D7AF2E8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B83-FD72-407D-B66A-6624081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20D-6AC9-47CE-B132-2450F519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5705-6B40-4513-928A-ED54891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629-61C4-4CB4-9CD0-05DD4FE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A3F-A564-48E0-917F-6EB882A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BD7E-0CDD-4682-8816-803EB94F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1025-8EFC-4433-A956-6A665944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9AE-6D5C-4A8E-B018-4597DEE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2A5-AFA0-4D28-BEA8-EA6AB5AA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7B8-7E69-491B-8941-4F11E8F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7A9-E8EA-4456-A76E-6AED65A2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4CA-23B2-43A3-B85A-0903B8F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FE6-6E2E-4391-88EB-D377254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AE5-CED8-4A70-BC26-8FB9203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A25-5493-41A7-AE41-D4E7BC55CD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A95-F9CB-4F67-999A-EAA125C529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&#1075;&#1086;&#1074;&#1086;&#1088;&#1080;&#1090;%20&#1052;&#1086;&#1089;&#1082;&#1074;&#1072;.mp3" TargetMode="External"/><Relationship Id="rId4" Type="http://schemas.openxmlformats.org/officeDocument/2006/relationships/hyperlink" Target="file:///&#1075;&#1086;&#1074;&#1086;&#1088;&#1080;&#1090;%20&#1052;&#1086;&#1089;&#1082;&#1074;&#1072;.mp3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-6480" y="4280040"/>
            <a:ext cx="9156960" cy="2584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214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ём «Прогнозирование»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ема: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«Наш демографический портрет»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азбираем каждое слов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ртрет –изображ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емографический – выделяем 2 сло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емо – народ, граф – пиш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 теперь определите тему урока и что мы узна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85840" y="5857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ем «Оратор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1 минуту убедите своего собеседника в том, что изучение этой темы просто необходимо. Доказываем что ноябрь ещё не зима или иней это не сне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хт убеждаем о необходимости знаний по посадке растений и сроках ро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2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ем «Профи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ходя из будущей профессии, зачем нужно изучение этой тем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28760" y="57862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2" descr=""/>
          <p:cNvPicPr/>
          <p:nvPr/>
        </p:nvPicPr>
        <p:blipFill>
          <a:blip r:embed="rId1"/>
          <a:stretch/>
        </p:blipFill>
        <p:spPr>
          <a:xfrm>
            <a:off x="-347760" y="-189000"/>
            <a:ext cx="521172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вода4.jpg"/>
          <p:cNvPicPr/>
          <p:nvPr/>
        </p:nvPicPr>
        <p:blipFill>
          <a:blip r:embed="rId2"/>
          <a:stretch/>
        </p:blipFill>
        <p:spPr>
          <a:xfrm>
            <a:off x="0" y="2021040"/>
            <a:ext cx="3564000" cy="4836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вода6.jpg"/>
          <p:cNvPicPr/>
          <p:nvPr/>
        </p:nvPicPr>
        <p:blipFill>
          <a:blip r:embed="rId3"/>
          <a:stretch/>
        </p:blipFill>
        <p:spPr>
          <a:xfrm>
            <a:off x="4140360" y="0"/>
            <a:ext cx="2571480" cy="2516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вода13.jpg"/>
          <p:cNvPicPr/>
          <p:nvPr/>
        </p:nvPicPr>
        <p:blipFill>
          <a:blip r:embed="rId4"/>
          <a:stretch/>
        </p:blipFill>
        <p:spPr>
          <a:xfrm>
            <a:off x="3470400" y="2276640"/>
            <a:ext cx="3189240" cy="216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Вода: Великая тайна воды / Water (2006/DVDRip) &quot; Super-Warez.Net Скачать бесплатно программу, фильм, музыку, игру, книгу, crack,"/>
          <p:cNvPicPr/>
          <p:nvPr/>
        </p:nvPicPr>
        <p:blipFill>
          <a:blip r:embed="rId5"/>
          <a:stretch/>
        </p:blipFill>
        <p:spPr>
          <a:xfrm>
            <a:off x="6588000" y="0"/>
            <a:ext cx="2916360" cy="2417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2" descr="babe_0.jpg"/>
          <p:cNvPicPr/>
          <p:nvPr/>
        </p:nvPicPr>
        <p:blipFill>
          <a:blip r:embed="rId6"/>
          <a:stretch/>
        </p:blipFill>
        <p:spPr>
          <a:xfrm>
            <a:off x="2843280" y="3860640"/>
            <a:ext cx="3457440" cy="2997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вода5.jpg"/>
          <p:cNvPicPr/>
          <p:nvPr/>
        </p:nvPicPr>
        <p:blipFill>
          <a:blip r:embed="rId7"/>
          <a:stretch/>
        </p:blipFill>
        <p:spPr>
          <a:xfrm>
            <a:off x="5940360" y="3716280"/>
            <a:ext cx="3203640" cy="3141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дождь.jpg"/>
          <p:cNvPicPr/>
          <p:nvPr/>
        </p:nvPicPr>
        <p:blipFill>
          <a:blip r:embed="rId8"/>
          <a:stretch/>
        </p:blipFill>
        <p:spPr>
          <a:xfrm>
            <a:off x="6588000" y="2060640"/>
            <a:ext cx="277200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14240" y="1500120"/>
          <a:ext cx="8001000" cy="5357880"/>
        </p:xfrm>
        <a:graphic>
          <a:graphicData uri="http://schemas.openxmlformats.org/drawingml/2006/table">
            <a:tbl>
              <a:tblPr/>
              <a:tblGrid>
                <a:gridCol w="2619360"/>
                <a:gridCol w="2691000"/>
                <a:gridCol w="269064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с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Мировой океан – вода всей пла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Можно выделить только 4 оке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Моря и заливы это части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В Проливах вода не движ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Через заливы океаны обмениваются вод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13"/>
          <p:cNvSpPr/>
          <p:nvPr/>
        </p:nvSpPr>
        <p:spPr>
          <a:xfrm>
            <a:off x="857160" y="62150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1" name="Picture 5" descr="D:\mygeography\Презентации\Океаны\pacific.gif"/>
          <p:cNvPicPr/>
          <p:nvPr/>
        </p:nvPicPr>
        <p:blipFill>
          <a:blip r:embed="rId1"/>
          <a:stretch/>
        </p:blipFill>
        <p:spPr>
          <a:xfrm>
            <a:off x="0" y="-252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708360" y="2060640"/>
            <a:ext cx="223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571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иемы повторения пройденного на уроке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ием «Своя опора»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-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Д- О. н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НД- О е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ем «Карты»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числи морских соседей Ро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вет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ША, Япо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071800" y="4519440"/>
            <a:ext cx="48574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ием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Повторение с одновременным контроле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14200" y="60008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На этапе самоконтроля и самооценки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ём «Открытые задания»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социологические опросы. Например какие реки протекают в вашей местности – 6 класс. 8 класс – какие национальные традиции в вашей семье. Расскажи про профессию своих родит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пользование дифференцированных зада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493560" y="566640"/>
            <a:ext cx="82425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3" descr=""/>
          <p:cNvPicPr/>
          <p:nvPr/>
        </p:nvPicPr>
        <p:blipFill>
          <a:blip r:embed="rId1"/>
          <a:stretch/>
        </p:blipFill>
        <p:spPr>
          <a:xfrm>
            <a:off x="530280" y="-262080"/>
            <a:ext cx="8418600" cy="3468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ла: Пименова Ю.В., учитель географии МОУ ИРМО «Бутырская СОШ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2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1420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596880"/>
            <a:ext cx="9163080" cy="5273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5712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57120" y="571680"/>
            <a:ext cx="800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я – важнейший компонент структуры учебной деятельности, а для личности выработанная внутренняя мотивация есть основной критерий ее сформированности. Он заключается в том, что ребенок получает «удовольствие от самой деятельности, значимости для личности непосредственного ее результата» Б.И. Додо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деляют пять уровней мотивации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85920"/>
            <a:ext cx="91440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ерв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высокий уровень мотивации, учебной активности. (У таких учащихся есть познавательный мотив, стремление наиболее успешно выполнять все предъявляемые школьные требования.Учащиеся четко следуют всем указаниям педагога, добросовестны и ответственны, сильно переживают, если получают неудовлетворительные отмет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–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хорошая мотивация. (Учащиеся успешно справляются с учебной деятельностью.) Подобный уровень мотивации является средней норм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– положительное отношение к учебному заведению, но оно привлекает таких учащихся внеучебной деятельностью. (Такие учащиеся достаточно благополучно чувствуют себя в школе, чтобы общаться с друзьями, с учителями. Им нравиться ощущать себя учащимися, иметь красивые принадлежности. Познавательные мотивы у таких учащихся сформированы в меньшей степени, и учебный процесс их мало привлекает.)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етверт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низкая мотивация. (Эти учащиеся посещают учебное заведение неохотно, предпочитают пропускать занятия. На уроках часто занимаются посторонними делами. Испытывают серьезные затруднения в учебной деятельности. Находятся в серьезной адаптации к учебному заведению.)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ят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негативное отношение к учебному заведению, школьнаядезадаптация. (Такие учащиеся испытывают серьезные трудности в обучение: они не справляются с учебной деятельностью, испытывают проблемы в общении с одноклассниками, во взаимоотношениях с педагогом.Учебное заведение нередко воспринимается ими как враждебная среда, пребывание в ней для них невыносимо. В других случаях учащиеся могут проявлять агрессию, отказываться выполнять задания, следовать тем или иным нормам и правилам. Часто у подобных учащихсяотмечаются нервно психические нарушения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85840" y="2858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«Скажи мне - и я забуду, покажи мне - и я запомню, дай сделать - и я пойму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00040" y="6215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Какие же  условия способствуют развитию познавательного интереса у учащихся?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934640"/>
            <a:ext cx="892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рганизация обучения, при которой учащийся вовлекается в процесс самостоятельного поиска и “открытия” новых зн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а в группах и пар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менение ИКТ на урок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нимание учащимся нужности, важности, целесообразности изучения предмета в целом и отдельных его разде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больше новый материал связан с усвоенными ранее знаниями, тем он интереснее для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учение должно быть трудным, но посильным – разноуровневые зад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чаще проверяется и оценивается работа учащегося, тем интереснее ему работа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итивная психологическая атмосфера уро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обучении должны создаваться возможности для творче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ние на уроке ситуации успеха для учащих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6429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и приё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Дидактические игры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Ситуация успех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Соревнование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пользование метода проек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создания проблем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396720" y="907920"/>
            <a:ext cx="8283600" cy="236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создания проблем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5-конечная звезда 4"/>
          <p:cNvSpPr/>
          <p:nvPr/>
        </p:nvSpPr>
        <p:spPr>
          <a:xfrm>
            <a:off x="1214280" y="4214880"/>
            <a:ext cx="2928960" cy="1785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43080" y="5000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говорит Москва.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4200" y="60008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1:00:00Z</dcterms:created>
  <dc:creator>Юлия</dc:creator>
  <dc:description/>
  <dc:language>en-US</dc:language>
  <cp:lastModifiedBy>Home</cp:lastModifiedBy>
  <dcterms:modified xsi:type="dcterms:W3CDTF">2022-11-07T08:50:48Z</dcterms:modified>
  <cp:revision>111</cp:revision>
  <dc:subject/>
  <dc:title>Тема урока:   Океаны в сравнении</dc:title>
</cp:coreProperties>
</file>