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8F45-E7DF-4561-B822-F3E13A9A56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8794-C58D-4746-978E-B6CF6E6ED6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D068-97CF-463A-8101-59BCF5C74A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6BF8-2D17-4EE2-AE18-2912982494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63E0-3551-48AE-982C-116D76810A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30F1-92C2-4B62-893F-A683FE7652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2230-65F9-4CCF-B64E-8BC4687F2F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BEC4-F496-49E6-BCDD-7596D14C40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A4D0-A38B-493E-BB96-3D44990BC1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AF76-7FE6-4A21-A8C5-3F8EE3DC7C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6249-CB8D-4F08-B80C-E330B8AE27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CE27-DDD6-4FC5-B653-AEF2340DFC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C217-1993-42F6-89A5-7239D64958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5207-6A1F-42A7-83FC-F30C87DE77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BF8E-861D-4AAF-A822-2F13AA7D1D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215-C2A1-4230-9CB9-959715CB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924-BFCF-4F10-8379-040A6486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42F-6D78-4424-9E90-BC7426E3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30A-E67B-4AF5-9AC8-837FA9F2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AB0D-7C73-488A-90A6-231FD2CB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3A8C-4717-4664-9B77-F90D6428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738B-B44C-4799-9D8B-66272624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A7EF-915D-43BE-BD46-F521EA0E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65B3-FFA6-47EF-9FD6-1E77D60B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43D4-49A9-46DA-BF04-61AA2ADD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6479-7FAD-4611-9971-E8008E00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AEFC-38BA-4E72-8BF2-45F7FB05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A51F-AB6D-48A2-9CC5-C94FF957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B067-4FF6-479E-8FC0-73CD7CA1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623D-AEDD-4E97-B558-E8867C51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3158-10D3-4CF1-97C0-44CF2078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9E91-E909-4B70-9893-C059A15C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21CAC-1866-43D8-9811-E4924839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EC019-02F7-4065-9DC5-2FCABE2B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6CCCB-53E4-4B57-8ACD-94451647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C75BE-9F22-4AB8-B5FB-C0BB66D4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81667-92B6-4644-871F-7867811E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2476-BD9A-4F81-9B4E-C8881220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7B98E-4124-4F2A-92DF-A562E793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1324B-5CF2-49B7-8101-B093F980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6A9C7-341D-463D-ACDB-5A3A9357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96A74-F077-4FBB-A12A-CE2A14B6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C6D92-3B32-493B-81D8-A9EC20B6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3EB98-8F9E-4E12-B87A-1E2844C5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EA444-2ED0-469D-BA5F-B08DC48F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EA1E8-F497-4786-B756-BFF6C2BC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BA572-31D5-495C-B64D-ECEF6DD7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123A5-D5FF-4C59-8B47-B44D3561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E2D0-B359-4EC4-9852-46411684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4B6B7-E9F1-4469-BCD4-6717A8F9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2EE09-94AF-4511-B438-8157ECC1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F4920-AB6B-4355-A319-4C457CDE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218A1-A441-4C69-82FA-A2707E95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7E343-7EE4-460F-95B4-8956ED2F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68154-347A-47D7-A612-9F9F8EEB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1F32C-CB4A-48F2-A7D7-68D47B17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BD25F-3FB7-4BAF-9904-F89A3524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0CE5A-30AF-4992-96EC-C2CDC3AA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C48D3-2D9F-4575-829F-2FFCFD18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93D-5225-4C20-AB0F-F84E2CEE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81B72-297D-4F78-BDA1-A0DB3BEC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C6FC0-4546-4987-8610-8A09999A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293EE-936B-4CC2-B885-0939BDEA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EDC5C-62CE-4DE4-B43C-FBAA64A3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C9844-5123-4500-8D4D-E6D8B333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00CDC-CD11-408C-8BF0-B32C9559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56068-758C-4DB4-8625-F3B6B0B8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03299-4FD2-4179-8A2F-725DA40E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86436-E90D-4F0D-9126-7A32F73B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50BE6-B71D-494E-9DEA-9FAB76E8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5352-639C-427C-866A-621BE4C5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E60D8-21DE-4ECF-9DC1-1B9D2649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A0A-8F9C-497D-A7AE-7FED28A7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E6A5-E576-44B2-B259-473D8FB4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39E1-31E4-4DC0-83A5-D2B9990E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9CEF-D589-4B62-91FD-E5AB57830D17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1A92-94FB-4217-9318-F66349C8B82C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9D82-8843-4A9A-8EC3-349750622123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975A-1E3D-4263-809E-802ABED4DC4C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9D59-6CC7-4C3F-A360-70A0908FE822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714240"/>
            <a:ext cx="81835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Verdana"/>
              </a:rPr>
              <a:t>Сборка  кожаной </a:t>
            </a:r>
            <a:br>
              <a:rPr sz="4300"/>
            </a:br>
            <a:r>
              <a:rPr b="1" lang="ru-RU" sz="4300" spc="-1" strike="noStrike">
                <a:solidFill>
                  <a:srgbClr val="000000"/>
                </a:solidFill>
                <a:latin typeface="Verdana"/>
              </a:rPr>
              <a:t>обуви</a:t>
            </a:r>
            <a:endParaRPr b="1" lang="en-US" sz="43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8" name="Picture 7" descr="1213"/>
          <p:cNvPicPr/>
          <p:nvPr/>
        </p:nvPicPr>
        <p:blipFill>
          <a:blip r:embed="rId1"/>
          <a:stretch/>
        </p:blipFill>
        <p:spPr>
          <a:xfrm>
            <a:off x="3143160" y="2500200"/>
            <a:ext cx="24289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6b02"/>
                </a:solidFill>
                <a:latin typeface="Times New Roman"/>
                <a:ea typeface="Times New Roman"/>
              </a:rPr>
              <a:t>4. Прошивной метод.</a:t>
            </a:r>
            <a:br>
              <a:rPr sz="2400"/>
            </a:br>
            <a:r>
              <a:rPr b="1" lang="ru-RU" sz="1800" spc="-1" strike="noStrike">
                <a:solidFill>
                  <a:srgbClr val="b26b02"/>
                </a:solidFill>
                <a:latin typeface="Times New Roman"/>
                <a:ea typeface="Times New Roman"/>
              </a:rPr>
              <a:t>Сущность:</a:t>
            </a:r>
            <a:r>
              <a:rPr b="1" lang="ru-RU" sz="1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 подошву прикрепляют к стельке через затяжную кромку заготовки ниточным швом. Этот метод характеризуется низкой надежностью, открытые ниточные швы внутри обуви быстро разрушаются  под действием трения и пота. Применяют в производстве домашней обуви.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5" name="Picture 3" descr="IMG_4068 1"/>
          <p:cNvPicPr/>
          <p:nvPr/>
        </p:nvPicPr>
        <p:blipFill>
          <a:blip r:embed="rId1"/>
          <a:stretch/>
        </p:blipFill>
        <p:spPr>
          <a:xfrm>
            <a:off x="1778040" y="2349360"/>
            <a:ext cx="55515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рантовом методе крепления заготовка вместе с подкладкой  и рантом крепится к губе стельки, после чего к отогнутому краю ранта пришивается подош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тод требует высококачественных жестких стелечных материалов, сложен технологичес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енная обувь отличается прочностью, но она жесткая, тяжела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тод практически не используется в производстве современной бытовой обув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дел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92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екоративная отделка заготовок верха определяет как внешний вид обуви, так и сложность ее модел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23232"/>
                </a:solidFill>
                <a:latin typeface="Verdana"/>
              </a:rPr>
              <a:t>Основными видами отделки являются</a:t>
            </a:r>
            <a:r>
              <a:rPr b="0" lang="ru-RU" sz="2200" spc="-1" strike="noStrike">
                <a:solidFill>
                  <a:srgbClr val="323232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журная строчка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ерфорация – мелкие отверстия, расположенные в определенном порядке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6" descr="465465"/>
          <p:cNvPicPr/>
          <p:nvPr/>
        </p:nvPicPr>
        <p:blipFill>
          <a:blip r:embed="rId1"/>
          <a:stretch/>
        </p:blipFill>
        <p:spPr>
          <a:xfrm>
            <a:off x="5114880" y="1962000"/>
            <a:ext cx="3105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310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3232"/>
                </a:solidFill>
                <a:latin typeface="Verdana"/>
              </a:rPr>
              <a:t>Просеч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более крупные отверстия различной формы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3232"/>
                </a:solidFill>
                <a:latin typeface="Verdana"/>
              </a:rPr>
              <a:t>Бизи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застроченный между верхом и подкладкой рельефно-выступающий шнур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3232"/>
                </a:solidFill>
                <a:latin typeface="Verdana"/>
              </a:rPr>
              <a:t>Бей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нашивка или окантовка деталей полоской кожи другого цвета или материала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13" descr="18-774"/>
          <p:cNvPicPr/>
          <p:nvPr/>
        </p:nvPicPr>
        <p:blipFill>
          <a:blip r:embed="rId1"/>
          <a:stretch/>
        </p:blipFill>
        <p:spPr>
          <a:xfrm>
            <a:off x="4932360" y="1214280"/>
            <a:ext cx="352728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6840" y="642960"/>
            <a:ext cx="4543560" cy="492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анты, пряжки из кожи и других материалов; отделка фурнитурой, мехом; ранты декоративные и фигурные; гранение каблуки, носки и т.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шив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орячее тиснени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13-770"/>
          <p:cNvPicPr/>
          <p:nvPr/>
        </p:nvPicPr>
        <p:blipFill>
          <a:blip r:embed="rId1"/>
          <a:stretch/>
        </p:blipFill>
        <p:spPr>
          <a:xfrm>
            <a:off x="5143680" y="549360"/>
            <a:ext cx="3429000" cy="2522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7988979898"/>
          <p:cNvPicPr/>
          <p:nvPr/>
        </p:nvPicPr>
        <p:blipFill>
          <a:blip r:embed="rId2"/>
          <a:stretch/>
        </p:blipFill>
        <p:spPr>
          <a:xfrm>
            <a:off x="5143680" y="300024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85880" y="571680"/>
            <a:ext cx="7858080" cy="535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9f25"/>
                </a:solidFill>
                <a:latin typeface="Verdana"/>
              </a:rPr>
              <a:t>Процесс производ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один из основных факторов формирования качества и потребительских свойств обув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6b02"/>
                </a:solidFill>
                <a:latin typeface="Verdana"/>
              </a:rPr>
              <a:t>Процесс производства включает:</a:t>
            </a:r>
            <a:r>
              <a:rPr b="1" lang="ru-RU" sz="2800" spc="-1" strike="noStrike">
                <a:solidFill>
                  <a:srgbClr val="6b9f2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ирование (моделирование и конструирова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крой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и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дел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138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b9f25"/>
                </a:solidFill>
                <a:latin typeface="Verdana"/>
              </a:rPr>
              <a:t>Проектирование </a:t>
            </a: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–разработка модели на утвержденную форму затяжной колодки, изготовление рабочих чертежей и шаблонов деталей, по которым раскраивают обувные материалы.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9680" y="2356920"/>
            <a:ext cx="4071960" cy="3429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2541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9f25"/>
                </a:solidFill>
                <a:latin typeface="Verdana"/>
              </a:rPr>
              <a:t>Обувная колодка-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сновная формообразующая оснастка обувного производства. Применяются разной конструк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6" descr="IMG_4325"/>
          <p:cNvPicPr/>
          <p:nvPr/>
        </p:nvPicPr>
        <p:blipFill>
          <a:blip r:embed="rId1"/>
          <a:stretch/>
        </p:blipFill>
        <p:spPr>
          <a:xfrm>
            <a:off x="4714920" y="2428920"/>
            <a:ext cx="3929040" cy="34527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7"/>
          <p:cNvSpPr/>
          <p:nvPr/>
        </p:nvSpPr>
        <p:spPr>
          <a:xfrm>
            <a:off x="4932360" y="616572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ы раздвижных коло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642760" y="571680"/>
            <a:ext cx="61261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Детали обуви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5" name="Picture 6" descr="IMG_4328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000080" y="3714840"/>
            <a:ext cx="2643120" cy="2071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IMG_4329"/>
          <p:cNvPicPr/>
          <p:nvPr/>
        </p:nvPicPr>
        <p:blipFill>
          <a:blip r:embed="rId2">
            <a:lum contrast="66000"/>
          </a:blip>
          <a:stretch/>
        </p:blipFill>
        <p:spPr>
          <a:xfrm>
            <a:off x="6215040" y="3714840"/>
            <a:ext cx="2357640" cy="2071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IMG_4330"/>
          <p:cNvPicPr/>
          <p:nvPr/>
        </p:nvPicPr>
        <p:blipFill>
          <a:blip r:embed="rId3"/>
          <a:stretch/>
        </p:blipFill>
        <p:spPr>
          <a:xfrm>
            <a:off x="3643200" y="3714840"/>
            <a:ext cx="2562480" cy="2071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IMG_4331"/>
          <p:cNvPicPr/>
          <p:nvPr/>
        </p:nvPicPr>
        <p:blipFill>
          <a:blip r:embed="rId4"/>
          <a:stretch/>
        </p:blipFill>
        <p:spPr>
          <a:xfrm>
            <a:off x="1857240" y="1357200"/>
            <a:ext cx="51436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857160"/>
            <a:ext cx="81835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хема обуви химических методов крепления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2357280" y="2357280"/>
            <a:ext cx="48578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леевой метод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3232"/>
                </a:solidFill>
                <a:latin typeface="Verdana"/>
              </a:rPr>
              <a:t>При </a:t>
            </a:r>
            <a:r>
              <a:rPr b="0" i="1" lang="ru-RU" sz="2200" spc="-1" strike="noStrike">
                <a:solidFill>
                  <a:srgbClr val="b26b02"/>
                </a:solidFill>
                <a:latin typeface="Verdana"/>
              </a:rPr>
              <a:t>клеевом методе</a:t>
            </a:r>
            <a:r>
              <a:rPr b="0" lang="ru-RU" sz="2200" spc="-1" strike="noStrike">
                <a:solidFill>
                  <a:srgbClr val="323232"/>
                </a:solidFill>
                <a:latin typeface="Verdana"/>
              </a:rPr>
              <a:t> крепления подошву приклеивают к затяжной кромке заготовк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4" descr="IMG_4047 1"/>
          <p:cNvPicPr/>
          <p:nvPr/>
        </p:nvPicPr>
        <p:blipFill>
          <a:blip r:embed="rId1"/>
          <a:stretch/>
        </p:blipFill>
        <p:spPr>
          <a:xfrm>
            <a:off x="4786200" y="2071800"/>
            <a:ext cx="3786480" cy="35719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5"/>
          <p:cNvSpPr/>
          <p:nvPr/>
        </p:nvSpPr>
        <p:spPr>
          <a:xfrm>
            <a:off x="500040" y="1785960"/>
            <a:ext cx="400068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6b02"/>
                </a:solidFill>
                <a:latin typeface="Arial"/>
                <a:ea typeface="Arial"/>
              </a:rPr>
              <a:t>+</a:t>
            </a:r>
            <a:r>
              <a:rPr b="0" lang="ru-RU" sz="2400" spc="-1" strike="noStrike">
                <a:solidFill>
                  <a:srgbClr val="323232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323232"/>
                </a:solidFill>
                <a:latin typeface="Arial"/>
                <a:ea typeface="Arial"/>
              </a:rPr>
              <a:t>водостойкость, хорошая ремонтоспособность, легкость, гиб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6b02"/>
                </a:solidFill>
                <a:latin typeface="Arial"/>
                <a:ea typeface="Arial"/>
              </a:rPr>
              <a:t>-</a:t>
            </a:r>
            <a:r>
              <a:rPr b="0" lang="ru-RU" sz="2400" spc="-1" strike="noStrike">
                <a:solidFill>
                  <a:srgbClr val="323232"/>
                </a:solidFill>
                <a:latin typeface="Arial"/>
                <a:ea typeface="Arial"/>
              </a:rPr>
              <a:t>: использование неводостойких клеев и нарушения технологий ведет к отклейке подош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57120" y="9288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990720" indent="-533520">
              <a:lnSpc>
                <a:spcPct val="60000"/>
              </a:lnSpc>
              <a:spcBef>
                <a:spcPts val="249"/>
              </a:spcBef>
              <a:buClr>
                <a:srgbClr val="f07f0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11"/>
                </a:solidFill>
                <a:latin typeface="Verdana"/>
              </a:rPr>
              <a:t>Метод «парко»-</a:t>
            </a:r>
            <a:r>
              <a:rPr b="0" lang="ru-RU" sz="2000" spc="-1" strike="noStrike">
                <a:solidFill>
                  <a:srgbClr val="323232"/>
                </a:solidFill>
                <a:latin typeface="Verdana"/>
              </a:rPr>
              <a:t> затяжную кромку заготовки скрепляют нитками с рантом, к которому затем пришивают подошву. Стелька в креплении не участвует, поэтому обувь имеет повышенную гибкость, легкость. Этим методом изготавливают обувь для детей (гусарики)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IMG_4050"/>
          <p:cNvPicPr/>
          <p:nvPr/>
        </p:nvPicPr>
        <p:blipFill>
          <a:blip r:embed="rId1"/>
          <a:stretch/>
        </p:blipFill>
        <p:spPr>
          <a:xfrm>
            <a:off x="1285920" y="2214720"/>
            <a:ext cx="6786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IMG_4063 1"/>
          <p:cNvPicPr/>
          <p:nvPr/>
        </p:nvPicPr>
        <p:blipFill>
          <a:blip r:embed="rId1"/>
          <a:stretch/>
        </p:blipFill>
        <p:spPr>
          <a:xfrm>
            <a:off x="928800" y="2928960"/>
            <a:ext cx="3643200" cy="22147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28400" y="571320"/>
            <a:ext cx="7358040" cy="1928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11"/>
                </a:solidFill>
                <a:latin typeface="Verdana"/>
              </a:rPr>
              <a:t>3. Сандальный метод </a:t>
            </a:r>
            <a:r>
              <a:rPr b="0" lang="ru-RU" sz="2000" spc="-1" strike="noStrike">
                <a:solidFill>
                  <a:srgbClr val="323232"/>
                </a:solidFill>
                <a:latin typeface="Verdana"/>
              </a:rPr>
              <a:t>применяется для изготовления сандалий и легкой обуви упрощенной конструк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11"/>
                </a:solidFill>
                <a:latin typeface="Verdana"/>
              </a:rPr>
              <a:t>Сущность:</a:t>
            </a:r>
            <a:r>
              <a:rPr b="0" lang="ru-RU" sz="2000" spc="-1" strike="noStrike">
                <a:solidFill>
                  <a:srgbClr val="323232"/>
                </a:solidFill>
                <a:latin typeface="Verdana"/>
              </a:rPr>
              <a:t>  двуниточным швом скрепляют подошву, кромки заготовки и накладной рант по всему периметру. Обувь сандального метода не  имеет подкладки, стель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6" descr="IMG_4059 1"/>
          <p:cNvPicPr/>
          <p:nvPr/>
        </p:nvPicPr>
        <p:blipFill>
          <a:blip r:embed="rId2"/>
          <a:stretch/>
        </p:blipFill>
        <p:spPr>
          <a:xfrm>
            <a:off x="4572000" y="2928960"/>
            <a:ext cx="38577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IMG_4064 1"/>
          <p:cNvPicPr/>
          <p:nvPr/>
        </p:nvPicPr>
        <p:blipFill>
          <a:blip r:embed="rId1"/>
          <a:stretch/>
        </p:blipFill>
        <p:spPr>
          <a:xfrm>
            <a:off x="857160" y="2428920"/>
            <a:ext cx="3643560" cy="264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IMG_4067 1"/>
          <p:cNvPicPr/>
          <p:nvPr/>
        </p:nvPicPr>
        <p:blipFill>
          <a:blip r:embed="rId2"/>
          <a:stretch/>
        </p:blipFill>
        <p:spPr>
          <a:xfrm>
            <a:off x="4516560" y="2392200"/>
            <a:ext cx="4033800" cy="26924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42600" y="642960"/>
            <a:ext cx="8001000" cy="1643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99072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11"/>
                </a:solidFill>
                <a:latin typeface="Verdana"/>
              </a:rPr>
              <a:t>3. Доппельный (полусандальный) метод </a:t>
            </a:r>
            <a:r>
              <a:rPr b="0" lang="ru-RU" sz="1700" spc="-1" strike="noStrike">
                <a:solidFill>
                  <a:srgbClr val="323232"/>
                </a:solidFill>
                <a:latin typeface="Verdana"/>
              </a:rPr>
              <a:t>применяется для изготовления обуви с подкладкой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 algn="ctr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11"/>
                </a:solidFill>
                <a:latin typeface="Verdana"/>
              </a:rPr>
              <a:t>Сущность: </a:t>
            </a:r>
            <a:r>
              <a:rPr b="0" lang="ru-RU" sz="1700" spc="-1" strike="noStrike">
                <a:solidFill>
                  <a:srgbClr val="323232"/>
                </a:solidFill>
                <a:latin typeface="Verdana"/>
              </a:rPr>
              <a:t>подошву прикрепляют ниточным швом непосредственно к затяжной кромке через узкий накладной рант. Пяточную часть крепят гвоздями. Подкладку загибают на стельку и приклеивают к ней. Этот метод применяется для изготовления летней обуви для взрослых( сандалет), а также детской обув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24000" y="5157720"/>
            <a:ext cx="83008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6b02"/>
                </a:solidFill>
                <a:latin typeface="Arial"/>
                <a:ea typeface="Arial"/>
              </a:rPr>
              <a:t>+</a:t>
            </a:r>
            <a:r>
              <a:rPr b="0" lang="ru-RU" sz="2400" spc="-1" strike="noStrike">
                <a:solidFill>
                  <a:srgbClr val="323232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323232"/>
                </a:solidFill>
                <a:latin typeface="Arial"/>
                <a:ea typeface="Arial"/>
              </a:rPr>
              <a:t>от рантовой обуви отличается легкостью, гибкостью, гигиенич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6b02"/>
                </a:solidFill>
                <a:latin typeface="Arial"/>
                <a:ea typeface="Arial"/>
              </a:rPr>
              <a:t>-</a:t>
            </a:r>
            <a:r>
              <a:rPr b="0" lang="ru-RU" sz="2400" spc="-1" strike="noStrike">
                <a:solidFill>
                  <a:srgbClr val="323232"/>
                </a:solidFill>
                <a:latin typeface="Arial"/>
                <a:ea typeface="Arial"/>
              </a:rPr>
              <a:t>: сложности ремонта, недостаточная про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7:33:17Z</dcterms:created>
  <dc:creator>Санечка</dc:creator>
  <dc:description/>
  <dc:language>en-US</dc:language>
  <cp:lastModifiedBy>Пользователь Windows</cp:lastModifiedBy>
  <dcterms:modified xsi:type="dcterms:W3CDTF">2022-11-21T22:59:38Z</dcterms:modified>
  <cp:revision>18</cp:revision>
  <dc:subject/>
  <dc:title>Производство кожаной  обуви</dc:title>
</cp:coreProperties>
</file>