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5953-350A-43D6-9438-961788B5D7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B765-5C8C-4B87-8437-E1A3145C6E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F1D9-BCF1-4621-B355-FB04807EA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680A-0465-4CE6-B5B9-88E5BBBA9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09A7-247A-4F5E-B462-4C5A358860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94E2-7B85-487F-BB04-1D5DC4C17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2419-D224-4948-8AFB-87423BAD4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2C67-94F8-4CB3-82CF-712A5B642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0B53-3A69-4973-8259-0C623EBDFB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474E-56C5-4F73-9945-3E0D79F0A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351F-65E8-4022-980D-14E77E1C2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2B06-0645-4887-BAB7-14C8DEF58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35C4-EDBE-48B9-951F-41275B201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BD53-BA85-4B67-B86E-05BF918243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BB64-F5BF-48B9-B8C7-9AEE978DB3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3FB-E203-4642-AFDF-9C27C9BF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E0A-6E8E-4B3E-A3A0-06173821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02F-7525-4762-A560-B0CB063D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3425-7EC3-41C7-860E-56FAD86B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61E9-9759-4A98-89D7-68CD9068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09CE-5FB5-4111-B1B8-4DE65B2C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C12F-8756-46E0-ADF7-034D42C2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66D3-12A2-4082-B2C5-955DF4C0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2E8B-5C95-4C53-97E9-55605EC2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802D-E9AF-42A4-9D38-BEDD0588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E9D4-9F91-4912-9D3F-5FEDE9DD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CDD-0630-4118-858A-6FF4D23E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C217-104E-40E9-A076-02D0711C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A5B8-E494-4806-9FC5-2DB3922C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0A48-4004-49A4-8C9C-1812FDC6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DE6D-09A3-4E70-B318-500B6444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AD19-4AB9-40F7-89F6-A57126DF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86FF-A3E6-4A12-95D9-7BD5706A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00E4-3578-4902-A894-BB1CFC79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EF0C-DBA4-4BD3-A90F-2595D30B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9C8D7-98B4-40EE-9D4B-91BE719B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399E-D470-4025-8F43-83FF24CD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0A5-4C03-4DC2-B1B5-93B2FF57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94BE8-2812-4BAB-BE4B-98638F3A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1747E-6FA7-4566-AD51-6E138FDA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3096B-0082-41E0-923A-DB73D43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42C2-5E85-454D-9900-5259FF31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6136-C53F-4CEA-9508-664EF42D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2CC6-957B-4B19-9C35-4735D2A7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C096-E181-41B9-9A8C-C63CA5F3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B21B6-39DC-410A-9A23-1A6B841D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89274-073F-4EE9-9F45-1FFEA286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8AD4-DF62-445D-BA98-54A882CB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A78-6DCB-4D4B-B2D6-0C2792FA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D730-30A4-4D55-87B2-9E535BA0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9BE67-27BA-4536-9674-F97470DE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467EE-D549-43EF-80FE-98895ECB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3A05-FC0B-47E3-AE46-BA9FC8CE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D82F4-27BB-4D88-AED8-D716E838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32EBD-047C-4E66-8552-882A76C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97277-DB65-463F-92AF-417B312C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7FBF-48E0-4E54-B088-C512EC98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3B012-D81C-4AF1-8DC8-5AC67F2B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B4AC-1FCB-4665-B6BA-9260A52F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746-F5B0-46F3-BA5B-EB7879BA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B884C-1EDE-4C9C-ACAF-9BD321BC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EA0AB-9183-4FD9-AFA9-AA1DECA3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3C90A-AB6F-460C-9608-D2F5685F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6F09C-9539-49A1-8F79-532059FD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9C132-816A-4E6E-B1B1-824DCE54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223B-E180-4D20-AF74-1A1547E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52799-9AD4-4482-B0DC-E1E545BF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E40DD-1172-4B50-B828-5915BF15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C15B9-C307-4B12-A5A8-F018C865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1ED7F-5077-4520-A0F9-4C12F4E8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E73-A0FA-4F1E-BD7E-CA057ED3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26F54-E1EB-41D6-8FAC-D6EE32F2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0FB-4ADF-4E24-B279-86D1A70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DAE-0577-41E0-A302-E4A4CCB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770-2822-4BCD-9A5C-EF38DBEB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1821-3493-49A2-AAE2-F8C28D0D933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03BE-A1D3-4189-A971-B54E34319C2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22A4-DA3D-4671-A852-374856B3497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38AD-57A6-4EF5-BDD2-B977F0FEE6F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3601-F444-4C72-8C30-5036CFE59F6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714240"/>
            <a:ext cx="81835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Verdana"/>
              </a:rPr>
              <a:t>Сборка  кожаной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Verdana"/>
              </a:rPr>
              <a:t>обуви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7" descr="1213"/>
          <p:cNvPicPr/>
          <p:nvPr/>
        </p:nvPicPr>
        <p:blipFill>
          <a:blip r:embed="rId1"/>
          <a:stretch/>
        </p:blipFill>
        <p:spPr>
          <a:xfrm>
            <a:off x="3143160" y="2500200"/>
            <a:ext cx="2428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Times New Roman"/>
                <a:ea typeface="Times New Roman"/>
              </a:rPr>
              <a:t>4. Прошивной метод.</a:t>
            </a:r>
            <a:br>
              <a:rPr sz="2400"/>
            </a:br>
            <a:r>
              <a:rPr b="1" lang="ru-RU" sz="1800" spc="-1" strike="noStrike">
                <a:solidFill>
                  <a:srgbClr val="b26b02"/>
                </a:solidFill>
                <a:latin typeface="Times New Roman"/>
                <a:ea typeface="Times New Roman"/>
              </a:rPr>
              <a:t>Сущность:</a:t>
            </a:r>
            <a:r>
              <a:rPr b="1" lang="ru-RU" sz="1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подошву прикрепляют к стельке через затяжную кромку заготовки ниточным швом. Этот метод характеризуется низкой надежностью, открытые ниточные швы внутри обуви быстро разрушаются  под действием трения и пота. Применяют в производстве домашней обуви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Picture 3" descr="IMG_4068 1"/>
          <p:cNvPicPr/>
          <p:nvPr/>
        </p:nvPicPr>
        <p:blipFill>
          <a:blip r:embed="rId1"/>
          <a:stretch/>
        </p:blipFill>
        <p:spPr>
          <a:xfrm>
            <a:off x="1778040" y="2349360"/>
            <a:ext cx="5551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антовом методе крепления заготовка вместе с подкладкой  и рантом крепится к губе стельки, после чего к отогнутому краю ранта пришивается подош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 требует высококачественных жестких стелечных материалов, сложен технологичес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енная обувь отличается прочностью, но она жесткая, тяжел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 практически не используется в производстве современной бытовой обув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дел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92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екоративная отделка заготовок верха определяет как внешний вид обуви, так и сложность ее модел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23232"/>
                </a:solidFill>
                <a:latin typeface="Verdana"/>
              </a:rPr>
              <a:t>Основными видами отделки являются</a:t>
            </a:r>
            <a:r>
              <a:rPr b="0" lang="ru-RU" sz="2200" spc="-1" strike="noStrike">
                <a:solidFill>
                  <a:srgbClr val="323232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журная строчк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рфорация – мелкие отверстия, расположенные в определенном порядк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6" descr="465465"/>
          <p:cNvPicPr/>
          <p:nvPr/>
        </p:nvPicPr>
        <p:blipFill>
          <a:blip r:embed="rId1"/>
          <a:stretch/>
        </p:blipFill>
        <p:spPr>
          <a:xfrm>
            <a:off x="5114880" y="1962000"/>
            <a:ext cx="3105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31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3232"/>
                </a:solidFill>
                <a:latin typeface="Verdana"/>
              </a:rPr>
              <a:t>Просеч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более крупные отверстия различной формы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3232"/>
                </a:solidFill>
                <a:latin typeface="Verdana"/>
              </a:rPr>
              <a:t>Бизи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застроченный между верхом и подкладкой рельефно-выступающий шнур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3232"/>
                </a:solidFill>
                <a:latin typeface="Verdana"/>
              </a:rPr>
              <a:t>Бей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нашивка или окантовка деталей полоской кожи другого цвета или материал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13" descr="18-774"/>
          <p:cNvPicPr/>
          <p:nvPr/>
        </p:nvPicPr>
        <p:blipFill>
          <a:blip r:embed="rId1"/>
          <a:stretch/>
        </p:blipFill>
        <p:spPr>
          <a:xfrm>
            <a:off x="4932360" y="1214280"/>
            <a:ext cx="35272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642960"/>
            <a:ext cx="454356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анты, пряжки из кожи и других материалов; отделка фурнитурой, мехом; ранты декоративные и фигурные; гранение каблуки, носки и т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шив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рячее тисн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13-770"/>
          <p:cNvPicPr/>
          <p:nvPr/>
        </p:nvPicPr>
        <p:blipFill>
          <a:blip r:embed="rId1"/>
          <a:stretch/>
        </p:blipFill>
        <p:spPr>
          <a:xfrm>
            <a:off x="5143680" y="549360"/>
            <a:ext cx="3429000" cy="2522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7988979898"/>
          <p:cNvPicPr/>
          <p:nvPr/>
        </p:nvPicPr>
        <p:blipFill>
          <a:blip r:embed="rId2"/>
          <a:stretch/>
        </p:blipFill>
        <p:spPr>
          <a:xfrm>
            <a:off x="5143680" y="300024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85880" y="571680"/>
            <a:ext cx="7858080" cy="535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Verdana"/>
              </a:rPr>
              <a:t>Процесс производ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дин из основных факторов формирования качества и потребительских свойств обув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6b02"/>
                </a:solidFill>
                <a:latin typeface="Verdana"/>
              </a:rPr>
              <a:t>Процесс производства включает:</a:t>
            </a:r>
            <a:r>
              <a:rPr b="1" lang="ru-RU" sz="2800" spc="-1" strike="noStrike">
                <a:solidFill>
                  <a:srgbClr val="6b9f2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ирование (моделирование и конструиров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крой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и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дел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b9f25"/>
                </a:solidFill>
                <a:latin typeface="Verdana"/>
              </a:rPr>
              <a:t>Проектирование </a:t>
            </a: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–разработка модели на утвержденную форму затяжной колодки, изготовление рабочих чертежей и шаблонов деталей, по которым раскраивают обувные материалы.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4071960" cy="3429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9f25"/>
                </a:solidFill>
                <a:latin typeface="Verdana"/>
              </a:rPr>
              <a:t>Обувная колодка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сновная формообразующая оснастка обувного производства. Применяются разной конструк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6" descr="IMG_4325"/>
          <p:cNvPicPr/>
          <p:nvPr/>
        </p:nvPicPr>
        <p:blipFill>
          <a:blip r:embed="rId1"/>
          <a:stretch/>
        </p:blipFill>
        <p:spPr>
          <a:xfrm>
            <a:off x="4714920" y="2428920"/>
            <a:ext cx="3929040" cy="34527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4932360" y="6165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ы раздвижных коло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42760" y="571680"/>
            <a:ext cx="61261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Детали обуви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6" descr="IMG_432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00080" y="3714840"/>
            <a:ext cx="2643120" cy="2071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IMG_4329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6215040" y="3714840"/>
            <a:ext cx="2357640" cy="2071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IMG_4330"/>
          <p:cNvPicPr/>
          <p:nvPr/>
        </p:nvPicPr>
        <p:blipFill>
          <a:blip r:embed="rId3"/>
          <a:stretch/>
        </p:blipFill>
        <p:spPr>
          <a:xfrm>
            <a:off x="3643200" y="3714840"/>
            <a:ext cx="2562480" cy="2071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IMG_4331"/>
          <p:cNvPicPr/>
          <p:nvPr/>
        </p:nvPicPr>
        <p:blipFill>
          <a:blip r:embed="rId4"/>
          <a:stretch/>
        </p:blipFill>
        <p:spPr>
          <a:xfrm>
            <a:off x="1857240" y="1357200"/>
            <a:ext cx="5143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857160"/>
            <a:ext cx="81835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хема обуви химических методов крепления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8578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леевой мет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3232"/>
                </a:solidFill>
                <a:latin typeface="Verdana"/>
              </a:rPr>
              <a:t>При </a:t>
            </a:r>
            <a:r>
              <a:rPr b="0" i="1" lang="ru-RU" sz="2200" spc="-1" strike="noStrike">
                <a:solidFill>
                  <a:srgbClr val="b26b02"/>
                </a:solidFill>
                <a:latin typeface="Verdana"/>
              </a:rPr>
              <a:t>клеевом методе</a:t>
            </a:r>
            <a:r>
              <a:rPr b="0" lang="ru-RU" sz="2200" spc="-1" strike="noStrike">
                <a:solidFill>
                  <a:srgbClr val="323232"/>
                </a:solidFill>
                <a:latin typeface="Verdana"/>
              </a:rPr>
              <a:t> крепления подошву приклеивают к затяжной кромке заготов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4" descr="IMG_4047 1"/>
          <p:cNvPicPr/>
          <p:nvPr/>
        </p:nvPicPr>
        <p:blipFill>
          <a:blip r:embed="rId1"/>
          <a:stretch/>
        </p:blipFill>
        <p:spPr>
          <a:xfrm>
            <a:off x="4786200" y="2071800"/>
            <a:ext cx="3786480" cy="3571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500040" y="1785960"/>
            <a:ext cx="400068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водостойкость, хорошая ремонтоспособность, легкость, гиб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6b02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: использование неводостойких клеев и нарушения технологий ведет к отклейке подош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57120" y="9288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990720" indent="-53352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11"/>
                </a:solidFill>
                <a:latin typeface="Verdana"/>
              </a:rPr>
              <a:t>Метод «парко»-</a:t>
            </a:r>
            <a:r>
              <a:rPr b="0" lang="ru-RU" sz="2000" spc="-1" strike="noStrike">
                <a:solidFill>
                  <a:srgbClr val="323232"/>
                </a:solidFill>
                <a:latin typeface="Verdana"/>
              </a:rPr>
              <a:t> затяжную кромку заготовки скрепляют нитками с рантом, к которому затем пришивают подошву. Стелька в креплении не участвует, поэтому обувь имеет повышенную гибкость, легкость. Этим методом изготавливают обувь для детей (гусарики)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IMG_4050"/>
          <p:cNvPicPr/>
          <p:nvPr/>
        </p:nvPicPr>
        <p:blipFill>
          <a:blip r:embed="rId1"/>
          <a:stretch/>
        </p:blipFill>
        <p:spPr>
          <a:xfrm>
            <a:off x="1285920" y="2214720"/>
            <a:ext cx="6786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IMG_4063 1"/>
          <p:cNvPicPr/>
          <p:nvPr/>
        </p:nvPicPr>
        <p:blipFill>
          <a:blip r:embed="rId1"/>
          <a:stretch/>
        </p:blipFill>
        <p:spPr>
          <a:xfrm>
            <a:off x="928800" y="2928960"/>
            <a:ext cx="3643200" cy="22147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400" y="571320"/>
            <a:ext cx="7358040" cy="192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1"/>
                </a:solidFill>
                <a:latin typeface="Verdana"/>
              </a:rPr>
              <a:t>3. Сандальный метод </a:t>
            </a:r>
            <a:r>
              <a:rPr b="0" lang="ru-RU" sz="2000" spc="-1" strike="noStrike">
                <a:solidFill>
                  <a:srgbClr val="323232"/>
                </a:solidFill>
                <a:latin typeface="Verdana"/>
              </a:rPr>
              <a:t>применяется для изготовления сандалий и легкой обуви упрощенной конструк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1"/>
                </a:solidFill>
                <a:latin typeface="Verdana"/>
              </a:rPr>
              <a:t>Сущность:</a:t>
            </a:r>
            <a:r>
              <a:rPr b="0" lang="ru-RU" sz="2000" spc="-1" strike="noStrike">
                <a:solidFill>
                  <a:srgbClr val="323232"/>
                </a:solidFill>
                <a:latin typeface="Verdana"/>
              </a:rPr>
              <a:t>  двуниточным швом скрепляют подошву, кромки заготовки и накладной рант по всему периметру. Обувь сандального метода не  имеет подкладки, стель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6" descr="IMG_4059 1"/>
          <p:cNvPicPr/>
          <p:nvPr/>
        </p:nvPicPr>
        <p:blipFill>
          <a:blip r:embed="rId2"/>
          <a:stretch/>
        </p:blipFill>
        <p:spPr>
          <a:xfrm>
            <a:off x="4572000" y="2928960"/>
            <a:ext cx="3857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IMG_4064 1"/>
          <p:cNvPicPr/>
          <p:nvPr/>
        </p:nvPicPr>
        <p:blipFill>
          <a:blip r:embed="rId1"/>
          <a:stretch/>
        </p:blipFill>
        <p:spPr>
          <a:xfrm>
            <a:off x="857160" y="2428920"/>
            <a:ext cx="3643560" cy="264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IMG_4067 1"/>
          <p:cNvPicPr/>
          <p:nvPr/>
        </p:nvPicPr>
        <p:blipFill>
          <a:blip r:embed="rId2"/>
          <a:stretch/>
        </p:blipFill>
        <p:spPr>
          <a:xfrm>
            <a:off x="4516560" y="2392200"/>
            <a:ext cx="4033800" cy="2692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42600" y="642960"/>
            <a:ext cx="8001000" cy="1643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990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11"/>
                </a:solidFill>
                <a:latin typeface="Verdana"/>
              </a:rPr>
              <a:t>3. Доппельный (полусандальный) метод </a:t>
            </a:r>
            <a:r>
              <a:rPr b="0" lang="ru-RU" sz="1700" spc="-1" strike="noStrike">
                <a:solidFill>
                  <a:srgbClr val="323232"/>
                </a:solidFill>
                <a:latin typeface="Verdana"/>
              </a:rPr>
              <a:t>применяется для изготовления обуви с подкладко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 algn="ctr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11"/>
                </a:solidFill>
                <a:latin typeface="Verdana"/>
              </a:rPr>
              <a:t>Сущность: </a:t>
            </a:r>
            <a:r>
              <a:rPr b="0" lang="ru-RU" sz="1700" spc="-1" strike="noStrike">
                <a:solidFill>
                  <a:srgbClr val="323232"/>
                </a:solidFill>
                <a:latin typeface="Verdana"/>
              </a:rPr>
              <a:t>подошву прикрепляют ниточным швом непосредственно к затяжной кромке через узкий накладной рант. Пяточную часть крепят гвоздями. Подкладку загибают на стельку и приклеивают к ней. Этот метод применяется для изготовления летней обуви для взрослых( сандалет), а также детской обув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24000" y="5157720"/>
            <a:ext cx="83008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323232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от рантовой обуви отличается легкостью, гибкостью, гигиенич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6b02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  <a:ea typeface="Arial"/>
              </a:rPr>
              <a:t>: сложности ремонта, недостаточная пр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7:33:17Z</dcterms:created>
  <dc:creator>Санечка</dc:creator>
  <dc:description/>
  <dc:language>en-US</dc:language>
  <cp:lastModifiedBy>Пользователь Windows</cp:lastModifiedBy>
  <dcterms:modified xsi:type="dcterms:W3CDTF">2022-11-21T22:59:38Z</dcterms:modified>
  <cp:revision>18</cp:revision>
  <dc:subject/>
  <dc:title>Производство кожаной  обуви</dc:title>
</cp:coreProperties>
</file>