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gif" ContentType="image/gif"/>
  <Override PartName="/ppt/media/image7.gif" ContentType="image/gif"/>
  <Override PartName="/ppt/media/image26.jpeg" ContentType="image/jpeg"/>
  <Override PartName="/ppt/media/image12.gif" ContentType="image/gif"/>
  <Override PartName="/ppt/media/image24.jpeg" ContentType="image/jpeg"/>
  <Override PartName="/ppt/media/image18.jpeg" ContentType="image/jpeg"/>
  <Override PartName="/ppt/media/image8.gif" ContentType="image/gif"/>
  <Override PartName="/ppt/media/image38.gif" ContentType="image/gif"/>
  <Override PartName="/ppt/media/image15.jpeg" ContentType="image/jpeg"/>
  <Override PartName="/ppt/media/image9.gif" ContentType="image/gif"/>
  <Override PartName="/ppt/media/image11.gif" ContentType="image/gif"/>
  <Override PartName="/ppt/media/image30.gif" ContentType="image/gif"/>
  <Override PartName="/ppt/media/image33.png" ContentType="image/png"/>
  <Override PartName="/ppt/media/image14.jpeg" ContentType="image/jpeg"/>
  <Override PartName="/ppt/media/image28.gif" ContentType="image/gif"/>
  <Override PartName="/ppt/media/image31.png" ContentType="image/png"/>
  <Override PartName="/ppt/media/image6.png" ContentType="image/png"/>
  <Override PartName="/ppt/media/image3.gif" ContentType="image/gif"/>
  <Override PartName="/ppt/media/image37.jpeg" ContentType="image/jpeg"/>
  <Override PartName="/ppt/media/image10.gif" ContentType="image/gif"/>
  <Override PartName="/ppt/media/image13.png" ContentType="image/png"/>
  <Override PartName="/ppt/media/image5.gif" ContentType="image/gif"/>
  <Override PartName="/ppt/media/image35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486-1E0F-42A0-8118-9DB66518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622-4F92-4A57-A2FF-42D3A532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5E9-1D1B-423A-8515-3E78ED87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771-E97A-4B3B-BBE7-2FB8F21C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04473-8BD8-4646-9134-8620BEEE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5E672-3315-4C84-B126-1074CE68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FC8F2-E964-4421-B500-806E7B56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AFA1A-6651-4332-9968-7ADAB419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90410-884C-4C42-BD16-78D2E03D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25C90-C50A-4CBE-A0D9-571AB56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922DF-97F8-4376-9416-CF611E67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953-84EB-4AEC-99C7-C47A3688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66CB1-3572-4F94-8DD2-77173AB7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9E1F7-CAF6-4F2D-8B1E-FAFD7A0E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1E588-8737-4A87-ADBF-FE445E5B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B8172-A71D-4315-A7E7-75BF74D1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52D3F-7A62-4AD1-AF10-BBD68D4D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20B-076C-48BF-83C2-825542CB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AA7-C251-4AD7-B444-F75C1933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99A-AB94-48D3-8F16-7C439721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BA3-6E9C-49AD-8358-94C9255B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2C5-CC3E-4ACF-AEF5-5F4F3696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3B4-37A2-4333-9D8E-6616E3D3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165-F88E-4A4B-B46B-03B7D31B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D199-FFB6-4841-A797-882B2DDBB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2FF0-A835-42AD-9E43-CA0F006959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219642440_1"/>
          <p:cNvPicPr/>
          <p:nvPr/>
        </p:nvPicPr>
        <p:blipFill>
          <a:blip r:embed="rId1"/>
          <a:stretch/>
        </p:blipFill>
        <p:spPr>
          <a:xfrm>
            <a:off x="1042920" y="1268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ahoma"/>
              </a:rPr>
              <a:t>Океаны и их обитатели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одготовила : воспитатель ВКК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Янова Елена Михайловна</a:t>
            </a:r>
            <a:br>
              <a:rPr sz="48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игантская рыба-лу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ивная 450 - килограммовая  черная рыба-луч известна под именем «Зевс», имеет в диаметре 4 метра, включая  метровый рот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picture"/>
          <p:cNvPicPr/>
          <p:nvPr/>
        </p:nvPicPr>
        <p:blipFill>
          <a:blip r:embed="rId1"/>
          <a:stretch/>
        </p:blipFill>
        <p:spPr>
          <a:xfrm>
            <a:off x="1476360" y="620640"/>
            <a:ext cx="5977080" cy="448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8567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ahoma"/>
              </a:rPr>
              <a:t>Обитатели  Атлантического 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тлантическом океане насчитывается порядком 53 видов промысловых ры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и них - знаменитая атлантическая селед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28629577_P1060335"/>
          <p:cNvPicPr/>
          <p:nvPr/>
        </p:nvPicPr>
        <p:blipFill>
          <a:blip r:embed="rId1"/>
          <a:stretch/>
        </p:blipFill>
        <p:spPr>
          <a:xfrm>
            <a:off x="2700360" y="155736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1218065365_2062180007_91f7c97c15_b"/>
          <p:cNvPicPr/>
          <p:nvPr/>
        </p:nvPicPr>
        <p:blipFill>
          <a:blip r:embed="rId1"/>
          <a:stretch/>
        </p:blipFill>
        <p:spPr>
          <a:xfrm rot="1055400">
            <a:off x="468360" y="4062240"/>
            <a:ext cx="3240000" cy="2443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m2"/>
          <p:cNvPicPr/>
          <p:nvPr/>
        </p:nvPicPr>
        <p:blipFill>
          <a:blip r:embed="rId2"/>
          <a:stretch/>
        </p:blipFill>
        <p:spPr>
          <a:xfrm rot="975000">
            <a:off x="5724360" y="296640"/>
            <a:ext cx="3024360" cy="226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kuly16"/>
          <p:cNvPicPr/>
          <p:nvPr/>
        </p:nvPicPr>
        <p:blipFill>
          <a:blip r:embed="rId3"/>
          <a:stretch/>
        </p:blipFill>
        <p:spPr>
          <a:xfrm rot="20881200">
            <a:off x="403200" y="267840"/>
            <a:ext cx="3313080" cy="239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219018601_1"/>
          <p:cNvPicPr/>
          <p:nvPr/>
        </p:nvPicPr>
        <p:blipFill>
          <a:blip r:embed="rId4"/>
          <a:stretch/>
        </p:blipFill>
        <p:spPr>
          <a:xfrm rot="20747400">
            <a:off x="5508720" y="403056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11"/>
          <p:cNvSpPr txBox="1"/>
          <p:nvPr/>
        </p:nvSpPr>
        <p:spPr>
          <a:xfrm>
            <a:off x="2195640" y="2637000"/>
            <a:ext cx="504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лубины океана</a:t>
            </a:r>
            <a:endParaRPr b="1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66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66ffff"/>
                </a:solidFill>
                <a:latin typeface="Tahoma"/>
              </a:rPr>
              <a:t>Морские звез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29600" cy="52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рской кон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0_195cd_5f782a6a_-2-S"/>
          <p:cNvPicPr/>
          <p:nvPr/>
        </p:nvPicPr>
        <p:blipFill>
          <a:blip r:embed="rId1"/>
          <a:stretch/>
        </p:blipFill>
        <p:spPr>
          <a:xfrm rot="21060600">
            <a:off x="250560" y="2349000"/>
            <a:ext cx="3238560" cy="318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 rot="690600">
            <a:off x="5889600" y="2347920"/>
            <a:ext cx="3249720" cy="331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0_1846b_d6cbcf4f_S"/>
          <p:cNvPicPr/>
          <p:nvPr/>
        </p:nvPicPr>
        <p:blipFill>
          <a:blip r:embed="rId3"/>
          <a:stretch/>
        </p:blipFill>
        <p:spPr>
          <a:xfrm>
            <a:off x="3635280" y="1989000"/>
            <a:ext cx="212400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4400" spc="-1" strike="noStrike">
                <a:solidFill>
                  <a:srgbClr val="00ff99"/>
                </a:solidFill>
                <a:latin typeface="Tahoma"/>
              </a:rPr>
              <a:t>Индийский 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5445000"/>
            <a:ext cx="9036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ий по размеру океан Земли, покрывающий около 20 % её водной поверх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66"/>
          <p:cNvPicPr/>
          <p:nvPr/>
        </p:nvPicPr>
        <p:blipFill>
          <a:blip r:embed="rId1"/>
          <a:stretch/>
        </p:blipFill>
        <p:spPr>
          <a:xfrm>
            <a:off x="6073920" y="5229360"/>
            <a:ext cx="3070080" cy="1446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1619280" y="1052640"/>
            <a:ext cx="56880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Хозяева оке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йский океан приютил многих опасных для человека жив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кеане есть большое число ядовитых морских змей, есть даже морские гребнистые крокоди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и птиц хозяевами можно назвать фрегатов и альбатросов. В южных холодных водах обитают пингви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360" y="620640"/>
            <a:ext cx="187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Аку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чти все акулы живут в верхних слоях океана, питаясь рыбой или кальма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ины рыбьего царства – это китовая и гигантская аку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дельные особи синей акулы достигают в длину четырех мет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30"/>
          <p:cNvPicPr/>
          <p:nvPr/>
        </p:nvPicPr>
        <p:blipFill>
          <a:blip r:embed="rId1"/>
          <a:stretch/>
        </p:blipFill>
        <p:spPr>
          <a:xfrm>
            <a:off x="6300720" y="5278320"/>
            <a:ext cx="1943280" cy="138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755640" y="0"/>
            <a:ext cx="3887640" cy="24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Морские черепахи живут </a:t>
            </a:r>
            <a:br>
              <a:rPr sz="3600"/>
            </a:b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          на  небольшой глубин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05226904"/>
          <p:cNvPicPr/>
          <p:nvPr/>
        </p:nvPicPr>
        <p:blipFill>
          <a:blip r:embed="rId1"/>
          <a:stretch/>
        </p:blipFill>
        <p:spPr>
          <a:xfrm>
            <a:off x="3132000" y="692280"/>
            <a:ext cx="2535480" cy="3097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верный Ледовитый оке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12"/>
          <p:cNvPicPr/>
          <p:nvPr/>
        </p:nvPicPr>
        <p:blipFill>
          <a:blip r:embed="rId2"/>
          <a:stretch/>
        </p:blipFill>
        <p:spPr>
          <a:xfrm>
            <a:off x="611280" y="2757600"/>
            <a:ext cx="1728720" cy="106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2"/>
          <p:cNvPicPr/>
          <p:nvPr/>
        </p:nvPicPr>
        <p:blipFill>
          <a:blip r:embed="rId3"/>
          <a:stretch/>
        </p:blipFill>
        <p:spPr>
          <a:xfrm>
            <a:off x="6372360" y="2617920"/>
            <a:ext cx="1584360" cy="1079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324000" y="422100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морских млекопитающих в Северном Ледовитом океане обитают моржи, настоящие тюлени, гренландский кит и киты –полосатики, а также китообразные белухи и нарва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Планета Океа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ная жизнь зародилась в в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е, что сейчас ползает, бегает и раст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 земле, все, что летает над землей и все, что растет под землей – все когда –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шло из 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улитка"/>
          <p:cNvPicPr/>
          <p:nvPr/>
        </p:nvPicPr>
        <p:blipFill>
          <a:blip r:embed="rId1"/>
          <a:stretch/>
        </p:blipFill>
        <p:spPr>
          <a:xfrm>
            <a:off x="5435640" y="57340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рыбка"/>
          <p:cNvPicPr/>
          <p:nvPr/>
        </p:nvPicPr>
        <p:blipFill>
          <a:blip r:embed="rId2"/>
          <a:stretch/>
        </p:blipFill>
        <p:spPr>
          <a:xfrm>
            <a:off x="468360" y="580536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осьминог"/>
          <p:cNvPicPr/>
          <p:nvPr/>
        </p:nvPicPr>
        <p:blipFill>
          <a:blip r:embed="rId3"/>
          <a:stretch/>
        </p:blipFill>
        <p:spPr>
          <a:xfrm>
            <a:off x="2700360" y="5014800"/>
            <a:ext cx="2881440" cy="18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Северный Ледовитый океан</a:t>
            </a:r>
            <a:br>
              <a:rPr sz="4000"/>
            </a:b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коло 40 млн. лет назад был гигантским озер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́верный Ледови́тый океа́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наименьший по площади океан Земли, расположен между Евразией и Северной Амери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ощадь 14,75 млн. кв. км, средняя глубина 1225 м, наибольшая глубина 5527 м в Гренландском море. Объём воды 18,07 млн. км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в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ff99"/>
                </a:solidFill>
                <a:latin typeface="Tahoma"/>
              </a:rPr>
              <a:t>Нарвал обитает в широтах Северного Ледовитого океана. Длина тела 3.5 -4.5 м. Масса самцов достигает 1.5 т.</a:t>
            </a:r>
            <a:r>
              <a:rPr b="0" lang="en-US" sz="28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ff99"/>
                </a:solidFill>
                <a:latin typeface="Tahoma"/>
              </a:rPr>
              <a:t>Единственный зуб у самцов разросся в длину и превратился в бив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20ff0"/>
          <p:cNvPicPr/>
          <p:nvPr/>
        </p:nvPicPr>
        <p:blipFill>
          <a:blip r:embed="rId1"/>
          <a:stretch/>
        </p:blipFill>
        <p:spPr>
          <a:xfrm>
            <a:off x="2340000" y="3645000"/>
            <a:ext cx="403236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99640" y="764640"/>
            <a:ext cx="78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лый медведь - один из крупнейши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лекопитающих суши и самый крупны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ищный зверь на планете. Вес достигае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00-800 кг, а иногда даже тонны.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х условиях живет около 19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1"/>
          <p:cNvPicPr/>
          <p:nvPr/>
        </p:nvPicPr>
        <p:blipFill>
          <a:blip r:embed="rId1"/>
          <a:stretch/>
        </p:blipFill>
        <p:spPr>
          <a:xfrm>
            <a:off x="2700360" y="3573360"/>
            <a:ext cx="4248000" cy="30736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324000" y="-316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Белый медвед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8000" y="1341360"/>
            <a:ext cx="8928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ое крупное животное на Земле  -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голубой ки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ая крупная рыба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китовая аку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ое зубастое животное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кит кашало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ая плодовитая рыба в мире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рыба - луна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132"/>
          <p:cNvPicPr/>
          <p:nvPr/>
        </p:nvPicPr>
        <p:blipFill>
          <a:blip r:embed="rId1"/>
          <a:stretch/>
        </p:blipFill>
        <p:spPr>
          <a:xfrm>
            <a:off x="2411280" y="4724280"/>
            <a:ext cx="3600720" cy="1995480"/>
          </a:xfrm>
          <a:prstGeom prst="rect">
            <a:avLst/>
          </a:prstGeom>
          <a:ln w="0">
            <a:noFill/>
          </a:ln>
        </p:spPr>
      </p:pic>
      <p:sp>
        <p:nvSpPr>
          <p:cNvPr id="162" name="WordArt 7"/>
          <p:cNvSpPr txBox="1"/>
          <p:nvPr/>
        </p:nvSpPr>
        <p:spPr>
          <a:xfrm>
            <a:off x="250920" y="115920"/>
            <a:ext cx="813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ресные факты об обитателях  Океана</a:t>
            </a:r>
            <a:endParaRPr b="1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66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ddc4"/>
                </a:solidFill>
                <a:latin typeface="Tahoma"/>
              </a:rPr>
              <a:t>Площадь (млн. кв. м)</a:t>
            </a:r>
            <a:r>
              <a:rPr b="1" lang="ru-RU" sz="2800" spc="-1" strike="noStrike">
                <a:solidFill>
                  <a:srgbClr val="09ddc4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9ddc4"/>
                </a:solidFill>
                <a:latin typeface="Tahoma"/>
              </a:rPr>
              <a:t>Глубина макс. 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ихий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178, 6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1,0333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тлантический – 91,1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8648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ндийский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76,2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86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еверный      - 14,8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54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Ледови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1332000" y="189000"/>
            <a:ext cx="655308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данные об океанах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" name="Picture 7" descr="15"/>
          <p:cNvPicPr/>
          <p:nvPr/>
        </p:nvPicPr>
        <p:blipFill>
          <a:blip r:embed="rId3"/>
          <a:stretch/>
        </p:blipFill>
        <p:spPr>
          <a:xfrm>
            <a:off x="4716360" y="5013360"/>
            <a:ext cx="1944720" cy="13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Жители планеты 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знь в океане необычайно разнообразна: там  обитает  200000 видов организмов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микроскопических одноклеточных водорослей и крошечных животных до китов, превышающих в длину 30 мет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0" descr="22"/>
          <p:cNvPicPr/>
          <p:nvPr/>
        </p:nvPicPr>
        <p:blipFill>
          <a:blip r:embed="rId1"/>
          <a:stretch/>
        </p:blipFill>
        <p:spPr>
          <a:xfrm>
            <a:off x="2556000" y="5300640"/>
            <a:ext cx="1655640" cy="1041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201"/>
          <p:cNvPicPr/>
          <p:nvPr/>
        </p:nvPicPr>
        <p:blipFill>
          <a:blip r:embed="rId2"/>
          <a:stretch/>
        </p:blipFill>
        <p:spPr>
          <a:xfrm>
            <a:off x="468360" y="5157720"/>
            <a:ext cx="1224000" cy="1095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206"/>
          <p:cNvPicPr/>
          <p:nvPr/>
        </p:nvPicPr>
        <p:blipFill>
          <a:blip r:embed="rId3"/>
          <a:stretch/>
        </p:blipFill>
        <p:spPr>
          <a:xfrm>
            <a:off x="4572000" y="5403960"/>
            <a:ext cx="2232000" cy="111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162"/>
          <p:cNvPicPr/>
          <p:nvPr/>
        </p:nvPicPr>
        <p:blipFill>
          <a:blip r:embed="rId4"/>
          <a:stretch/>
        </p:blipFill>
        <p:spPr>
          <a:xfrm>
            <a:off x="7308720" y="5308560"/>
            <a:ext cx="1440000" cy="109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рские рыбы поражают разнообразием своих видов: встречается множество экзотических рыб, но не они составляют основу его биологического балан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Главная роль принадлежит мелким массовым формам — сардинам, анчоусам, ставридам, сельд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Эти стройные рыбы, питающиеся планктоном, являются основной продукцией морского рыболовства, они же служат пищей многим хищным рыбам, морским птицам, дельфинам, тюленям и кальмар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2050920" y="189000"/>
            <a:ext cx="45356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рские рыбы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9ddc4"/>
                </a:solidFill>
                <a:latin typeface="Tahoma"/>
              </a:rPr>
              <a:t>Тихий 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0904400" y="28288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6372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ервым, кто переплыл крупнейший океан планеты, был Магеллан. Он назвал его «Тихим».Позже выяснилось, Магеллан ошибся. Именно в этом океане рождается больше всего тайфунов, именно он производит три четверт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блаков планеты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8" descr="177"/>
          <p:cNvPicPr/>
          <p:nvPr/>
        </p:nvPicPr>
        <p:blipFill>
          <a:blip r:embed="rId1"/>
          <a:stretch/>
        </p:blipFill>
        <p:spPr>
          <a:xfrm>
            <a:off x="2484360" y="5335560"/>
            <a:ext cx="1582920" cy="123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27734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33cccc"/>
                </a:solidFill>
                <a:latin typeface="Tahoma"/>
              </a:rPr>
              <a:t>     </a:t>
            </a: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Тихий 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4508280"/>
            <a:ext cx="8964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хий океан занимает половину всей водной поверхности Земли и более тридцати процентов площади поверхности план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94110920"/>
          <p:cNvPicPr/>
          <p:nvPr/>
        </p:nvPicPr>
        <p:blipFill>
          <a:blip r:embed="rId1"/>
          <a:stretch/>
        </p:blipFill>
        <p:spPr>
          <a:xfrm>
            <a:off x="1547640" y="981000"/>
            <a:ext cx="6121440" cy="34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Дельф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0_1576b_5529affe_-2-S"/>
          <p:cNvPicPr/>
          <p:nvPr/>
        </p:nvPicPr>
        <p:blipFill>
          <a:blip r:embed="rId1"/>
          <a:stretch/>
        </p:blipFill>
        <p:spPr>
          <a:xfrm>
            <a:off x="2627280" y="836640"/>
            <a:ext cx="3745080" cy="3238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 rot="246000">
            <a:off x="-4054320" y="8400600"/>
            <a:ext cx="1458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42926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льфинов очень легко приручать благода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ому, что они очень умны и обладают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ключительными способностями к обучен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ни необыкновенно дружелюб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4000" spc="-1" strike="noStrike">
                <a:solidFill>
                  <a:srgbClr val="00ff99"/>
                </a:solidFill>
                <a:latin typeface="Tahoma"/>
              </a:rPr>
              <a:t>Атлантический оке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4005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лантический океан уступает по размерам только Тихому; его площадь составляет примерно 91,56 млн. км2. От других океанов его отличает сильная изрезанность береговой линии, образующей многочисленные моря и заливы, особенно в северной ч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30"/>
          <p:cNvPicPr/>
          <p:nvPr/>
        </p:nvPicPr>
        <p:blipFill>
          <a:blip r:embed="rId1"/>
          <a:stretch/>
        </p:blipFill>
        <p:spPr>
          <a:xfrm>
            <a:off x="7596360" y="3498840"/>
            <a:ext cx="93636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6121440" cy="334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30"/>
          <p:cNvPicPr/>
          <p:nvPr/>
        </p:nvPicPr>
        <p:blipFill>
          <a:blip r:embed="rId3"/>
          <a:stretch/>
        </p:blipFill>
        <p:spPr>
          <a:xfrm>
            <a:off x="250920" y="3425760"/>
            <a:ext cx="93636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1:34:52Z</dcterms:created>
  <dc:creator>Admin</dc:creator>
  <dc:description/>
  <dc:language>en-US</dc:language>
  <cp:lastModifiedBy>Serg</cp:lastModifiedBy>
  <dcterms:modified xsi:type="dcterms:W3CDTF">2022-11-22T16:55:39Z</dcterms:modified>
  <cp:revision>62</cp:revision>
  <dc:subject/>
  <dc:title>Океаны и их обитатели</dc:title>
</cp:coreProperties>
</file>