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329-D8CA-413A-8AC1-7ABBAA3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581-A2F1-4CD9-B90A-367533A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100-E033-4C92-9B93-A9FC4FA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885-B591-4858-946C-47220B81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2BEEA-CCC4-428D-9CEF-C367E26A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F23B-5916-4052-8DC7-4647B78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814A0-C077-4048-809D-1A4E4AA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C1409-E184-4FF0-B928-4A86C68D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6C4D6-E79D-4889-9ACE-B2A1584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C6CE1-2663-4813-A7CB-AD26C71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01CA7-5A13-4A8F-A097-A550FF0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2D5-4CA0-408A-B75F-6560AC63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0AE77-7EBF-426D-B178-F2827FD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C23E2-7D89-4AE4-A0F9-F830FC5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C5268-90AB-4753-87F8-5999661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FB96-2A17-48FA-9C74-3F1F2C20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9BE4C-42B2-47BF-BDE3-EFD2EFAF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191-D89C-4BAE-8517-42C4AE3F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CE1-7441-471B-B0B9-E2AE308E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DC8-3B5F-46AD-910F-CBF30CE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A6F-CFCD-4402-BEAF-46839ABA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D30-F125-40C7-8412-C4F3B78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880-8EC8-43F9-9B02-55F4589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10C-4E37-41C7-9EF6-EB62E0E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937-7017-4CD7-8CFD-BC7ABD518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DAA-968D-497B-9B49-0C8CA44C49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ssia-karta.ru/ahtubinskij-rajon.htm" TargetMode="External"/><Relationship Id="rId2" Type="http://schemas.openxmlformats.org/officeDocument/2006/relationships/hyperlink" Target="http://fb.ru/article/358598/pochemu-nujno-berech-vodu-i-ohranyat-vodoemyi" TargetMode="External"/><Relationship Id="rId3" Type="http://schemas.openxmlformats.org/officeDocument/2006/relationships/hyperlink" Target="https://yandex.ru/images/search?tex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200" y="260280"/>
            <a:ext cx="8715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ts val="76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следовательский проект                                по географии на тему: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доём напротив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ts val="76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Автор: Асхабов Алиха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чащийся  8 класса  МБОУ «Удаченская ООШ                 МО «Ахтубинский район»  Астраханской области.                                     Помощники: учащиеся 8 класса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Руководитель проекта: Дашкова Л.А., учитель географии высшей катег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ts val="76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599840"/>
            <a:ext cx="8858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Чем опасны несанкционированные свалки бытового мусора на побережье  ерика Длинный?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есанкционированные свалк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стихийные скопления отходов, которые никому не принадлежат и за состояние которых никто не отвеч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вёрдые и химические бытовые отходы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являютс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очником экологической опасности: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распространяют неприятный  запах и являются  средой  для размножения болезнетворных бактерий, насекомых и грызунов – переносчиков инфекционных заболеваний;                                                                                          - серьезную опасность представляет сжигание ТБО (особенно синтетических материалов и веществ) на побережьях ерика Длинный, так как  при этом в воздух выделяются токсичные вещества, которые быстро попадают в органы дыхания окружающих людей; с временными потоками воды – в ерик Длин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2920" y="1214280"/>
            <a:ext cx="87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 Как можно решить проблему загрязнения ерика Длинный и его побережья?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Личная ответственность жителей села через выявление злостных загрязнителей ерика Длинный и его побережь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ывоз бытового мусора на специально оборудованную свалку, находящуюся в 1 км к юго-востоку от сел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рганизация санитарных пятниц (ежемесячно).                                                                   4. Просьба к администрации  поселения  закрепить ерик  за организациями, расположенными в пределах села.                                                                                                                    5. Обращение к Совету депутатов МО «Удаченский сельсовет» с просьбой выделить средства на очистку  ерика и его берегов (напротив села).                                                                                                                               6. Проведение школьного конкурса рисунков «Чистый водоём» с целью развития гражданских качеств у учащихся.                                                                               7. Выпуск и распространение среди жителей  села  агитационных листовок.                                                                                                                          8. Экологическое воспитание и образование среди воспитанников дошкольной группы, школьников и взрослых жителей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Основные выходы и результаты проект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циологический опрос: мнение учителей, учащихся школы, их родителей, жителей села о современном состоянии исследуемой территории на предмет экологического загрязнения с составлением сводной таблицы  «Результаты анкетирования к учебному проекту «Водоём напротив…»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нтервьюирование по проблеме загрязнения ерика Длинный с составлением таблицы  «Данные по интервью по проблеме загрязнения ерика Длинный».                                                                                                                   3. Создание презентации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дная таблица  «Результаты анкетирования к учебному проекту «Водоём напротив…»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2920" y="1285920"/>
          <a:ext cx="8786880" cy="5303880"/>
        </p:xfrm>
        <a:graphic>
          <a:graphicData uri="http://schemas.openxmlformats.org/drawingml/2006/table">
            <a:tbl>
              <a:tblPr/>
              <a:tblGrid>
                <a:gridCol w="6643800"/>
                <a:gridCol w="1176120"/>
                <a:gridCol w="9669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Вы часто бываете около ерика Длинный?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гд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 обращаете внимание на внешний вид и санитарное состояние ерика и территории возле него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гд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8760" y="785880"/>
          <a:ext cx="8429400" cy="5286240"/>
        </p:xfrm>
        <a:graphic>
          <a:graphicData uri="http://schemas.openxmlformats.org/drawingml/2006/table">
            <a:tbl>
              <a:tblPr/>
              <a:tblGrid>
                <a:gridCol w="6715080"/>
                <a:gridCol w="857160"/>
                <a:gridCol w="8571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Как изменилось состояние ерика  за последние годы?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зменилось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луч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хуж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катастрофически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Что, по вашему мнению, можно сделать, чтобы изменить ситуацию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истить ерик и его берег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ить разъяснительную (агитационную) работ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сорит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571680"/>
          <a:ext cx="8229600" cy="5429160"/>
        </p:xfrm>
        <a:graphic>
          <a:graphicData uri="http://schemas.openxmlformats.org/drawingml/2006/table">
            <a:tbl>
              <a:tblPr/>
              <a:tblGrid>
                <a:gridCol w="6257880"/>
                <a:gridCol w="1000080"/>
                <a:gridCol w="97164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Как вы относитесь к тому, чтобы очистить реку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различ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то должен заниматься этой проблемой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ция сел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ция школы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ели сел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вмес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тервью по проблеме загрязнения ерика Дли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то берёт интервь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.И.О. интервьюируем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олжно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 сколько важна проблема загрязнения ер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олжна ли эта проблема рассматриваться органами вла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олжен кто-либо нести ответственность за решение этой проблемы?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акие способы решения проблемы вы вид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ица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ные по интервью по проблеме загрязнения ерика Длинный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тервьюированных: 10  чел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ожительное отношение к проблеме)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1680" y="2523960"/>
          <a:ext cx="8001000" cy="3294360"/>
        </p:xfrm>
        <a:graphic>
          <a:graphicData uri="http://schemas.openxmlformats.org/drawingml/2006/table">
            <a:tbl>
              <a:tblPr/>
              <a:tblGrid>
                <a:gridCol w="580680"/>
                <a:gridCol w="5751720"/>
                <a:gridCol w="16686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колько важна проблема загрязнения ерика?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на ли эта проблема рассматриваться органами власти?      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ен кто-либо нести ответственность за решение этой проблемы? Почем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ие способы решения проблемы вы видит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Предлагаемые пути решения экологической проблемы загрязнения ерика Длинный и его побережий: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928520"/>
            <a:ext cx="85723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ичная ответственность жителей села через выявление злостных загрязнителей ерика Длинный и его побережь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ывоз бытового мусора на специально оборудованную свалку, находящуюся в 1 км к юго-востоку от с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рганизация санитарных пятниц (ежемесячно).                                                                   4. Просьба к администрации  поселения  закрепить ерик  за организациями, расположенными в пределах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Предлагаемые пути решения экологической проблемы загрязнения ерика Длинный и его побережий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285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ращение к Совету депутатов МО «Удаченский сельсовет» с просьбой выделить средства на очистку  ерика и его берегов (напротив села).                                                                                                                               6. Проведение школьного конкурса рисунков «Чистый водоём» с целью развития гражданских качеств у учащихся.                                                                               7. Выпуск и распространение среди жителей  села  агитационных листовок.                                                                           8. Экологическое воспитание и образование среди воспитанников дошкольной группы, школьников и взрослых жителей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РАВ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480" y="1600200"/>
            <a:ext cx="864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 ходе работы над проектом  проведена оценка экологического загрязнения  ерика Длинный  (в прошлом - Абуцун-Цого), расположенного в 300 м от                  с. Удачное  Ахтубинского  района и на основе проведённой работы создана презент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ено обоснование актуальности экологической проблемы, сформулированы цели, задачи и проблемные вопросы, определены сроки и этапы реализации проекта, составлен план основных мероприятий. А также сформулированы основные выводы, предлагаемые пути решения экологических проблем ерика Длинный и его побереж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астие в акции                       «Чистые берег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Содержимое 3" descr="Фото-0002.jpg"/>
          <p:cNvPicPr/>
          <p:nvPr/>
        </p:nvPicPr>
        <p:blipFill>
          <a:blip r:embed="rId1"/>
          <a:stretch/>
        </p:blipFill>
        <p:spPr>
          <a:xfrm>
            <a:off x="428760" y="1571760"/>
            <a:ext cx="8286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Источники информац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b9b9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"/>
              </a:rPr>
              <a:t>http://russia-karta.ru/ahtubinskij-rajon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2"/>
              </a:rPr>
              <a:t>http://fb.ru/article/358598/pochemu-nujno-berech-vodu-i-ohranyat-vodoemy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3"/>
              </a:rPr>
              <a:t>https://yandex.ru/images/search?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img-4.photosight.ru/380/3092428_lar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. Обоснование актуальности проекта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«Вода и время расставляют всё по своим местам» (А. Дюма)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юди на планете знают выражение «вода – это жизнь (или колыбель жизни)», но мало кто задумывается о его смысле. А от её чистоты в водоёмах, от чистоты побережий этих водоёмов зависит качество жизни существ, населяющих планету. Почему же, в таком случае, люди так безответственно относятся к водным ресурсам планеты, своего населённого пункта?  Научить человека думать не только о себе, но и об окружающем мире нелегко, особенно эта проблема актуальна для подрост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Tahoma"/>
              </a:rPr>
              <a:t>2. Цели, задачи и планируемый результат про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Цель проект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кологического состояния ерика Длинный и его побереж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дачи проекта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лечь внимание общественности к проблеме загрязнения ерика Длинны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циализация личности, формирование у школьников адекватных представлений о сути природных явлений с одновременным воспитанием экологической куль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витие навыков общественной деятельности, формирование бережного отношения к при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уемый результат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пределение путей решения проблемы загрязнения ерика Длинный и его побереж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лечение внимания общественности к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3. Проблемные вопросы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й фактор оказывает отрицательное влияние на экологию ерика Длинный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ем опасны несанкционированные свалки бытового мусора на побережье  ерика Длинный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Как можно решить проблему загрязнения ерика Длинный и его побереж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88581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План основных мероприятий  проек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еседа с учащимися о проблемах экологии, в частности, об отношении к водным богатствам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Рассмотрение методики интервьюирования компетент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прос жителей по пунктам анк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Составление плана интервью и выбор лиц, которых нужно интервьюир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Интервью с компетентными людьми, жителями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Обработка результатов анкетирования и интервью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Выработка вариантов решения пробл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Создание презентации по данному проек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57120" y="1285560"/>
            <a:ext cx="9501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Какой фактор оказывает отрицательное влияние на экологию ерика Длинный?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560" indent="-45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Жизнь человека и его деятельность всегда сопровождались образование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тход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делий, материалов и веществ, которые утратили свои потребительские свойства в результате физического или морального износа; минеральных удобрений с полей и т.д.  Проблема  предметов - загрязнителей и веществ – загрязнителей,  способов избавления от них стала одной из серьёзных проблем современных населённых пунктов. Загрязнителями населённых пунктов, водоёмов и их побережий бытовым мусором являются люди, живущие в них и рядом с ними. Не исключением  является и ерик Длинный и его побереж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ю был проанализирован состав мусора, среди которого присутствует картон, полиэтилен, пластиковые, стеклянные изделия и т.д. Я взвесил мусор, собранный мной на побережье через каждые 10 метров в пяти точках. Каждый контроль осуществлял с площади в  один квадратный метр. Вывел средний показатель: 7 кг в каждой точке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7:28:51Z</dcterms:created>
  <dc:creator>Коля</dc:creator>
  <dc:description/>
  <dc:language>en-US</dc:language>
  <cp:lastModifiedBy>Admin</cp:lastModifiedBy>
  <dcterms:modified xsi:type="dcterms:W3CDTF">2019-02-13T19:29:02Z</dcterms:modified>
  <cp:revision>35</cp:revision>
  <dc:subject/>
  <dc:title>РЕАЛИЗАЦИЯ  ПРОЕКТНОЙ  ДЕЯТЕЛЬНОСТИ ПО  ГЕОГРАФИИ ЧЕРЕЗ      КРУЖКОВУЮ РАБОТУ</dc:title>
</cp:coreProperties>
</file>