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FB09-0A77-4881-A512-FAD47266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0BD1-5D2A-4129-B044-104272CD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5D6-F331-49A7-AAEE-19853DB5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056-DF49-4EEE-ADC7-F6EA668C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CDEC1-7F97-42EA-A0DD-334F2555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58C59-408F-4364-9E50-F57069DE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1126F-407E-498D-8AD3-8880EAB5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9797A-42D7-4933-8087-45895D74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D8068-A9BD-474A-B556-C4B5B41A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F8DD1-26DB-4ABD-AD2D-05D94A46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23B07-A7FA-45C3-AAC9-3F854117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DD3A-BF13-42AE-A053-A27701C8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484D8-EF6B-42AD-94F9-3BB3F71E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3AF52-918C-4648-9E9C-37EA50CF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C866C-79D9-4C20-BC49-13EE8A2C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91D54-2C20-4FF5-BB82-72DD628B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19077-B4E2-452D-A3D5-7794B069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0922-4AB6-4124-8B0F-D642D859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EE1-E651-4D62-B67A-1913FBAA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3448-4EA6-431D-BBCB-0A2E4CAE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410C-3C6A-43C3-8C31-B84CC7D0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7BE-558B-4E06-8B52-E8B857EE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368-A28E-4E5C-B207-7D20F2D8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8DE7-69CB-4B89-B3A3-F6E2829B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05AB-4A9F-4F55-A28F-80A950B181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CDB5-5F99-4D65-AD8F-D667D27334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ssia-karta.ru/ahtubinskij-rajon.htm" TargetMode="External"/><Relationship Id="rId2" Type="http://schemas.openxmlformats.org/officeDocument/2006/relationships/hyperlink" Target="http://fb.ru/article/358598/pochemu-nujno-berech-vodu-i-ohranyat-vodoemyi" TargetMode="External"/><Relationship Id="rId3" Type="http://schemas.openxmlformats.org/officeDocument/2006/relationships/hyperlink" Target="https://yandex.ru/images/search?tex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14200" y="260280"/>
            <a:ext cx="8715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ts val="76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следовательский проект                                по географии на тему:                  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Водоём напротив…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ts val="76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Автор: Асхабов Алихан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учащийся  8 класса  МБОУ «Удаченская ООШ                 МО «Ахтубинский район»  Астраханской области.                                     Помощники: учащиеся 8 класса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Руководитель проекта: Дашкова Л.А., учитель географии высшей катего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ts val="76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3840" y="22824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ahoma"/>
              </a:rPr>
              <a:t>5. Решение проблемных вопросов проекта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1599840"/>
            <a:ext cx="88581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. Чем опасны несанкционированные свалки бытового мусора на побережье  ерика Длинный?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Несанкционированные свалки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– это стихийные скопления отходов, которые никому не принадлежат и за состояние которых никто не отвеча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Твёрдые и химические бытовые отходы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являются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источником экологической опасности: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распространяют неприятный  запах и являются  средой  для размножения болезнетворных бактерий, насекомых и грызунов – переносчиков инфекционных заболеваний;                                                                                          - серьезную опасность представляет сжигание ТБО (особенно синтетических материалов и веществ) на побережьях ерика Длинный, так как  при этом в воздух выделяются токсичные вещества, которые быстро попадают в органы дыхания окружающих людей; с временными потоками воды – в ерик Длин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ahoma"/>
              </a:rPr>
              <a:t>5. Решение проблемных вопросов проекта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42920" y="1214280"/>
            <a:ext cx="87868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. Как можно решить проблему загрязнения ерика Длинный и его побережья?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Личная ответственность жителей села через выявление злостных загрязнителей ерика Длинный и его побережь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Вывоз бытового мусора на специально оборудованную свалку, находящуюся в 1 км к юго-востоку от сел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Организация санитарных пятниц (ежемесячно).                                                                   4. Просьба к администрации  поселения  закрепить ерик  за организациями, расположенными в пределах села.                                                                                                                    5. Обращение к Совету депутатов МО «Удаченский сельсовет» с просьбой выделить средства на очистку  ерика и его берегов (напротив села).                                                                                                                               6. Проведение школьного конкурса рисунков «Чистый водоём» с целью развития гражданских качеств у учащихся.                                                                               7. Выпуск и распространение среди жителей  села  агитационных листовок.                                                                                                                          8. Экологическое воспитание и образование среди воспитанников дошкольной группы, школьников и взрослых жителей с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 Основные выходы и результаты проекта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4200" y="1500120"/>
            <a:ext cx="8715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Социологический опрос: мнение учителей, учащихся школы, их родителей, жителей села о современном состоянии исследуемой территории на предмет экологического загрязнения с составлением сводной таблицы  «Результаты анкетирования к учебному проекту «Водоём напротив…»)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нтервьюирование по проблеме загрязнения ерика Длинный с составлением таблицы  «Данные по интервью по проблеме загрязнения ерика Длинный».                                                                                                                   3. Создание презентации про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одная таблица  «Результаты анкетирования к учебному проекту «Водоём напротив…»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42920" y="1285920"/>
          <a:ext cx="8786880" cy="5303880"/>
        </p:xfrm>
        <a:graphic>
          <a:graphicData uri="http://schemas.openxmlformats.org/drawingml/2006/table">
            <a:tbl>
              <a:tblPr/>
              <a:tblGrid>
                <a:gridCol w="6643800"/>
                <a:gridCol w="1176120"/>
                <a:gridCol w="9669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ы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 %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Вы часто бываете около ерика Длинный?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огда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Вы обращаете внимание на внешний вид и санитарное состояние ерика и территории возле него?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огд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28760" y="785880"/>
          <a:ext cx="8429400" cy="5286240"/>
        </p:xfrm>
        <a:graphic>
          <a:graphicData uri="http://schemas.openxmlformats.org/drawingml/2006/table">
            <a:tbl>
              <a:tblPr/>
              <a:tblGrid>
                <a:gridCol w="6715080"/>
                <a:gridCol w="857160"/>
                <a:gridCol w="857160"/>
              </a:tblGrid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Как изменилось состояние ерика  за последние годы?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изменилось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о лучше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о хуже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о катастрофическим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Что, по вашему мнению, можно сделать, чтобы изменить ситуацию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истить ерик и его берега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одить разъяснительную (агитационную) работу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сорить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571680"/>
          <a:ext cx="8229600" cy="5429160"/>
        </p:xfrm>
        <a:graphic>
          <a:graphicData uri="http://schemas.openxmlformats.org/drawingml/2006/table">
            <a:tbl>
              <a:tblPr/>
              <a:tblGrid>
                <a:gridCol w="6257880"/>
                <a:gridCol w="1000080"/>
                <a:gridCol w="971640"/>
              </a:tblGrid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Как вы относитесь к тому, чтобы очистить реку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ицательно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различ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Кто должен заниматься этой проблемой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дминистрация сел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дминистрация школы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тели сел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 вмест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нтервью по проблеме загрязнения ерика Длин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Да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то берёт интервь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.И.О. интервьюируемог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Должнос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прос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На сколько важна проблема загрязнения ери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Должна ли эта проблема рассматриваться органами влас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Должен кто-либо нести ответственность за решение этой проблемы? Почем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Какие способы решения проблемы вы види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3840" y="228600"/>
            <a:ext cx="8929800" cy="19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блица </a:t>
            </a:r>
            <a:r>
              <a:rPr b="1" lang="ru-RU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анные по интервью по проблеме загрязнения ерика Длинный</a:t>
            </a:r>
            <a:r>
              <a:rPr b="1" lang="ru-RU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»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интервьюированных: 10  чел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оложительное отношение к проблеме)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71680" y="2523960"/>
          <a:ext cx="8001000" cy="3294360"/>
        </p:xfrm>
        <a:graphic>
          <a:graphicData uri="http://schemas.openxmlformats.org/drawingml/2006/table">
            <a:tbl>
              <a:tblPr/>
              <a:tblGrid>
                <a:gridCol w="580680"/>
                <a:gridCol w="5751720"/>
                <a:gridCol w="166860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сколько важна проблема загрязнения ерика?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лжна ли эта проблема рассматриваться органами власти?                                         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лжен кто-либо нести ответственность за решение этой проблемы? Почему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ие способы решения проблемы вы видите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7. Предлагаемые пути решения экологической проблемы загрязнения ерика Длинный и его побережий: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928520"/>
            <a:ext cx="857232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Личная ответственность жителей села через выявление злостных загрязнителей ерика Длинный и его побережь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Вывоз бытового мусора на специально оборудованную свалку, находящуюся в 1 км к юго-востоку от сел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Организация санитарных пятниц (ежемесячно).                                                                   4. Просьба к администрации  поселения  закрепить ерик  за организациями, расположенными в пределах се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7. Предлагаемые пути решения экологической проблемы загрязнения ерика Длинный и его побережий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9285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Обращение к Совету депутатов МО «Удаченский сельсовет» с просьбой выделить средства на очистку  ерика и его берегов (напротив села).                                                                                                                               6. Проведение школьного конкурса рисунков «Чистый водоём» с целью развития гражданских качеств у учащихся.                                                                               7. Выпуск и распространение среди жителей  села  агитационных листовок.                                                                           8. Экологическое воспитание и образование среди воспитанников дошкольной группы, школьников и взрослых жителей се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РАВКА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85480" y="1600200"/>
            <a:ext cx="8643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 ходе работы над проектом  проведена оценка экологического загрязнения  ерика Длинный  (в прошлом - Абуцун-Цого), расположенного в 300 м от                  с. Удачное  Ахтубинского  района и на основе проведённой работы создана презент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едено обоснование актуальности экологической проблемы, сформулированы цели, задачи и проблемные вопросы, определены сроки и этапы реализации проекта, составлен план основных мероприятий. А также сформулированы основные выводы, предлагаемые пути решения экологических проблем ерика Длинный и его побереж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частие в акции                       «Чистые берега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Содержимое 3" descr="Фото-0002.jpg"/>
          <p:cNvPicPr/>
          <p:nvPr/>
        </p:nvPicPr>
        <p:blipFill>
          <a:blip r:embed="rId1"/>
          <a:stretch/>
        </p:blipFill>
        <p:spPr>
          <a:xfrm>
            <a:off x="428760" y="1571760"/>
            <a:ext cx="82864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. Источники информац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b9b9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Times New Roman"/>
                <a:ea typeface="Times New Roman"/>
                <a:hlinkClick r:id="rId1"/>
              </a:rPr>
              <a:t>http://russia-karta.ru/ahtubinskij-rajon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cc"/>
                </a:solidFill>
                <a:uFillTx/>
                <a:latin typeface="Times New Roman"/>
                <a:ea typeface="Times New Roman"/>
                <a:hlinkClick r:id="rId2"/>
              </a:rPr>
              <a:t>http://fb.ru/article/358598/pochemu-nujno-berech-vodu-i-ohranyat-vodoemy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Times New Roman"/>
                <a:ea typeface="Times New Roman"/>
                <a:hlinkClick r:id="rId3"/>
              </a:rPr>
              <a:t>https://yandex.ru/images/search?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http://img-4.photosight.ru/380/3092428_lar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. Обоснование актуальности проекта.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«Вода и время расставляют всё по своим местам» (А. Дюма)                                                           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люди на планете знают выражение «вода – это жизнь (или колыбель жизни)», но мало кто задумывается о его смысле. А от её чистоты в водоёмах, от чистоты побережий этих водоёмов зависит качество жизни существ, населяющих планету. Почему же, в таком случае, люди так безответственно относятся к водным ресурсам планеты, своего населённого пункта?  Научить человека думать не только о себе, но и об окружающем мире нелегко, особенно эта проблема актуальна для подростк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14200" y="571680"/>
            <a:ext cx="8715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Tahoma"/>
              </a:rPr>
              <a:t>2. Цели, задачи и планируемый результат проект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Цель проекта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экологического состояния ерика Длинный и его побереж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Задачи проекта</a:t>
            </a: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ивлечь внимание общественности к проблеме загрязнения ерика Длинны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оциализация личности, формирование у школьников адекватных представлений о сути природных явлений с одновременным воспитанием экологической культур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азвитие навыков общественной деятельности, формирование бережного отношения к приро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ланируемый результат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пределение путей решения проблемы загрязнения ерика Длинный и его побереж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ивлечение внимания общественности к данной пробл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3. Проблемные вопросы проекта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Какой фактор оказывает отрицательное влияние на экологию ерика Длинный?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Чем опасны несанкционированные свалки бытового мусора на побережье  ерика Длинный?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Как можно решить проблему загрязнения ерика Длинный и его побережь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285480"/>
            <a:ext cx="885816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4. План основных мероприятий  проек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Беседа с учащимися о проблемах экологии, в частности, об отношении к водным богатствам стр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Рассмотрение методики интервьюирования компетентны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Опрос жителей по пунктам анке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Составление плана интервью и выбор лиц, которых нужно интервьюиров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Интервью с компетентными людьми, жителями с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Обработка результатов анкетирования и интервьюир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Выработка вариантов решения проблем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 Создание презентации по данному проек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ahoma"/>
              </a:rPr>
              <a:t>5. Решение проблемных вопросов проекта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57120" y="1285560"/>
            <a:ext cx="950112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. Какой фактор оказывает отрицательное влияние на экологию ерика Длинный?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560" indent="-45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Жизнь человека и его деятельность всегда сопровождались образование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отходов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изделий, материалов и веществ, которые утратили свои потребительские свойства в результате физического или морального износа; минеральных удобрений с полей и т.д.  Проблема  предметов - загрязнителей и веществ – загрязнителей,  способов избавления от них стала одной из серьёзных проблем современных населённых пунктов. Загрязнителями населённых пунктов, водоёмов и их побережий бытовым мусором являются люди, живущие в них и рядом с ними. Не исключением  является и ерик Длинный и его побережь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ahoma"/>
              </a:rPr>
              <a:t>5. Решение проблемных вопросов проекта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7859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ю был проанализирован состав мусора, среди которого присутствует картон, полиэтилен, пластиковые, стеклянные изделия и т.д. Я взвесил мусор, собранный мной на побережье через каждые 10 метров в пяти точках. Каждый контроль осуществлял с площади в  один квадратный метр. Вывел средний показатель: 7 кг в каждой точке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7:28:51Z</dcterms:created>
  <dc:creator>Коля</dc:creator>
  <dc:description/>
  <dc:language>en-US</dc:language>
  <cp:lastModifiedBy>Admin</cp:lastModifiedBy>
  <dcterms:modified xsi:type="dcterms:W3CDTF">2019-02-13T19:29:02Z</dcterms:modified>
  <cp:revision>35</cp:revision>
  <dc:subject/>
  <dc:title>РЕАЛИЗАЦИЯ  ПРОЕКТНОЙ  ДЕЯТЕЛЬНОСТИ ПО  ГЕОГРАФИИ ЧЕРЕЗ      КРУЖКОВУЮ РАБОТУ</dc:title>
</cp:coreProperties>
</file>