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201F-8E09-4A4A-B16B-EAE6088D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53901-37F9-46E9-95B8-3FF6F74E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C2C21-44A0-4898-B452-4E237581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DE6C-7F67-4513-996E-C86249E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D55D7-D8BD-4031-8FD8-1B3E866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988D2-EDA9-4C49-8053-E89A670B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2F941-0919-4144-AEBE-94CAE377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EFC54-1835-47E0-82AE-CE095975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0621A-FAC5-4760-A24D-125E5349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C74D5-5151-4750-A34B-DC0B12CC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BA0A3-1BF6-4481-A623-523E4333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E737F-903E-4869-BE71-EC432756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3923F-E3CB-4320-BA71-A7C95A52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804C2-6E79-4052-BC03-408AA049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8C414-9A24-4C28-8ADC-88F512B4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240AB-3466-4D5E-8535-F0D7731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3AE16-5E3A-4285-81B4-8AFA6F28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CFC5D-F954-447F-823E-3736FFBE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5808F-68A9-450D-8019-CE29BE9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CEC56-616D-469D-9141-D497ED84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EBE66-5AD3-4F44-91B9-91C5AE40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27DD2-635B-4D48-9A20-FF5C975E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33F3E-51E2-47D1-95AB-802627ED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5550B-9648-4C7E-972D-B33F44D5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A8030-A041-461C-AD78-26DA81C5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64E05-4A3D-4A70-B0C8-DBD0082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A7867-4C7B-4A01-983E-A2EC57A7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E0B81-5DDD-4374-BC30-7160B228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2B632-F5A0-410C-A257-3544642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1C4CC-31B2-4793-897B-29D9EE6F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6D2-FE79-4BE7-89FA-FE7BCE7E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FA0FA-527D-416A-972B-61B425F0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450EC-EBA7-47E4-BCBE-D201D686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EE32E-F8A5-44C8-955F-8C043F67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38CBF-B97E-4F4D-91AD-FFF9C6B7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A3208-AB68-4A9A-BB78-D6EA32F3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8C70B-A9AB-4158-9B49-DC04AC57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B0FF8-5240-4099-B356-B96FBD6A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D8BCF-C6AE-4974-B8AD-3C4756B2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A1697-D9D8-415B-925F-92CB21D5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21089-0A0B-47CB-A7E4-114CD7E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F62-FB29-47B3-B21E-CB131F18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1AF6B-C7C3-4899-A4EE-FD5F2057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62E89-7AA5-464C-B77E-37EB16DF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2DCB9-06AE-4FAC-A4B5-1DED68E4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AFC9C-7DD8-424C-90F1-050FBACB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32CF7-D595-4000-8579-F8CD76B8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9F1-F3E0-4C4A-9C53-8F9867FA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BFB-B360-4C1D-A239-B01C1BE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7E8-5E45-4C18-AAE7-E021AE20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748-22BF-4AB8-A836-4990E118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EB7-028E-4BAD-B638-B035873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171-AEE7-4E72-AADC-D967F4AC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937-73BD-4161-A655-32E11DA3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102-EC73-4541-AF9B-8BAD9309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B27-8B0C-426C-9389-9CE0A3A2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715-24DC-4E1B-9E80-EC23DC15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7662-9860-4355-8D1A-8993522E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3CBA-A069-44DD-8275-55C8930A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3EBE-0B0C-4451-B0D1-053EB54D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4C6E-7FD2-4A97-8027-EDF4E0F5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E0DA-6B8B-407E-84B0-47C0B758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C536-A3FF-4167-A6B7-BB337C66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5429-CC19-42C8-8DD7-5AB6599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4CD4-E44A-4FBD-B89C-80343EA2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E936-516B-4204-8CE3-C647711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8A4C-1B4C-4AE4-93CB-1F597C2E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2FB2-350B-4EE2-BBA7-03993E2D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009E-8D9C-4CD7-A28F-9530CFDB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1A7A-3760-45FB-A18D-54F29EF2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AB96-AF95-464F-9739-EE06BEF6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75F9-2149-4E7C-91AF-A660888E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E472-746F-42EA-9C5C-E11F97EA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4F81-E977-4862-B5F2-B05E499C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AE47-AD0D-4B49-B0D4-8EB7EE50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3A26-D94C-4573-81F8-054E02C8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BA34-10B6-4E73-8934-5CA5339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AD17-AA66-4742-8BD0-D466E4D0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DD66-1FA8-48DA-967E-0EDBA419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D752-B992-4295-A1F3-0BC58629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99C3-7195-4E8D-BA19-59ED5623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A4A5-3171-4947-A270-3B744BEE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5A472-6AAE-4772-94B2-E8A1117A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30BE-52C6-4BA1-8873-036E656B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FE4DA-F267-40BB-A3E0-83D35354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08C4-D145-4E76-88F5-548945CF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36EF5-7C46-4520-9B38-3D5689BC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7DC36-BDFF-485A-9F0E-06E2541A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CDCA-D571-4B6D-8A2F-4A12FD00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2ED0-7716-4613-8B0F-8B8BB242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1660-EC08-49B0-A630-1BD3E165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5AE4-F25B-4FCE-A817-F993038C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C7B1-9812-4502-926B-56815098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16C40-338C-4580-BBAE-F8EB8681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0A42B-D6ED-4B5E-A648-425C6DD7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9A80-CB51-40C2-9676-D1E3B82F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143B-7D79-44BA-ABA4-DA958968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37FD0-DDFE-4E87-AB9A-EE9C8827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BD895-18E2-41B6-A9EF-A4C60870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85A7-7C6F-464C-A13A-2EFB57A9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F241-B3E6-4F84-AD3B-C4397C76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9466E-45A8-4A80-B110-DCF6236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1E3CF-95F8-4173-AD37-0A1E68A0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7B40E-56A9-4F80-926B-90B83643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C0D00-8930-43D8-914C-9AC2866D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87353-DA92-4395-B0B4-8C92D883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FAC88-83B8-461F-AACF-6026CA6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8E506-1EA9-4E77-9702-9C2829EA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885C4-9666-4721-8C47-E5162ABE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BB2D3-3585-4A74-8498-F87845ED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799F-8A10-413C-8FB4-5C1105B0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943BF-9B45-44AA-BDCF-EC29852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66514-F661-4980-ACF0-C41CF1B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DD256-1A60-42DB-8D57-688A1D0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8C9DF-F670-421A-8A26-D3C17D8A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8E7B-4F32-48CE-B774-9DCE30D6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B72E-43E6-4B5D-B944-961965FF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22247-A962-44AC-AFB1-C376D3BE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D61FB-466B-4743-95B7-B352EED5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BB62-1AF9-4E39-97E3-D05C279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41260-F200-4C8A-B8A1-EA8FB942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8125-9E5E-49C9-B539-4AA11B8B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9FA7C-2015-4D4A-8F11-78463759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5F68B-6EFC-47AD-B95F-DFAA488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C78C-7807-4094-9235-EF86F17A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B87F-23C1-4014-B9ED-3546EC55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7F821-DC5A-43F3-930C-16246FE3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5B5E0-84A9-484A-B0C9-47479C22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7AD37-DCAC-4AAD-A740-F1527D9D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86D1F-1E14-4867-B924-754A7FB8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A4E50-8572-48C6-9545-0B4754FC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E63F9-527F-4CF1-ADEC-FAE010C0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3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0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40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FA9F-0857-4B34-9513-B5993DF4196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5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452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3C68-2557-4DDF-9848-2430B4A38AE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9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49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5750-0D6F-4B58-B6BF-67E5415BACB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3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45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6B7-1564-4C96-A5D3-23A4A178862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88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90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B8C9-FAAF-4017-AC39-EF42E928623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3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13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820D-5B58-4C67-B0EF-175DE511DC6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8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182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3EED-FFBA-459C-B049-6D85F72C106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2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22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A99-4363-423E-A706-2CAC84B3FF6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7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272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4982-FFF5-4D0A-AB51-2FC80A4BCA5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1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31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370C-4F55-4366-AB18-223729637E6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6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362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AC74-0FD4-408B-AFC6-8BEF78C0FDF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74600" y="42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Прямоугольник 5" descr=""/>
          <p:cNvPicPr/>
          <p:nvPr/>
        </p:nvPicPr>
        <p:blipFill>
          <a:blip r:embed="rId1"/>
          <a:stretch/>
        </p:blipFill>
        <p:spPr>
          <a:xfrm>
            <a:off x="682560" y="1414440"/>
            <a:ext cx="7669440" cy="2492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Картинки по запросу тренинг "/>
          <p:cNvPicPr/>
          <p:nvPr/>
        </p:nvPicPr>
        <p:blipFill>
          <a:blip r:embed="rId2"/>
          <a:stretch/>
        </p:blipFill>
        <p:spPr>
          <a:xfrm>
            <a:off x="166680" y="4624560"/>
            <a:ext cx="1741320" cy="1739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Картинки по запросу тренинг "/>
          <p:cNvPicPr/>
          <p:nvPr/>
        </p:nvPicPr>
        <p:blipFill>
          <a:blip r:embed="rId3"/>
          <a:srcRect l="0" t="0" r="0" b="-63"/>
          <a:stretch/>
        </p:blipFill>
        <p:spPr>
          <a:xfrm>
            <a:off x="4427640" y="3429000"/>
            <a:ext cx="4684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добиться эффективности обучающего тренинга, преподавателю необходимо следовать следующим рекомендация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едить за временем, чтобы закончить воврем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бегать длительной дискуссии по общим вопросам или возвращения к вопросам, оставленным «на потом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давать ряд острых коротких вопросов, на которые все участники по очереди должны дать отве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лагать коллективное задание («выгружение» из игры) на 3 — 5 мин и завершать его публичной презентаци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тавлять на конец игрового занятия какую-нибудь важную информацию или предлагать нужный раздаточный материа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чать от участников обратную связь (например, какие эмоции и чувства они испытывали во время тренинга или в данный момент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оминать обучаемым, чего им удалось достичь («сухой остаток»), или написать на доске вопросы, за которые можно будет взяться на следующем занят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лагодарить всех за сотрудничество в достижении целей учебной програм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филова А.П. Инновационные педагогические технологии: Активное обучение: учеб.пособие для студ.высш.учеб.заведений/А.П.Панфилова. – М.: Издательский центр «Академия», 2009.-192с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 978-5-7695-622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такое тренинг и тренинговые технолог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Цель и задачи тренин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авила проведения тренинг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95280" y="90792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инг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ак один из методов интерактивного обучения, в наибольшей степени, способствует развитию и формированию социально-психологических качеств личности студента, позволяет сделать ситуацию предсказуемой и доступной для обучающихся, такой, чтобы они сами могли делать выбор, занимать самостоятельные позиции. В тренинговых программах, в условиях ВУЗа, должны быть сформулированы определенные и четкие пози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це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Рисунок 1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3538440" y="4797360"/>
            <a:ext cx="560556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Рисунок 5" descr=""/>
          <p:cNvPicPr/>
          <p:nvPr/>
        </p:nvPicPr>
        <p:blipFill>
          <a:blip r:embed="rId1"/>
          <a:stretch/>
        </p:blipFill>
        <p:spPr>
          <a:xfrm>
            <a:off x="6012000" y="4076640"/>
            <a:ext cx="2876400" cy="2205000"/>
          </a:xfrm>
          <a:prstGeom prst="rect">
            <a:avLst/>
          </a:prstGeom>
          <a:ln w="0">
            <a:noFill/>
          </a:ln>
        </p:spPr>
      </p:pic>
      <p:sp>
        <p:nvSpPr>
          <p:cNvPr id="548" name="Объект 2"/>
          <p:cNvSpPr/>
          <p:nvPr/>
        </p:nvSpPr>
        <p:spPr>
          <a:xfrm>
            <a:off x="324000" y="1209600"/>
            <a:ext cx="828036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инговые технологии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система деятельности, способствующая отработке учебных навыков и определённых ре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инговые технологии (в отличие от привычного повторения) подразумевают целенаправленные, систематические действия по отработке од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нескольких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95280" y="980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сокая образовательная результативность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енинга определяется также тем, что тренинг, будучи построенным на моделировании реальных профессиональных ситуаций, требует от его участников активной включенности в процесс общения и мобилизации интеллектуального и аналитического потенци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ктивизирующий эффект тренинга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бусловлен также созданием особой учебно-экспериментальной обстановки, обеспечивающей понимание участниками того, какие индивидуальные и групповые психологические события развертываются в процессах межличностного общения, интенсивной обратной связи, и формированием практических умений, необходимых в повседневной рабо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рямоугольник 1"/>
          <p:cNvSpPr/>
          <p:nvPr/>
        </p:nvSpPr>
        <p:spPr>
          <a:xfrm>
            <a:off x="324000" y="75096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тренинге используются разл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тенсивные технологии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, а имен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информация, сообщение, мини-лек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структурированная и управляемая диску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мозговой штурм, синек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разбор кейса и кейс-ста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ролевая игра и разыгрывание ситуаций в ро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коммуникативные задачи и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презентации и само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аналитически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игры-симуляции, имитационные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фрагменты деловых иг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видеодемонстрации и видеоанализ поведения участник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аспект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лучение новой информации посредством постановки исследовательских задач, направленных на повышение уровня информативности об общении в целом, анализе ситуаций, о себе, о психологии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аспект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еживание личностной значимости полученной информации, прочувствование и проживание ее; переживание и оценивание новых знаний о себе и других; отслеживание своих неуспехов и недостатков, переживание снижения как своей общей самооценки, так и ряда частных самооценок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тивный, или поведенческий, аспект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расширение поведенческого репертуара обучаемого через осознание неэффективности, нежелательности некоторых привычных способов поведения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доверительной атмосферы на тренинге зависит от многих составляющ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езентации тренера, организующего интерактивное взаимодействие, имидж которого вызывает доверие и создает приятное первое впечатл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ждения с группой организационных вопросов, касающихся регламента       работы, перерывов и основных процедур тренин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вления уже имеющихся у группы умений и практического опы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нятия принципа «добровольности» (если кто-то не хоч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в группе, не следует его заставлять и принуждать оправдыватьс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погружающих» в игру или «разогревающих», специально д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целей приготовленных упражнений (например, «ледокол»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позволяют снять напряжение и «приоткрыться», познакомиться и расслабить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флексивного обсуждения результатов тренинга,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, впечатлений и конструктивной критики по типу «кажд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людей осуществляется на четырех уровнях:</a:t>
            </a:r>
            <a:br>
              <a:rPr sz="2400"/>
            </a:b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истическое понимани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мозрительное) — способность человека ощутить, что он понимает другого человека, близок ему и солидарен с ним. Такое понимание эмоционально, это нечто личное, что приносит большое удовлетворение.</a:t>
            </a: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стическое (художественное) понимани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способность человека осознавать видимые, слышимые и осязаемые аспекты другого человека и реагировать на них, артистическое понимание акцентирует реальности внешние.</a:t>
            </a: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онимани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способность одного человека влиять на другого и изменять его поведение желаемым образом.</a:t>
            </a: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ое понимание, или сенситивность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— это способность одного человека точно предсказать чувства, мысли и поведение другого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03:48Z</dcterms:created>
  <dc:creator>Alexandra</dc:creator>
  <dc:description/>
  <dc:language>en-US</dc:language>
  <cp:lastModifiedBy>пользователь</cp:lastModifiedBy>
  <dcterms:modified xsi:type="dcterms:W3CDTF">2022-01-20T16:41:52Z</dcterms:modified>
  <cp:revision>146</cp:revision>
  <dc:subject/>
  <dc:title>Личностная и социальная идентичность православных верующи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170000000000010261200207f7000400038000</vt:lpwstr>
  </property>
</Properties>
</file>