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CCF42-60EC-45CE-BF2C-A1DC50DB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0172A-EB5A-4A1F-9582-54BAF0A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943A-AB5C-4264-8101-ECC266C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627F-3830-4093-8147-9F72739B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1E118-6061-4B51-B181-6ADF280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29CF0-64D2-481B-AC52-1F75C63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83C0-D57F-4249-A8E6-B61A551A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7D4BD-4CA8-484C-B472-A546C4E4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0FE4D-F99E-42B1-92D1-C4A4A8C3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F6F52-05FB-45F1-BAFB-D13B0AA5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7FB14-4A0C-4745-9B37-59F3875C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991A2-CDE3-4699-80DD-FF1E44E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A7427-1205-4A64-9E66-9DACB91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A1936-6011-4CF4-86E2-B2FD51E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3ABE1-4923-4515-8555-433161E3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76480-801A-4E8E-B179-B971F10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C5B2-109D-41C8-B6E3-AEFE46E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CB3BF-28D4-42C4-928D-98A9576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69A15-1805-487D-B606-EFB0D45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BAF3D-29D1-4522-83BA-08B5E057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F885C-BB77-42CA-A6B2-4C5BFBFA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EFACC-141D-4A77-B795-465321C6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2883D-1F11-4C78-90FC-17C04C4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337B0-A6A4-4F3E-985F-45F15B31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E887-D556-40E5-9965-DE98E6F4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FB2C7-9128-49D1-ACDD-E0720047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23B3E-5F2A-4421-B535-FE69FC5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50FB-D24B-4D48-947F-7B0B94B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88F60-BDAB-481C-A050-16BA2A66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A028F-89F9-4A20-A753-492F445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F64-9CCC-442F-838A-FF3BE406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44553-3772-4F83-A135-46192144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2A9DA-85DD-4A9E-86BC-6A568115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67746-0C54-4F14-ADB8-C506765D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D124A-9179-47DC-953D-21E364FC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98E5-3CF5-4942-9BA9-921F95A9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828E-5015-4874-9148-F7EC95C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0FF3D-4AE9-4B68-B53F-59E03F6E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AE5F9-EEDB-4F99-ACED-B160B54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D6ED7-701E-429A-AB17-5AC74EBD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199A7-ADA5-4941-B745-AC1840E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FA1-DFD9-4AB8-B760-D9B00729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A437F-25AE-4E3C-9112-231D2E0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1C63F-08EC-4432-9B17-7AF86E7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2691C-3BD4-4626-B298-7AD04A6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C180F-76EE-4DE6-85E6-C6008E01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64A76-3F26-448C-A58A-24D2EFA2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732-F115-4349-93BE-20A189B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690-8806-44E4-AC2D-43BF36C8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CB3-A058-457F-984B-E334EA8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2B1-DABB-47A3-BFA6-9918A851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A7A-19DC-4EA0-8F66-E964703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B4D-CACE-4CC9-81BC-1E5BDA4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01C-C99E-4311-BD86-1A8F60C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AB2-D657-4EA9-A065-D0D7D62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047-7756-4596-BCD2-3828CC00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FF2-1951-4692-A2CE-9F04BDB0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5833-2382-4A5C-8269-1701E06A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832A-5914-4597-AA92-796C473A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5F7-5E05-426A-B97C-4E774EF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697F-0425-4E30-A728-7704D877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7D29-8733-4198-9B48-20FB6EC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2CB4-CFDE-481C-A2EC-71198DF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C068-27B5-4239-80F8-B902BEC9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2E50-00E8-4A97-9648-40B8543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EE33-8B18-45B1-9AD0-A7EC62D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D70A-8E24-4E96-9CAF-C3C692C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9C8F-4C72-4A65-9A7C-1AC5A385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7685-4819-4B1E-872C-C3374D02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00A1-5FF0-477F-BF23-E0513B96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CAC6-1F54-403A-B855-9FB96718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D4BF-0D32-4492-8F09-07C35EF6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A0DC-D812-48F9-85F9-F79ADA87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0613-C083-4021-89DB-0AC3670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3F6FF-C540-4257-8656-B394E32B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B9D4-1CCF-440A-8DB9-31B5C3B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3374-DA80-48EB-876A-92F7DC1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E03F-5DA6-477D-88B7-D7F35E2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04BD-744D-4984-AEEB-6D3C7FEA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D2DF-427B-4859-8B8D-329A475B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8A1A-BE97-4AD4-A814-DF3E71AC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F67F-2F80-4C35-AC54-DC4A9516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92A0-792E-4B87-AFE4-084D274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8EA5-C999-4941-B674-8D02DEEC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A5E8-68D9-4397-939E-D9C1CB5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B021-552B-49F4-B348-34D0F20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A22D-57E9-43D0-B976-2D5D8CF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AC55-2358-4295-A167-6018A554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B866-011A-4DF8-A5AF-D5D1FE1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311E-D091-4E9F-99C7-1BFAF50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55798-8E33-4D83-B72D-C935E224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C93BA-12C6-4CB5-BC1B-12F0053B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9755-CCC8-4160-A0B0-664CFB92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9777-B558-4F52-84CF-151ED87A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78E4-830B-4C05-973E-59AAA9B7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5137-F548-41EC-BAB5-9722D585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4FBB-07E8-4C0A-9B7F-06FA920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5015-271F-4F75-A510-DD2663A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6D77-15CB-4B0B-B8E4-8A62333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D6A0-BA35-4517-9EE4-D2D861B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DF0D-B562-4850-9D7A-A963BFF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4EFF-4320-4B12-AD29-8596142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3ED9-357A-4872-A56D-65CE5BD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6DB5-5216-4D19-9374-19A63FE1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4B9E-49EA-4B66-B5B3-DC52851E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165E0-A74E-4900-B904-A954E1C7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DA7FE-CC77-4D51-94DC-749EB063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3839-3654-45D9-BC3A-CDAD379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9A05-450D-4DA8-AD1E-C25ACFFD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D6AA2-AB92-4D75-8BF3-997B5362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11A29-16E8-4A67-B80C-062F730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D647-AC2B-4D1A-9614-1636EB11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93DED-9EA9-4EB7-9A98-0980310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D5E81-B20F-4781-BF38-34FC6C5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87A1-A434-4DB4-ABD2-A83FE58C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0E1B-D0D3-4339-81E4-A142B522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9131D-99E0-49E0-A497-CC93946C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FF63-6616-4D1B-B82F-ACA2B0E3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2D34-D31B-4EE3-B017-63FBE8FB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A9E9-32A5-488B-B36F-3C291E72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F324-D9C4-4CDC-A8BE-96DE6DA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6159-DB76-4A88-9DCB-DF06574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3EC7-DA0A-4285-ABB7-8E7119C4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2780-DCB5-4F88-B05D-0FA4854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953E-F6A8-43E2-AC2F-373EB32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F4482-EEDB-450B-AD1A-F4D4F85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6F47-5239-4650-82E1-E768074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8243D-60E4-4696-B03A-3A4B67AA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C840D-75DC-45B1-BA90-D660171D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27B0B-CEFB-444E-A37B-C93D0702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6470-712B-4E63-BBBB-EFB54DD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25E30-EFAC-4567-8874-AA7E012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3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0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0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DC1-D351-4005-AA65-CCDB7CE33C9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5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5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24CA-0181-4B71-A70A-E75E18A6F4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9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9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04C6-3827-4E78-9354-E4776AF4323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3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45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821-1D7E-405F-8843-2D9544A710C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8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90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0782-A743-49E8-9D77-6BA58C14BC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3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13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4B04-8B4D-4879-B055-78CA8474830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8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18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884F-068F-49C4-9367-327E230CFEA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2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22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656-97F6-4BB3-9C77-F1A8882C74D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7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27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B1C-FC90-45D8-826D-4078770658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15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317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855-E8D9-418F-967C-CD1C2AF1A8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2" descr="Рисунок2.png"/>
          <p:cNvPicPr/>
          <p:nvPr/>
        </p:nvPicPr>
        <p:blipFill>
          <a:blip r:embed="rId3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6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Прямоугольник 15"/>
          <p:cNvGrpSpPr/>
          <p:nvPr/>
        </p:nvGrpSpPr>
        <p:grpSpPr>
          <a:xfrm>
            <a:off x="-1274760" y="66600"/>
            <a:ext cx="11693520" cy="7755120"/>
            <a:chOff x="-1274760" y="66600"/>
            <a:chExt cx="11693520" cy="7755120"/>
          </a:xfrm>
        </p:grpSpPr>
        <p:pic>
          <p:nvPicPr>
            <p:cNvPr id="362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-1274760" y="66600"/>
              <a:ext cx="11693520" cy="77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E8A7-1160-413A-B4A6-8C06809E080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74600" y="42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Прямоугольник 5" descr=""/>
          <p:cNvPicPr/>
          <p:nvPr/>
        </p:nvPicPr>
        <p:blipFill>
          <a:blip r:embed="rId1"/>
          <a:stretch/>
        </p:blipFill>
        <p:spPr>
          <a:xfrm>
            <a:off x="682560" y="1414440"/>
            <a:ext cx="7669440" cy="2492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Картинки по запросу тренинг "/>
          <p:cNvPicPr/>
          <p:nvPr/>
        </p:nvPicPr>
        <p:blipFill>
          <a:blip r:embed="rId2"/>
          <a:stretch/>
        </p:blipFill>
        <p:spPr>
          <a:xfrm>
            <a:off x="166680" y="4624560"/>
            <a:ext cx="1741320" cy="1739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Картинки по запросу тренинг "/>
          <p:cNvPicPr/>
          <p:nvPr/>
        </p:nvPicPr>
        <p:blipFill>
          <a:blip r:embed="rId3"/>
          <a:srcRect l="0" t="0" r="0" b="-63"/>
          <a:stretch/>
        </p:blipFill>
        <p:spPr>
          <a:xfrm>
            <a:off x="4427640" y="3429000"/>
            <a:ext cx="4684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добиться эффективности обучающего тренинга, преподавателю необходимо следовать следующим рекомендация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едить за временем, чтобы закончить воврем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бегать длительной дискуссии по общим вопросам или возвращения к вопросам, оставленным «на потом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давать ряд острых коротких вопросов, на которые все участники по очереди должны дать отве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лагать коллективное задание («выгружение» из игры) на 3 — 5 мин и завершать его публичной презентаци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тавлять на конец игрового занятия какую-нибудь важную информацию или предлагать нужный раздаточный материа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ать от участников обратную связь (например, какие эмоции и чувства они испытывали во время тренинга или в данный момен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оминать обучаемым, чего им удалось достичь («сухой остаток»), или написать на доске вопросы, за которые можно будет взяться на следующем занят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дарить всех за сотрудничество в достижении целей учебной програм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филова А.П. Инновационные педагогические технологии: Активное обучение: учеб.пособие для студ.высш.учеб.заведений/А.П.Панфилова. – М.: Издательский центр «Академия», 2009.-192с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 978-5-7695-62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такое тренинг и тренинговые технолог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ель и задачи тренин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авила проведения тренинг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95280" y="90792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нг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ак один из методов интерактивного обучения, в наибольшей степени, способствует развитию и формированию социально-психологических качеств личности студента, позволяет сделать ситуацию предсказуемой и доступной для обучающихся, такой, чтобы они сами могли делать выбор, занимать самостоятельные позиции. В тренинговых программах, в условиях ВУЗа, должны быть сформулированы определенные и четкие пози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Рисунок 1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3538440" y="4797360"/>
            <a:ext cx="560556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5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876400" cy="2205000"/>
          </a:xfrm>
          <a:prstGeom prst="rect">
            <a:avLst/>
          </a:prstGeom>
          <a:ln w="0">
            <a:noFill/>
          </a:ln>
        </p:spPr>
      </p:pic>
      <p:sp>
        <p:nvSpPr>
          <p:cNvPr id="548" name="Объект 2"/>
          <p:cNvSpPr/>
          <p:nvPr/>
        </p:nvSpPr>
        <p:spPr>
          <a:xfrm>
            <a:off x="324000" y="1209600"/>
            <a:ext cx="828036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нговые технологии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система деятельности, способствующая отработке учебных навыков и определённых ре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инговые технологии (в отличие от привычного повторения) подразумевают целенаправленные, систематические действия по отработке од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нескольких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95280" y="980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сокая образовательная результативность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нинга определяется также тем, что тренинг, будучи построенным на моделировании реальных профессиональных ситуаций, требует от его участников активной включенности в процесс общения и мобилизации интеллектуального и аналитического потенц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тивизирующий эффект тренинга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условлен также созданием особой учебно-экспериментальной обстановки, обеспечивающей понимание участниками того, какие индивидуальные и групповые психологические события развертываются в процессах межличностного общения, интенсивной обратной связи, и формированием практических умений, необходимых в повседневной рабо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рямоугольник 1"/>
          <p:cNvSpPr/>
          <p:nvPr/>
        </p:nvSpPr>
        <p:spPr>
          <a:xfrm>
            <a:off x="324000" y="75096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тренинге используются раз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тенсивные технологии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, а и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информация, сообщение, мини-ле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структурированная и управляемая диску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мозговой штурм, синек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разбор кейса и кейс-ста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ролевая игра и разыгрывание ситуаций в ро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коммуникативные задачи и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презентации и само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аналитически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игры-симуляции, имитационн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фрагменты деловы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видеодемонстрации и видеоанализ поведения участник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аспек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лучение новой информации посредством постановки исследовательских задач, направленных на повышение уровня информативности об общении в целом, анализе ситуаций, о себе, о психологии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аспек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еживание личностной значимости полученной информации, прочувствование и проживание ее; переживание и оценивание новых знаний о себе и других; отслеживание своих неуспехов и недостатков, переживание снижения как своей общей самооценки, так и ряда частных самооценок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тивный, или поведенческий, аспек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асширение поведенческого репертуара обучаемого через осознание неэффективности, нежелательности некоторых привычных способов поведения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доверительной атмосферы на тренинге зависит от многих составля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езентации тренера, организующего интерактивное взаимодействие, имидж которого вызывает доверие и создает приятное первое впечат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ждения с группой организационных вопросов, касающихся регламента       работы, перерывов и основных процедур тренин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ления уже имеющихся у группы умений и практического опы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нятия принципа «добровольности» (если кто-то не хоч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в группе, не следует его заставлять и принуждать оправдыватьс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погружающих» в игру или «разогревающих», специально д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целей приготовленных упражнений (например, «ледокол»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озволяют снять напряжение и «приоткрыться», познакомиться и расслабить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флексивного обсуждения результатов тренинга,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, впечатлений и конструктивной критики по типу «кажд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людей осуществляется на четырех уровнях:</a:t>
            </a:r>
            <a:br>
              <a:rPr sz="2400"/>
            </a:b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истическое понимани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озрительное) — способность человека ощутить, что он понимает другого человека, близок ему и солидарен с ним. Такое понимание эмоционально, это нечто личное, что приносит большое удовлетворение.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стическое (художественное) понимание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способность человека осознавать видимые, слышимые и осязаемые аспекты другого человека и реагировать на них, артистическое понимание акцентирует реальности внешние.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онимание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способность одного человека влиять на другого и изменять его поведение желаемым образом.</a:t>
            </a:r>
            <a:br>
              <a:rPr sz="2300"/>
            </a:b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ое понимание, или сенситивность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— это способность одного человека точно предсказать чувства, мысли и поведение другого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0:03:48Z</dcterms:created>
  <dc:creator>Alexandra</dc:creator>
  <dc:description/>
  <dc:language>en-US</dc:language>
  <cp:lastModifiedBy>пользователь</cp:lastModifiedBy>
  <dcterms:modified xsi:type="dcterms:W3CDTF">2022-01-20T16:41:52Z</dcterms:modified>
  <cp:revision>146</cp:revision>
  <dc:subject/>
  <dc:title>Личностная и социальная идентичность православных верующи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70000000000010261200207f7000400038000</vt:lpwstr>
  </property>
</Properties>
</file>