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3C46-2639-4D10-8FAC-A5BB10258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9600-0264-403B-87BB-1031DA939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705-5D01-4C69-9699-1C8B9B321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C86-0835-4EF7-88C9-1E846A8E7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BCB-5ED6-4321-BCB3-D75A81752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B214-F90F-4AB7-B0D1-9E0BF7217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96DA-D6BC-456F-A281-92C5A8B7A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9C6-BC5A-46B8-93EF-8CCEFF45F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3E0F-CB68-4425-8B6E-EF4BFFC69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016-D5C3-46EA-BA8D-F63F086DC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DB24-7ACE-472D-A640-A244442C4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55A5-353A-46FB-AAAA-EB8D564BF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8D46-521F-483E-889F-522BCF84C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150-6A4E-40FB-8F9A-05B4EC508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A6B-1A01-4D75-80C5-08696AE13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8543-6444-4D34-BB97-7B54A6187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EE0D-4A5F-48D5-8BE9-58D220235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DFF-68DB-47D5-9DC8-C5238EC07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2C0C-9C94-4D89-8057-024E6101F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BE0-15AE-4CD0-B038-770831082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E2B-69E4-4830-9A61-DEE4AFD25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CBD0-E048-4F30-ADB3-EDD700F84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8F2D-1469-4141-A8C1-54ADF752E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C46-159F-4016-84EF-BDB4F59DA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3AF-EE1A-4756-AF53-32674265A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A58-603C-4ADC-A647-8F00B4130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C8F-12BB-4D15-AD3C-E8DCD265F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584-9091-4D7D-9327-1B54916CA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15D-83B7-474E-A70D-B3100832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117-BF01-49F9-B483-4353CA84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F55-CA90-4C13-80CA-7D2F68E9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FB2-F96D-46C8-89DB-7AACE29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B96-D4D0-4739-BC9C-6AF562BB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47A-66C9-4733-B72A-531FAFD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A25-5C2B-46FC-BD4E-9225BE1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E93-2AE1-46FF-9DA7-39351A8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949-1052-45BD-A7A7-BD50C54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CF6-3A38-4777-97C3-8807721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6D5-8A50-497D-BF6F-5AF0994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E2E-1419-43E5-875E-08DE6BA0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a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7AA2-F8F5-414E-B70F-51B967A66B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и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0505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Найдите 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ии никак не толще бутылочной шей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дешь ты, голова?»— Лисица, встретяся с Ослом, его спросил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ой приём здесь использова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использована периф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 создан по шаблону, созданн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харовой Т.А.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етодистом Рязанского института развития образования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йдаковой Т. Б.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ителем русского языка и литературы МОУ СОШ № 3 г.Амурска Хабаровского кр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пы обруч золотой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венец на новобрач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, листики осенние, на веточках сидел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Дунул ветер - полетели.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Назовите вариант ответа, в котором употреблена гипер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Так скушай же ещё тарелочку,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555</cp:lastModifiedBy>
  <dcterms:modified xsi:type="dcterms:W3CDTF">2022-11-04T11:56:5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