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C8A-8787-454B-8B6B-0319A117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70E-E642-4862-A4AC-A4E618E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639-2C09-4615-8DC6-0A91BAC9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DD6-D451-45E0-8E61-83D5B207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E1B-19E0-4618-B67A-92A36E6D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C64-3118-4E82-990E-B492F3C7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BED-5137-4E60-B201-0F4AC1B8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D9C-735D-4F0C-95B8-9FC65667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015-9AE6-4833-9FD6-4A9F9BDB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111-8787-47DF-A6E2-02A72F80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DA9-55A9-457D-BB5F-C58F9130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1B9-6445-40EE-A8A0-AC805EB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C4F8-1B0F-42B0-A63E-3ECA0B33E3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1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2.jpg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4.jpg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5.jpeg"/>
          <p:cNvPicPr/>
          <p:nvPr/>
        </p:nvPicPr>
        <p:blipFill>
          <a:blip r:embed="rId1"/>
          <a:stretch/>
        </p:blipFill>
        <p:spPr>
          <a:xfrm>
            <a:off x="324000" y="115920"/>
            <a:ext cx="8640720" cy="64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6.jpeg"/>
          <p:cNvPicPr/>
          <p:nvPr/>
        </p:nvPicPr>
        <p:blipFill>
          <a:blip r:embed="rId1"/>
          <a:stretch/>
        </p:blipFill>
        <p:spPr>
          <a:xfrm>
            <a:off x="179280" y="190440"/>
            <a:ext cx="88567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3T19:22:02Z</dcterms:created>
  <dc:creator>USER</dc:creator>
  <dc:description/>
  <dc:language>en-US</dc:language>
  <cp:lastModifiedBy>USER</cp:lastModifiedBy>
  <dcterms:modified xsi:type="dcterms:W3CDTF">2022-11-23T19:40:18Z</dcterms:modified>
  <cp:revision>1</cp:revision>
  <dc:subject/>
  <dc:title>Слайд 1</dc:title>
</cp:coreProperties>
</file>