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365-6E66-4423-8A82-889F1948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D57-5AC8-443C-8FB3-54BBF5E8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A25-7698-4ED1-9649-0D2748B3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976-AD37-4BD4-A661-6DEEA428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8DA-A26F-48D0-B074-BC8C4EE6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1EA-9694-41CD-9240-86AA1F14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902-C8CE-4853-A881-41676912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CC8A-97A3-4E27-BDEC-ED332D7F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8F4-66B5-4D85-BCFC-10D2C40B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3E9-FA23-4EC0-84CB-CD926057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4E1-5218-40B2-999B-AC7C15C3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352-D8AC-4EA4-B8FB-3ABAB553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5A65-0E12-4AA5-8EFB-776AF6478D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1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2.jpg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4.jpg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5.jpeg"/>
          <p:cNvPicPr/>
          <p:nvPr/>
        </p:nvPicPr>
        <p:blipFill>
          <a:blip r:embed="rId1"/>
          <a:stretch/>
        </p:blipFill>
        <p:spPr>
          <a:xfrm>
            <a:off x="324000" y="115920"/>
            <a:ext cx="8640720" cy="64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6.jpeg"/>
          <p:cNvPicPr/>
          <p:nvPr/>
        </p:nvPicPr>
        <p:blipFill>
          <a:blip r:embed="rId1"/>
          <a:stretch/>
        </p:blipFill>
        <p:spPr>
          <a:xfrm>
            <a:off x="179280" y="190440"/>
            <a:ext cx="8856720" cy="647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3T19:22:02Z</dcterms:created>
  <dc:creator>USER</dc:creator>
  <dc:description/>
  <dc:language>en-US</dc:language>
  <cp:lastModifiedBy>USER</cp:lastModifiedBy>
  <dcterms:modified xsi:type="dcterms:W3CDTF">2022-11-23T19:40:18Z</dcterms:modified>
  <cp:revision>1</cp:revision>
  <dc:subject/>
  <dc:title>Слайд 1</dc:title>
</cp:coreProperties>
</file>