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41E-334B-4FC5-8BA2-D404453B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BFD-ABE2-413E-931A-C81F242D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18D-F6D1-4367-B24D-1578F8EA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BD7-767B-474B-826E-1DC054F4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FAB1-0828-4633-B89B-02EC98D3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B9E6-A8E6-4A0F-98B1-07C3DADC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EC96-BD61-44EF-959D-77A8EB91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9941-E393-4E66-99FC-F7D28709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5D97-2146-4AB3-A4F5-8DED6DB4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10C0-9ED2-412F-B736-3BACE3F0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F5AF-E4E3-469C-A3F0-BA94F8B3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FF7-0850-4BB9-BB82-3FF312DC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27A7-0F1F-40C3-9A39-19A3D1CA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8FB9-6E50-47F8-B093-4391751B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2C9C-21F2-4106-B0F2-45AD0A6D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DC29-4217-46FF-A8D9-1B5EE4BD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86BB-3BE0-4CCB-BC43-245256DA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FCCE8-33EF-467B-B547-B4D9028F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3BF1-81FA-445F-A488-E693DB9E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7796-E605-4FBA-B53A-076EC717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D15D7-A6F0-4AAA-B67C-99B0D9EE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4AEA5-499A-43BA-BEC5-393BD73B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3C2-9AD5-4AD7-B9D2-79AFCFBB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C8F4D-5641-4E4D-9C9E-DE0202C1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1AD1C-6581-4D80-A091-364A0845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365ED-47EC-4B5C-B473-CD128ACC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EAEDE-576A-42DC-801C-A649DDFD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75DE-4682-41E3-AC33-D2084BCD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1E72-EFF5-406F-A0E9-357C53B8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EFEE6-194A-4D82-81E3-38221F97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F3027-6244-450A-87A1-82077F6E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C7491-47E9-405B-A2B4-5FF55CC1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37BF2-DC43-4892-8AA3-79BE40CC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15D-7095-4720-A53A-7B2908D0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8F079-DB9A-430C-A9F5-153A4A89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FDF4C-10C7-47B3-BA75-4019D10F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B2849-5C6D-4C2D-BFB8-32E2C858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383CF-64DC-40FB-9992-24DD4180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C3850-AEB0-4974-B278-FAA16FAC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DBE0D-04B4-43DF-8AAF-FF3BC1C9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644A4-B69F-4853-BC4B-CFB8E89D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B6AF7-B183-4ABB-8CAF-C02EBC99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33766-3E77-41B2-9A83-3EFF18C4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844C6-D40C-46B2-ABA1-3D04FD06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870-AB37-4EF4-B47B-EE08E581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C9037-18C7-4D66-A543-209A10C7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E2E32-6C28-42E2-BB56-225ADB0F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0E53E-E9E7-4AF9-8899-22434E67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B716D-C633-4244-AC16-A3041570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BCF10-67A2-44E8-9B7D-12789AF2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9E0BD-8597-4FCC-9F9D-218A8701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B0194-BDD3-43A1-A553-5BFF6B11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1DC34-5662-4E1D-9781-94EA8222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DFF22-E68E-4FD9-8007-0E7C296B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7FD7C-6E77-4DCD-AD6E-614EB9E5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5AC-C15F-4480-BC1F-28041D81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E6253-998F-43A1-9E8F-C9016230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AC4-4743-4172-9988-662F0305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D09-DA4E-4DF3-984B-7276D894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E2E-ED84-4447-8BED-562E0858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2A7B-FC74-4076-B490-C402C03DFDA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577A-EA70-4895-BB67-402EE23B55E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0856-ADA2-43B5-A7EE-DE3C0304128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9440-0492-417E-A808-8FF4358C272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8D29-64AC-4C97-86A6-0D31A49EF14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3" descr=""/>
          <p:cNvPicPr/>
          <p:nvPr/>
        </p:nvPicPr>
        <p:blipFill>
          <a:blip r:embed="rId1"/>
          <a:stretch/>
        </p:blipFill>
        <p:spPr>
          <a:xfrm>
            <a:off x="1457280" y="4078440"/>
            <a:ext cx="6229440" cy="1199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Проблема, о которой не принято говорить: детское воровство Бобруйск -  Новости - Актуально"/>
          <p:cNvPicPr/>
          <p:nvPr/>
        </p:nvPicPr>
        <p:blipFill>
          <a:blip r:embed="rId2"/>
          <a:stretch/>
        </p:blipFill>
        <p:spPr>
          <a:xfrm>
            <a:off x="2627280" y="620640"/>
            <a:ext cx="39607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50560" y="260280"/>
            <a:ext cx="8497800" cy="583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7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о-биологический аспект детского воров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240" indent="-7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ся в непреодолимых импульсах украсть предмет (ненужный и (или) который не имеет материальной ценности). Клептомания проявляется в повышении чувства напряжения, удовольствия или облегчения во время совершения преступления, хотя потом может возникнуть чувство вины или тревоги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240" indent="-76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560" y="260280"/>
            <a:ext cx="8497800" cy="583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й аспект детского воров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вство как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восстановления утраченных взаимоотношений родитель-ребен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 агресси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от страх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быть наказанным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восстановить или повысить самооценк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на семейную тайну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формированность волевого повед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50560" y="404280"/>
            <a:ext cx="8497800" cy="568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ая импульсив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сильное желание завладеть понравившейся вещью «от хозяина не убудет, а мне уж сильно хочется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поведение характерно для подвижных активных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детей необходимо строго контролировать и приучать к ответственности. При поимке маленького воришки не стоит игнорировать этот факт, но и не стоит раздувать его до крупных масштаб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50560" y="189000"/>
            <a:ext cx="8497800" cy="5904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 fontScale="98000"/>
          </a:bodyPr>
          <a:p>
            <a:pPr marL="259560" indent="4402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стр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нарушение материнской или отцовской привязанности и, как следствие, затруднение в общении с родителе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4402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орует, чтобы привлечь внимание родителей или педагог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4402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ь родителям за то, что они не уделяют ребенку достаточно внимания или за обиды и боль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4402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, скандалы и наказания, ребёнок воспринимает как подтверждение правильности выбранной стратег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50560" y="765000"/>
            <a:ext cx="8497800" cy="5328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100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вство от безысходно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у ребенка вымогают деньги, угрожают или он страдает зависимостью. Задача родителя объяснить, что в таких ситуациях ребенок обязательно должен обратиться за помощью к родителю или педагогу, психологу, не скрывая своего положен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-360" y="549000"/>
            <a:ext cx="8496360" cy="56163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100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звитость нравственных представлений и вол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00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желание самоутвердится. Характерно для детей, которым не хватает самостоятельности и ответственности в семейных делах. Воруя, такие дети ощущают себя смелыми, полноценными, «крутыми». В семьях,  где царит культ послушания и правильного поведения, ребенок  может взбунтоваться и пойти за острыми ощущения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-360" y="260280"/>
            <a:ext cx="8496360" cy="59054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лассовая ненависть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семье культивируется «классовая ненависть», то ребёнок может отомстить детям из состоятельных семей. Есть дети, для которых неразоблаченная кража – красиво спланированное преступление. Они принимают все меры и придумывают красивые легенды (правдоподобные), чтобы не быть разоблаченным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-360" y="260280"/>
            <a:ext cx="8496360" cy="59054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 fontScale="97000"/>
          </a:bodyPr>
          <a:p>
            <a:pPr marL="256680" indent="-799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деальная семья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6680" indent="-799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ях, где есть проблемы, но окружающим принято демонстрировать картинку идеальной семьи, ребенок может совершить кражу, чтобы «сказать» им: «если вы (родители) не измените своего поведения, я не позволю вам претворятся перед окружающими, что вы хорошие родители», «они все врут», «помогите мне!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94920" y="836280"/>
            <a:ext cx="8101080" cy="5329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вство как месть другому ребенку, за полученный ранее отказ. Это свойственно детям, которые не выражают открыто своих обид. Таких детей надо научить открыто выражать свои эмоции и чувства приемлемыми способа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4920" y="836280"/>
            <a:ext cx="8101080" cy="5329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1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ыть как все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семье есть финансовая проблема, ребенок может пойти на кражу, чтобы позволить себе покупать то, что позволяют себе покупать его сверстники из более обеспеченных семей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Детское воровство - ИСППП"/>
          <p:cNvPicPr/>
          <p:nvPr/>
        </p:nvPicPr>
        <p:blipFill>
          <a:blip r:embed="rId1"/>
          <a:stretch/>
        </p:blipFill>
        <p:spPr>
          <a:xfrm>
            <a:off x="539640" y="476280"/>
            <a:ext cx="4878360" cy="2997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Детское воровство Причины Что делать – Детские сказки читать на ночь"/>
          <p:cNvPicPr/>
          <p:nvPr/>
        </p:nvPicPr>
        <p:blipFill>
          <a:blip r:embed="rId2"/>
          <a:stretch/>
        </p:blipFill>
        <p:spPr>
          <a:xfrm>
            <a:off x="4284720" y="3357720"/>
            <a:ext cx="4103640" cy="3024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Воровство Денег — стоковая векторная графика и другие изображения на тему  Британская валюта - iStock"/>
          <p:cNvPicPr/>
          <p:nvPr/>
        </p:nvPicPr>
        <p:blipFill>
          <a:blip r:embed="rId3"/>
          <a:stretch/>
        </p:blipFill>
        <p:spPr>
          <a:xfrm>
            <a:off x="6012000" y="620640"/>
            <a:ext cx="2376360" cy="2506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Девушка Воровство В Магазинах В Магазине — стоковая векторная графика и  другие изображения на тему Векторная графика - iStock"/>
          <p:cNvPicPr/>
          <p:nvPr/>
        </p:nvPicPr>
        <p:blipFill>
          <a:blip r:embed="rId4"/>
          <a:stretch/>
        </p:blipFill>
        <p:spPr>
          <a:xfrm>
            <a:off x="1332000" y="3573360"/>
            <a:ext cx="267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94920" y="836280"/>
            <a:ext cx="8101080" cy="5329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 fontScale="96000"/>
          </a:bodyPr>
          <a:p>
            <a:pPr marL="254160" indent="14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е группы/ «За компанию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4160" indent="14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4160" indent="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е подростков воровство может быть одним из требований референтной группы, единственный выход в такой ситуации — это оторвать ребенка от асоциальной компани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4160" indent="14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94920" y="836280"/>
            <a:ext cx="8101080" cy="5329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пытств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жа как интересное приключение – от скуки. Энергия не находит выхода. Необходимо избавится от чрезмерной опеки и дать ребенку возможность вкладывать свои силы в реализацию своих интересов и проек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4920" y="333000"/>
            <a:ext cx="8101080" cy="58323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1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утвердит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бственных глазах или глазах своих сверстников. Таким образом ребенок, а чаще подросток, хочет продемонстрировать силу и независимость своей личности. Нужно помочь ему переключится на более приемлемые способы самоутверждения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94920" y="333000"/>
            <a:ext cx="8101080" cy="58323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 fontScale="94000"/>
          </a:bodyPr>
          <a:p>
            <a:pPr marL="248760" indent="14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с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8760" indent="144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шние запреты и ограничения могут также привести подростка к воровству. Родительский контроль не должен быть тотальным и излишне жестким, особенно в отношении подростка. Вместе с ребенком пересмотрите семейные правила, предоставив ему больше прав. Наказания должны быть адекватны возрасту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94920" y="1916280"/>
            <a:ext cx="8101080" cy="42494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1825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стые ошибки в воспитании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1825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цирующие детское воровств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94920" y="836280"/>
            <a:ext cx="8101080" cy="5329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последовательности в воспитании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дной ситуации ребёнка наказывают, а в другой - "закрывают глаза" на проступок, либо грозятся наказать, но не наказывают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гласованность требований взрослых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па разрешает, а мама запрещает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94920" y="333000"/>
            <a:ext cx="8101080" cy="58323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 fontScale="97000"/>
          </a:bodyPr>
          <a:p>
            <a:pPr marL="256680" indent="-25668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двойная мораль"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йствия родителей расходятся с делом. Например, родители внушают ребёнку, "что брать чужое нельзя", а сами приносят с работы то, что "плохо лежит". Ребёнок, искренне веря в авторитет и непогрешимость родителей, следует их примеру и долго не может понять, за что его ругают, если он поступает, как мама и папа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4920" y="836280"/>
            <a:ext cx="8101080" cy="5329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вседозволенности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ребёнка в стиле "кумир семьи": ребёнок растёт с мыслью "я самый лучший", он не научается считаться с мнением других людей, ориентируется лишь на свои желания и интересы. Такие дети, попадая в коллектив, продолжают вести себя так же, как и в семье, искренне не понимая, почему брать то, что им хочется, нельз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39280" y="980640"/>
            <a:ext cx="7993080" cy="53276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альный контроль за поведением и действиями ребёнк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и дети при этом занимают активную оборонительную позицию, постоянно проявляя упрямство и вступая в пререкания по любому поводу. Другие "уходят в подполье", продолжая совершать порицаемые взрослыми поступки, но уже в те моменты, когда на них не обращают внимани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0560" y="404280"/>
            <a:ext cx="7993080" cy="66963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1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совершил кражу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одозревается в воровстве,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льз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ивать истерик и скандал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ть, что с малышом произошло непоправимо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ть ребенка специально того, в чем он нуждается и из-за чего взял чужую вещь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брять или проявлять безразличие к факту воровств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инять ребенка, если вина его не доказан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03280" y="1628640"/>
            <a:ext cx="8183520" cy="3089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 детского воровств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50560" y="189000"/>
            <a:ext cx="8569080" cy="6912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1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совершил кражу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одозревается в воровстве,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льз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 от ребенка публичного признания и раскаяния в содеянном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ть ребенка вором и подобными эпитетами, т.е. вешать "ярлыки"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вать с другими детьми или вами: "Вот я никогда не воровал. И в кого ты такой?"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ребовать от ребенка клятвы о том, что это была первая и последняя краж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суждать поведение ребенка в присутствии посторонн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23640" y="62028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4 год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формированы понятия «свое – чужое»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6 лет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 формирования нравственных привычек, Дети в состоянии различать "мое" и "не мое", имеют понятие о личном пространстве, личной собственности, но поступки часто импульсивны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23640" y="26028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7 лет 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ся произвольное поведение, подчиненное внутренним социальным норма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ой импульсивности могут быть особенности темперамента (повышенная активность), и временные невротические реакции на какие-либо психические травмы (развод родителей, переезд, поступление в школу),  и серьезные психические отклонения (например, олигофрения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54900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-11 лет -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вство часто бывает связано с недостаточным развитием волевой сферы: ребѐнку тяжело на свое "хочу!" самому себе твѐрдо сказать "нет!". Но они испытывают стыд за свои поступк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15 лет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ровство - это уже осознанный шаг, а, может быть, уже и вредная привычка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23640" y="54900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824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Кравцова  условно выделяет три основные причины детского воровств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82440" algn="ct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ое желание владеть понравившейся вещью, вопреки голосу с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82440" algn="ct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ьезная психологическая неудовлетворенность ребенк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82440" algn="ct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 развития нравственных представлений и вол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82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560" y="404280"/>
            <a:ext cx="8497800" cy="568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аспект детского воров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вство – это правонарушение, за которое ответственность наступает с совершеннолети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 помощью воровства ребенок может пытаться социализироваться в асоциальной семье, где воровство является нормо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роме того, иногда воровство – это обязательное условие для вступления в асоциальную подростковую группу или возможность завоевать или подтвердить свой авторитет в этой групп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50560" y="404280"/>
            <a:ext cx="8497800" cy="568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806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о-биологический аспект детского воров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9560" indent="-806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Б 11 Психические и поведенческие расстрой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9560" indent="-80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C90 Пиром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9560" indent="-80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C91 Клептом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9560" indent="-80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C92 Компульсивное расстройство сексуального повед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9560" indent="-80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C93 Интермиттирующее эксплозивное расстройств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9560" indent="-806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5T15:09:50Z</dcterms:created>
  <dc:creator>Ольга</dc:creator>
  <dc:description/>
  <dc:language>en-US</dc:language>
  <cp:lastModifiedBy>Экзамен</cp:lastModifiedBy>
  <dcterms:modified xsi:type="dcterms:W3CDTF">2022-11-23T07:35:29Z</dcterms:modified>
  <cp:revision>13</cp:revision>
  <dc:subject/>
  <dc:title>Слайд 1</dc:title>
</cp:coreProperties>
</file>