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343-3854-41E8-A228-500CD633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61E-32E7-42B1-80BC-D09604AE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1B9-BEE0-453C-BC2B-CA58FB11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079-B233-4E10-9924-EACE0EAB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6A98-C53C-48DA-A2F5-69167254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64BF-F5C4-4EEE-85AA-4EE7B54F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0B2D-CCA9-4A28-9AB4-2922001C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AB7B-3FFB-4DA9-856E-17CBA4A9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7266-B506-4F7D-A386-1C16A22A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DABA-0C50-47E1-89B9-D3716F65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1307-3D7D-43A6-AD2C-79E95627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6EC-3346-47DC-9E60-CF8DD89C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E8A1-D327-4110-AC55-6D678BA8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E721-6353-495D-9882-A56D63C9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060C-A78D-466F-884B-0894A6E5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1986-88F6-41AB-8F9D-982256E2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342D-9BF6-45D4-A707-36AD0914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8A135-29E9-4F36-9AAE-E3C08CA3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6E3A-57B5-44DA-A830-563FAB16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C812-ED10-451F-9079-6206A2D7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07BA-433A-463C-BC40-FF7AF59B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F560-FD3E-47CF-A229-6E1B4520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A87-22F6-4667-A04C-418B220C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7DEF-4EC8-4AF4-85EB-BE87F292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F203-BC04-437E-8146-B8392813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1C68-3664-4C98-B48A-B0D2BB23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553D-9906-493C-8E14-88317E5C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AB90-763E-4C8F-B4F0-C0E44260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7D46-0D4A-47D7-96D3-AA278140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B355-C843-4BEF-994E-E74C2D2A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8E883-8C3E-4F33-AA53-E76161DE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62FA8-1066-43E0-8D23-F5F9D58F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B733-7648-4350-A040-508E6F24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2CD-E137-4D37-B335-B8B63780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FB339-AA3E-4C0A-82F8-3307321D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E4685-E5DD-48FF-98C5-17707545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8A168-03BC-4FAA-AD4F-2D629145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AAD3-B831-4CC3-A21F-DDA24B2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95E5E-3842-4126-A562-1A7364D4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DA7F-EE8E-403F-BE1D-DA34BC61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4B56-CF8F-4E81-99EC-489C9020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FF396-8FA5-4CA6-8072-C45699E4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C54E-DC30-43F8-BDFB-C3F6C75D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E474A-9C5C-4D95-A1E2-85D8393F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442-DE82-4373-9342-0DBA773C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FA12-A1B8-4773-9986-E23C50FD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4F1B-ADBB-4584-A8B8-D75A1180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0EFC-7F52-4171-8E44-A8F75CCE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CB336-97C4-47EA-A82F-9906CBF9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DDE17-B11B-48D9-844E-33810FD2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4A969-4473-4078-99C8-ECAD5E71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E7884-986F-42DC-8B89-D15CE94D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D9368-D7D6-4E16-A77A-DD3FCF8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6F02F-7379-4F8A-976C-D29B933A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FD2D2-3AD8-442E-91B7-2ECC1238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CBD-7B90-49C0-88C9-04E5D626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0EF3E-2BC9-4064-B1BF-37273000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44D-124E-4AA6-A57F-8690EBDB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40E-049E-430A-8292-0DB0886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216-5600-4F3A-BB3E-FEC6237E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D550-0979-48E0-A02D-8506E77E1EE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EAAA-AC8C-4004-AE9D-E7517864E89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28BB-1418-4107-8156-4FAE79CEA84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F9F7-789E-4488-A6D6-FFE39F4A5B9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AD4E-6148-4D26-A02F-6F159BC0217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3" descr=""/>
          <p:cNvPicPr/>
          <p:nvPr/>
        </p:nvPicPr>
        <p:blipFill>
          <a:blip r:embed="rId1"/>
          <a:stretch/>
        </p:blipFill>
        <p:spPr>
          <a:xfrm>
            <a:off x="1457280" y="4078440"/>
            <a:ext cx="6229440" cy="1199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Проблема, о которой не принято говорить: детское воровство Бобруйск -  Новости - Актуально"/>
          <p:cNvPicPr/>
          <p:nvPr/>
        </p:nvPicPr>
        <p:blipFill>
          <a:blip r:embed="rId2"/>
          <a:stretch/>
        </p:blipFill>
        <p:spPr>
          <a:xfrm>
            <a:off x="2627280" y="620640"/>
            <a:ext cx="39607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50560" y="26028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7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о-биологический аспект детского воров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240" indent="-7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ся в непреодолимых импульсах украсть предмет (ненужный и (или) который не имеет материальной ценности). Клептомания проявляется в повышении чувства напряжения, удовольствия или облегчения во время совершения преступления, хотя потом может возникнуть чувство вины или тревоги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240" indent="-76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560" y="26028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й аспект детского воров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вство как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восстановления утраченных взаимоотношений родитель-ребен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 агресси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от страх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быть наказанным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восстановить или повысить самооценк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на семейную тайн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формированность волевого повед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50560" y="404280"/>
            <a:ext cx="8497800" cy="568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ая импульсив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сильное желание завладеть понравившейся вещью «от хозяина не убудет, а мне уж сильно хочется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поведение характерно для подвижных активных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детей необходимо строго контролировать и приучать к ответственности. При поимке маленького воришки не стоит игнорировать этот факт, но и не стоит раздувать его до крупных масштаб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50560" y="189000"/>
            <a:ext cx="8497800" cy="5904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 fontScale="98000"/>
          </a:bodyPr>
          <a:p>
            <a:pPr marL="259560" indent="4402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стр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нарушение материнской или отцовской привязанности и, как следствие, затруднение в общении с родителе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4402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орует, чтобы привлечь внимание родителей или педагог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4402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ь родителям за то, что они не уделяют ребенку достаточно внимания или за обиды и боль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4402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, скандалы и наказания, ребёнок воспринимает как подтверждение правильности выбранной стратег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50560" y="765000"/>
            <a:ext cx="8497800" cy="5328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00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вство от безысходно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у ребенка вымогают деньги, угрожают или он страдает зависимостью. Задача родителя объяснить, что в таких ситуациях ребенок обязательно должен обратиться за помощью к родителю или педагогу, психологу, не скрывая своего положе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-360" y="549000"/>
            <a:ext cx="8496360" cy="56163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00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звитость нравственных представлений и вол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00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желание самоутвердится. Характерно для детей, которым не хватает самостоятельности и ответственности в семейных делах. Воруя, такие дети ощущают себя смелыми, полноценными, «крутыми». В семьях,  где царит культ послушания и правильного поведения, ребенок  может взбунтоваться и пойти за острыми ощущения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-360" y="260280"/>
            <a:ext cx="8496360" cy="59054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ассовая ненависть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семье культивируется «классовая ненависть», то ребёнок может отомстить детям из состоятельных семей. Есть дети, для которых неразоблаченная кража – красиво спланированное преступление. Они принимают все меры и придумывают красивые легенды (правдоподобные), чтобы не быть разоблаченным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-360" y="260280"/>
            <a:ext cx="8496360" cy="59054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 fontScale="97000"/>
          </a:bodyPr>
          <a:p>
            <a:pPr marL="256680" indent="-799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деальная семья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6680" indent="-799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ях, где есть проблемы, но окружающим принято демонстрировать картинку идеальной семьи, ребенок может совершить кражу, чтобы «сказать» им: «если вы (родители) не измените своего поведения, я не позволю вам претворятся перед окружающими, что вы хорошие родители», «они все врут», «помогите мне!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вство как месть другому ребенку, за полученный ранее отказ. Это свойственно детям, которые не выражают открыто своих обид. Таких детей надо научить открыто выражать свои эмоции и чувства приемлемыми способа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ыть как все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семье есть финансовая проблема, ребенок может пойти на кражу, чтобы позволить себе покупать то, что позволяют себе покупать его сверстники из более обеспеченных семей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Детское воровство - ИСППП"/>
          <p:cNvPicPr/>
          <p:nvPr/>
        </p:nvPicPr>
        <p:blipFill>
          <a:blip r:embed="rId1"/>
          <a:stretch/>
        </p:blipFill>
        <p:spPr>
          <a:xfrm>
            <a:off x="539640" y="476280"/>
            <a:ext cx="4878360" cy="2997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Детское воровство Причины Что делать – Детские сказки читать на ночь"/>
          <p:cNvPicPr/>
          <p:nvPr/>
        </p:nvPicPr>
        <p:blipFill>
          <a:blip r:embed="rId2"/>
          <a:stretch/>
        </p:blipFill>
        <p:spPr>
          <a:xfrm>
            <a:off x="4284720" y="3357720"/>
            <a:ext cx="4103640" cy="3024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Воровство Денег — стоковая векторная графика и другие изображения на тему  Британская валюта - iStock"/>
          <p:cNvPicPr/>
          <p:nvPr/>
        </p:nvPicPr>
        <p:blipFill>
          <a:blip r:embed="rId3"/>
          <a:stretch/>
        </p:blipFill>
        <p:spPr>
          <a:xfrm>
            <a:off x="6012000" y="620640"/>
            <a:ext cx="2376360" cy="2506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Девушка Воровство В Магазинах В Магазине — стоковая векторная графика и  другие изображения на тему Векторная графика - iStock"/>
          <p:cNvPicPr/>
          <p:nvPr/>
        </p:nvPicPr>
        <p:blipFill>
          <a:blip r:embed="rId4"/>
          <a:stretch/>
        </p:blipFill>
        <p:spPr>
          <a:xfrm>
            <a:off x="1332000" y="3573360"/>
            <a:ext cx="267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 fontScale="96000"/>
          </a:bodyPr>
          <a:p>
            <a:pPr marL="254160" indent="14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е группы/ «За компанию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4160" indent="14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4160" indent="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е подростков воровство может быть одним из требований референтной группы, единственный выход в такой ситуации — это оторвать ребенка от асоциальной компани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4160" indent="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пытст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жа как интересное приключение – от скуки. Энергия не находит выхода. Необходимо избавится от чрезмерной опеки и дать ребенку возможность вкладывать свои силы в реализацию своих интересов и проек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4920" y="333000"/>
            <a:ext cx="8101080" cy="58323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утвердит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бственных глазах или глазах своих сверстников. Таким образом ребенок, а чаще подросток, хочет продемонстрировать силу и независимость своей личности. Нужно помочь ему переключится на более приемлемые способы самоутверждения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94920" y="333000"/>
            <a:ext cx="8101080" cy="58323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 fontScale="94000"/>
          </a:bodyPr>
          <a:p>
            <a:pPr marL="248760" indent="14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8760" indent="144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шние запреты и ограничения могут также привести подростка к воровству. Родительский контроль не должен быть тотальным и излишне жестким, особенно в отношении подростка. Вместе с ребенком пересмотрите семейные правила, предоставив ему больше прав. Наказания должны быть адекватны возраст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94920" y="1916280"/>
            <a:ext cx="8101080" cy="42494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1825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ые ошибки в воспитании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1825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цирующие детское воровст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оследовательности в воспитании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дной ситуации ребёнка наказывают, а в другой - "закрывают глаза" на проступок, либо грозятся наказать, но не наказывают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гласованность требований взрослых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па разрешает, а мама запрещает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94920" y="333000"/>
            <a:ext cx="8101080" cy="58323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 fontScale="97000"/>
          </a:bodyPr>
          <a:p>
            <a:pPr marL="256680" indent="-25668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двойная мораль"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йствия родителей расходятся с делом. Например, родители внушают ребёнку, "что брать чужое нельзя", а сами приносят с работы то, что "плохо лежит". Ребёнок, искренне веря в авторитет и непогрешимость родителей, следует их примеру и долго не может понять, за что его ругают, если он поступает, как мама и папа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вседозволенности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ребёнка в стиле "кумир семьи": ребёнок растёт с мыслью "я самый лучший", он не научается считаться с мнением других людей, ориентируется лишь на свои желания и интересы. Такие дети, попадая в коллектив, продолжают вести себя так же, как и в семье, искренне не понимая, почему брать то, что им хочется, нельз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9280" y="980640"/>
            <a:ext cx="7993080" cy="5327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альный контроль за поведением и действиями ребёнк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и дети при этом занимают активную оборонительную позицию, постоянно проявляя упрямство и вступая в пререкания по любому поводу. Другие "уходят в подполье", продолжая совершать порицаемые взрослыми поступки, но уже в те моменты, когда на них не обращают внимани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0560" y="404280"/>
            <a:ext cx="7993080" cy="66963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совершил краж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одозревается в воровстве,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льз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ть истерик и скандал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ть, что с малышом произошло непоправимо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ть ребенка специально того, в чем он нуждается и из-за чего взял чужую вещ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ять или проявлять безразличие к факту воровств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инять ребенка, если вина его не доказан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03280" y="1628640"/>
            <a:ext cx="8183520" cy="3089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детского воровств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50560" y="189000"/>
            <a:ext cx="8569080" cy="6912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совершил краж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одозревается в воровстве,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льз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 от ребенка публичного признания и раскаяния в содеянном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ть ребенка вором и подобными эпитетами, т.е. вешать "ярлыки"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вать с другими детьми или вами: "Вот я никогда не воровал. И в кого ты такой?"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ебовать от ребенка клятвы о том, что это была первая и последняя краж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суждать поведение ребенка в присутствии посторонн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23640" y="62028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4 год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формированы понятия «свое – чужое»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6 лет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 формирования нравственных привычек, Дети в состоянии различать "мое" и "не мое", имеют понятие о личном пространстве, личной собственности, но поступки часто импульсивны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23640" y="26028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7 лет 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произвольное поведение, подчиненное внутренним социальным норма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й импульсивности могут быть особенности темперамента (повышенная активность), и временные невротические реакции на какие-либо психические травмы (развод родителей, переезд, поступление в школу),  и серьезные психические отклонения (например, олигофрения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549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11 лет -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вство часто бывает связано с недостаточным развитием волевой сферы: ребѐнку тяжело на свое "хочу!" самому себе твѐрдо сказать "нет!". Но они испытывают стыд за свои поступк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15 лет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ровство - это уже осознанный шаг, а, может быть, уже и вредная привычка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3640" y="549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824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Кравцова  условно выделяет три основные причины детского воров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82440"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ое желание владеть понравившейся вещью, вопреки голосу с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82440"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ьезная психологическая неудовлетворенность ребенк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82440"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развития нравственных представлений и вол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560" y="404280"/>
            <a:ext cx="8497800" cy="568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аспект детского воров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вство – это правонарушение, за которое ответственность наступает с совершеннолети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 помощью воровства ребенок может пытаться социализироваться в асоциальной семье, где воровство является нормо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оме того, иногда воровство – это обязательное условие для вступления в асоциальную подростковую группу или возможность завоевать или подтвердить свой авторитет в этой групп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50560" y="404280"/>
            <a:ext cx="8497800" cy="568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806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о-биологический аспект детского воров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Б 11 Психические и поведенческие расстрой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C90 Пиром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C91 Клептом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C92 Компульсивное расстройство сексуального повед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C93 Интермиттирующее эксплозивное расстройст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5T15:09:50Z</dcterms:created>
  <dc:creator>Ольга</dc:creator>
  <dc:description/>
  <dc:language>en-US</dc:language>
  <cp:lastModifiedBy>Экзамен</cp:lastModifiedBy>
  <dcterms:modified xsi:type="dcterms:W3CDTF">2022-11-23T07:35:29Z</dcterms:modified>
  <cp:revision>13</cp:revision>
  <dc:subject/>
  <dc:title>Слайд 1</dc:title>
</cp:coreProperties>
</file>