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A84-71DA-4A40-91C3-800CE9A3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AB4-CF38-4D4F-B4EB-98A106F9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A1C-6FA5-434F-A5F5-EBB89F57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D77-390E-4CA0-9EE7-E75318AB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B32-E59A-4CBE-9271-660852E2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F96-78B2-4915-A0F0-D46D4F1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E4B-85F6-4B05-8287-EDA2C834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2BA-CD80-4403-9D92-2EBF386B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91F-582D-4533-9B66-8367AAE4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BFD-B31A-423B-A734-9DA56926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A2A-BEB9-4427-B4B6-5415EFF3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16D-F4CE-40A9-93F4-A7BF336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84E4-65B7-439F-A148-359F0D64EB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2023920" y="469800"/>
            <a:ext cx="843912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2090880" y="1371600"/>
            <a:ext cx="75499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841400" y="1143000"/>
            <a:ext cx="73026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463760" y="698400"/>
            <a:ext cx="858204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1149480" y="880920"/>
            <a:ext cx="92739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411200" y="1143000"/>
            <a:ext cx="8267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424160" y="731880"/>
            <a:ext cx="83721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3T05:28:00Z</dcterms:created>
  <dc:creator>Лариса</dc:creator>
  <dc:description/>
  <dc:language>en-US</dc:language>
  <cp:lastModifiedBy>Лариса</cp:lastModifiedBy>
  <dcterms:modified xsi:type="dcterms:W3CDTF">2022-11-23T05:29:58Z</dcterms:modified>
  <cp:revision>1</cp:revision>
  <dc:subject/>
  <dc:title>Презентация PowerPoint</dc:title>
</cp:coreProperties>
</file>