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D67-F10C-49CE-BCF7-D45DF0FE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637-DA94-4854-8AB9-84C4DC9C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495-0E03-4E15-9407-7E1C17E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027-9F55-47CA-96FC-2B01BC9A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B6A-0752-40DA-B135-D69F835A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4D0-11EB-45B7-BC1A-899CF49C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78E-F2AD-4C6E-B029-9BE3B02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218-327A-483C-A0B5-26198CF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508-6180-4F5E-A1EB-CFE924A3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40F-329B-449D-899C-ED26097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DF5-C80A-4907-AAEF-228937B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393-4A9D-4E6A-8E0F-9F2CEA0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6E37-567B-457D-9AF4-DCC7AE203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2023920" y="469800"/>
            <a:ext cx="843912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2090880" y="1371600"/>
            <a:ext cx="75499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841400" y="1143000"/>
            <a:ext cx="73026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463760" y="698400"/>
            <a:ext cx="858204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149480" y="880920"/>
            <a:ext cx="9273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411200" y="1143000"/>
            <a:ext cx="8267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424160" y="731880"/>
            <a:ext cx="83721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3T05:28:00Z</dcterms:created>
  <dc:creator>Лариса</dc:creator>
  <dc:description/>
  <dc:language>en-US</dc:language>
  <cp:lastModifiedBy>Лариса</cp:lastModifiedBy>
  <dcterms:modified xsi:type="dcterms:W3CDTF">2022-11-23T05:29:58Z</dcterms:modified>
  <cp:revision>1</cp:revision>
  <dc:subject/>
  <dc:title>Презентация PowerPoint</dc:title>
</cp:coreProperties>
</file>