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19.png" ContentType="image/png"/>
  <Override PartName="/ppt/media/image14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3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27.png" ContentType="image/png"/>
  <Override PartName="/ppt/media/drumroll.wav" ContentType="audio/x-wav"/>
  <Override PartName="/ppt/media/image15.png" ContentType="image/png"/>
  <Override PartName="/ppt/media/image16.jpeg" ContentType="image/jpeg"/>
  <Override PartName="/ppt/media/image18.png" ContentType="image/png"/>
  <Override PartName="/ppt/media/image6.jpeg" ContentType="image/jpeg"/>
  <Override PartName="/ppt/media/image35.png" ContentType="image/png"/>
  <Override PartName="/ppt/media/applause.wav" ContentType="audio/x-wav"/>
  <Override PartName="/ppt/media/image26.jpeg" ContentType="image/jpeg"/>
  <Override PartName="/ppt/media/image4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1E2-31BF-4EBF-BB50-EE5F012D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3BA-DC6B-43AE-9C6A-B1E1D65B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2BD-CE55-4C5B-92AD-988B8455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997-808E-496A-A9C8-A8DB4240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8995-B9D9-4C52-AB55-57B81DFC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AF8C-620E-4999-8C1E-96826C0C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091A-0DAD-47D9-9FFB-DEFB2586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BEFB-18C7-4586-BAD8-6F17BBA3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F112-ECFD-4E37-B866-8445C663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66B-0819-4A08-9823-7AF632C6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4B97-5073-418F-8A9F-95A58105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7E3-1ED8-4229-AC69-570AEFCA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D44D-4838-4FAE-94D3-E11725E5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6233-462A-48ED-B0CD-64DD0E6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F2D6-FFC3-427B-967F-404CC8BB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40CD-C234-4D0A-AB7E-EA6536D5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FE64-8EBA-47A2-8970-610C1A31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11E3-87EF-4754-A6B0-9FCA4AD2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0DA6-793D-4CC3-B161-31AA6C23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005A-ADA9-495C-A21C-ACB8F11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FC845-6207-49DE-BC83-D0D27BE4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79A1-BB88-4DB6-B788-847A401F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EC8-8F1A-4181-93D9-61C2D231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0C22-C656-4DD6-9CD9-AB532F68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F1CB-75B6-4B3F-B8AC-C5D84A55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7E2C-7E73-46D7-A04A-77589028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0D72-D148-4FC7-9B41-72FA29B8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19E5-9A38-439C-AC22-A7ED108B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484B-B949-4CDD-A800-7687FD68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BF148-C6A9-4015-B0B6-A56EEA5A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F13-27C0-470C-8AFA-BBAFBD4B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E90-3076-4E8F-96D8-742D3AD3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0DD-B155-4DC6-8EAD-53AEAA8A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14A-24C9-48FC-ACCC-0141EEC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FA6-41E9-4CFD-AE6D-CC25AD59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830-5E44-497F-8C4C-B1710DC5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EE35-F046-4303-AC8A-5B2B00E828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AE9E-9767-459C-AE12-AA0838158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12AA-F826-4573-A1ED-70F6116BD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39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18.png"/><Relationship Id="rId5" Type="http://schemas.openxmlformats.org/officeDocument/2006/relationships/image" Target="../media/image42.png"/><Relationship Id="rId6" Type="http://schemas.openxmlformats.org/officeDocument/2006/relationships/image" Target="../media/image35.pn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38.pn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468360" y="549360"/>
            <a:ext cx="727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осударственное бюджетное общеобразовательное  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амарской области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№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 «Образовательный центр» имени 21 армии Вооруженных сил ССС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.г.т. Стройкерамика   муниципального района Волжский Самар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руктурное подразделение «Детский сад «Солнышк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979640" y="2421000"/>
            <a:ext cx="48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активная 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детей по ПД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рожная безопас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300720" y="4724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Халимова Н.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348000" y="59500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гт Стройкерамика 202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373720"/>
            <a:ext cx="1763640" cy="13302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9"/>
          <p:cNvSpPr/>
          <p:nvPr/>
        </p:nvSpPr>
        <p:spPr>
          <a:xfrm>
            <a:off x="2390760" y="1197000"/>
            <a:ext cx="436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бери знаки серв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10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1017360" cy="10173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"/>
          <p:cNvPicPr/>
          <p:nvPr/>
        </p:nvPicPr>
        <p:blipFill>
          <a:blip r:embed="rId3"/>
          <a:stretch/>
        </p:blipFill>
        <p:spPr>
          <a:xfrm>
            <a:off x="1908000" y="5229360"/>
            <a:ext cx="1003320" cy="1276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2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1008360" cy="14191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3" descr=""/>
          <p:cNvPicPr/>
          <p:nvPr/>
        </p:nvPicPr>
        <p:blipFill>
          <a:blip r:embed="rId5"/>
          <a:stretch/>
        </p:blipFill>
        <p:spPr>
          <a:xfrm>
            <a:off x="4500720" y="3357720"/>
            <a:ext cx="1012680" cy="14252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4" descr=""/>
          <p:cNvPicPr/>
          <p:nvPr/>
        </p:nvPicPr>
        <p:blipFill>
          <a:blip r:embed="rId6"/>
          <a:stretch/>
        </p:blipFill>
        <p:spPr>
          <a:xfrm>
            <a:off x="3780000" y="5157720"/>
            <a:ext cx="1430280" cy="12747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5" descr=""/>
          <p:cNvPicPr/>
          <p:nvPr/>
        </p:nvPicPr>
        <p:blipFill>
          <a:blip r:embed="rId7"/>
          <a:stretch/>
        </p:blipFill>
        <p:spPr>
          <a:xfrm>
            <a:off x="6084720" y="4653000"/>
            <a:ext cx="936720" cy="1319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6" descr=""/>
          <p:cNvPicPr/>
          <p:nvPr/>
        </p:nvPicPr>
        <p:blipFill>
          <a:blip r:embed="rId8"/>
          <a:stretch/>
        </p:blipFill>
        <p:spPr>
          <a:xfrm>
            <a:off x="7308720" y="3357720"/>
            <a:ext cx="919440" cy="1292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7" descr=""/>
          <p:cNvPicPr/>
          <p:nvPr/>
        </p:nvPicPr>
        <p:blipFill>
          <a:blip r:embed="rId9"/>
          <a:stretch/>
        </p:blipFill>
        <p:spPr>
          <a:xfrm>
            <a:off x="7380360" y="5373720"/>
            <a:ext cx="11048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100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00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-0.0257 0.07424 C 0.00139 0.03608 -0.00954 -0.00347 -0.00312 -0.04163 C -0.00121 -0.05481 0.01303 -0.06869 0.02084 -0.08187 C 0.01823 -0.10939 0.01945 -0.13668 0.01424 -0.16374 C 0.01372 -0.16559 0.00521 -0.16675 0.00278 -0.1686 C -0.00244 -0.17137 -0.00504 -0.17507 -0.00886 -0.17808 C -0.0231 -0.1901 -0.03282 -0.20097 -0.06563 -0.21022 C -0.07466 -0.21762 -0.08438 -0.21971 -0.11077 -0.22156 C -0.13473 -0.22572 -0.14619 -0.22919 -0.17327 -0.22919 E">
                                      <p:cBhvr>
                                        <p:cTn id="17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2344 0.00971 C -0.01059 -0.0148 -0.02222 -0.02868 -0.01076 -0.05134 C -0.01007 -0.07031 -0.00764 -0.09019 -0.00451 -0.11008 C -0.02465 -0.17692 0.04774 -0.23612 -0.07639 -0.21184 C -0.08142 -0.213 -0.08733 -0.21716 -0.09826 -0.21577 C -0.16858 -0.2019 -0.11007 -0.20907 -0.13559 -0.20629 E">
                                      <p:cBhvr>
                                        <p:cTn id="17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100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0.03559 -5.3654E-007 C -0.05868 -0.02174 -0.06736 -0.04417 -0.08125 -0.06591 C -0.07952 -0.12604 -0.13386 -0.24214 -0.04914 -0.3203 C -0.03959 -0.35661 -0.04236 -0.33649 -0.04236 -0.37928 E">
                                      <p:cBhvr>
                                        <p:cTn id="189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0.00851 0.0407 C 0.01146 0.00878 0.0099 0.03307 0.00851 -0.01874 C 0.00486 -0.14524 0.00555 -0.10616 0.00555 -0.20953 E">
                                      <p:cBhvr>
                                        <p:cTn id="19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00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179280" y="5527800"/>
            <a:ext cx="1764000" cy="133020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2"/>
          <p:cNvSpPr/>
          <p:nvPr/>
        </p:nvSpPr>
        <p:spPr>
          <a:xfrm>
            <a:off x="826920" y="134136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бери запрещающи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2"/>
          <a:stretch/>
        </p:blipFill>
        <p:spPr>
          <a:xfrm>
            <a:off x="1692360" y="3429000"/>
            <a:ext cx="1222200" cy="1224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"/>
          <p:cNvPicPr/>
          <p:nvPr/>
        </p:nvPicPr>
        <p:blipFill>
          <a:blip r:embed="rId3"/>
          <a:stretch/>
        </p:blipFill>
        <p:spPr>
          <a:xfrm>
            <a:off x="3708360" y="4365720"/>
            <a:ext cx="1246320" cy="12459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5" descr=""/>
          <p:cNvPicPr/>
          <p:nvPr/>
        </p:nvPicPr>
        <p:blipFill>
          <a:blip r:embed="rId4"/>
          <a:stretch/>
        </p:blipFill>
        <p:spPr>
          <a:xfrm>
            <a:off x="5435640" y="328464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7" descr=""/>
          <p:cNvPicPr/>
          <p:nvPr/>
        </p:nvPicPr>
        <p:blipFill>
          <a:blip r:embed="rId5"/>
          <a:stretch/>
        </p:blipFill>
        <p:spPr>
          <a:xfrm>
            <a:off x="7308720" y="4365720"/>
            <a:ext cx="1501920" cy="13381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6"/>
          <a:stretch/>
        </p:blipFill>
        <p:spPr>
          <a:xfrm>
            <a:off x="5435640" y="530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9" descr=""/>
          <p:cNvPicPr/>
          <p:nvPr/>
        </p:nvPicPr>
        <p:blipFill>
          <a:blip r:embed="rId7"/>
          <a:stretch/>
        </p:blipFill>
        <p:spPr>
          <a:xfrm>
            <a:off x="2124000" y="5373720"/>
            <a:ext cx="1152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-1.38889E-006 -6.33673E-006 C 0.00053 -0.06291 0.00053 -0.12582 0.00157 -0.18872 C 0.00174 -0.20005 0.00139 -0.2056 -0.00156 -0.2174 C -0.00208 -0.21971 -0.00607 -0.22133 -0.00607 -0.22133 E">
                                      <p:cBhvr>
                                        <p:cTn id="20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0.02882 0.08025 C -0.02569 0.07886 -0.02014 0.08048 -0.01962 0.07632 C -0.01719 0.05713 -0.01423 0.03955 -0.0118 0.02082 C -0.01042 -0.02151 -0.01024 -0.06244 -0.00573 -0.10407 C -0.00347 -0.12419 -0.00434 -0.11794 -0.00104 -0.14315 C -0.00052 -0.14662 0.00035 -0.15333 0.00035 -0.1531 C 0.00087 -0.18201 0.00104 -0.21068 0.00191 -0.23936 C 0.00226 -0.25092 0.00625 -0.26272 0.0066 -0.27428 C 0.00695 -0.28723 0.0066 -0.30018 0.0066 -0.31313 C 0.0066 -0.31591 0.0066 -0.31868 0.0066 -0.32146 E">
                                      <p:cBhvr>
                                        <p:cTn id="211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Motion origin="layout" path="M 0.03889 0.00532 C 0.03785 0.00324 0.03611 0.00162 0.03576 -0.00069 C 0.03541 -0.00278 0.03698 -0.00486 0.03732 -0.00694 C 0.03941 -0.02336 0.04097 -0.03469 0.04496 -0.04995 C 0.04392 -0.11193 0.05035 -0.16628 0.0158 -0.20976 E">
                                      <p:cBhvr>
                                        <p:cTn id="21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128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йди несуществующий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2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1136880" cy="15969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3" descr=""/>
          <p:cNvPicPr/>
          <p:nvPr/>
        </p:nvPicPr>
        <p:blipFill>
          <a:blip r:embed="rId2"/>
          <a:stretch/>
        </p:blipFill>
        <p:spPr>
          <a:xfrm>
            <a:off x="2195640" y="4869000"/>
            <a:ext cx="1460520" cy="14223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"/>
          <p:cNvPicPr/>
          <p:nvPr/>
        </p:nvPicPr>
        <p:blipFill>
          <a:blip r:embed="rId3"/>
          <a:stretch/>
        </p:blipFill>
        <p:spPr>
          <a:xfrm>
            <a:off x="3851280" y="3357720"/>
            <a:ext cx="1547640" cy="15555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5" descr=""/>
          <p:cNvPicPr/>
          <p:nvPr/>
        </p:nvPicPr>
        <p:blipFill>
          <a:blip r:embed="rId4"/>
          <a:stretch/>
        </p:blipFill>
        <p:spPr>
          <a:xfrm>
            <a:off x="5508720" y="4869000"/>
            <a:ext cx="1420560" cy="14047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"/>
          <p:cNvPicPr/>
          <p:nvPr/>
        </p:nvPicPr>
        <p:blipFill>
          <a:blip r:embed="rId5"/>
          <a:stretch/>
        </p:blipFill>
        <p:spPr>
          <a:xfrm>
            <a:off x="6372360" y="3429000"/>
            <a:ext cx="15033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4.72222E-006 1.85014E-008 C 0.0283 -0.03908 -0.00313 -0.10661 0.0092 -0.15587 C 0.01059 -0.17299 0.01424 -0.18825 0.01684 -0.20513 C 0.01979 -0.2241 0.02153 -0.24329 0.02309 -0.26249 C 0.02378 -0.30666 0.02205 -0.33048 0.0276 -0.36702 C 0.02934 -0.40448 0.03073 -0.43987 0.03073 -0.47756 E">
                                      <p:cBhvr>
                                        <p:cTn id="24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3.88889E-006 -2.95097E-006 C 0.00173 -0.09435 0.00399 -0.18848 0.00625 -0.28284 C 0.0059 -0.29856 0.00955 -0.39176 -0.00313 -0.41605 C -0.00677 -0.43224 -0.01528 -0.44773 -0.01528 -0.46531 E">
                                      <p:cBhvr>
                                        <p:cTn id="260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1916280"/>
            <a:ext cx="712800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олодцы !!!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1547640" y="12682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йди правильную карти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529080" cy="32526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30" name="Рисунок 5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511800" cy="32464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31" name="Picture 2" descr="Картинки по запросу анимация пдд"/>
          <p:cNvPicPr/>
          <p:nvPr/>
        </p:nvPicPr>
        <p:blipFill>
          <a:blip r:embed="rId3"/>
          <a:stretch/>
        </p:blipFill>
        <p:spPr>
          <a:xfrm>
            <a:off x="3635280" y="5530680"/>
            <a:ext cx="17607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324000" y="4869000"/>
            <a:ext cx="2331720" cy="1758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7"/>
          <p:cNvSpPr/>
          <p:nvPr/>
        </p:nvSpPr>
        <p:spPr>
          <a:xfrm>
            <a:off x="684360" y="1268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к выглядит пешеходный переход на доро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8" descr=""/>
          <p:cNvPicPr/>
          <p:nvPr/>
        </p:nvPicPr>
        <p:blipFill>
          <a:blip r:embed="rId2"/>
          <a:stretch/>
        </p:blipFill>
        <p:spPr>
          <a:xfrm>
            <a:off x="395280" y="2058840"/>
            <a:ext cx="2448000" cy="205272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35" name="Рисунок 9" descr=""/>
          <p:cNvPicPr/>
          <p:nvPr/>
        </p:nvPicPr>
        <p:blipFill>
          <a:blip r:embed="rId3"/>
          <a:stretch/>
        </p:blipFill>
        <p:spPr>
          <a:xfrm>
            <a:off x="3059280" y="3284640"/>
            <a:ext cx="2800080" cy="19191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36" name="Рисунок 10" descr=""/>
          <p:cNvPicPr/>
          <p:nvPr/>
        </p:nvPicPr>
        <p:blipFill>
          <a:blip r:embed="rId4"/>
          <a:stretch/>
        </p:blipFill>
        <p:spPr>
          <a:xfrm>
            <a:off x="6012000" y="4292640"/>
            <a:ext cx="2813040" cy="1990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0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278 0.01064 C -0.00382 -0.02613 -0.00452 -0.06266 -0.0059 -0.09942 C -0.00643 -0.11283 -0.01042 -0.12624 -0.01233 -0.13942 C -0.01615 -0.16578 -0.01146 -0.13711 -0.01545 -0.17341 C -0.01945 -0.20902 -0.02014 -0.21457 -0.02656 -0.24092 C -0.02813 -0.24763 -0.03195 -0.25618 -0.03455 -0.2622 C -0.03646 -0.26659 -0.0408 -0.27468 -0.0408 -0.27445 C -0.04844 -0.3059 -0.09115 -0.33063 -0.11233 -0.33827 C -0.12014 -0.34104 -0.13281 -0.35052 -0.1408 -0.35098 C -0.17778 -0.35306 -0.21493 -0.35237 -0.25191 -0.35306 C -0.25938 -0.35792 -0.25729 -0.36 -0.2599 -0.35306 E">
                                      <p:cBhvr>
                                        <p:cTn id="2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732640"/>
            <a:ext cx="1490760" cy="11253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2124000" y="1341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бери нужный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9" descr=""/>
          <p:cNvPicPr/>
          <p:nvPr/>
        </p:nvPicPr>
        <p:blipFill>
          <a:blip r:embed="rId2"/>
          <a:stretch/>
        </p:blipFill>
        <p:spPr>
          <a:xfrm>
            <a:off x="3857760" y="1989000"/>
            <a:ext cx="5286240" cy="460872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140" name="Рисунок 10" descr=""/>
          <p:cNvPicPr/>
          <p:nvPr/>
        </p:nvPicPr>
        <p:blipFill>
          <a:blip r:embed="rId3"/>
          <a:stretch/>
        </p:blipFill>
        <p:spPr>
          <a:xfrm>
            <a:off x="1763640" y="2133720"/>
            <a:ext cx="15750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1" descr=""/>
          <p:cNvPicPr/>
          <p:nvPr/>
        </p:nvPicPr>
        <p:blipFill>
          <a:blip r:embed="rId4"/>
          <a:stretch/>
        </p:blipFill>
        <p:spPr>
          <a:xfrm>
            <a:off x="324000" y="3573360"/>
            <a:ext cx="1215720" cy="14637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2" descr=""/>
          <p:cNvPicPr/>
          <p:nvPr/>
        </p:nvPicPr>
        <p:blipFill>
          <a:blip r:embed="rId5"/>
          <a:stretch/>
        </p:blipFill>
        <p:spPr>
          <a:xfrm>
            <a:off x="1763640" y="4869000"/>
            <a:ext cx="142416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2.77778E-007 0.00508 C 0.02917 0.00971 0.05365 0.00948 0.08472 0.01064 C 0.10122 0.01688 0.11875 0.0178 0.13628 0.01989 C 0.1625 0.02729 0.19358 0.02752 0.22118 0.03099 C 0.26701 0.04463 0.33611 0.03746 0.37309 0.03816 C 0.40278 0.03885 0.43229 0.03931 0.46181 0.04001 C 0.50747 0.05111 0.56389 0.04024 0.61198 0.03816 C 0.6625 0.02891 0.74271 0.03353 0.79167 0.03284 C 0.80226 0.02937 0.79583 0.03191 0.80955 0.02336 C 0.81163 0.0222 0.81528 0.01989 0.81528 0.02012 C 0.825 0.00647 0.82361 0.00347 0.82917 -0.01134 C 0.8316 -0.03932 0.83889 -0.07308 0.82135 -0.09783 C 0.81736 -0.1124 0.81528 -0.12651 0.81337 -0.14177 C 0.81267 -0.15218 0.81267 -0.16258 0.81163 -0.17299 C 0.81128 -0.17553 0.80955 -0.18016 0.80955 -0.18016 E">
                                      <p:cBhvr>
                                        <p:cTn id="40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516640"/>
            <a:ext cx="1778040" cy="13413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7"/>
          <p:cNvSpPr/>
          <p:nvPr/>
        </p:nvSpPr>
        <p:spPr>
          <a:xfrm>
            <a:off x="2124000" y="1197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бери нужный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5638680" cy="465480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146" name="Рисунок 13" descr=""/>
          <p:cNvPicPr/>
          <p:nvPr/>
        </p:nvPicPr>
        <p:blipFill>
          <a:blip r:embed="rId3"/>
          <a:stretch/>
        </p:blipFill>
        <p:spPr>
          <a:xfrm>
            <a:off x="1619280" y="2276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4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884160" cy="788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"/>
          <p:cNvPicPr/>
          <p:nvPr/>
        </p:nvPicPr>
        <p:blipFill>
          <a:blip r:embed="rId5"/>
          <a:stretch/>
        </p:blipFill>
        <p:spPr>
          <a:xfrm>
            <a:off x="1979640" y="5229360"/>
            <a:ext cx="8524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31 -0.00809 C 0.04636 0.00139 0.07066 0.00162 0.09375 0.0037 C 0.10781 0.00972 0.12136 0.01296 0.13611 0.01527 C 0.15052 0.02151 0.14219 0.01851 0.16198 0.02105 C 0.18229 0.02637 0.20347 0.02567 0.22396 0.03076 C 0.31007 0.02984 0.35816 0.03816 0.42691 0.02498 C 0.43455 0.02174 0.44045 0.01827 0.44809 0.01712 C 0.45816 0.0155 0.4684 0.01527 0.47847 0.01134 C 0.48993 0.00717 0.49844 -0.00323 0.50886 -0.00994 C 0.52257 -0.01965 0.53594 -0.03561 0.54653 -0.05064 C 0.55243 -0.05897 0.55868 -0.06498 0.56337 -0.074 C 0.56649 -0.08672 0.56233 -0.07284 0.56927 -0.08556 C 0.5717 -0.0895 0.57309 -0.09482 0.57552 -0.09921 C 0.57743 -0.10638 0.58056 -0.11285 0.58142 -0.12072 C 0.5849 -0.15101 0.58629 -0.17946 0.59514 -0.20791 C 0.59965 -0.22247 0.60295 -0.23774 0.60729 -0.25231 C 0.60886 -0.25809 0.61163 -0.26965 0.61163 -0.26942 C 0.61389 -0.31036 0.61493 -0.34158 0.6132 -0.38436 C 0.6125 -0.40124 0.61094 -0.4246 0.60122 -0.43686 C 0.59844 -0.44796 0.59566 -0.44149 0.59201 -0.45004 E">
                                      <p:cBhvr>
                                        <p:cTn id="61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732640"/>
            <a:ext cx="1490760" cy="11253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7"/>
          <p:cNvSpPr/>
          <p:nvPr/>
        </p:nvSpPr>
        <p:spPr>
          <a:xfrm>
            <a:off x="2124000" y="1197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бери нужный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830560" cy="472752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152" name="Рисунок 4" descr=""/>
          <p:cNvPicPr/>
          <p:nvPr/>
        </p:nvPicPr>
        <p:blipFill>
          <a:blip r:embed="rId3"/>
          <a:stretch/>
        </p:blipFill>
        <p:spPr>
          <a:xfrm>
            <a:off x="1692360" y="2205000"/>
            <a:ext cx="866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898200" cy="13780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"/>
          <p:cNvPicPr/>
          <p:nvPr/>
        </p:nvPicPr>
        <p:blipFill>
          <a:blip r:embed="rId5"/>
          <a:stretch/>
        </p:blipFill>
        <p:spPr>
          <a:xfrm>
            <a:off x="1763640" y="4869000"/>
            <a:ext cx="866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0.16354 -0.03284 C 0.23021 -0.03145 0.29687 -0.03122 0.36354 -0.0289 C 0.38958 -0.02798 0.41597 -0.02081 0.44201 -0.0185 C 0.46962 -0.00855 0.44514 -0.01642 0.50191 -0.0104 C 0.52083 -0.00855 0.53264 -0.00531 0.55434 -0.00416 C 0.57014 0.00278 0.5868 0.00047 0.6033 0.00602 C 0.63403 0.00417 0.67882 0.01064 0.70972 -0.0104 C 0.71389 -0.0185 0.71701 -0.02821 0.72205 -0.03492 C 0.72396 -0.04255 0.725 -0.04879 0.7283 -0.0555 C 0.73108 -0.06845 0.73264 -0.08163 0.73594 -0.09435 C 0.74236 -0.14893 0.73906 -0.11216 0.73906 -0.20513 E">
                                      <p:cBhvr>
                                        <p:cTn id="6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179280" y="5527800"/>
            <a:ext cx="1764000" cy="13302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7"/>
          <p:cNvSpPr/>
          <p:nvPr/>
        </p:nvSpPr>
        <p:spPr>
          <a:xfrm>
            <a:off x="2124000" y="1197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бери нужный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3" descr=""/>
          <p:cNvPicPr/>
          <p:nvPr/>
        </p:nvPicPr>
        <p:blipFill>
          <a:blip r:embed="rId2"/>
          <a:stretch/>
        </p:blipFill>
        <p:spPr>
          <a:xfrm>
            <a:off x="3203640" y="1844640"/>
            <a:ext cx="5757840" cy="468144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158" name="Рисунок 4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812880" cy="8143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"/>
          <p:cNvPicPr/>
          <p:nvPr/>
        </p:nvPicPr>
        <p:blipFill>
          <a:blip r:embed="rId4"/>
          <a:stretch/>
        </p:blipFill>
        <p:spPr>
          <a:xfrm>
            <a:off x="1979640" y="3284640"/>
            <a:ext cx="866880" cy="865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"/>
          <p:cNvPicPr/>
          <p:nvPr/>
        </p:nvPicPr>
        <p:blipFill>
          <a:blip r:embed="rId5"/>
          <a:stretch/>
        </p:blipFill>
        <p:spPr>
          <a:xfrm>
            <a:off x="395280" y="4365720"/>
            <a:ext cx="885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1.11111E-006 -3.60777E-006 C 0.04705 0.01157 0.01146 0.00602 0.10885 0.00879 C 0.11632 0.00856 0.12448 0.00902 0.13212 0.0074 C 0.13802 0.00648 0.13646 -0.00994 0.14167 -0.01665 C 0.14114 -0.02312 0.14097 -0.0296 0.1401 -0.03584 C 0.13958 -0.04024 0.13733 -0.04856 0.13733 -0.04856 E">
                                      <p:cBhvr>
                                        <p:cTn id="8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322280" y="974880"/>
            <a:ext cx="2786040" cy="2092320"/>
          </a:xfrm>
          <a:prstGeom prst="rect">
            <a:avLst/>
          </a:prstGeom>
          <a:ln w="0">
            <a:noFill/>
          </a:ln>
        </p:spPr>
      </p:pic>
      <p:sp>
        <p:nvSpPr>
          <p:cNvPr id="162" name="Скругленный прямоугольник 9"/>
          <p:cNvSpPr/>
          <p:nvPr/>
        </p:nvSpPr>
        <p:spPr>
          <a:xfrm>
            <a:off x="971640" y="549360"/>
            <a:ext cx="352908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 этим знаком, как ни странно,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се ждут чего-то постоянно.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то-то сидя, кто-то стоя…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то за место здесь так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1979640" cy="2417760"/>
          </a:xfrm>
          <a:prstGeom prst="rect">
            <a:avLst/>
          </a:prstGeom>
          <a:ln w="0">
            <a:noFill/>
          </a:ln>
        </p:spPr>
      </p:pic>
      <p:sp>
        <p:nvSpPr>
          <p:cNvPr id="164" name="Скругленный прямоугольник 11"/>
          <p:cNvSpPr/>
          <p:nvPr/>
        </p:nvSpPr>
        <p:spPr>
          <a:xfrm>
            <a:off x="4643280" y="549360"/>
            <a:ext cx="338472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от трёхглазый молод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о чего же он хитре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то откуда ни поед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мигнёт и тем, и эт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2" descr=""/>
          <p:cNvPicPr/>
          <p:nvPr/>
        </p:nvPicPr>
        <p:blipFill>
          <a:blip r:embed="rId3"/>
          <a:stretch/>
        </p:blipFill>
        <p:spPr>
          <a:xfrm>
            <a:off x="1338120" y="4172040"/>
            <a:ext cx="2219400" cy="1753920"/>
          </a:xfrm>
          <a:prstGeom prst="rect">
            <a:avLst/>
          </a:prstGeom>
          <a:ln w="0">
            <a:noFill/>
          </a:ln>
        </p:spPr>
      </p:pic>
      <p:sp>
        <p:nvSpPr>
          <p:cNvPr id="166" name="Скругленный прямоугольник 13"/>
          <p:cNvSpPr/>
          <p:nvPr/>
        </p:nvSpPr>
        <p:spPr>
          <a:xfrm>
            <a:off x="971640" y="3500280"/>
            <a:ext cx="3456000" cy="273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 знаток дорожных прав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 машину здесь постав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 стоянку у ограды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дыхать ей тоже н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5364000" y="3716280"/>
            <a:ext cx="2355840" cy="2363760"/>
          </a:xfrm>
          <a:prstGeom prst="rect">
            <a:avLst/>
          </a:prstGeom>
          <a:ln w="0">
            <a:noFill/>
          </a:ln>
        </p:spPr>
      </p:pic>
      <p:sp>
        <p:nvSpPr>
          <p:cNvPr id="168" name="Скругленный прямоугольник 15"/>
          <p:cNvSpPr/>
          <p:nvPr/>
        </p:nvSpPr>
        <p:spPr>
          <a:xfrm>
            <a:off x="4716360" y="3500280"/>
            <a:ext cx="331164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полоскам черно-бе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шеход шагает сме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то из вас ребята зн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нак о чем предупрежд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6"/>
          <p:cNvSpPr/>
          <p:nvPr/>
        </p:nvSpPr>
        <p:spPr>
          <a:xfrm>
            <a:off x="179280" y="1197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ветофор растерял свои цвета, помоги ему найти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7"/>
          <p:cNvSpPr/>
          <p:nvPr/>
        </p:nvSpPr>
        <p:spPr>
          <a:xfrm>
            <a:off x="6875640" y="1916280"/>
            <a:ext cx="1692000" cy="4708440"/>
          </a:xfrm>
          <a:prstGeom prst="rect">
            <a:avLst/>
          </a:prstGeom>
          <a:solidFill>
            <a:srgbClr val="7f7f7f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8"/>
          <p:cNvSpPr/>
          <p:nvPr/>
        </p:nvSpPr>
        <p:spPr>
          <a:xfrm>
            <a:off x="1547640" y="3573360"/>
            <a:ext cx="1295640" cy="12956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9"/>
          <p:cNvSpPr/>
          <p:nvPr/>
        </p:nvSpPr>
        <p:spPr>
          <a:xfrm>
            <a:off x="2843280" y="2276640"/>
            <a:ext cx="1359000" cy="136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0"/>
          <p:cNvSpPr/>
          <p:nvPr/>
        </p:nvSpPr>
        <p:spPr>
          <a:xfrm>
            <a:off x="3276720" y="3789360"/>
            <a:ext cx="1366560" cy="1368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1"/>
          <p:cNvSpPr/>
          <p:nvPr/>
        </p:nvSpPr>
        <p:spPr>
          <a:xfrm>
            <a:off x="4643280" y="2997360"/>
            <a:ext cx="1368720" cy="1368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2"/>
          <p:cNvSpPr/>
          <p:nvPr/>
        </p:nvSpPr>
        <p:spPr>
          <a:xfrm>
            <a:off x="2340000" y="5157720"/>
            <a:ext cx="1346040" cy="13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3"/>
          <p:cNvSpPr/>
          <p:nvPr/>
        </p:nvSpPr>
        <p:spPr>
          <a:xfrm>
            <a:off x="4284720" y="5084640"/>
            <a:ext cx="1357200" cy="1368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Картинки по запросу анимация пдд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0" autoRev="1" fill="remov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" dur="1000" autoRev="1" fill="remov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" dur="1000" autoRev="1" fill="remov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" dur="100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" dur="1000" autoRev="1" fill="remov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4218E-006 C 0.00034 -0.00417 0.00034 -0.0081 0.00104 -0.0118 C 0.00416 -0.02775 0.01771 -0.03654 0.02517 -0.03978 C 0.02743 -0.04279 0.02968 -0.04602 0.03194 -0.04926 C 0.03333 -0.05111 0.03402 -0.05481 0.03541 -0.05597 C 0.04097 -0.06083 0.05364 -0.06244 0.05833 -0.06314 C 0.06336 -0.07008 0.06857 -0.07239 0.07448 -0.0747 C 0.08316 -0.08673 0.09409 -0.08719 0.10434 -0.08881 C 0.11336 -0.09829 0.12413 -0.09968 0.13402 -0.10269 C 0.15451 -0.11702 0.12899 -0.09991 0.1467 -0.10985 C 0.15868 -0.11656 0.16857 -0.12674 0.18107 -0.1309 C 0.18975 -0.13969 0.20034 -0.1457 0.20972 -0.14963 C 0.21475 -0.15171 0.22465 -0.15426 0.22465 -0.15403 C 0.2743 -0.1531 0.32413 -0.1575 0.37378 -0.14963 C 0.37691 -0.14917 0.38732 -0.13553 0.39323 -0.13344 C 0.39635 -0.12928 0.39982 -0.12651 0.40243 -0.12142 C 0.40746 -0.11194 0.40798 -0.09783 0.41163 -0.0865 C 0.41371 -0.07262 0.4151 -0.05874 0.4151 -0.04441 E">
                                      <p:cBhvr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0" autoRev="1" fill="remov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" dur="1000" autoRev="1" fill="remov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" dur="1000" autoRev="1" fill="remov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95837E-006 C 0.00174 -0.00277 0.00365 -0.00647 0.00608 -0.00786 C 0.00712 -0.00832 0.00834 -0.00855 0.00955 -0.00971 C 0.02101 -0.02012 0.01181 -0.01456 0.01927 -0.01896 C 0.02327 -0.02543 0.02778 -0.03006 0.03264 -0.03538 C 0.0375 -0.04093 0.03386 -0.03954 0.03785 -0.04625 C 0.04046 -0.05041 0.04202 -0.05041 0.04549 -0.0518 C 0.05105 -0.06059 0.05712 -0.06498 0.0632 -0.07215 C 0.06823 -0.08464 0.06216 -0.07238 0.06858 -0.07909 C 0.0698 -0.08048 0.07066 -0.08302 0.07188 -0.08464 C 0.07657 -0.09088 0.08073 -0.09412 0.0849 -0.10106 C 0.08681 -0.10938 0.08993 -0.10869 0.09375 -0.11401 C 0.09618 -0.11725 0.09705 -0.12187 0.09931 -0.12488 C 0.10139 -0.12789 0.10452 -0.12789 0.10677 -0.13066 C 0.11372 -0.13852 0.10643 -0.13413 0.11441 -0.13783 C 0.12431 -0.1487 0.13351 -0.16049 0.14184 -0.17437 C 0.14306 -0.17622 0.14497 -0.17622 0.14618 -0.1783 C 0.1573 -0.19287 0.16563 -0.21322 0.17483 -0.23103 C 0.17709 -0.24352 0.18282 -0.24861 0.18889 -0.25485 C 0.19566 -0.26156 0.20209 -0.26827 0.20868 -0.2752 C 0.21198 -0.28353 0.21754 -0.2907 0.22292 -0.29532 C 0.22448 -0.30434 0.22622 -0.30781 0.23091 -0.31382 C 0.2349 -0.32446 0.23004 -0.31406 0.23716 -0.32261 C 0.23837 -0.32423 0.23907 -0.32701 0.24046 -0.32816 C 0.24514 -0.33395 0.24636 -0.32932 0.25157 -0.33926 C 0.2533 -0.34296 0.25452 -0.34713 0.25677 -0.35013 C 0.25799 -0.35268 0.26077 -0.3536 0.2625 -0.35545 C 0.26372 -0.35684 0.26441 -0.358 0.26563 -0.35915 C 0.27882 -0.3795 0.26754 -0.3654 0.27969 -0.3795 C 0.28421 -0.38436 0.28785 -0.38945 0.29306 -0.39222 C 0.29688 -0.39477 0.30504 -0.39754 0.30504 -0.39731 C 0.31858 -0.42021 0.3415 -0.43432 0.35955 -0.44172 C 0.38143 -0.4653 0.42622 -0.45721 0.44289 -0.45814 C 0.46789 -0.46438 0.47952 -0.4653 0.50903 -0.4653 E">
                                      <p:cBhvr>
                                        <p:cTn id="150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2543 C 0.03003 0.01572 -0.00278 0.02474 0.09548 0.02474 C 0.14861 0.02474 0.20191 0.02428 0.25503 0.02382 C 0.27378 0.02358 0.30052 0.02636 0.3184 0.01942 C 0.32118 0.01688 0.32187 0.01457 0.32361 0.01179 C 0.32187 -0.00902 0.32691 -0.00093 0.31562 -0.01041 C 0.3151 -0.0118 0.31441 -0.01527 0.31024 -0.01573 C 0.30798 -0.01573 0.30382 -0.01411 0.30382 -0.01388 E">
                                      <p:cBhvr>
                                        <p:cTn id="15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Asus</dc:creator>
  <dc:description/>
  <dc:language>en-US</dc:language>
  <cp:lastModifiedBy>Asus</cp:lastModifiedBy>
  <dcterms:modified xsi:type="dcterms:W3CDTF">2022-11-23T18:35:12Z</dcterms:modified>
  <cp:revision>11</cp:revision>
  <dc:subject/>
  <dc:title>Слайд 1</dc:title>
</cp:coreProperties>
</file>