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0A3-3E14-4276-8A4E-689E51B0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0BD-820E-44F9-B66C-BB0E1DF6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36A-3084-49A1-BF48-1433B97E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9D43-C051-4615-9CD1-FCC9BCF7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2EF3D-E916-48ED-9777-904624E9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486DD-32FA-4C99-8D11-D995EAFB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6C875-FE03-4B39-AA85-B440EEF7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FDA4D-C49C-4E66-925D-AB2F1879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A1E7C-04B4-4C88-B0B0-2222919D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F2A69-1785-4A33-8824-114B0918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3A30F-F7BD-40EC-B634-916757B2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302-1203-48FE-98B8-99CD43A0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B8BEF-88F3-4E09-9FE7-3AEA3179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F0194-EC8F-4493-8429-97C9E522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0A01F-43EF-4BE1-9F86-ABAE8AD9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0314E-FCD5-4F92-A567-56BB621B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D5A4E-2EAB-415F-9665-994B1873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7CCCD-424E-41BC-9A5C-6D96841F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0C888-02F2-4843-8F7D-F81DB161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8F9E2-2C5A-4A77-AEEB-AA261360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7E30E-89CD-4DAC-A2D6-9A43544E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03A25-FA00-4CB4-9BB3-3CACBD3F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EA1-1A1A-4AF2-99D5-E54FD447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9DF9F-0E71-4C79-913B-77DE0F80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7EA61-EA13-4D2E-A683-C49F0F7D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09288-1662-4FC8-96C0-0E110339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0D4AE0-A1E2-40BE-AD79-BBFAE19B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0BB0B-CA25-4BF5-AD6D-AB8D51B6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8AB57-9378-44BD-B0B3-557008B0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E401D-9ACB-4DBB-9F65-0FCC658E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FD0E53-6E43-4F83-9AF6-211C1D04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13C5E7-6F79-4359-83F8-CDD13BC5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1B6613-E822-48FB-ADBB-CED990EE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FE1-3F5D-45DF-92BF-745423F8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816C1D-168A-4852-9BD0-32496316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F2CAF9-48D1-4AAE-BF90-8A167A0F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9DD756-0D5D-4206-B09C-E8B07A47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FA406F-424F-4D8A-BE18-B379A4DF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2427B6-7E5B-4BF6-A43E-0FF6B398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81866C-DD79-45A9-BD90-E55C9E71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B73A9D-363C-4056-A258-B8D67AF2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B2809C-1F61-4E83-8900-4DB78D18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4C568E-A4A0-4DC0-8A48-31C39A6B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11A90C-D761-4674-B82A-1601B5D6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BCC-AB2B-4439-A225-FC72441B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3D1B28-BACE-4360-BC53-6F618778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21CFA-DE8C-463B-888C-241FCAB1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44CA59-8331-4629-9B53-C0EC483A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B678F-E697-402F-BD6D-0BE11E8B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9F01D2-505D-4B49-94FB-1727461D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9E720-5FB2-495D-AF68-02B7319B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AE74C4-FC76-4545-B52E-77F1A565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170B3A-DC54-48AA-A517-34C05DAF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EEF730-0CA3-43B9-8187-80453990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8C6AA1-73E1-4456-AD45-8150199B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3A55-C45C-43EC-8A48-BF34D9DA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9BD2B-EEEA-426F-9F36-1CCC2295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F41ED-403F-4BC9-88DB-EE70481B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0CA8F6-0367-4B84-B87A-2DE04006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9E4E29-52C5-450A-8D4E-94A0835B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829DBE-CD5A-45CD-8BCA-E0A65E3E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2C9E8D-7682-428F-AC2E-EA9BF0B1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23E49D-CE0E-4E28-AF26-E6C7E699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47486-BE24-459B-9A0B-F3CAC468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D64AC9-A0CE-4A3F-ACE7-7BD00336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7D4265-DAC6-4457-9B52-F5300F26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B45-BC53-4882-83E4-93923B10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E7620F-E3DC-4853-ACB3-40EB6563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0A654C-6C9F-45BC-BF25-9B527EAA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A2DF0-B968-4C73-809E-FA498D9D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06DB-9E77-452C-8683-F8AE26C8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0572-2328-4343-A571-CFE9833A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1461-E043-43A6-97D8-A73B3A03059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882E-9627-4FB2-8B3F-6EFF8C4F7C0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F38C-C875-4273-B21D-7C6A6FFB0FB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81B3-627D-4B65-A42A-AFAF596A07E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8E59-F386-4226-85AC-CB6AA744617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F8B6-336B-4136-831E-EF1F95F522A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Palatino Linotype"/>
              </a:rPr>
              <a:t>Метод консультирования</a:t>
            </a:r>
            <a:endParaRPr b="0" lang="en-US" sz="5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700000" y="31417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Выполнила: Шапкина Е.А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250920" y="1844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16560" indent="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1. Бадхен А. А., Родина А. М. Мастерство психологического консультирования //СПБ. – 2010. – 184 с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560" indent="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2. Кузнецова Л. П. Основные технологии социальной работы: Учебное пособие //Владивосток: Изд-во ДВГТУ. – 2012. – 92 с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560" indent="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3. Немов Р. С. Основы психологического консультирования //Просвещение. – 2009. – 112 с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560" indent="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4. Словарь-справочник по социальной работе. В 2-х т. // Издательство «Новая книга» – 2011. – 126 с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560" indent="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5. Теория и практика социальной работы. В 2-х т. // Издательство «Союз». – 2013. – 109 с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560" indent="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6. http://abc.vvsu.ru – дата обращения 11.10.2014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5438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Palatino Linotype"/>
              </a:rPr>
              <a:t>Используемые литература и источники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24000" y="1412640"/>
            <a:ext cx="8496000" cy="43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16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1. Дайте определения понятиям «консультация», «консультирование», «социальное консультирование»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2. Перечислите виды консультирования и кратко их охарактеризуйте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3. Назовите принципы и этапы консультирования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4. Что такое аксикреация?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5. Перечислите формы и способы воздействия на клиента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6. Назовите основные принципы консультирования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7. Обозначьте и дайте характеристику методам консультирования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Palatino Linotype"/>
              </a:rPr>
              <a:t>Вопросы для самопроверки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16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Palatino Linotype"/>
              </a:rPr>
              <a:t>Консультация</a:t>
            </a: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 – это, прежде всего общение, установление эмоциональных контактов, определенная динамика этих контактов, создавшая условия для самораскрытия с помощью эмоционально-рациональных факторов внутренних ресурсов личности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Palatino Linotype"/>
              </a:rPr>
              <a:t>Консультирование</a:t>
            </a: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 – профессиональная помощь человеку в принятии оптимального решения, сохранения, повышения качества жизни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Palatino Linotype"/>
              </a:rPr>
              <a:t>Социальное консультирование</a:t>
            </a: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 – технология оказания социальной помощи путем целенаправленного информационного воздействия на человека или малую группу по поводу их социализации, восстановления и оптимизации социальных функций, ориентиров, выработки социальных норм общения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95280" y="1915920"/>
            <a:ext cx="842472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250920" indent="-23472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Рефлексивное консультирование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250920" indent="-23472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Проектное консультирование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250920" indent="-23472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Технологическое консультирование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250920" indent="-23472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Прогностическое консультирование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Виды консультирования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5280" y="148428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16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1. Принцип анализа подтекста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16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2. Принцип отказа от конкретных рекомендаций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16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3. Принцип системности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16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4. Принцип уважения личности клиента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16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5. Принцип компетентности и профессионализма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16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6. Принцип доверительности и сотрудничества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16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7. Принцип конфиденциальности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16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8. Принцип результативности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Palatino Linotype"/>
              </a:rPr>
              <a:t>Принципы консультирования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1. Анализ проблемы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2. Постановка проблемы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3. «Разблокирование» предыдущей системы ценностей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4. «Изменение» существующей системы ценностей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5. «Заблокирование» новой ценностно-нормативной системы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Palatino Linotype"/>
              </a:rPr>
              <a:t>Этапы консультирования</a:t>
            </a:r>
            <a:endParaRPr b="0" lang="en-US" sz="4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95280" y="162864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Монолог клиента и его последующий анализ совместно с консультантом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Диалог, свободная беседа клиента и консультанта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Ответы консультанта на прямые вопросы клиента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Разнообразные тестирования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Различные тренинги и обучения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543800" cy="120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Palatino Linotype"/>
              </a:rPr>
              <a:t>Формы и способы воздействия на клиента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23640" y="184464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267120" indent="-249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Принцип заинтересованности клиента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67120" indent="-249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Принцип ситуативного контроля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67120" indent="-249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Принцип органичности и естественности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67120" indent="-249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Принцип незавершённости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Palatino Linotype"/>
              </a:rPr>
              <a:t>Ряд дополнительных принципов консультирования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61720" indent="-2448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Передача определённых норм, ценностей и представлений об оптимальных моделях поведения и способов деятельности;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61720" indent="-2448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Предоставление необходимой клиенту информации;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61720" indent="-2448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Аксиокоррекция, аксикреация, аксиогенез;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61720" indent="-2448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Контроль за реализацией новых ценностей и норм в повседневной жизни клиента;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61720" indent="-2448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Формирование у клиента адекватных представлений о себе, своих возможностях, ценностях и идеалах и об окружающем мире;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61720" indent="-2448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Обучение человека эффективным и адекватным способам разрешения ценностно-нормативных конфликтов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Palatino Linotype"/>
              </a:rPr>
              <a:t>Функции консультирования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23640" y="155736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1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1) Проективное консультирование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2) Способ консультирования процесса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3) Рефлексивное консультирование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4) Прогностическое консультирование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5) Интервью как метод консультирования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6) Игровые методы в консультировании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7) Социально-психологический тренинг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Palatino Linotype"/>
              </a:rPr>
              <a:t>Методы консультирования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3T21:15:52Z</dcterms:created>
  <dc:creator>Admin</dc:creator>
  <dc:description/>
  <dc:language>en-US</dc:language>
  <cp:lastModifiedBy>Екатерина Абрамкина</cp:lastModifiedBy>
  <dcterms:modified xsi:type="dcterms:W3CDTF">2022-11-14T15:06:54Z</dcterms:modified>
  <cp:revision>14</cp:revision>
  <dc:subject/>
  <dc:title>Метод консультирования</dc:title>
</cp:coreProperties>
</file>