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C36-E74E-4616-A2A2-85DCBF94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914-4708-49A7-BB5E-27FD5CB1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C49-DDE6-4826-92A7-2B316279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BEB-E878-4BC3-8991-5ADF53AF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46DD5-1916-4C68-8B84-B1C95357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EE543-7FC1-4DAC-88FB-3922B53C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42BF3-8EAF-4C69-BEBE-1CBC0D76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C9E23-C0CE-4AE5-93EA-17CC50D6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B3028-7347-46B9-A816-58F4F5F6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72261-2D96-4604-AB9E-C5F2F55E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FA4BB-D875-43F2-AFEE-1225AB8A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B29-559F-46D8-9D47-C98C7A3D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6C129-3325-4D0B-9BFE-7F9C7034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10114-99E4-4BFD-8410-BB289B87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42DBC-C8FE-4407-94F7-23F856E4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77817-8063-4255-9C89-A2E6EBA3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70964-30D0-4F40-A765-7355D38A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62CA4-418F-445C-A252-BD96F92C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AE79E-1188-417E-83C8-D8066C1C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D342D-BCA9-4DEC-B5F6-7538675A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27300-6946-46E4-AFCA-912E84DC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96E3D-067A-44C1-83C6-00C30171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A4E-EC10-4D2D-B3DF-1B1666B8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EE440-45CD-4DF1-97A4-EE8653CE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01DC6-7D55-4D2E-BE67-9EE86B48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D08F7-A84C-4CF7-8BD5-DDA9CA57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7AD23-40EE-439E-85AC-0D408645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65F7F-D22B-4EB9-914D-5F17FDC2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80E54-CE27-4188-9740-DE6B103B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89F70-AECD-4A8E-8411-6F44BF7E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14489-0B6E-4512-83AC-29A7F54E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B660D-85EF-43F2-9CA6-D4FAB5ED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10874-F7F3-44E4-8803-9909BC69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CD9-AA1B-4A4B-96B3-33ACE7CF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26F6D-F462-44DD-B262-880F7E38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E9662-E665-49B7-A400-D350FE77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D9A56-21BA-4797-B398-E075E896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CC3A9-049B-4874-9CF1-64B49718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B27C5-28EB-495E-9412-CA849CB4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35D48-2B1E-41D0-9749-E39E2461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2C8DB-5929-4031-9CF7-C49D2617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5F048-1A7D-4158-8EC6-635F1086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92D24C-ACB2-4685-94CA-B0960BC4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425CF-E470-4FE0-9442-AD6FAC62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FB9-BBF5-4773-9E9F-AF29720D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04332-3B9F-4442-A130-F551FFA3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3B02CB-D106-4E01-BAE2-66FF4A22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457E9-5747-4580-AC1C-E0A4E5DC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A63FD-BAEE-43B8-B5B7-4842907E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1936B0-B435-4B81-BE17-0766C7B4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A154F-C152-4FE7-A84E-D7C505BE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3A2D8-5A7A-4D1E-AEB9-0F66F138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20420-C83E-46A5-AE63-47BAC575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76BC3-A1E1-4665-AC55-E1DDA834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D7D52-7792-4BEA-9926-58EC1AFA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0C6-0852-47AF-AE1C-239C3C15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97B1C-8571-4777-9A70-F024F7B9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55427-3D7B-4436-AAB6-E925098A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2F4BDB-46A4-486E-AC30-B00D42C5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1603B-45A9-438B-A259-A4E69511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FC5C1-36C9-40BA-8EE9-7636AF39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E7BFFD-49F0-47CB-9927-7778E16D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F1BC5-85AA-4E19-813C-345E45CA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DF5BA-588F-43C7-8BAC-C817F0C5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B7F202-29DD-4407-8356-26EE3109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24671-CE4E-4673-9AA0-8E0BBC1C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286-8CC1-4246-A59D-5C26967C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AA195-9D10-4B31-A5FD-908D84BC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D6F7F-CAA0-4FAA-96A5-BEC23A06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6C0A0-ED34-4297-8993-F89947D2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CE6-F692-4506-A068-60826E4F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E32-D376-43DF-959D-DEC7BFB1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CCBB-6EAD-44D9-9245-E8B980B6C4D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DF9A-1D5A-4A51-8159-5BCDE15E9C0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B6ED-F987-4A6B-AF86-2B7EA5E2B00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E7DA-D0B8-406B-881A-1391E0A9284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FE36-155E-4FED-8831-C1030AEE5ED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C250-5D7D-4D84-830A-4472D06C531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Palatino Linotype"/>
              </a:rPr>
              <a:t>Метод консультирования</a:t>
            </a:r>
            <a:endParaRPr b="0" lang="en-US" sz="5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700000" y="31417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Выполнила: Шапкина Е.А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250920" y="1844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16560" indent="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1. Бадхен А. А., Родина А. М. Мастерство психологического консультирования //СПБ. – 2010. – 184 с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 indent="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2. Кузнецова Л. П. Основные технологии социальной работы: Учебное пособие //Владивосток: Изд-во ДВГТУ. – 2012. – 92 с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 indent="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3. Немов Р. С. Основы психологического консультирования //Просвещение. – 2009. – 112 с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 indent="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4. Словарь-справочник по социальной работе. В 2-х т. // Издательство «Новая книга» – 2011. – 126 с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 indent="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5. Теория и практика социальной работы. В 2-х т. // Издательство «Союз». – 2013. – 109 с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 indent="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6. http://abc.vvsu.ru – дата обращения 11.10.2014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5438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Palatino Linotype"/>
              </a:rPr>
              <a:t>Используемые литература и источники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24000" y="1412640"/>
            <a:ext cx="849600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1. Дайте определения понятиям «консультация», «консультирование», «социальное консультирование»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2. Перечислите виды консультирования и кратко их охарактеризуйте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3. Назовите принципы и этапы консультирования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4. Что такое аксикреация?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5. Перечислите формы и способы воздействия на клиента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6. Назовите основные принципы консультирования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7. Обозначьте и дайте характеристику методам консультирования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Palatino Linotype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6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Palatino Linotype"/>
              </a:rPr>
              <a:t>Консультация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 – это, прежде всего общение, установление эмоциональных контактов, определенная динамика этих контактов, создавшая условия для самораскрытия с помощью эмоционально-рациональных факторов внутренних ресурсов личности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Palatino Linotype"/>
              </a:rPr>
              <a:t>Консультирование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 – профессиональная помощь человеку в принятии оптимального решения, сохранения, повышения качества жизни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Palatino Linotype"/>
              </a:rPr>
              <a:t>Социальное консультирование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 – технология оказания социальной помощи путем целенаправленного информационного воздействия на человека или малую группу по поводу их социализации, восстановления и оптимизации социальных функций, ориентиров, выработки социальных норм общения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95280" y="1915920"/>
            <a:ext cx="842472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50920" indent="-23472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Рефлексивное консультирование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250920" indent="-23472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Проектное консультирование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250920" indent="-23472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Технологическое консультирование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250920" indent="-23472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Прогностическое консультирование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Виды консультирования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5280" y="148428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1. Принцип анализа подтекст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2. Принцип отказа от конкретных рекомендаций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3. Принцип системности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4. Принцип уважения личности клиент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5. Принцип компетентности и профессионализм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6. Принцип доверительности и сотрудничеств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7. Принцип конфиденциальности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8. Принцип результативности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Palatino Linotype"/>
              </a:rPr>
              <a:t>Принципы консультирования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1. Анализ проблемы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2. Постановка проблемы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3. «Разблокирование» предыдущей системы ценностей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4. «Изменение» существующей системы ценностей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5. «Заблокирование» новой ценностно-нормативной системы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Palatino Linotype"/>
              </a:rPr>
              <a:t>Этапы консультирования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95280" y="162864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Монолог клиента и его последующий анализ совместно с консультантом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Диалог, свободная беседа клиента и консультанта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Ответы консультанта на прямые вопросы клиента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Разнообразные тестирования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Различные тренинги и обучения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543800" cy="12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Palatino Linotype"/>
              </a:rPr>
              <a:t>Формы и способы воздействия на клиента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23640" y="184464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67120" indent="-249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Принцип заинтересованности клиента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67120" indent="-249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Принцип ситуативного контроля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67120" indent="-249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Принцип органичности и естественности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67120" indent="-249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Принцип незавершённости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Palatino Linotype"/>
              </a:rPr>
              <a:t>Ряд дополнительных принципов консультирования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61720" indent="-2448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Передача определённых норм, ценностей и представлений об оптимальных моделях поведения и способов деятельности;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61720" indent="-2448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Предоставление необходимой клиенту информации;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61720" indent="-2448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Аксиокоррекция, аксикреация, аксиогенез;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61720" indent="-2448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Контроль за реализацией новых ценностей и норм в повседневной жизни клиента;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61720" indent="-2448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Формирование у клиента адекватных представлений о себе, своих возможностях, ценностях и идеалах и об окружающем мире;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61720" indent="-2448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Обучение человека эффективным и адекватным способам разрешения ценностно-нормативных конфликтов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Palatino Linotype"/>
              </a:rPr>
              <a:t>Функции консультирования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23640" y="1557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1) Проективное консультирование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2) Способ консультирования процесса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3) Рефлексивное консультирование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4) Прогностическое консультирование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5) Интервью как метод консультирования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6) Игровые методы в консультировании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7) Социально-психологический тренинг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Palatino Linotype"/>
              </a:rPr>
              <a:t>Методы консультирования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21:15:52Z</dcterms:created>
  <dc:creator>Admin</dc:creator>
  <dc:description/>
  <dc:language>en-US</dc:language>
  <cp:lastModifiedBy>Екатерина Абрамкина</cp:lastModifiedBy>
  <dcterms:modified xsi:type="dcterms:W3CDTF">2022-11-14T15:06:54Z</dcterms:modified>
  <cp:revision>14</cp:revision>
  <dc:subject/>
  <dc:title>Метод консультирования</dc:title>
</cp:coreProperties>
</file>