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CC2-FD76-40C9-A685-1A360539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A4E-224B-48A8-96CC-64767FC8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C7F-1C78-42D5-9BE1-1E5312E3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598-7FB6-4CD8-A12C-79A9918F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798-5922-4176-9C52-DDEB59F0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BEB-ED6D-4BA2-9B69-F656BF33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465-A571-42F6-8252-22C868F4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990-24DE-42BE-A779-34F52917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686-8840-4E85-A0D0-DA61C8FD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FA6-E9F7-4055-AAAB-5CD7DF4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D81-DCA1-458D-B763-851C63A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1D4-5F87-4AF2-B717-DE2D1C1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B3C6-A397-421D-BDBC-B0AB6C037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ая деятельность «Здоровьесберегающие технолог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«Карусел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: Ножнина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дцева Н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22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4457"/>
                </a:solidFill>
                <a:latin typeface="Times New Roman"/>
              </a:rPr>
              <a:t>Кинезиологические упражнения</a:t>
            </a:r>
            <a:br>
              <a:rPr sz="4000"/>
            </a:br>
            <a:r>
              <a:rPr b="1" lang="ru-RU" sz="4000" spc="-1" strike="noStrike">
                <a:solidFill>
                  <a:srgbClr val="264457"/>
                </a:solidFill>
                <a:latin typeface="Arial"/>
              </a:rPr>
              <a:t>«Дом, ёжик, за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048120" cy="248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1523880"/>
            <a:ext cx="3581640" cy="232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62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йчик, коза, вил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879640" cy="292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1676520"/>
            <a:ext cx="214776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72200" y="3200400"/>
            <a:ext cx="2828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еркальное рис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63844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676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ы с шариками Су - дж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629080" cy="350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3819600" cy="2462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05720" y="3505320"/>
            <a:ext cx="2157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0T08:30:33Z</dcterms:created>
  <dc:creator>Казах</dc:creator>
  <dc:description/>
  <dc:language>en-US</dc:language>
  <cp:lastModifiedBy>Дима</cp:lastModifiedBy>
  <dcterms:modified xsi:type="dcterms:W3CDTF">2022-11-23T18:40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