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296-DE32-4F4E-BCD8-5488C1D7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695-B204-4D50-815D-CF2709A7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FF04-8BE1-4DDE-96A8-B1A0C536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9557-4E71-4EF9-91E5-DEE7D8DA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ED2-842B-4077-A365-3C9D96BD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43C-3A55-4A71-BEBD-7182B8E4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2FA0-7FBE-4778-8BC7-C1CF40FD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D38-C327-499F-BE16-1003AF72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06D-40C8-43E9-9831-E894B5AE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E70F-57E1-41FF-9BFE-A9EA02A2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D558-529E-4A9C-9F78-9ADD16FD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3A5-E1D1-4074-8882-C81AD17D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14F9-F6A8-4A44-88F9-69C3F2234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ная деятельность «Здоровьесберегающие технолог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3505320"/>
            <a:ext cx="77724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а «Карусель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: Ножнина Е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дцева Н.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22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4457"/>
                </a:solidFill>
                <a:latin typeface="Times New Roman"/>
              </a:rPr>
              <a:t>Кинезиологические упражнения</a:t>
            </a:r>
            <a:br>
              <a:rPr sz="4000"/>
            </a:br>
            <a:r>
              <a:rPr b="1" lang="ru-RU" sz="4000" spc="-1" strike="noStrike">
                <a:solidFill>
                  <a:srgbClr val="264457"/>
                </a:solidFill>
                <a:latin typeface="Arial"/>
              </a:rPr>
              <a:t>«Дом, ёжик, зам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048120" cy="2487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09880" y="1523880"/>
            <a:ext cx="3581640" cy="2324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666880" y="4267080"/>
            <a:ext cx="3762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Зайчик, коза, вил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2879640" cy="2925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733920" y="1676520"/>
            <a:ext cx="214776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172200" y="3200400"/>
            <a:ext cx="28288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Зеркальное рисова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143160" cy="4191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324480" y="3276720"/>
            <a:ext cx="2638440" cy="335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26766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ы с шариками Су - дж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2629080" cy="3504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971800" y="1600200"/>
            <a:ext cx="3819600" cy="2462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705720" y="3505320"/>
            <a:ext cx="21571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0T08:30:33Z</dcterms:created>
  <dc:creator>Казах</dc:creator>
  <dc:description/>
  <dc:language>en-US</dc:language>
  <cp:lastModifiedBy>Дима</cp:lastModifiedBy>
  <dcterms:modified xsi:type="dcterms:W3CDTF">2022-11-23T18:40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