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8F7-D308-407F-9E4B-A2B9925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5C9-C291-453A-A47C-52E93D9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F94-1C47-450C-B4D8-06799391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97F-AE3C-400D-8BDC-92043ADC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631-50AE-4783-828A-C7F16137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D0E-AD1A-4340-958C-BB6A89D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F83-2524-47A0-ADB8-A70110B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7FA-0715-4D0C-BD13-4370397A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02D-7E66-4A65-9290-79D3921F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F3B-569F-4896-B225-B539A87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7DE-35DA-40A5-BC7F-61A7734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072-8CB2-4723-9AA9-7DC8DFC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48C-E610-4F82-B250-2A339E0B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Кто или что здесь ли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волшебное зеркаль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Золотая р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Волшебная па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Золотой пету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акие сказки заканчиваются словами «Я там был; мед, пиво пил –И усы лишь обмочи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«Сказка о царе 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«Сказка о золотом пе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«Сказка о попе и работнике его Бал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«Сказка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Как называется остров, на котором жил князь Гвид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Ба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Б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Бу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Бы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Что поп велел собрать с чер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Д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Об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Н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Пош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Отчего умирает царица в «Сказке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От отравленного я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От воздействия зерк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От руки зло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От злобы и одино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 Что входит в обязанности золотого пет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Охранять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Созывать войско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Воевать за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Будить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Кто подарил царю Дадону золотого пет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Черн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Колд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Звезд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Чаро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шёл, сел у берега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м он стал веревку кру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конец её в море мо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девицы под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ли поздно вечер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бы я была царица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 одна девица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на весь крещё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ла б я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ь с царицею прос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уть – дорогу снаря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царица у ок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 ждать его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ь к востоку войско ш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ший сын его ве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ушок угомон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ум утих, и он забы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ь: перед ним земля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ороге сидит стар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перед нею разбитое коры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Какая кличка была у собаки из «Сказки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Сокол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Жу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1:32:10Z</dcterms:created>
  <dc:creator>12345</dc:creator>
  <dc:description/>
  <dc:language>en-US</dc:language>
  <cp:lastModifiedBy>12345</cp:lastModifiedBy>
  <dcterms:modified xsi:type="dcterms:W3CDTF">2009-03-31T17:55:44Z</dcterms:modified>
  <cp:revision>10</cp:revision>
  <dc:subject/>
  <dc:title>Слайд 1</dc:title>
</cp:coreProperties>
</file>