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0D6-74F4-4DA9-A717-ECF8FB2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A04-7BA1-4990-9687-5BEA8BD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3EA-C88B-4CB2-8B50-FB892547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928-8570-4827-8DDB-15B2827F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86B-808B-4172-8D26-C21ED4AA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477-D50C-4DEC-B998-37FD0BCD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94A-E6BC-41AA-A96E-9E296B76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811-8BDC-46A4-9D60-CD136FF5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D7C-D1DB-4852-B62D-7BAB61D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9E1-C364-42A4-9D4B-089DAE0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47C-BC02-4278-B8A8-8023B34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6CB-8C81-465A-9789-3E6496A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220F-D9F7-4F30-AE40-6733CE75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Кто или что здесь ли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волшебное зеркаль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Золотая р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Волшебная па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Золотой петуш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акие сказки заканчиваются словами «Я там был; мед, пиво пил –И усы лишь обмочи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«Сказка о царе 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«Сказка о золотом пе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«Сказка о попе и работнике его Бал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«Сказка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Как называется остров, на котором жил князь Гвид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Ба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Б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Бу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Бы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Что поп велел собрать с чер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Д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Об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Н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Пош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Отчего умирает царица в «Сказке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От отравленного я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От воздействия зерк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От руки зло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От злобы и одино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 Что входит в обязанности золотого пет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Охранять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Созывать войско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Воевать за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Будить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Кто подарил царю Дадону золотого пет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Черн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Колд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Звезд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Чаро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шёл, сел у берега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м он стал веревку кру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конец её в море мо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девицы под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ли поздно вечер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бы я была царица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 одна девица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на весь крещё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ла б я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ь с царицею прос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уть – дорогу снаря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царица у ок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а ждать его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ь к востоку войско ш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ший сын его ве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ушок угомон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ум утих, и он забы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те сказ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ь: перед ним земля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ороге сидит стар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перед нею разбитое коры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аво выбо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Какая кличка была у собаки из «Сказки о мертвой царев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Сокол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Жу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1:32:10Z</dcterms:created>
  <dc:creator>12345</dc:creator>
  <dc:description/>
  <dc:language>en-US</dc:language>
  <cp:lastModifiedBy>12345</cp:lastModifiedBy>
  <dcterms:modified xsi:type="dcterms:W3CDTF">2009-03-31T17:55:44Z</dcterms:modified>
  <cp:revision>10</cp:revision>
  <dc:subject/>
  <dc:title>Слайд 1</dc:title>
</cp:coreProperties>
</file>