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A00-388A-4161-BF44-C4A2AA93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F26-12C3-4472-8759-1416017A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712-18F8-470F-A9BA-BFD36D0C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9BB-38C6-40E8-8624-332CE4EF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50A7-B397-4986-87AD-9AF6647E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7A92-93A1-479B-8A69-AD2FEFBB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EACE-CBB8-4A44-8B2B-7EBD952B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4F3A-CF68-4975-8459-06E925FA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57D9-BD7D-4084-83AF-881A8B33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6AD6-90B7-42FF-9DCA-25E9B0BE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2678-0E39-4D38-B617-9D813324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BCF-98D0-44B4-9F28-3B3AF0D8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BD3B-D0A4-4795-8650-3F2E5F58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A1D0-8570-4D26-B5E6-8ED374A0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FA97-2547-4C48-BA16-F2F994F8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E180-822A-4011-B2DC-15B923F4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9BE4-F94F-42AA-8B80-E35EFB17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1244-8268-4E4A-BD65-88C9D2B6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F358-F0D3-4A59-A131-2C235B3F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BD26-9869-4321-8189-19043DCC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A776-ACAC-4FD0-8AB1-0A5AC9AD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EA43-D98F-4195-A8B8-A8858F65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A45-43EE-4C69-9816-9C9CA044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3E58-9B68-4C5C-8882-579FB7A3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A402-D67F-4D7C-8A56-85E09289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F1E3-3421-4A52-A3D2-FF06D6E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B8EB-ED55-4155-A4FB-A0B1EF1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E173-18D8-4AF9-A65B-7B51981B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39E2-21AD-488A-9DCA-D6A80008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B487-077C-4C46-80CC-BA83F7E4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3432-3658-4D9A-A955-9A89CAE1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1E9AA-32D5-4009-BF7E-4D03D84C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AE48D-DB92-4A80-8AB6-DBE03269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EE0-F4ED-4235-8D0F-E2658C41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4544-B0DB-43C9-8315-B16FAFA6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42FBF-505F-4DE3-B3B2-6B228A70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708A3-3A80-4E05-8B23-4578D5FC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41E99-3F43-463C-97DA-2E8D3236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38BA-5B4D-4458-B519-B8B4C054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0E47-B0EC-48F0-AC21-B688E8B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5F44-5B1B-4864-A48C-C535C723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A9012-D24D-4E43-BD79-B0B2A62F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7744-E3EA-49C7-9470-587A693A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B349-4EF8-40FD-872A-48D00CAB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24F-AEB1-4DC6-ACF1-817434BA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2CDA-FE1B-4BC9-96A8-38C43C30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A1043-4DEB-43CE-AFBB-E38EC778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FABEF-7A6B-4B00-A4D0-61CCDC1A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0B8D-F48E-4261-9B8A-AC015AE9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3544-D915-444B-9332-3CB0B6E9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11E18-6DCE-4017-928C-9107CA7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B51B6-9586-4CEC-8519-AD5A4A19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8EE9-1D7F-4A22-BEDB-0225775B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CF146-6234-4B99-A842-F6225FE8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FEB5E-4B5A-4ED4-8743-98A17596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223-C6A9-4277-9E36-CBEDBCC8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73A8-B17D-4877-AFC3-BC835D6A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E20-09BA-498F-848D-534D2050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423-C4BB-4A2D-BC61-9C7C8ED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332-F497-41AA-945D-1FA9487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2442-E48F-4826-878F-FAA55C88069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2673360"/>
                <a:gd name="textAreaBottom" fmla="*/ 2673720 h 2673360"/>
              </a:gdLst>
              <a:ahLst/>
              <a:rect l="textAreaLeft" t="textAreaTop" r="textAreaRight" b="textAreaBottom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>
                <a:gd name="textAreaLeft" fmla="*/ 0 w 2693880"/>
                <a:gd name="textAreaRight" fmla="*/ 2694240 w 2693880"/>
                <a:gd name="textAreaTop" fmla="*/ 0 h 4275000"/>
                <a:gd name="textAreaBottom" fmla="*/ 4275360 h 4275000"/>
              </a:gdLst>
              <a:ahLst/>
              <a:rect l="textAreaLeft" t="textAreaTop" r="textAreaRight" b="textAreaBottom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>
                <a:gd name="textAreaLeft" fmla="*/ 0 w 3332160"/>
                <a:gd name="textAreaRight" fmla="*/ 3332520 w 333216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>
                <a:gd name="textAreaLeft" fmla="*/ 0 w 4576680"/>
                <a:gd name="textAreaRight" fmla="*/ 4577040 w 4576680"/>
                <a:gd name="textAreaTop" fmla="*/ 0 h 4170240"/>
                <a:gd name="textAreaBottom" fmla="*/ 4170600 h 4170240"/>
              </a:gdLst>
              <a:ahLst/>
              <a:rect l="textAreaLeft" t="textAreaTop" r="textAreaRight" b="textAreaBottom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>
                <a:gd name="textAreaLeft" fmla="*/ 0 w 3584520"/>
                <a:gd name="textAreaRight" fmla="*/ 3584880 w 3584520"/>
                <a:gd name="textAreaTop" fmla="*/ 0 h 4280040"/>
                <a:gd name="textAreaBottom" fmla="*/ 4280400 h 4280040"/>
              </a:gdLst>
              <a:ahLst/>
              <a:rect l="textAreaLeft" t="textAreaTop" r="textAreaRight" b="textAreaBottom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8F69-E975-4F1E-A652-2267986BCD0C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05D2-7D3D-4DDD-99DA-77E77976FEF6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7DD2-1C16-4A0C-8CAA-CF0CECBF28BA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38E1-976D-4025-A4AA-C4080C27FA02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638360" y="228240"/>
            <a:ext cx="984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историческом процессе, особенно в настоящее время активно развивается международное сотрудничество, происходило и происходит взаимопроникновение культур через обмен информацией в различных сферах деятельности.           Человеческие сообщества должны взаимодействовать, сотрудничать друг с другом с целью взаиморазвития, всеобщего процветания и просто выживания на одной планете.   Для этого необходимо понимание друг друга, знание языков, культур других народов. В частности, происходит передвижение лексических единиц из одного языка в другой, в результате чего обогащается лексика каждого языка в отдель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4572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84280" y="-33012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ичины заимствования лексики из иностранных языко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484280" y="1168200"/>
            <a:ext cx="10018800" cy="553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торические контакты народ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обходимость названия новых предметов и явле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зыковая мод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вторитетность языка-источник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сутствие слова-эквивалента для нового предмета. 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гда слово-заимствование заменяет целый описательный оборо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гда необходимо детализировать понят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7840" y="-572040"/>
            <a:ext cx="10018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Цели и задач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22440" y="1041120"/>
            <a:ext cx="10018800" cy="529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снить, какая русская лексика используется в иностранных язык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зять интервью у специалистов, которые по роду своей деятельности контактировали с гражданами других государст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общаться с людьми, которые либо являются носителями языка, либо находятся в их сред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учить информацию по данной теме, полученную из различных источник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100188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имствования в английском языке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1041120"/>
            <a:ext cx="10018800" cy="56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abushk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dach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samova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KGB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tsa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olshevi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glasno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perestroik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gula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kula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-360"/>
            <a:ext cx="100188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имствования во французски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1650960"/>
            <a:ext cx="10018800" cy="45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трешка -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trioch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трушка -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trouch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шанка -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uchan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уноход -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unakho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крошка -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kroch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апти –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pt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06440" y="228600"/>
            <a:ext cx="10018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имствования в немецкий язы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712880" y="1447560"/>
            <a:ext cx="100188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алалайка –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e Balalai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амовар –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r Samow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вас –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r Kwas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Царь –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r Z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артизан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Der Partis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трешк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Die Matrjoschk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екист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Der Tscheki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арафан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Der Saraf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484280" y="190440"/>
            <a:ext cx="10018800" cy="56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заимопроникновения языков друг в друга — это неизбежный процесс, который присутствовал всегда. Из каких-то языков заимствований больше (например , из английского), какие-то менее популярны. Чем это объяснить, сказать сложн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корее всего, взаимовыгодным сотрудничеством, а, возможно, модой. К сожалению, заимствований из русского языка мы нашли немного. Хотя, заметили тенденцию к освоению русского языка иностранцами ( на примере письма Алены Цанько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5T10:15:05Z</dcterms:created>
  <dc:creator>максим тагатов</dc:creator>
  <dc:description/>
  <dc:language>en-US</dc:language>
  <cp:lastModifiedBy>Фалина</cp:lastModifiedBy>
  <dcterms:modified xsi:type="dcterms:W3CDTF">2022-11-23T10:20:12Z</dcterms:modified>
  <cp:revision>12</cp:revision>
  <dc:subject/>
  <dc:title>Заимствование русской лексики в иностранных языках</dc:title>
</cp:coreProperties>
</file>