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A50-5685-4537-84C9-E42CB2B7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DC8-8F48-43CB-88BA-E3C0A38F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EE7-9686-41E8-BAD0-2C2B15AD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AE2-4FB7-4E62-925D-DF885220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1C56-8D1D-4B70-86C7-EF06313A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A53D-8672-4BC8-B7B1-F1003337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3357-4DD3-4448-BEF7-4CD33F3E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3441-A6A3-4D09-BB83-87DA7BA3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FA30-EBE5-451C-B363-C2880E09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D499-549C-4BB3-9D35-317A2602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7200-6AE2-4AC9-BBDF-7D0C77C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12E-FB5F-4E44-95EF-3B201816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B0C5-DF07-4A2E-B153-5D947005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6FC0-A4D9-408F-8B44-6B4BFAE0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8607-A51F-47CD-866B-88BA8CF6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7982-8D3B-41CD-BF33-D6750F95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F519-DFA9-46F5-8D26-DB58E5B2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97C4-492D-4DEB-A40F-2BA8C06B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2C56-D731-421D-8102-DA8C93A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CEF1-D1C0-4EEA-A9F5-9700BEB3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D0CE-9625-4D77-ACF4-66FAEAA3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4D85-8F2C-4C68-8925-81D7F6E4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6AF-CB47-4480-AB57-DCB0055C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97FA-DA90-4E7C-BDE3-91EF7827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1A32-6DB7-4915-BEDF-6016D026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E080-9EAC-441C-BDBC-5D21D0C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AB48-8F1B-4D37-B2A1-3DA55889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19A2-56A6-4D92-AF47-E63486E7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28CF-0F7E-40D8-9A48-1D5AB838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6CE4-C329-4569-B87C-BD044F68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FABB7-5876-481F-8C17-B2CE4A04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9AA2-4025-4C1A-9A84-F29E9EB8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65D5-6B70-453D-9C23-B6DF3F94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05C-15F8-44C9-ABF8-837CDA81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2C342-A8C8-4599-AED0-20B7D3BE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855F-DDC2-44AC-A079-E2251D24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D3FD-6A74-435E-B878-DE22B4EC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D8BE-48A0-4359-AD70-D825F0CA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6B221-D06E-4462-8FEB-BDC59BEC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DFE7-2A06-450E-8CA2-47520934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E8B4-3BB4-4278-AEE8-888893F3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7521-B0CC-42A8-BDBD-A8FA6A2B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448D-8EDC-42CD-96D6-590A7DBB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D76F3-00C1-4F94-BD31-58B8AF4A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90A-49F8-4856-BF2E-35967B43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47A7-DFF1-4775-A0FD-3EAAB43C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3F8E-CE34-4140-930A-2032DAF5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9CFD-479F-4A0A-85C6-9EE4A53D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17FE5-666F-4E49-B8CE-08F98287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0AC1-5B58-473F-9D26-CB6609B1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5BCBD-8372-44D1-A614-6FDC056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F100B-0369-46CB-921A-8E368BEF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88E15-A2A0-49D6-A36D-6D2917A4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14690-AEA9-4BE8-B27E-5112B54B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611C2-D3DF-4E49-96F1-5A31B65E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773-8A3E-457F-AEB6-0353FF5D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4059A-34FA-4162-9DE1-B33A0852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6F5-87E5-4A3E-A47B-70DC076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CD4-81D1-4FE3-AD99-647CBB0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D81-994C-454B-966D-5121715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9DFD-C807-4B95-B5D7-FA617DA514F3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2673360"/>
                <a:gd name="textAreaBottom" fmla="*/ 2673720 h 2673360"/>
              </a:gdLst>
              <a:ahLst/>
              <a:rect l="textAreaLeft" t="textAreaTop" r="textAreaRight" b="textAreaBottom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>
                <a:gd name="textAreaLeft" fmla="*/ 0 w 2693880"/>
                <a:gd name="textAreaRight" fmla="*/ 2694240 w 2693880"/>
                <a:gd name="textAreaTop" fmla="*/ 0 h 4275000"/>
                <a:gd name="textAreaBottom" fmla="*/ 4275360 h 4275000"/>
              </a:gdLst>
              <a:ahLst/>
              <a:rect l="textAreaLeft" t="textAreaTop" r="textAreaRight" b="textAreaBottom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>
                <a:gd name="textAreaLeft" fmla="*/ 0 w 3332160"/>
                <a:gd name="textAreaRight" fmla="*/ 3332520 w 333216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>
                <a:gd name="textAreaLeft" fmla="*/ 0 w 4576680"/>
                <a:gd name="textAreaRight" fmla="*/ 4577040 w 4576680"/>
                <a:gd name="textAreaTop" fmla="*/ 0 h 4170240"/>
                <a:gd name="textAreaBottom" fmla="*/ 4170600 h 4170240"/>
              </a:gdLst>
              <a:ahLst/>
              <a:rect l="textAreaLeft" t="textAreaTop" r="textAreaRight" b="textAreaBottom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>
                <a:gd name="textAreaLeft" fmla="*/ 0 w 3584520"/>
                <a:gd name="textAreaRight" fmla="*/ 3584880 w 3584520"/>
                <a:gd name="textAreaTop" fmla="*/ 0 h 4280040"/>
                <a:gd name="textAreaBottom" fmla="*/ 4280400 h 4280040"/>
              </a:gdLst>
              <a:ahLst/>
              <a:rect l="textAreaLeft" t="textAreaTop" r="textAreaRight" b="textAreaBottom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747F-9DAC-4B76-9329-83CE3E1966E2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86DD-4D65-49F3-A9EF-BC3183BA04F8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5E98-6D9E-4FAD-B378-5F273BA4C78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8828-139D-4F44-A00F-034D15A5C8CF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638360" y="228240"/>
            <a:ext cx="984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историческом процессе, особенно в настоящее время активно развивается международное сотрудничество, происходило и происходит взаимопроникновение культур через обмен информацией в различных сферах деятельности.           Человеческие сообщества должны взаимодействовать, сотрудничать друг с другом с целью взаиморазвития, всеобщего процветания и просто выживания на одной планете.   Для этого необходимо понимание друг друга, знание языков, культур других народов. В частности, происходит передвижение лексических единиц из одного языка в другой, в результате чего обогащается лексика каждого языка в отдель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4572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84280" y="-33012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ичины заимствования лексики из иностранных языко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484280" y="1168200"/>
            <a:ext cx="10018800" cy="553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торические контакты народ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обходимость названия новых предметов и явле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зыковая мод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вторитетность языка-источник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сутствие слова-эквивалента для нового предмета. 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гда слово-заимствование заменяет целый описательный оборо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гда необходимо детализировать понят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7840" y="-572040"/>
            <a:ext cx="10018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Цели и задач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22440" y="1041120"/>
            <a:ext cx="10018800" cy="529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снить, какая русская лексика используется в иностранных язык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зять интервью у специалистов, которые по роду своей деятельности контактировали с гражданами других государст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общаться с людьми, которые либо являются носителями языка, либо находятся в их сред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учить информацию по данной теме, полученную из различных источник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100188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имствования в английском языке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1041120"/>
            <a:ext cx="10018800" cy="56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abushk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dach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samova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KGB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tsa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olshevi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glasno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perestroik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gula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kula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-360"/>
            <a:ext cx="10018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имствования во французски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1650960"/>
            <a:ext cx="10018800" cy="45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трешка -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trioch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трушка -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trouch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шанка -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uchan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уноход -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unakho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крошка -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kroch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апти –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pt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06440" y="228600"/>
            <a:ext cx="10018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имствования в немецкий язы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712880" y="1447560"/>
            <a:ext cx="100188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алалайка –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e Balalai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амовар –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r Samow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вас –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r Kwas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Царь –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r Z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артизан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Der Partis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трешк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Die Matrjosch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екист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Der Tscheki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арафан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Der Saraf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484280" y="190440"/>
            <a:ext cx="10018800" cy="56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заимопроникновения языков друг в друга — это неизбежный процесс, который присутствовал всегда. Из каких-то языков заимствований больше (например , из английского), какие-то менее популярны. Чем это объяснить, сказать сложн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корее всего, взаимовыгодным сотрудничеством, а, возможно, модой. К сожалению, заимствований из русского языка мы нашли немного. Хотя, заметили тенденцию к освоению русского языка иностранцами ( на примере письма Алены Цанько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5T10:15:05Z</dcterms:created>
  <dc:creator>максим тагатов</dc:creator>
  <dc:description/>
  <dc:language>en-US</dc:language>
  <cp:lastModifiedBy>Фалина</cp:lastModifiedBy>
  <dcterms:modified xsi:type="dcterms:W3CDTF">2022-11-23T10:20:12Z</dcterms:modified>
  <cp:revision>12</cp:revision>
  <dc:subject/>
  <dc:title>Заимствование русской лексики в иностранных языках</dc:title>
</cp:coreProperties>
</file>