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DFA0-F229-4DCB-B60E-28525EC23D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2584-DD3D-4711-9AD5-05F64A7E6B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37DD-9858-4D69-A804-CAD50B3948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56B1-055A-4F52-B4DA-B435636257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F402-8B09-4322-B87B-6DF99DA014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50A3-B315-4D0C-B921-28797FA314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AC0C-4453-440F-9AAF-201A0EB7D6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DE3A-E7AD-46B6-A8BC-8932ACC341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A62B-FAB3-4CF0-BE51-0DB4F3A4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93F0-B4B2-45FD-A080-195668D2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DAB-0525-4C0B-9F7C-57773167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484-958D-4824-A8AB-8BA9BF54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E203-7EDA-44C1-A028-91A4A71D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FF88-A997-4CD5-B75C-37E13756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0892-8B76-4E8E-B8B2-C7C64154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32EE-34A5-419E-AA02-7A4A93A9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0395-36DC-47C8-A877-619AE33F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8E2D-F49F-4E84-858B-D173EE5A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D6FD-858E-42FA-A888-16D7A685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537C-4C57-4550-9B98-06584442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9C26-DB3C-430E-9B38-1695CD33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68DB-226D-4A59-8C1A-3FEEBA4D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2D09-4F2C-42EC-BA6E-20D3FEE8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4658-BBBA-4206-A40A-45C514C1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DE3C-30E3-4B52-97AA-41121E57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7A255-8385-404E-B978-AFD3FC7E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C4840-A339-49BC-B1B6-C79FAFF8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D9512-E893-4550-A88D-B9BCBBAA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8F3B2-4000-4760-AB4F-D6A2BEEF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C18FB-C6A6-41EB-B507-4DD8841A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4CC-D3F2-4DA3-B6EC-E77C8C30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704D7-B588-4339-AD8A-A6CE32E8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EC1A0-1115-4A05-BB53-A56E1E9E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F8F52-F89B-4431-9430-56D1EE2E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BCC2A-7086-45B5-8EE7-1251965C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04DF5-E1B6-4F21-A7AA-E39341A5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FFD89-0631-4F88-95BF-6E4F4CD8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800E3-5317-4E41-86D9-2523F284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D84F2-81EB-48D3-AE26-CA329ED1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C51AA-89BF-4861-BB7A-6404415D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3C90E-5D5B-4180-AD9C-2FC09310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2F5-71DA-49EA-BDCE-399D615F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60D06-997A-4754-AF79-C5188917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F1897-161E-44E0-B56E-DA6507BF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17921-5B40-4683-AD98-D1B91F9E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3E4CA-9267-4F62-B326-C907B3FD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0E38A-A637-4EF1-AB1E-48E3ADC6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30824-E420-4FCD-8280-FD2C2A40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CC1A8-A35E-4B80-9CC3-6126C118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078CE-335A-49EC-8944-F56A2DC9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83B51-DB3E-46E3-80E4-13ECBA1B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F0F73-36FB-4D5F-981C-8358E931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480-C374-4662-97DF-71343670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64AE4-5CB9-4B1D-A64F-98312A01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8CE30-DEF3-48F2-9DD4-95FFAE24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71AFC-9B11-475A-947F-48CF8776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1E94C-E939-45E0-BCAF-5086B2CC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7739D-6751-48AF-A06A-F6DEB193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DC19A-ADF4-493D-9C11-8F18E7FC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0D6F2-F332-4E8D-B2E3-DD83A9EF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56DF0-0D49-44B0-8424-4C49B6A3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52748-0A92-4A14-9565-3AA88AEF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5DAC1-177D-4B61-924B-9AC10255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A749-CF65-45AE-8636-EBBB7351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2E937-8F0E-45FA-8279-2D2926B5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601B-E25F-40CF-AC62-B5B95C95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410-5157-427A-B4A1-F2DE151A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EBEA-DF2C-4B63-A08D-C0617BFC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76040"/>
            <a:ext cx="914256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F0A3-5C84-4811-816A-6AAE699DD8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-4680" y="2058840"/>
            <a:ext cx="914724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F977-6585-43D0-9424-8B3514F656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-4680" y="2058840"/>
            <a:ext cx="9147240" cy="1828800"/>
          </a:xfrm>
          <a:prstGeom prst="rect">
            <a:avLst/>
          </a:prstGeom>
          <a:solidFill>
            <a:srgbClr val="099b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99b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002E-A834-404A-AC5F-95BD4F3AA88A}" type="slidenum">
              <a:rPr b="0" lang="ru-RU" sz="1200" spc="-1" strike="noStrike">
                <a:solidFill>
                  <a:srgbClr val="099bd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F7BD-A07C-4976-B438-5B09677ACD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6764400" y="0"/>
            <a:ext cx="2057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28200" y="64231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832120" y="6423120"/>
            <a:ext cx="32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054840" y="6423120"/>
            <a:ext cx="660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95BC-F5E1-4809-BB3C-7D04D385921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58920" y="2349360"/>
            <a:ext cx="5616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5dba"/>
                </a:solidFill>
                <a:latin typeface="Times New Roman"/>
              </a:rPr>
              <a:t>АЛКЕНЫ</a:t>
            </a:r>
            <a:endParaRPr b="0" lang="en-US" sz="66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642920" y="1052640"/>
            <a:ext cx="381636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606a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18" name="Picture 6" descr="0"/>
          <p:cNvPicPr/>
          <p:nvPr/>
        </p:nvPicPr>
        <p:blipFill>
          <a:blip r:embed="rId1"/>
          <a:stretch/>
        </p:blipFill>
        <p:spPr>
          <a:xfrm>
            <a:off x="0" y="1778040"/>
            <a:ext cx="3311640" cy="227484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3"/>
          <p:cNvSpPr/>
          <p:nvPr/>
        </p:nvSpPr>
        <p:spPr>
          <a:xfrm>
            <a:off x="2916360" y="4829040"/>
            <a:ext cx="518472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МБОУСОШ №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занцева А.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68360" y="9810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Алкены взаимодействуют с водородом при нагревании в присутствии металлов Pt, Pd или Ni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250920" y="189000"/>
            <a:ext cx="871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Гидрирование</a:t>
            </a:r>
            <a:r>
              <a:rPr b="1" i="1" lang="ru-RU" sz="32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 -</a:t>
            </a:r>
            <a:r>
              <a:rPr b="1" lang="ru-RU" sz="32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присоединение водоро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3" name="Picture 6" descr="1870 байт"/>
          <p:cNvPicPr/>
          <p:nvPr/>
        </p:nvPicPr>
        <p:blipFill>
          <a:blip r:embed="rId1"/>
          <a:stretch/>
        </p:blipFill>
        <p:spPr>
          <a:xfrm>
            <a:off x="971640" y="1916280"/>
            <a:ext cx="6985080" cy="122868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1"/>
          <p:cNvSpPr/>
          <p:nvPr/>
        </p:nvSpPr>
        <p:spPr>
          <a:xfrm>
            <a:off x="250920" y="32446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огенирование - присоединение галоген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5" name="Рисунок 2" descr=""/>
          <p:cNvPicPr/>
          <p:nvPr/>
        </p:nvPicPr>
        <p:blipFill>
          <a:blip r:embed="rId2"/>
          <a:stretch/>
        </p:blipFill>
        <p:spPr>
          <a:xfrm>
            <a:off x="1114560" y="4332240"/>
            <a:ext cx="6699240" cy="96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ГИДРАТАЦИЯ</a:t>
            </a:r>
            <a:r>
              <a:rPr b="0" i="1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 - </a:t>
            </a:r>
            <a:r>
              <a:rPr b="0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ПРИСОЕДИНЕНИЕ ВОДЫ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267" name="Picture 4" descr="(1016 байт)"/>
          <p:cNvPicPr/>
          <p:nvPr/>
        </p:nvPicPr>
        <p:blipFill>
          <a:blip r:embed="rId1"/>
          <a:stretch/>
        </p:blipFill>
        <p:spPr>
          <a:xfrm>
            <a:off x="1417680" y="1951200"/>
            <a:ext cx="6048360" cy="11538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"/>
          <p:cNvSpPr/>
          <p:nvPr/>
        </p:nvSpPr>
        <p:spPr>
          <a:xfrm>
            <a:off x="324000" y="9079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Гидратация происходит в присутствии минеральных кислот по механизму электрофильного присоединения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Прямоугольник 1"/>
          <p:cNvSpPr/>
          <p:nvPr/>
        </p:nvSpPr>
        <p:spPr>
          <a:xfrm>
            <a:off x="1187280" y="30528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дрогалогенировани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0" name="Рисунок 2" descr=""/>
          <p:cNvPicPr/>
          <p:nvPr/>
        </p:nvPicPr>
        <p:blipFill>
          <a:blip r:embed="rId2"/>
          <a:stretch/>
        </p:blipFill>
        <p:spPr>
          <a:xfrm>
            <a:off x="1417680" y="3798720"/>
            <a:ext cx="6068880" cy="100044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3"/>
          <p:cNvSpPr/>
          <p:nvPr/>
        </p:nvSpPr>
        <p:spPr>
          <a:xfrm>
            <a:off x="324000" y="49640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авление реакции присоединения галогеноводородов к алкенам несимметричного строения (например, к пропилену CH2=CH–СН3) определяется правилом Марковников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Прямоугольник 4"/>
          <p:cNvSpPr/>
          <p:nvPr/>
        </p:nvSpPr>
        <p:spPr>
          <a:xfrm>
            <a:off x="1417680" y="6218280"/>
            <a:ext cx="69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3–CH=CH2  + H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 → CH3–CHCl–CH3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ОКИСЛЕНИЕ АЛКЕНОВ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836640"/>
            <a:ext cx="8893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Мягкое окисление алкенов водным раствором перманганата калия приводит к образованию двухатомных спиртов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5" name="Picture 4" descr="u442_1"/>
          <p:cNvPicPr/>
          <p:nvPr/>
        </p:nvPicPr>
        <p:blipFill>
          <a:blip r:embed="rId1"/>
          <a:stretch/>
        </p:blipFill>
        <p:spPr>
          <a:xfrm>
            <a:off x="647640" y="1916280"/>
            <a:ext cx="7848720" cy="12952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-57240" y="3216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ходе этой реакции происходит обесцвечивание фиолетовой окраски водного раствора KMnO4. Поэтому она используется как качественная реакция на алкен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Прямоугольник 1"/>
          <p:cNvSpPr/>
          <p:nvPr/>
        </p:nvSpPr>
        <p:spPr>
          <a:xfrm>
            <a:off x="1690560" y="4441680"/>
            <a:ext cx="55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МЕРИЗАЦИЯ АЛКЕН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8" name="Рисунок 2" descr=""/>
          <p:cNvPicPr/>
          <p:nvPr/>
        </p:nvPicPr>
        <p:blipFill>
          <a:blip r:embed="rId2"/>
          <a:stretch/>
        </p:blipFill>
        <p:spPr>
          <a:xfrm>
            <a:off x="1398600" y="5056200"/>
            <a:ext cx="5829120" cy="13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ПОЛИМЕРИЗАЦИЯ АЛКЕНОВ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87280" y="7272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процесс образования высокомолекулярного соединения (полимера) путем соединения друг с другом молекул исходного низкомолекулярного соединения </a:t>
            </a:r>
            <a:r>
              <a:rPr b="1" lang="ru-RU" sz="24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(мономер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395280" y="328464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олимеризации двойные связи в молекулах исходного непредельного соединения "раскрываются", и за счет образующихся свободных валентностей эти молекулы соединяются друг с друг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684360" y="2106720"/>
            <a:ext cx="748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C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(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1619280" y="2717640"/>
            <a:ext cx="5329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лен                         полиэтиле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d028"/>
                                      </p:to>
                                    </p:animClr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d028"/>
                                      </p:to>
                                    </p:animClr>
                                    <p:set>
                                      <p:cBhvr>
                                        <p:cTn id="89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d028"/>
                                      </p:to>
                                    </p:animClr>
                                    <p:animClr clrSpc="rgb">
                                      <p:cBhvr>
                                        <p:cTn id="98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d028"/>
                                      </p:to>
                                    </p:animClr>
                                    <p:set>
                                      <p:cBhvr>
                                        <p:cTn id="99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ПРИМЕНЕНИЕ АЛКЕНОВ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285" name="Picture 5" descr=" (5572 байт)"/>
          <p:cNvPicPr/>
          <p:nvPr/>
        </p:nvPicPr>
        <p:blipFill>
          <a:blip r:embed="rId1"/>
          <a:stretch/>
        </p:blipFill>
        <p:spPr>
          <a:xfrm>
            <a:off x="971640" y="2333520"/>
            <a:ext cx="7056360" cy="36370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7"/>
          <p:cNvSpPr/>
          <p:nvPr/>
        </p:nvSpPr>
        <p:spPr>
          <a:xfrm>
            <a:off x="250920" y="836640"/>
            <a:ext cx="87138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Этилен</a:t>
            </a:r>
            <a:r>
              <a:rPr b="1" lang="ru-RU" sz="20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 (этен) Н</a:t>
            </a:r>
            <a:r>
              <a:rPr b="1" lang="ru-RU" sz="2000" spc="-1" strike="noStrike" baseline="-25000">
                <a:solidFill>
                  <a:srgbClr val="099bdd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С=СН</a:t>
            </a:r>
            <a:r>
              <a:rPr b="1" lang="ru-RU" sz="2000" spc="-1" strike="noStrike" baseline="-25000">
                <a:solidFill>
                  <a:srgbClr val="099bdd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 используется для получения полиэтилена, политетрафторэтилена (тефлона), этилового спирта, уксусного альдегида, галогенопроизводных и многих других органических соединени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539640" y="616572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именяется как средство для ускоренного созревания фрукт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71280" y="115920"/>
            <a:ext cx="78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ba"/>
                </a:solidFill>
                <a:latin typeface="Arial"/>
              </a:rPr>
              <a:t>НЕПРЕДЕЛЬНЫЕ УГЛЕВОДОРОДЫ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8000" y="1052280"/>
            <a:ext cx="9036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5dba"/>
                </a:solidFill>
                <a:latin typeface="Corbel"/>
              </a:rPr>
              <a:t>Алкены</a:t>
            </a:r>
            <a:r>
              <a:rPr b="0" lang="ru-RU" sz="2200" spc="-1" strike="noStrike">
                <a:solidFill>
                  <a:srgbClr val="005dba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99bdd"/>
                </a:solidFill>
                <a:latin typeface="Corbel"/>
              </a:rPr>
              <a:t>- это углеводороды, содержащие в молекуле </a:t>
            </a:r>
            <a:r>
              <a:rPr b="0" lang="ru-RU" sz="2800" spc="-1" strike="noStrike" u="sng">
                <a:solidFill>
                  <a:srgbClr val="099bdd"/>
                </a:solidFill>
                <a:uFillTx/>
                <a:latin typeface="Corbel"/>
              </a:rPr>
              <a:t>одну двойную </a:t>
            </a:r>
            <a:r>
              <a:rPr b="0" lang="ru-RU" sz="2800" spc="-1" strike="noStrike">
                <a:solidFill>
                  <a:srgbClr val="099bdd"/>
                </a:solidFill>
                <a:latin typeface="Corbel"/>
              </a:rPr>
              <a:t>связь между атомами углерода и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оответствующие</a:t>
            </a:r>
            <a:r>
              <a:rPr b="0" lang="ru-RU" sz="2800" spc="-1" strike="noStrike">
                <a:solidFill>
                  <a:srgbClr val="099bdd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бщей формуле  C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H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Corbel"/>
              </a:rPr>
              <a:t>2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1528920" y="3146400"/>
            <a:ext cx="61927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1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СТРОЕНИЕ ДВОЙНОЙ СВЯЗИ</a:t>
            </a:r>
            <a:r>
              <a:rPr b="0" lang="ru-RU" sz="40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08000" y="836640"/>
            <a:ext cx="8856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В отличие от предельных углеводородов, алкены содержат двойную связь С=С, которая осуществляется 4-мя общими электронами:</a:t>
            </a:r>
            <a:r>
              <a:rPr b="0" lang="ru-RU" sz="24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δ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-связь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никает при осевом перекрывании sp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гибридных орбиталей, а </a:t>
            </a:r>
            <a:r>
              <a:rPr b="1" i="1" lang="el-G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π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-связь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при боковом перекрывании р-орбиталей соседних sp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гибридизованных атомов углерод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своей природе </a:t>
            </a:r>
            <a:r>
              <a:rPr b="1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вязь резко отличается от </a:t>
            </a:r>
            <a:r>
              <a:rPr b="1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вязи: </a:t>
            </a:r>
            <a:r>
              <a:rPr b="1" i="1" lang="el-G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π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-связь менее прочная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следствие меньшей эффективности перекрывания р-орбиталей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дели молекулы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лена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5" name="Picture 7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2232000" cy="501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Модели этилена (8339 байт)"/>
          <p:cNvPicPr/>
          <p:nvPr/>
        </p:nvPicPr>
        <p:blipFill>
          <a:blip r:embed="rId2"/>
          <a:stretch/>
        </p:blipFill>
        <p:spPr>
          <a:xfrm>
            <a:off x="3348000" y="4964040"/>
            <a:ext cx="5616720" cy="14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57 C 0.034 -0.15715 0.061 -0.18512 0.1 -0.18512 C 0.12 -0.18512 0.138 -0.17446 0.152 -0.15715 C 0.162 -0.14517 0.174 -0.13851 0.187 -0.13851 C 0.212 -0.13851 0.233 -0.16248 0.241 -0.19711 L 0.25 -0.23839 L 0.232 -0.15049 C 0.215 -0.08124 0.188 -0.05327 0.15 -0.05327 C 0.13 -0.05327 0.111 -0.06393 0.096 -0.08257 C 0.087 -0.09323 0.075 -0.09988 0.063 -0.09988 C 0.038 -0.09988 0.017 -0.07591 0.009 -0.04129 L 0 0 Z">
                                      <p:cBhvr>
                                        <p:cTn id="49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57 C 0.034 -0.15715 0.061 -0.18512 0.1 -0.18512 C 0.12 -0.18512 0.138 -0.17446 0.152 -0.15715 C 0.162 -0.14517 0.174 -0.13851 0.187 -0.13851 C 0.212 -0.13851 0.233 -0.16248 0.241 -0.19711 L 0.25 -0.23839 L 0.232 -0.15049 C 0.215 -0.08124 0.188 -0.05327 0.15 -0.05327 C 0.13 -0.05327 0.111 -0.06393 0.096 -0.08257 C 0.087 -0.09323 0.075 -0.09988 0.063 -0.09988 C 0.038 -0.09988 0.017 -0.07591 0.009 -0.04129 L 0 0 Z">
                                      <p:cBhvr>
                                        <p:cTn id="53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57 C 0.034 -0.15715 0.061 -0.18512 0.1 -0.18512 C 0.12 -0.18512 0.138 -0.17446 0.152 -0.15715 C 0.162 -0.14517 0.174 -0.13851 0.187 -0.13851 C 0.212 -0.13851 0.233 -0.16248 0.241 -0.19711 L 0.25 -0.23839 L 0.232 -0.15049 C 0.215 -0.08124 0.188 -0.05327 0.15 -0.05327 C 0.13 -0.05327 0.111 -0.06393 0.096 -0.08257 C 0.087 -0.09323 0.075 -0.09988 0.063 -0.09988 C 0.038 -0.09988 0.017 -0.07591 0.009 -0.04129 L 0 0 Z">
                                      <p:cBhvr>
                                        <p:cTn id="57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57 C 0.034 -0.15715 0.061 -0.18512 0.1 -0.18512 C 0.12 -0.18512 0.138 -0.17446 0.152 -0.15715 C 0.162 -0.14517 0.174 -0.13851 0.187 -0.13851 C 0.212 -0.13851 0.233 -0.16248 0.241 -0.19711 L 0.25 -0.23839 L 0.232 -0.15049 C 0.215 -0.08124 0.188 -0.05327 0.15 -0.05327 C 0.13 -0.05327 0.111 -0.06393 0.096 -0.08257 C 0.087 -0.09323 0.075 -0.09988 0.063 -0.09988 C 0.038 -0.09988 0.017 -0.07591 0.009 -0.04129 L 0 0 Z">
                                      <p:cBhvr>
                                        <p:cTn id="61" dur="2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57 C 0.034 -0.15715 0.061 -0.18512 0.1 -0.18512 C 0.12 -0.18512 0.138 -0.17446 0.152 -0.15715 C 0.162 -0.14517 0.174 -0.13851 0.187 -0.13851 C 0.212 -0.13851 0.233 -0.16248 0.241 -0.19711 L 0.25 -0.23839 L 0.232 -0.15049 C 0.215 -0.08124 0.188 -0.05327 0.15 -0.05327 C 0.13 -0.05327 0.111 -0.06393 0.096 -0.08257 C 0.087 -0.09323 0.075 -0.09988 0.063 -0.09988 C 0.038 -0.09988 0.017 -0.07591 0.009 -0.04129 L 0 0 Z">
                                      <p:cBhvr>
                                        <p:cTn id="65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985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СТРОЕНИЕ ДВОЙНОЙ СВЯЗИ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228" name="Picture 4" descr="Образование связи С=С (3376 байт)"/>
          <p:cNvPicPr/>
          <p:nvPr/>
        </p:nvPicPr>
        <p:blipFill>
          <a:blip r:embed="rId1"/>
          <a:stretch/>
        </p:blipFill>
        <p:spPr>
          <a:xfrm>
            <a:off x="611280" y="907920"/>
            <a:ext cx="7200720" cy="3600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684360" y="4724280"/>
            <a:ext cx="34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5d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вязи, образуемые sp2-гибридными орбиталями, находятся в одной плоскости под </a:t>
            </a:r>
            <a:r>
              <a:rPr b="1" lang="ru-RU" sz="18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углом 120°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этому молекула этилена имеет плоское строение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0" name="Picture 6" descr="Строение этилена (13043 байт)"/>
          <p:cNvPicPr/>
          <p:nvPr/>
        </p:nvPicPr>
        <p:blipFill>
          <a:blip r:embed="rId2"/>
          <a:stretch/>
        </p:blipFill>
        <p:spPr>
          <a:xfrm>
            <a:off x="4500720" y="4653000"/>
            <a:ext cx="42480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02920" y="115920"/>
            <a:ext cx="619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НОМЕНКЛАТУРА АЛКЕНОВ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232" name="Picture 6" descr="u42_1"/>
          <p:cNvPicPr/>
          <p:nvPr/>
        </p:nvPicPr>
        <p:blipFill>
          <a:blip r:embed="rId1"/>
          <a:stretch/>
        </p:blipFill>
        <p:spPr>
          <a:xfrm>
            <a:off x="2340000" y="3287880"/>
            <a:ext cx="3333600" cy="552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u42_2"/>
          <p:cNvPicPr/>
          <p:nvPr/>
        </p:nvPicPr>
        <p:blipFill>
          <a:blip r:embed="rId2"/>
          <a:stretch/>
        </p:blipFill>
        <p:spPr>
          <a:xfrm>
            <a:off x="2016000" y="5454720"/>
            <a:ext cx="3981600" cy="88884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250920" y="620640"/>
            <a:ext cx="864216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По систематической номенклатуре названия алкенов производят от названий соответствующих алканов (с тем же числом атомов углерода) путем замены суффикса </a:t>
            </a:r>
            <a:r>
              <a:rPr b="1" i="1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–ан</a:t>
            </a:r>
            <a:r>
              <a:rPr b="0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 на </a:t>
            </a:r>
            <a:r>
              <a:rPr b="1" i="1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–ен</a:t>
            </a:r>
            <a:r>
              <a:rPr b="0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С</a:t>
            </a:r>
            <a:r>
              <a:rPr b="0" lang="ru-RU" sz="1800" spc="-1" strike="noStrike" baseline="-25000">
                <a:solidFill>
                  <a:srgbClr val="099bdd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 baseline="-25000">
                <a:solidFill>
                  <a:srgbClr val="099bdd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 baseline="-25000">
                <a:solidFill>
                  <a:srgbClr val="099bdd"/>
                </a:solidFill>
                <a:latin typeface="Times New Roman"/>
                <a:ea typeface="Times New Roman"/>
              </a:rPr>
              <a:t>_</a:t>
            </a:r>
            <a:r>
              <a:rPr b="0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эт</a:t>
            </a:r>
            <a:r>
              <a:rPr b="1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ен</a:t>
            </a:r>
            <a:r>
              <a:rPr b="0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проп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т.д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 цепь выбирается таким образом, чтобы она обязательно включала в себя двойную связь (т.е. она может быть не самой длинной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мерацию углеродных атомов начинают с ближнего к двойной связи конца цепи. Цифра, обозначающая положение двойной связи, ставится обычно после суффикса –ен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име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Прямоугольник 1"/>
          <p:cNvSpPr/>
          <p:nvPr/>
        </p:nvSpPr>
        <p:spPr>
          <a:xfrm>
            <a:off x="404640" y="3852720"/>
            <a:ext cx="84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простейших алкенов применяются также исторически сложившиеся названия: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ле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этен),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пиле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пропен),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тиле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бутен-1),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бутиле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430200" y="4519440"/>
            <a:ext cx="81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оменклатуре различных классов органических соединений наиболее часто используются следующие одновалентные радикалы алкенов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ИЗОМЕРИЯ АЛКЕНОВ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62028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Алкенам свойственна изомерия различных типов. Если алкан С</a:t>
            </a:r>
            <a:r>
              <a:rPr b="1" lang="ru-RU" sz="1800" spc="-1" strike="noStrike" baseline="-25000">
                <a:solidFill>
                  <a:srgbClr val="099bdd"/>
                </a:solidFill>
                <a:latin typeface="Times New Roman"/>
                <a:ea typeface="Times New Roman"/>
              </a:rPr>
              <a:t>4</a:t>
            </a:r>
            <a:r>
              <a:rPr b="1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Н</a:t>
            </a:r>
            <a:r>
              <a:rPr b="1" lang="ru-RU" sz="1800" spc="-1" strike="noStrike" baseline="-25000">
                <a:solidFill>
                  <a:srgbClr val="099bdd"/>
                </a:solidFill>
                <a:latin typeface="Times New Roman"/>
                <a:ea typeface="Times New Roman"/>
              </a:rPr>
              <a:t>10</a:t>
            </a:r>
            <a:r>
              <a:rPr b="1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 имеет 2 изомера, то алкену с тем же числом углеродных атомов формулы С</a:t>
            </a:r>
            <a:r>
              <a:rPr b="1" lang="ru-RU" sz="1800" spc="-1" strike="noStrike" baseline="-25000">
                <a:solidFill>
                  <a:srgbClr val="099bdd"/>
                </a:solidFill>
                <a:latin typeface="Times New Roman"/>
                <a:ea typeface="Times New Roman"/>
              </a:rPr>
              <a:t>4</a:t>
            </a:r>
            <a:r>
              <a:rPr b="1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Н</a:t>
            </a:r>
            <a:r>
              <a:rPr b="1" lang="ru-RU" sz="1800" spc="-1" strike="noStrike" baseline="-25000">
                <a:solidFill>
                  <a:srgbClr val="099bdd"/>
                </a:solidFill>
                <a:latin typeface="Times New Roman"/>
                <a:ea typeface="Times New Roman"/>
              </a:rPr>
              <a:t>8</a:t>
            </a:r>
            <a:r>
              <a:rPr b="1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 соответствует уже 5 изомерных соединений (4 алкена и один циклоалкан).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Такое многообразие изомеров объясняется тем, что алкенам свойственны несколько видов изомерии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39" name="Picture 4" descr="1725 байт"/>
          <p:cNvPicPr/>
          <p:nvPr/>
        </p:nvPicPr>
        <p:blipFill>
          <a:blip r:embed="rId1"/>
          <a:stretch/>
        </p:blipFill>
        <p:spPr>
          <a:xfrm>
            <a:off x="3780000" y="2708280"/>
            <a:ext cx="4160520" cy="779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1596 байт"/>
          <p:cNvPicPr/>
          <p:nvPr/>
        </p:nvPicPr>
        <p:blipFill>
          <a:blip r:embed="rId2"/>
          <a:stretch/>
        </p:blipFill>
        <p:spPr>
          <a:xfrm>
            <a:off x="3780000" y="3933720"/>
            <a:ext cx="4535280" cy="57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1" name="Picture 6" descr=" Изомерия алкенов с циклоалканами (2123 байт)"/>
          <p:cNvPicPr/>
          <p:nvPr/>
        </p:nvPicPr>
        <p:blipFill>
          <a:blip r:embed="rId3"/>
          <a:stretch/>
        </p:blipFill>
        <p:spPr>
          <a:xfrm>
            <a:off x="3851280" y="5013360"/>
            <a:ext cx="4321080" cy="16556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7"/>
          <p:cNvSpPr/>
          <p:nvPr/>
        </p:nvSpPr>
        <p:spPr>
          <a:xfrm>
            <a:off x="474120" y="5372280"/>
            <a:ext cx="2932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5d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жклассовая изомер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402120" y="4076640"/>
            <a:ext cx="3098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5d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жения двойной связ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55400" y="2852640"/>
            <a:ext cx="2593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5d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леродного скелет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913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ПРОСТРАНСТВЕННАЯ ИЗОМЕРИЯ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246" name="Picture 4" descr=" Стереоизомеры бутена-2 (22930 байт)"/>
          <p:cNvPicPr/>
          <p:nvPr/>
        </p:nvPicPr>
        <p:blipFill>
          <a:blip r:embed="rId1"/>
          <a:stretch/>
        </p:blipFill>
        <p:spPr>
          <a:xfrm>
            <a:off x="179280" y="3357720"/>
            <a:ext cx="4248360" cy="2781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Модели стереоизомеров бутена-2 (23239 байт)"/>
          <p:cNvPicPr/>
          <p:nvPr/>
        </p:nvPicPr>
        <p:blipFill>
          <a:blip r:embed="rId2"/>
          <a:stretch/>
        </p:blipFill>
        <p:spPr>
          <a:xfrm>
            <a:off x="4788000" y="3716280"/>
            <a:ext cx="4145040" cy="20890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324000" y="69228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Алкены, имеющие у каждого из двух атомов углерода при двойной связи различные заместители, могут существовать в виде двух пространственных изомеров, отличающихся расположение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местителей относительно плоскости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связ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24000" y="1892160"/>
            <a:ext cx="8496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, в молекуле бутена-2 СН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СН=СН–СН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руппы СН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огут находиться либо по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дну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торону от двойной связи в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с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зомере, либо по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азные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тороны в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зомер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ФИЗИЧЕСКИЕ СВОЙСТВА АЛКЕНОВ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26920" y="2060640"/>
            <a:ext cx="77248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омерно изменяются в гомологическом ряду: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С</a:t>
            </a:r>
            <a:r>
              <a:rPr b="1" lang="ru-RU" sz="2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ru-RU" sz="2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 С</a:t>
            </a:r>
            <a:r>
              <a:rPr b="1" lang="ru-RU" sz="2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ru-RU" sz="2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газы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чиная с С</a:t>
            </a:r>
            <a:r>
              <a:rPr b="1" lang="ru-RU" sz="2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ru-RU" sz="2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жидкости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С</a:t>
            </a:r>
            <a:r>
              <a:rPr b="1" lang="ru-RU" sz="2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8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ru-RU" sz="2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6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твердые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ществ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468360" y="4076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пература их плавления и кипения, а также плотность увеличиваются с ростом молекулярной масс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826920" y="515772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ены практически нерастворимы в воде, но хорошо растворяются в органических растворителях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684360" y="1052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По физическим свойствам этиленовые углеводороды близки к алканам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ba"/>
                </a:solidFill>
                <a:latin typeface="Times New Roman"/>
                <a:ea typeface="Times New Roman"/>
              </a:rPr>
              <a:t>ХИМИЧЕСКИЕ СВОЙСТВА АЛКЕНОВ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000" y="981000"/>
            <a:ext cx="7848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9bdd"/>
                </a:solidFill>
                <a:latin typeface="Times New Roman"/>
                <a:ea typeface="Times New Roman"/>
              </a:rPr>
              <a:t>Алкены вступают в разнообразные реакции </a:t>
            </a:r>
            <a:r>
              <a:rPr b="1" lang="ru-RU" sz="2200" spc="-1" strike="noStrike" u="sng">
                <a:solidFill>
                  <a:srgbClr val="005dba"/>
                </a:solidFill>
                <a:uFillTx/>
                <a:latin typeface="Times New Roman"/>
                <a:ea typeface="Times New Roman"/>
              </a:rPr>
              <a:t>присоединения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395280" y="2060640"/>
            <a:ext cx="8362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d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дрирование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реакции с водород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уются алка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5280" y="3213000"/>
            <a:ext cx="87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d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огенирование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реакции с галогена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уются дигалогенопроизводные алкан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395280" y="4307040"/>
            <a:ext cx="75596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5d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дратации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реакции с вод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уются спир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250920" y="5300640"/>
            <a:ext cx="8785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5d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дрогалогенирование – реакции с галогеноводородами                   образуются моногалогенопроизводные алкан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5:11:09Z</dcterms:created>
  <dc:creator>Диана</dc:creator>
  <dc:description/>
  <dc:language>en-US</dc:language>
  <cp:lastModifiedBy>Казанцева </cp:lastModifiedBy>
  <dcterms:modified xsi:type="dcterms:W3CDTF">2022-11-17T18:01:44Z</dcterms:modified>
  <cp:revision>45</cp:revision>
  <dc:subject/>
  <dc:title>Алкены</dc:title>
</cp:coreProperties>
</file>