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34.jpeg" ContentType="image/jpeg"/>
  <Override PartName="/ppt/media/image28.jpeg" ContentType="image/jpeg"/>
  <Override PartName="/ppt/media/image9.jpeg" ContentType="image/jpeg"/>
  <Override PartName="/ppt/media/image40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7C75-E12A-40E0-8A03-FAAF21A6C53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E656-260E-4081-B3EC-C1D3F334D6F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8E65-47D9-4910-9D9B-E8F9CA886EB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03FB-16B1-461D-A1A1-2B5D08454E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BABB-8D2A-4462-A2B2-0E671F469E9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226B-8F1F-4968-B6E9-6A1D22D9C1C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C7E4-A0A0-421D-8373-E05537A3099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CFAA-4049-42A9-914B-159A01F5684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703C-41FE-443B-9516-C0C93C8117F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71FC-A3B0-4F7C-94A9-6D7EEFEC99F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FB88-980E-4D41-96D7-6AC33BB85A4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C548-8855-4EE1-B06B-53A3D6CDD37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1154-91AC-4F6A-A5FB-6EBC0A0CF3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CA7C-9555-4DD4-8309-4671B7227EE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86B7-C440-4038-9D2D-DE502215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7D10-FE82-4B99-80BA-19B5648C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F633-6D5C-43AD-B283-06360EE9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4CBF-6423-42BE-B9F8-A2E1C574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5949-9A6C-41E0-A2CF-AFE0663F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2C79-CF0D-4C25-A8EC-34B9C455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4F16-5072-42DD-9869-835CEC67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666-9875-488D-ADD3-378D6DD8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14D2-ECE1-4EB4-B1BD-804CF17C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FA11-10CE-48AB-B352-F39C014C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AF6B-DC2C-4947-ACD5-D4E3505E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2996-7917-4D56-8D18-1425CE33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4F3B-BC12-4C44-A44C-A98DFD214826}" type="slidenum">
              <a:rPr b="0" lang="ru-RU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Users\Оксана\Desktop\hello_html_5a8ec748.png"/>
          <p:cNvPicPr/>
          <p:nvPr/>
        </p:nvPicPr>
        <p:blipFill>
          <a:blip r:embed="rId1"/>
          <a:stretch/>
        </p:blipFill>
        <p:spPr>
          <a:xfrm>
            <a:off x="-380880" y="0"/>
            <a:ext cx="10001160" cy="80233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914400" y="304812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спитатель второй младшей групп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724280" y="342900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f81bd"/>
                </a:solidFill>
                <a:latin typeface="Times New Roman"/>
              </a:rPr>
              <a:t>Репина Оксана Николаевна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04920" y="4724280"/>
            <a:ext cx="8534160" cy="18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«Путь в сказку»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Формирование этических основ личности ребенка дошкольного возраста через театрализованную деятельность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-228600" y="1143000"/>
            <a:ext cx="1028700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b1be7"/>
                </a:solidFill>
                <a:latin typeface="Arial Black"/>
              </a:rPr>
              <a:t>Государственное бюджетное дошкольное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b1be7"/>
                </a:solidFill>
                <a:latin typeface="Arial Black"/>
              </a:rPr>
              <a:t>образовательное учреждение</a:t>
            </a:r>
            <a:br>
              <a:rPr sz="1600"/>
            </a:br>
            <a:r>
              <a:rPr b="0" lang="ru-RU" sz="1600" spc="-1" strike="noStrike">
                <a:solidFill>
                  <a:srgbClr val="1b1be7"/>
                </a:solidFill>
                <a:latin typeface="Arial Black"/>
              </a:rPr>
              <a:t> детский сад №9 Петродворцового района</a:t>
            </a:r>
            <a:br>
              <a:rPr sz="1600"/>
            </a:br>
            <a:r>
              <a:rPr b="0" lang="ru-RU" sz="1600" spc="-1" strike="noStrike">
                <a:solidFill>
                  <a:srgbClr val="1b1be7"/>
                </a:solidFill>
                <a:latin typeface="Arial Black"/>
              </a:rPr>
              <a:t> Санкт-Петербурга.</a:t>
            </a:r>
            <a:br>
              <a:rPr sz="2800"/>
            </a:b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64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7"/>
          <p:cNvSpPr/>
          <p:nvPr/>
        </p:nvSpPr>
        <p:spPr>
          <a:xfrm>
            <a:off x="2438280" y="198108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Times New Roman"/>
              </a:rPr>
              <a:t>Форма работы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WordArt 8"/>
          <p:cNvSpPr txBox="1"/>
          <p:nvPr/>
        </p:nvSpPr>
        <p:spPr>
          <a:xfrm>
            <a:off x="76320" y="457200"/>
            <a:ext cx="73152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игры   с   кукл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pic>
        <p:nvPicPr>
          <p:cNvPr id="99" name="Рисунок 4" descr="20220309_084030.jpg"/>
          <p:cNvPicPr/>
          <p:nvPr/>
        </p:nvPicPr>
        <p:blipFill>
          <a:blip r:embed="rId1"/>
          <a:stretch/>
        </p:blipFill>
        <p:spPr>
          <a:xfrm>
            <a:off x="380880" y="2666880"/>
            <a:ext cx="2895840" cy="3861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20220309_084106 (2).jpg"/>
          <p:cNvPicPr/>
          <p:nvPr/>
        </p:nvPicPr>
        <p:blipFill>
          <a:blip r:embed="rId2"/>
          <a:stretch/>
        </p:blipFill>
        <p:spPr>
          <a:xfrm>
            <a:off x="5638680" y="2590920"/>
            <a:ext cx="2971800" cy="39621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49273.jpeg"/>
          <p:cNvPicPr/>
          <p:nvPr/>
        </p:nvPicPr>
        <p:blipFill>
          <a:blip r:embed="rId3"/>
          <a:stretch/>
        </p:blipFill>
        <p:spPr>
          <a:xfrm>
            <a:off x="3200400" y="2971800"/>
            <a:ext cx="2384280" cy="3390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6"/>
          <p:cNvSpPr txBox="1"/>
          <p:nvPr/>
        </p:nvSpPr>
        <p:spPr>
          <a:xfrm>
            <a:off x="304920" y="152280"/>
            <a:ext cx="8229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нсценировки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905120" y="16765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5f4ed"/>
                </a:solidFill>
                <a:latin typeface="Arial Black"/>
              </a:rPr>
              <a:t>Игры-драматизации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Рисунок 4" descr="20210604_101624.jpg"/>
          <p:cNvPicPr/>
          <p:nvPr/>
        </p:nvPicPr>
        <p:blipFill>
          <a:blip r:embed="rId1"/>
          <a:stretch/>
        </p:blipFill>
        <p:spPr>
          <a:xfrm>
            <a:off x="380880" y="350532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20211007_093119.jpg"/>
          <p:cNvPicPr/>
          <p:nvPr/>
        </p:nvPicPr>
        <p:blipFill>
          <a:blip r:embed="rId2"/>
          <a:stretch/>
        </p:blipFill>
        <p:spPr>
          <a:xfrm>
            <a:off x="4724280" y="1523880"/>
            <a:ext cx="3714840" cy="4953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6"/>
          <p:cNvSpPr/>
          <p:nvPr/>
        </p:nvSpPr>
        <p:spPr>
          <a:xfrm>
            <a:off x="1219320" y="152280"/>
            <a:ext cx="721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Black"/>
              </a:rPr>
              <a:t>Кукольные спектакли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Рисунок 5" descr="IMG-20210907-WA0044.jpg"/>
          <p:cNvPicPr/>
          <p:nvPr/>
        </p:nvPicPr>
        <p:blipFill>
          <a:blip r:embed="rId1"/>
          <a:stretch/>
        </p:blipFill>
        <p:spPr>
          <a:xfrm>
            <a:off x="228600" y="990720"/>
            <a:ext cx="4724280" cy="21254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20211020_161535.jpg"/>
          <p:cNvPicPr/>
          <p:nvPr/>
        </p:nvPicPr>
        <p:blipFill>
          <a:blip r:embed="rId2"/>
          <a:stretch/>
        </p:blipFill>
        <p:spPr>
          <a:xfrm>
            <a:off x="4648320" y="327672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2" descr="1014508957.jpg"/>
          <p:cNvPicPr/>
          <p:nvPr/>
        </p:nvPicPr>
        <p:blipFill>
          <a:blip r:embed="rId3"/>
          <a:stretch/>
        </p:blipFill>
        <p:spPr>
          <a:xfrm>
            <a:off x="685800" y="3809880"/>
            <a:ext cx="3657600" cy="20480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4" descr="515KCxogPyL.jpg"/>
          <p:cNvPicPr/>
          <p:nvPr/>
        </p:nvPicPr>
        <p:blipFill>
          <a:blip r:embed="rId4"/>
          <a:stretch/>
        </p:blipFill>
        <p:spPr>
          <a:xfrm>
            <a:off x="5410080" y="685800"/>
            <a:ext cx="2835360" cy="23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533520" y="152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Уголок театральной деятельности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1681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Рисунок 6" descr="73-731869_clip-art-mardi-gras-masks.png"/>
          <p:cNvPicPr/>
          <p:nvPr/>
        </p:nvPicPr>
        <p:blipFill>
          <a:blip r:embed="rId1"/>
          <a:stretch/>
        </p:blipFill>
        <p:spPr>
          <a:xfrm>
            <a:off x="6553080" y="1295280"/>
            <a:ext cx="2357640" cy="19940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4" descr="20220204_134750.jpg"/>
          <p:cNvPicPr/>
          <p:nvPr/>
        </p:nvPicPr>
        <p:blipFill>
          <a:blip r:embed="rId2"/>
          <a:stretch/>
        </p:blipFill>
        <p:spPr>
          <a:xfrm>
            <a:off x="4572000" y="34290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20220204_134744.jpg"/>
          <p:cNvPicPr/>
          <p:nvPr/>
        </p:nvPicPr>
        <p:blipFill>
          <a:blip r:embed="rId3"/>
          <a:stretch/>
        </p:blipFill>
        <p:spPr>
          <a:xfrm>
            <a:off x="609480" y="1371600"/>
            <a:ext cx="5283360" cy="3962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152280" y="15228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Использование в работе различных видов театров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WordArt 12"/>
          <p:cNvSpPr txBox="1"/>
          <p:nvPr/>
        </p:nvSpPr>
        <p:spPr>
          <a:xfrm>
            <a:off x="304920" y="4419720"/>
            <a:ext cx="31906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8" name="WordArt 13"/>
          <p:cNvSpPr txBox="1"/>
          <p:nvPr/>
        </p:nvSpPr>
        <p:spPr>
          <a:xfrm>
            <a:off x="2981160" y="1598760"/>
            <a:ext cx="3114720" cy="83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"/>
              </a:rPr>
              <a:t>Настольный теат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Arial"/>
              <a:ea typeface="Arial"/>
            </a:endParaRPr>
          </a:p>
        </p:txBody>
      </p:sp>
      <p:pic>
        <p:nvPicPr>
          <p:cNvPr id="119" name="Рисунок 5" descr="20220202_105407.jpg"/>
          <p:cNvPicPr/>
          <p:nvPr/>
        </p:nvPicPr>
        <p:blipFill>
          <a:blip r:embed="rId1"/>
          <a:stretch/>
        </p:blipFill>
        <p:spPr>
          <a:xfrm rot="5788200">
            <a:off x="3825360" y="3139920"/>
            <a:ext cx="4067280" cy="30510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6" descr="20220202_105432.jpg"/>
          <p:cNvPicPr/>
          <p:nvPr/>
        </p:nvPicPr>
        <p:blipFill>
          <a:blip r:embed="rId2"/>
          <a:stretch/>
        </p:blipFill>
        <p:spPr>
          <a:xfrm rot="4007400">
            <a:off x="320400" y="2971440"/>
            <a:ext cx="3994200" cy="2943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9"/>
          <p:cNvSpPr txBox="1"/>
          <p:nvPr/>
        </p:nvSpPr>
        <p:spPr>
          <a:xfrm>
            <a:off x="914400" y="270000"/>
            <a:ext cx="7315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альчиковый теат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22" name="Рисунок 7" descr="20220204_155059 (1).jpg"/>
          <p:cNvPicPr/>
          <p:nvPr/>
        </p:nvPicPr>
        <p:blipFill>
          <a:blip r:embed="rId1"/>
          <a:stretch/>
        </p:blipFill>
        <p:spPr>
          <a:xfrm rot="4782600">
            <a:off x="90000" y="2139840"/>
            <a:ext cx="4179600" cy="31352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8" descr="IMG-20220203-WA0003.jpg"/>
          <p:cNvPicPr/>
          <p:nvPr/>
        </p:nvPicPr>
        <p:blipFill>
          <a:blip r:embed="rId2"/>
          <a:stretch/>
        </p:blipFill>
        <p:spPr>
          <a:xfrm rot="504600">
            <a:off x="5638320" y="1566720"/>
            <a:ext cx="1938600" cy="43084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9" descr="20210730_133841.jpg"/>
          <p:cNvPicPr/>
          <p:nvPr/>
        </p:nvPicPr>
        <p:blipFill>
          <a:blip r:embed="rId3"/>
          <a:stretch/>
        </p:blipFill>
        <p:spPr>
          <a:xfrm>
            <a:off x="3657600" y="1981080"/>
            <a:ext cx="2216160" cy="2954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11"/>
          <p:cNvSpPr txBox="1"/>
          <p:nvPr/>
        </p:nvSpPr>
        <p:spPr>
          <a:xfrm>
            <a:off x="3276720" y="380880"/>
            <a:ext cx="2666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БИ-БА-БО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126" name="Рисунок 3" descr="20220124_155111.jpg"/>
          <p:cNvPicPr/>
          <p:nvPr/>
        </p:nvPicPr>
        <p:blipFill>
          <a:blip r:embed="rId1"/>
          <a:stretch/>
        </p:blipFill>
        <p:spPr>
          <a:xfrm rot="4192800">
            <a:off x="107640" y="207144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20220124_155153.jpg"/>
          <p:cNvPicPr/>
          <p:nvPr/>
        </p:nvPicPr>
        <p:blipFill>
          <a:blip r:embed="rId2"/>
          <a:stretch/>
        </p:blipFill>
        <p:spPr>
          <a:xfrm rot="5928000">
            <a:off x="4794480" y="2180160"/>
            <a:ext cx="4418280" cy="33145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20220124_155254.jpg"/>
          <p:cNvPicPr/>
          <p:nvPr/>
        </p:nvPicPr>
        <p:blipFill>
          <a:blip r:embed="rId3"/>
          <a:stretch/>
        </p:blipFill>
        <p:spPr>
          <a:xfrm>
            <a:off x="3352680" y="3048120"/>
            <a:ext cx="2713320" cy="361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121932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Black"/>
              </a:rPr>
              <a:t>Фланелеграф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Рисунок 3" descr="20220309_093106.jpg"/>
          <p:cNvPicPr/>
          <p:nvPr/>
        </p:nvPicPr>
        <p:blipFill>
          <a:blip r:embed="rId1"/>
          <a:stretch/>
        </p:blipFill>
        <p:spPr>
          <a:xfrm rot="4810200">
            <a:off x="457920" y="1830960"/>
            <a:ext cx="5049720" cy="37879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5" descr="20210927_160704.jpg"/>
          <p:cNvPicPr/>
          <p:nvPr/>
        </p:nvPicPr>
        <p:blipFill>
          <a:blip r:embed="rId2"/>
          <a:stretch/>
        </p:blipFill>
        <p:spPr>
          <a:xfrm rot="5875800">
            <a:off x="3980160" y="2048760"/>
            <a:ext cx="4821480" cy="361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6" descr="maxresdefault1.jpg"/>
          <p:cNvPicPr/>
          <p:nvPr/>
        </p:nvPicPr>
        <p:blipFill>
          <a:blip r:embed="rId1"/>
          <a:stretch/>
        </p:blipFill>
        <p:spPr>
          <a:xfrm>
            <a:off x="2057400" y="3886200"/>
            <a:ext cx="4876920" cy="27432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121932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Black"/>
              </a:rPr>
              <a:t>Втулковый театр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4" name="Рисунок 3" descr="20220203_141926.jpg"/>
          <p:cNvPicPr/>
          <p:nvPr/>
        </p:nvPicPr>
        <p:blipFill>
          <a:blip r:embed="rId2"/>
          <a:stretch/>
        </p:blipFill>
        <p:spPr>
          <a:xfrm>
            <a:off x="2666880" y="9907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IMG-20220203-WA0005.jpg"/>
          <p:cNvPicPr/>
          <p:nvPr/>
        </p:nvPicPr>
        <p:blipFill>
          <a:blip r:embed="rId3"/>
          <a:stretch/>
        </p:blipFill>
        <p:spPr>
          <a:xfrm>
            <a:off x="380880" y="1600200"/>
            <a:ext cx="2229120" cy="49528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5" descr="IMG-20220203-WA0012.jpg"/>
          <p:cNvPicPr/>
          <p:nvPr/>
        </p:nvPicPr>
        <p:blipFill>
          <a:blip r:embed="rId4"/>
          <a:stretch/>
        </p:blipFill>
        <p:spPr>
          <a:xfrm>
            <a:off x="6400800" y="1676520"/>
            <a:ext cx="2193840" cy="4876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828720" y="4572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Black"/>
              </a:rPr>
              <a:t>Настольный театр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Рисунок 4" descr="20210528_110828.jpg"/>
          <p:cNvPicPr/>
          <p:nvPr/>
        </p:nvPicPr>
        <p:blipFill>
          <a:blip r:embed="rId1"/>
          <a:stretch/>
        </p:blipFill>
        <p:spPr>
          <a:xfrm>
            <a:off x="1295280" y="1219320"/>
            <a:ext cx="6782040" cy="5086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C:\Users\Оксана\Desktop\hello_html_5a8ec748.png"/>
          <p:cNvPicPr/>
          <p:nvPr/>
        </p:nvPicPr>
        <p:blipFill>
          <a:blip r:embed="rId1"/>
          <a:stretch/>
        </p:blipFill>
        <p:spPr>
          <a:xfrm>
            <a:off x="-457200" y="0"/>
            <a:ext cx="10001160" cy="8023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2209680" y="68580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1b1be7"/>
                </a:solidFill>
                <a:latin typeface="Times New Roman"/>
              </a:rPr>
              <a:t>Актуальность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838080" y="1600200"/>
            <a:ext cx="7848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Заключается в том, что решение задач направлено на развитие: личности ребенка, памяти, внимания, мышления. Дети учатся адекватному реагированию: пониманию эмоционального состояния другого человека и умению выразить свое. У детей развивается инициатива и самостоятельность участвовать в песенных, игровых и театральных импровизациях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5"/>
          <p:cNvSpPr/>
          <p:nvPr/>
        </p:nvSpPr>
        <p:spPr>
          <a:xfrm>
            <a:off x="258840" y="3049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Black"/>
              </a:rPr>
              <a:t>Театр теней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Рисунок 4" descr="20220203_141705.jpg"/>
          <p:cNvPicPr/>
          <p:nvPr/>
        </p:nvPicPr>
        <p:blipFill>
          <a:blip r:embed="rId1"/>
          <a:stretch/>
        </p:blipFill>
        <p:spPr>
          <a:xfrm rot="21149400">
            <a:off x="304920" y="137124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5" descr="20220204_155150.jpg"/>
          <p:cNvPicPr/>
          <p:nvPr/>
        </p:nvPicPr>
        <p:blipFill>
          <a:blip r:embed="rId2"/>
          <a:stretch/>
        </p:blipFill>
        <p:spPr>
          <a:xfrm rot="5725200">
            <a:off x="4513320" y="2401560"/>
            <a:ext cx="4581360" cy="343512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6" descr="9699b0f1e4131ae9e456c15b06751450.png"/>
          <p:cNvPicPr/>
          <p:nvPr/>
        </p:nvPicPr>
        <p:blipFill>
          <a:blip r:embed="rId3"/>
          <a:stretch/>
        </p:blipFill>
        <p:spPr>
          <a:xfrm>
            <a:off x="2362320" y="5187960"/>
            <a:ext cx="2361960" cy="1670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1355760" y="349200"/>
            <a:ext cx="53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Шагающий театр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4" name="Рисунок 5" descr="20220330_150327.jpg"/>
          <p:cNvPicPr/>
          <p:nvPr/>
        </p:nvPicPr>
        <p:blipFill>
          <a:blip r:embed="rId1"/>
          <a:stretch/>
        </p:blipFill>
        <p:spPr>
          <a:xfrm rot="5833800">
            <a:off x="4191120" y="1931040"/>
            <a:ext cx="4685040" cy="351468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6" descr="20220330_150338 (1).jpg"/>
          <p:cNvPicPr/>
          <p:nvPr/>
        </p:nvPicPr>
        <p:blipFill>
          <a:blip r:embed="rId2"/>
          <a:stretch/>
        </p:blipFill>
        <p:spPr>
          <a:xfrm rot="5185200">
            <a:off x="383760" y="185112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2"/>
          <p:cNvSpPr/>
          <p:nvPr/>
        </p:nvSpPr>
        <p:spPr>
          <a:xfrm>
            <a:off x="1371600" y="3049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Times New Roman"/>
              </a:rPr>
              <a:t>Ряженье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Рисунок 5" descr="20220204_161856.jpg"/>
          <p:cNvPicPr/>
          <p:nvPr/>
        </p:nvPicPr>
        <p:blipFill>
          <a:blip r:embed="rId1"/>
          <a:stretch/>
        </p:blipFill>
        <p:spPr>
          <a:xfrm rot="4955400">
            <a:off x="0" y="213336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6" descr="20220204_161819.jpg"/>
          <p:cNvPicPr/>
          <p:nvPr/>
        </p:nvPicPr>
        <p:blipFill>
          <a:blip r:embed="rId2"/>
          <a:stretch/>
        </p:blipFill>
        <p:spPr>
          <a:xfrm rot="5981400">
            <a:off x="4274640" y="2125440"/>
            <a:ext cx="4813560" cy="360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228600" y="9144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Times New Roman"/>
              </a:rPr>
              <a:t>Консультации для родителей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143000" y="2438280"/>
            <a:ext cx="70102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Значение театрализованных игр для детей младшей группы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Технология организаций игр»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Формирование творческой личности ребенка средствами театральной деятельности»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 Роль театрализованной деятельности в социально эмоциональном развитии младших дошкольников»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Picture 7" descr="C:\Users\Оксана\Desktop\hello_html_5a8ec748.png"/>
          <p:cNvPicPr/>
          <p:nvPr/>
        </p:nvPicPr>
        <p:blipFill>
          <a:blip r:embed="rId1"/>
          <a:stretch/>
        </p:blipFill>
        <p:spPr>
          <a:xfrm>
            <a:off x="-457200" y="0"/>
            <a:ext cx="10001160" cy="802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C:\Users\Оксана\Desktop\hello_html_5a8ec748.png"/>
          <p:cNvPicPr/>
          <p:nvPr/>
        </p:nvPicPr>
        <p:blipFill>
          <a:blip r:embed="rId1"/>
          <a:stretch/>
        </p:blipFill>
        <p:spPr>
          <a:xfrm>
            <a:off x="-457200" y="0"/>
            <a:ext cx="10001160" cy="80233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228600" y="1066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Times New Roman"/>
              </a:rPr>
              <a:t>Консультации для воспитателей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219320" y="2133720"/>
            <a:ext cx="6705360" cy="31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Сочиняем сказку. Уроки творчества изготовление атрибутов»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 Домашний кукольный театр»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театральной деятельности в работе с неуверенными детьми»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4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C:\Users\Оксана\Desktop\hello_html_5a8ec748.png"/>
          <p:cNvPicPr/>
          <p:nvPr/>
        </p:nvPicPr>
        <p:blipFill>
          <a:blip r:embed="rId1"/>
          <a:stretch/>
        </p:blipFill>
        <p:spPr>
          <a:xfrm>
            <a:off x="-457200" y="0"/>
            <a:ext cx="10001160" cy="80233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600200" y="9907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Times New Roman"/>
              </a:rPr>
              <a:t>Перспективы в работе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990720" y="1828800"/>
            <a:ext cx="7543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льнейшую работу считаю нужным направить на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ершенствование навыков детей в управлении настольными куклами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комство с управлением верховых кукол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личение эмоций с помощью мимики и жестов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зительность движений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полнение театральной новыми видами театр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4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7" descr="C:\Users\Оксана\Desktop\hello_html_5a8ec748.png"/>
          <p:cNvPicPr/>
          <p:nvPr/>
        </p:nvPicPr>
        <p:blipFill>
          <a:blip r:embed="rId1"/>
          <a:stretch/>
        </p:blipFill>
        <p:spPr>
          <a:xfrm>
            <a:off x="-457200" y="0"/>
            <a:ext cx="10001160" cy="80233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/>
          <p:cNvSpPr/>
          <p:nvPr/>
        </p:nvSpPr>
        <p:spPr>
          <a:xfrm>
            <a:off x="1447920" y="89064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Times New Roman"/>
              </a:rPr>
              <a:t>Используемая  литератур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219320" y="1752480"/>
            <a:ext cx="701028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типина Е.А. Театральная деятельность в детском саду: Игры, упражнения, сценарии.-М.: ТЦ Сфера, 2009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14440" indent="-514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типина Е.А. Театральные представления в детском саду. Сценарии с нотным приложением.- М.: ТЦ Сфера, 2010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14440" indent="-514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енок в мире сказок: музыкально-театр. спектакли, инсценировки, игры детей 4-7 лет/ сост. О. П. Власенко.-Волгоград: Учитель, 2009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14440" indent="-514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рокина Н.Ф. Кукольный театр для маленьких: Н.Ф. Сорокина, Л.Г. Миланович.- М.: Линка-Пресс, 2009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514440" indent="-514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Юрина Н.Н. Первое знакомство с театром: Практические советы педагогам.-М.: Школьная Пресса, 2009.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4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600200" y="2362320"/>
            <a:ext cx="655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обходимо расширить опыт ребенка, если мы хотим создать достаточно прочные основы его творческой деятельности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886200" y="54864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Times New Roman"/>
              </a:rPr>
              <a:t>Л.С. Выготский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8" name="Picture 7" descr="C:\Users\Оксана\Desktop\hello_html_5a8ec748.png"/>
          <p:cNvPicPr/>
          <p:nvPr/>
        </p:nvPicPr>
        <p:blipFill>
          <a:blip r:embed="rId1"/>
          <a:stretch/>
        </p:blipFill>
        <p:spPr>
          <a:xfrm>
            <a:off x="-457200" y="0"/>
            <a:ext cx="10001160" cy="802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C:\Users\Оксана\Desktop\hello_html_5a8ec748.png"/>
          <p:cNvPicPr/>
          <p:nvPr/>
        </p:nvPicPr>
        <p:blipFill>
          <a:blip r:embed="rId1"/>
          <a:stretch/>
        </p:blipFill>
        <p:spPr>
          <a:xfrm>
            <a:off x="-457200" y="0"/>
            <a:ext cx="10001160" cy="80233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2057400" y="99072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Направления работы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457200" y="2133720"/>
            <a:ext cx="2971800" cy="12189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Изучение литературы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для повышения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едагогического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мастерств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457200" y="3657600"/>
            <a:ext cx="2971800" cy="11430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Обогащение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развивающей сред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457200" y="5181480"/>
            <a:ext cx="2971800" cy="12193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едагогическое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росвещение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родителе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5334120" y="2133720"/>
            <a:ext cx="3200400" cy="12189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Составление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ерспективного плана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о театральной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деятельности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5334120" y="3657600"/>
            <a:ext cx="3200400" cy="11430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заимодействие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 музыкальным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руководителем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5334120" y="5181480"/>
            <a:ext cx="3200400" cy="12956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Работа над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ыразительностью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Line 14"/>
          <p:cNvSpPr/>
          <p:nvPr/>
        </p:nvSpPr>
        <p:spPr>
          <a:xfrm flipH="1">
            <a:off x="3428640" y="1600200"/>
            <a:ext cx="7621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Line 15"/>
          <p:cNvSpPr/>
          <p:nvPr/>
        </p:nvSpPr>
        <p:spPr>
          <a:xfrm flipH="1">
            <a:off x="3428640" y="1600200"/>
            <a:ext cx="76212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Line 16"/>
          <p:cNvSpPr/>
          <p:nvPr/>
        </p:nvSpPr>
        <p:spPr>
          <a:xfrm flipH="1">
            <a:off x="3428640" y="1600200"/>
            <a:ext cx="76212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Line 17"/>
          <p:cNvSpPr/>
          <p:nvPr/>
        </p:nvSpPr>
        <p:spPr>
          <a:xfrm>
            <a:off x="4191120" y="160020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4191120" y="1600200"/>
            <a:ext cx="114300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Line 19"/>
          <p:cNvSpPr/>
          <p:nvPr/>
        </p:nvSpPr>
        <p:spPr>
          <a:xfrm>
            <a:off x="4191120" y="1600200"/>
            <a:ext cx="114300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85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385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8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385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845"/>
                            </p:stCondLst>
                            <p:childTnLst>
                              <p:par>
                                <p:cTn id="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8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385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845"/>
                            </p:stCondLst>
                            <p:childTnLst>
                              <p:par>
                                <p:cTn id="1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6995"/>
                            </p:stCondLst>
                            <p:childTnLst>
                              <p:par>
                                <p:cTn id="1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85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385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" dur="38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38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7995"/>
                            </p:stCondLst>
                            <p:childTnLst>
                              <p:par>
                                <p:cTn id="12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8995"/>
                            </p:stCondLst>
                            <p:childTnLst>
                              <p:par>
                                <p:cTn id="1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85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385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" dur="38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" dur="38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9995"/>
                            </p:stCondLst>
                            <p:childTnLst>
                              <p:par>
                                <p:cTn id="1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2395"/>
                            </p:stCondLst>
                            <p:childTnLst>
                              <p:par>
                                <p:cTn id="1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38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38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3395"/>
                            </p:stCondLst>
                            <p:childTnLst>
                              <p:par>
                                <p:cTn id="1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4395"/>
                            </p:stCondLst>
                            <p:childTnLst>
                              <p:par>
                                <p:cTn id="1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8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385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38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38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286000" y="121932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Цель работы: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295280" y="2666880"/>
            <a:ext cx="6934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этических основ личности ребенка дошкольного возраста через театрализованную деятельность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5" name="Picture 7" descr="C:\Users\Оксана\Desktop\hello_html_5a8ec748.png"/>
          <p:cNvPicPr/>
          <p:nvPr/>
        </p:nvPicPr>
        <p:blipFill>
          <a:blip r:embed="rId1"/>
          <a:stretch/>
        </p:blipFill>
        <p:spPr>
          <a:xfrm>
            <a:off x="-457200" y="0"/>
            <a:ext cx="10001160" cy="802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4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C:\Users\Оксана\Desktop\hello_html_5a8ec748.png"/>
          <p:cNvPicPr/>
          <p:nvPr/>
        </p:nvPicPr>
        <p:blipFill>
          <a:blip r:embed="rId1"/>
          <a:stretch/>
        </p:blipFill>
        <p:spPr>
          <a:xfrm>
            <a:off x="-457200" y="0"/>
            <a:ext cx="10001160" cy="80233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2971800" y="114300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990720" y="2057400"/>
            <a:ext cx="7391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концу младшей группы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этапно формировать предпосылки духовно - нравственных качеств (доброта, сочувствие, милосердие, терпимость, справедливость, отзывчив, уважение, ответствен.)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формировать стремление подражать положительным персонажам детских литературных произведен. и желание вести себя по отношению к окружающим доброжелательно, заботливо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ысить уровень речевого развития; расширить словарный запас красивыми литерат. выражениям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ь умения «быть артистами» (выразительность, эмоциональность, раскрепощенность, импровизационность, инициативность, смелость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6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8"/>
          <p:cNvSpPr/>
          <p:nvPr/>
        </p:nvSpPr>
        <p:spPr>
          <a:xfrm>
            <a:off x="2057400" y="31240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1be7"/>
                </a:solidFill>
                <a:latin typeface="Times New Roman"/>
              </a:rPr>
              <a:t>Пальчиковая гимнастика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3962520" y="228600"/>
            <a:ext cx="609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Times New Roman"/>
              </a:rPr>
              <a:t>Форм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4038480" y="3841920"/>
            <a:ext cx="381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Times New Roman"/>
              </a:rPr>
              <a:t>работ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2" name="Рисунок 8" descr="20220309_094336.jpg"/>
          <p:cNvPicPr/>
          <p:nvPr/>
        </p:nvPicPr>
        <p:blipFill>
          <a:blip r:embed="rId1"/>
          <a:stretch/>
        </p:blipFill>
        <p:spPr>
          <a:xfrm>
            <a:off x="457200" y="380880"/>
            <a:ext cx="3556080" cy="26672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9" descr="20220309_094342.jpg"/>
          <p:cNvPicPr/>
          <p:nvPr/>
        </p:nvPicPr>
        <p:blipFill>
          <a:blip r:embed="rId2"/>
          <a:stretch/>
        </p:blipFill>
        <p:spPr>
          <a:xfrm>
            <a:off x="4724280" y="37339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1" descr="1039611_2.png"/>
          <p:cNvPicPr/>
          <p:nvPr/>
        </p:nvPicPr>
        <p:blipFill>
          <a:blip r:embed="rId3"/>
          <a:stretch/>
        </p:blipFill>
        <p:spPr>
          <a:xfrm>
            <a:off x="457200" y="3581280"/>
            <a:ext cx="2946240" cy="29466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2" descr="veselye-ladoshki.jpg"/>
          <p:cNvPicPr/>
          <p:nvPr/>
        </p:nvPicPr>
        <p:blipFill>
          <a:blip r:embed="rId4"/>
          <a:stretch/>
        </p:blipFill>
        <p:spPr>
          <a:xfrm>
            <a:off x="4648320" y="762120"/>
            <a:ext cx="4038480" cy="2271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2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7"/>
          <p:cNvSpPr/>
          <p:nvPr/>
        </p:nvSpPr>
        <p:spPr>
          <a:xfrm>
            <a:off x="860400" y="449280"/>
            <a:ext cx="630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Этюдный тренаж      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33520" y="40384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икция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5203800" y="6316560"/>
            <a:ext cx="355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имика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Рисунок 7" descr="20211021_085353.jpg"/>
          <p:cNvPicPr/>
          <p:nvPr/>
        </p:nvPicPr>
        <p:blipFill>
          <a:blip r:embed="rId1"/>
          <a:stretch/>
        </p:blipFill>
        <p:spPr>
          <a:xfrm>
            <a:off x="1219320" y="152388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20220124_163135.jpg"/>
          <p:cNvPicPr/>
          <p:nvPr/>
        </p:nvPicPr>
        <p:blipFill>
          <a:blip r:embed="rId2"/>
          <a:stretch/>
        </p:blipFill>
        <p:spPr>
          <a:xfrm>
            <a:off x="5029200" y="1523880"/>
            <a:ext cx="3486240" cy="464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60"/>
                            </p:stCondLst>
                            <p:childTnLst>
                              <p:par>
                                <p:cTn id="2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60"/>
                            </p:stCondLst>
                            <p:childTnLst>
                              <p:par>
                                <p:cTn id="2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355760" y="349200"/>
            <a:ext cx="53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Этюдный тренаж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80880" y="4267080"/>
            <a:ext cx="364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Жесты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(«Расскажи стихи руками»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4876920" y="64008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вижения (под музыку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4" name="Рисунок 6" descr="20220309_094148.jpg"/>
          <p:cNvPicPr/>
          <p:nvPr/>
        </p:nvPicPr>
        <p:blipFill>
          <a:blip r:embed="rId1"/>
          <a:stretch/>
        </p:blipFill>
        <p:spPr>
          <a:xfrm>
            <a:off x="380880" y="1295280"/>
            <a:ext cx="3784680" cy="28386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IMG-20210617-WA0023.jpg"/>
          <p:cNvPicPr/>
          <p:nvPr/>
        </p:nvPicPr>
        <p:blipFill>
          <a:blip r:embed="rId2"/>
          <a:stretch/>
        </p:blipFill>
        <p:spPr>
          <a:xfrm>
            <a:off x="4191120" y="4267080"/>
            <a:ext cx="4419360" cy="19893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9" descr="i (1).jpg"/>
          <p:cNvPicPr/>
          <p:nvPr/>
        </p:nvPicPr>
        <p:blipFill>
          <a:blip r:embed="rId3"/>
          <a:stretch/>
        </p:blipFill>
        <p:spPr>
          <a:xfrm>
            <a:off x="4876920" y="1219320"/>
            <a:ext cx="3462120" cy="2819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26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ксана</dc:creator>
  <dc:description/>
  <dc:language>en-US</dc:language>
  <cp:lastModifiedBy>Оксана</cp:lastModifiedBy>
  <dcterms:modified xsi:type="dcterms:W3CDTF">2022-11-24T18:43:40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