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8CE7-175E-4BD0-8487-39C7B7303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79A9-E849-40BB-B2A4-F7A834B4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124034-924B-4D7F-9E08-5F17E02C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0A4788-59C3-411D-BC1F-DA323679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094F57-D540-4421-AA5C-B7BE44F6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A54902-CE47-4CA0-A58E-1B252DC5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4A94A9-B9E0-452B-AF71-CBF070B0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1E93D-FF54-4052-A0B3-476F070A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BCFE5C-7F24-4E1E-9BD7-F6306510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AA89EA-3798-402D-8301-751565DD5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C9108E-3ADC-431B-A2C3-7D95B2439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CAEB72-F6BD-4133-A06D-BE6127EA5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3622-0963-4D3F-806D-8C015E0FC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B95065-C8BF-420F-BE6F-7CF1C04F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FE9968-856E-4A25-BB8A-905072AC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7A40F7-4CE6-4170-916B-39CB78F8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F1330E-3D1B-4454-BB53-DF48CDBA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D02344-EB29-4EF9-90E1-EECA09C6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8E424C-9C4C-42AB-A51B-E02D60F9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EB4BF0-0B01-4219-87C7-91944D17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7A7BDC-5E33-4D8A-8BC0-0D9CBBBE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CF0229-C19F-4281-9135-CF671E26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0B030D-9F12-4B37-9EA5-2260523F8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4054-5F87-4D10-A1DB-5FAC42907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7B92B9-BC94-4C82-92E5-0F34CEF46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A115D-0892-43EC-895D-08C77557B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38DDB-FAD7-43BF-B956-EA2B9158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3C58E8-0D4E-4450-9A48-EBCB8C48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C44FB-A58F-4E30-8EC3-EF821E47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618C92-3993-44FE-9A9F-4DFEC6A3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9E20B4-718A-42E5-A8DF-7BD11A05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92FA26-56AD-4A6E-82BD-A8ADF179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516D8-9BE2-4B09-965B-0F46A38F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9979A6-AD84-4156-8BB4-9371978F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17DC-D5BB-465B-B33C-4F4C85C51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BCB949-1366-4E82-A7B5-C25EBEB5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2CE63E-E8C1-478E-BDE1-F4D12E52D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D6CA6-7383-4275-8E89-E813EFC5D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D896-75C3-4557-9024-463DF497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DB66-56C5-4955-9D4C-C6A096AD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B35B-AF1F-4D38-A004-21D23B6F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10E1-5286-419C-9130-EACCC15B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3613-121D-4BD2-B2AB-230037AB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B3E7-7A82-4EA7-840F-26E09BB6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497A-617C-42B5-87B2-062BC00B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5F34-05B3-4AD3-80E9-2C58C32A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8C4A-827D-4FBC-96D7-1FAF1594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801D-860C-4044-8997-C9387422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0DF6-243A-4D61-86DA-4D5171CCD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457CF-7387-4F38-9F44-EDD17EC24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DE14A-9049-4A06-9804-CDB49CC88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DAEFC-A29B-4858-81F5-0124F13F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67DEE-9CE5-41DE-97A6-8ECD44C0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DE2C3-7759-476B-90B3-49BC8FE6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2DBC5-4147-4738-BAF1-82E47B48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6DB5-C423-4100-9182-8E51DF6B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15B01-10D0-4272-8E3E-0A194D7A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46BEE-8284-4C43-9B88-FE0F588E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26A24-A93C-4FC1-B3D9-E69C1C04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46A07-1033-4681-818C-C4070DB4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A9F6B-B619-495C-8076-5ABA849D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CFD5A-E451-4FAE-BCCA-5C405844B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DED3F-3894-495D-B9BD-18025F2E3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98DF9-03ED-494A-88B3-8BD56C174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505AC-3EB7-4597-BEE0-D3234180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CDBA3-5D28-47D5-86E9-0EDCB6E1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C230-A678-4186-90E8-D2524F53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4399D-83EF-417E-8412-EF6309BA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D8F09-2AEF-4FF5-AC3B-1BCB979D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E9182-4CD5-45A4-A656-E33DF8BC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6B274-53D7-45D1-BB4C-D3726113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6FA99-18E0-44B9-A56C-F5FC3191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F7363-D3BC-459C-9128-7A17415B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B7DC2-5713-4F1D-B95A-11A53B9B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72D97-ECBB-4F96-B92E-2113B71A1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6F0BD-1639-4D20-BDC0-79772F666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48990-E0AE-435F-A7B1-D3C9B1797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BBED-5567-4F7C-AB09-237983FD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BAD6F-CFF6-4280-8E98-F45C3947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53A76-85A2-424B-B950-39C1975B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136FB-3DB9-4E57-BAB4-FB7DD470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0C926-8960-4571-A099-0F7E8AB5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B3CDD-4EC2-47E6-B42D-F6A15E1F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78C01-69EF-4B83-B2A4-ED57A22A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CBC5E-9CB8-4D31-946D-0439919D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D0398-7F77-4DF6-A8EB-2873F617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6C8A9-CC8A-435A-8678-AC86FEB5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BA21D-7E65-4382-A540-EFC9986F4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C340-B662-4B0C-91A7-F908CE51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DC7FA-875E-4C83-8473-A85442AD9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13696C-A6B2-4D59-9C2D-ADAC026BA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1A5594-93A2-4F93-B812-40AF7BCA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8F31AB-320F-4DDD-9BE9-8D2C04D7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286830-34FE-4062-A6CB-DA6C8AE1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2125F7-E4FA-4B16-9A17-DEE53D5C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D72C02-38CC-4C05-A998-D7E2B9FD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A087E6-B59A-40BA-8E44-6837D009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B663D1-506B-4DDB-957F-AE8282BD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E0CC7C-2B7A-418E-9ECC-911F4518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C3E4-A847-46D4-8776-23F2539D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05F85E-8A4D-4C57-896B-A621D701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FDC3B4-947A-48BA-923D-C7B7EB0D2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E20900-6672-4AD1-A39C-0AC2F11EC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7C8C3-6CF1-4310-B80B-8A949E1A6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F9196-9802-4582-83EF-FA8187EA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A26E6-B67C-4E78-9529-F1CFDB76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1E0CD-0D4F-4A4B-AEA8-A224EFB7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6986A-D2BF-45D9-9749-1474E64A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302EB-D790-4311-94FA-BBCA0BB2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7C7CC-266B-4C37-8984-95C9F0BB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A253-4103-452A-B131-6241D62E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8AD4D-9ABC-4897-96D6-A2EDAE52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EFCFA-B696-43B9-87D5-139664CA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10024-695A-40C9-826E-6FB85D8F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48F2C-2D5E-4E37-8004-CE3D6B9EE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A2AAA-0EBA-49E6-95A4-976A355B3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366AA-9FC5-41A2-A399-E82D38894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2EF90-CAF2-40DC-BC43-337757E8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1C93D-63B0-4B5B-AA0F-74BDE6BB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C5921-8FF8-4B0F-966B-0960E453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67E61-461C-4911-927B-45D038AF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8504-F757-4ABF-BFEF-0C26249C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F3BC9-FEF9-47B9-846F-8366A53A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0C01D-AAD3-41F6-AF3B-F6DA3107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A48CE-762F-46CF-83B4-21B36316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A2D96-C6E3-42D7-B5FF-CF61CCA9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BBA9F-613F-4146-9973-78B4F710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3F12B-3B07-48F9-9B27-85786F840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95881-B379-4615-BE64-D056C27A2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F10F35-A483-474A-AB49-9B51D69E1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7D011A-835A-4F68-95C8-8C940B1E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7A3CD-65C9-4738-8FBA-62FA2C7C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40AC-113C-4D16-B27D-A5E16579995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45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45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6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47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7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47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7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47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48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48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2A15-385B-44FC-BBA7-DD62D48F37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3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7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8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D42E-A24F-4229-B22A-EAE5F16B46F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0DC1-167E-47AD-B478-AA6D248A53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89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FADA-6C75-4E43-A395-D97FA50CDCF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C584-1E10-49E8-8085-983C24F99E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75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6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77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8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9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0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1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82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4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5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87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88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0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91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92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3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4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5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96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7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8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9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00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1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2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3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5D66-BFE0-41B5-B5AE-270B0C2FC3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59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7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E830-199E-4095-B7FB-1EE3473A467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322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3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4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1BFF-70FC-4724-90CD-C12499343B7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473CB-BAD2-4CD3-8B58-CDFB786C91E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09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5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6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A739-2FB2-4A99-BEA4-ECB94F52809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42520" y="45684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Edward Lea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1442520" y="2514240"/>
            <a:ext cx="72392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Bor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2 May 1812,   Holloway, London, Engla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Died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9 January 1888)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aged 75),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anremo,Ital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Occupatio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Ilustrator, Writer (poe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Nationalit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Englis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Period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19th centu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Genr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Children's Literature, Literary nonsens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2" name="Picture 4" descr="Edwardlear"/>
          <p:cNvPicPr/>
          <p:nvPr/>
        </p:nvPicPr>
        <p:blipFill>
          <a:blip r:embed="rId1"/>
          <a:stretch/>
        </p:blipFill>
        <p:spPr>
          <a:xfrm>
            <a:off x="5791320" y="228600"/>
            <a:ext cx="2119320" cy="21337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5" descr="220px-1862ca-a-book-of-nonsense--edward-lear-001"/>
          <p:cNvPicPr/>
          <p:nvPr/>
        </p:nvPicPr>
        <p:blipFill>
          <a:blip r:embed="rId2"/>
          <a:stretch/>
        </p:blipFill>
        <p:spPr>
          <a:xfrm>
            <a:off x="990720" y="4419720"/>
            <a:ext cx="34290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4" descr="лимерик 005"/>
          <p:cNvPicPr/>
          <p:nvPr/>
        </p:nvPicPr>
        <p:blipFill>
          <a:blip r:embed="rId1"/>
          <a:stretch/>
        </p:blipFill>
        <p:spPr>
          <a:xfrm>
            <a:off x="3124080" y="762120"/>
            <a:ext cx="3427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Verdana"/>
              </a:rPr>
              <a:t>Guess the riddle!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Little Nancy Etticoat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With a white petticoat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A red nose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She has no feet and hands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The longer she stands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The shorter she grows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7" name="Rectangle 5"/>
          <p:cNvSpPr/>
          <p:nvPr/>
        </p:nvSpPr>
        <p:spPr>
          <a:xfrm>
            <a:off x="5181480" y="2754360"/>
            <a:ext cx="3353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онкая девчонка, белая юбчонка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расный нос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ем длиннее ночи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ем она короч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 горючих слез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4" descr="лимерик 004"/>
          <p:cNvPicPr/>
          <p:nvPr/>
        </p:nvPicPr>
        <p:blipFill>
          <a:blip r:embed="rId1"/>
          <a:stretch/>
        </p:blipFill>
        <p:spPr>
          <a:xfrm>
            <a:off x="3352680" y="533520"/>
            <a:ext cx="37213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Arial"/>
              </a:rPr>
              <a:t>Что такое поэзия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09480" y="2336400"/>
            <a:ext cx="7925040" cy="36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99"/>
                </a:solidFill>
                <a:latin typeface="Arial"/>
              </a:rPr>
              <a:t>Поэзия есть наилучшие слова, поставленные в наилучшем порядке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А.Пушкин                 М.Лермонтов,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В. Жуковский             К. Батюшк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2" name="Picture 3" descr="пушкин"/>
          <p:cNvPicPr/>
          <p:nvPr/>
        </p:nvPicPr>
        <p:blipFill>
          <a:blip r:embed="rId1"/>
          <a:stretch/>
        </p:blipFill>
        <p:spPr>
          <a:xfrm>
            <a:off x="457200" y="1752480"/>
            <a:ext cx="1919160" cy="228600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4" descr="лермонтов"/>
          <p:cNvPicPr/>
          <p:nvPr/>
        </p:nvPicPr>
        <p:blipFill>
          <a:blip r:embed="rId2"/>
          <a:stretch/>
        </p:blipFill>
        <p:spPr>
          <a:xfrm>
            <a:off x="5037120" y="1752480"/>
            <a:ext cx="3135240" cy="206064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5" descr="jukovski_1194354801_tonnel"/>
          <p:cNvPicPr/>
          <p:nvPr/>
        </p:nvPicPr>
        <p:blipFill>
          <a:blip r:embed="rId3"/>
          <a:stretch/>
        </p:blipFill>
        <p:spPr>
          <a:xfrm>
            <a:off x="2514600" y="3505320"/>
            <a:ext cx="1887480" cy="251460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6" descr="батюшков Конст Никол"/>
          <p:cNvPicPr/>
          <p:nvPr/>
        </p:nvPicPr>
        <p:blipFill>
          <a:blip r:embed="rId4"/>
          <a:stretch/>
        </p:blipFill>
        <p:spPr>
          <a:xfrm>
            <a:off x="6172200" y="3962520"/>
            <a:ext cx="1884240" cy="24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В. Брюсов     А. Блок</a:t>
            </a: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И. Бунин                   Б. Пастерна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7" name="Picture 3" descr="брюсов валерий яковлев"/>
          <p:cNvPicPr/>
          <p:nvPr/>
        </p:nvPicPr>
        <p:blipFill>
          <a:blip r:embed="rId1"/>
          <a:stretch/>
        </p:blipFill>
        <p:spPr>
          <a:xfrm>
            <a:off x="2286000" y="1752480"/>
            <a:ext cx="1838160" cy="27432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4" descr="блок александр"/>
          <p:cNvPicPr/>
          <p:nvPr/>
        </p:nvPicPr>
        <p:blipFill>
          <a:blip r:embed="rId2"/>
          <a:stretch/>
        </p:blipFill>
        <p:spPr>
          <a:xfrm>
            <a:off x="4648320" y="1752480"/>
            <a:ext cx="2031840" cy="243864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5" descr="Бунин иван Алекс"/>
          <p:cNvPicPr/>
          <p:nvPr/>
        </p:nvPicPr>
        <p:blipFill>
          <a:blip r:embed="rId3"/>
          <a:stretch/>
        </p:blipFill>
        <p:spPr>
          <a:xfrm>
            <a:off x="685800" y="3581280"/>
            <a:ext cx="1500120" cy="251460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6" descr="пастернак борис"/>
          <p:cNvPicPr/>
          <p:nvPr/>
        </p:nvPicPr>
        <p:blipFill>
          <a:blip r:embed="rId4"/>
          <a:stretch/>
        </p:blipFill>
        <p:spPr>
          <a:xfrm>
            <a:off x="6858000" y="3429000"/>
            <a:ext cx="16588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Н. Карамзин                    И. Тургенев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             Ф. Тютчев     А. Ф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2" name="Picture 3" descr="тургенев иван серг"/>
          <p:cNvPicPr/>
          <p:nvPr/>
        </p:nvPicPr>
        <p:blipFill>
          <a:blip r:embed="rId1"/>
          <a:stretch/>
        </p:blipFill>
        <p:spPr>
          <a:xfrm>
            <a:off x="6553080" y="1752480"/>
            <a:ext cx="1903680" cy="25146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4" descr="ТИютче Федор иван"/>
          <p:cNvPicPr/>
          <p:nvPr/>
        </p:nvPicPr>
        <p:blipFill>
          <a:blip r:embed="rId2"/>
          <a:stretch/>
        </p:blipFill>
        <p:spPr>
          <a:xfrm>
            <a:off x="2666880" y="3733920"/>
            <a:ext cx="1932120" cy="236196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5" descr="Фет афанасий Афанас"/>
          <p:cNvPicPr/>
          <p:nvPr/>
        </p:nvPicPr>
        <p:blipFill>
          <a:blip r:embed="rId3"/>
          <a:stretch/>
        </p:blipFill>
        <p:spPr>
          <a:xfrm>
            <a:off x="4800600" y="3733920"/>
            <a:ext cx="1638360" cy="236196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6" descr="Николай Михайлович  карамзин (Medium)"/>
          <p:cNvPicPr/>
          <p:nvPr/>
        </p:nvPicPr>
        <p:blipFill>
          <a:blip r:embed="rId4"/>
          <a:stretch/>
        </p:blipFill>
        <p:spPr>
          <a:xfrm>
            <a:off x="609480" y="1828800"/>
            <a:ext cx="18367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         </a:t>
            </a:r>
            <a:r>
              <a:rPr b="1" lang="en-US" sz="3800" spc="-1" strike="noStrike">
                <a:solidFill>
                  <a:srgbClr val="ff3399"/>
                </a:solidFill>
                <a:latin typeface="Verdana"/>
              </a:rPr>
              <a:t>Humpty Dumpty</a:t>
            </a:r>
            <a:endParaRPr b="0" lang="en-US" sz="3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1447920" y="2057400"/>
            <a:ext cx="716256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Humpty Dumpty sat on a wall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,</a:t>
            </a:r>
            <a:br>
              <a:rPr sz="2800"/>
            </a:b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Humpty Dumpty had a great fall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;</a:t>
            </a:r>
            <a:br>
              <a:rPr sz="2800"/>
            </a:b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All the King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`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s horses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And all the King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`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s men</a:t>
            </a:r>
            <a:br>
              <a:rPr sz="2800"/>
            </a:b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Couldn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`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t put Humpty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Together again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4800600" y="990720"/>
            <a:ext cx="37670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6666"/>
                </a:solidFill>
                <a:latin typeface="Verdana"/>
              </a:rPr>
              <a:t>Шалтай–Болтай. </a:t>
            </a:r>
            <a:br>
              <a:rPr sz="3700"/>
            </a:br>
            <a:endParaRPr b="0" lang="en-US" sz="37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2514240" y="1142640"/>
            <a:ext cx="5181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1" lang="ru-RU" sz="2200" spc="-1" strike="noStrike">
                <a:solidFill>
                  <a:srgbClr val="006699"/>
                </a:solidFill>
                <a:latin typeface="Verdana"/>
              </a:rPr>
              <a:t>Шалтай-Болтай </a:t>
            </a:r>
            <a:br>
              <a:rPr sz="2200"/>
            </a:br>
            <a:r>
              <a:rPr b="1" lang="ru-RU" sz="2200" spc="-1" strike="noStrike">
                <a:solidFill>
                  <a:srgbClr val="006699"/>
                </a:solidFill>
                <a:latin typeface="Verdana"/>
              </a:rPr>
              <a:t>Сидел на стене.</a:t>
            </a:r>
            <a:br>
              <a:rPr sz="2200"/>
            </a:br>
            <a:r>
              <a:rPr b="1" lang="ru-RU" sz="2200" spc="-1" strike="noStrike">
                <a:solidFill>
                  <a:srgbClr val="006699"/>
                </a:solidFill>
                <a:latin typeface="Verdana"/>
              </a:rPr>
              <a:t>Шалтай-Болтай</a:t>
            </a:r>
            <a:br>
              <a:rPr sz="2200"/>
            </a:br>
            <a:r>
              <a:rPr b="1" lang="ru-RU" sz="2200" spc="-1" strike="noStrike">
                <a:solidFill>
                  <a:srgbClr val="006699"/>
                </a:solidFill>
                <a:latin typeface="Verdana"/>
              </a:rPr>
              <a:t>Свалился во сне.</a:t>
            </a:r>
            <a:br>
              <a:rPr sz="2200"/>
            </a:br>
            <a:r>
              <a:rPr b="1" lang="ru-RU" sz="2200" spc="-1" strike="noStrike">
                <a:solidFill>
                  <a:srgbClr val="006699"/>
                </a:solidFill>
                <a:latin typeface="Verdana"/>
              </a:rPr>
              <a:t>Вся королевская конница,</a:t>
            </a:r>
            <a:br>
              <a:rPr sz="2200"/>
            </a:br>
            <a:r>
              <a:rPr b="1" lang="ru-RU" sz="2200" spc="-1" strike="noStrike">
                <a:solidFill>
                  <a:srgbClr val="006699"/>
                </a:solidFill>
                <a:latin typeface="Verdana"/>
              </a:rPr>
              <a:t>Вся королевская рать</a:t>
            </a:r>
            <a:br>
              <a:rPr sz="2200"/>
            </a:br>
            <a:r>
              <a:rPr b="1" lang="ru-RU" sz="2200" spc="-1" strike="noStrike">
                <a:solidFill>
                  <a:srgbClr val="006699"/>
                </a:solidFill>
                <a:latin typeface="Verdana"/>
              </a:rPr>
              <a:t>Не может</a:t>
            </a:r>
            <a:br>
              <a:rPr sz="2200"/>
            </a:br>
            <a:r>
              <a:rPr b="1" lang="ru-RU" sz="2200" spc="-1" strike="noStrike">
                <a:solidFill>
                  <a:srgbClr val="006699"/>
                </a:solidFill>
                <a:latin typeface="Verdana"/>
              </a:rPr>
              <a:t>Шалтая,</a:t>
            </a:r>
            <a:br>
              <a:rPr sz="2200"/>
            </a:br>
            <a:r>
              <a:rPr b="1" lang="ru-RU" sz="2200" spc="-1" strike="noStrike">
                <a:solidFill>
                  <a:srgbClr val="006699"/>
                </a:solidFill>
                <a:latin typeface="Verdana"/>
              </a:rPr>
              <a:t>Не может</a:t>
            </a:r>
            <a:br>
              <a:rPr sz="2200"/>
            </a:br>
            <a:r>
              <a:rPr b="1" lang="ru-RU" sz="2200" spc="-1" strike="noStrike">
                <a:solidFill>
                  <a:srgbClr val="006699"/>
                </a:solidFill>
                <a:latin typeface="Verdana"/>
              </a:rPr>
              <a:t>Болтая,</a:t>
            </a:r>
            <a:br>
              <a:rPr sz="2200"/>
            </a:br>
            <a:r>
              <a:rPr b="1" lang="ru-RU" sz="2200" spc="-1" strike="noStrike">
                <a:solidFill>
                  <a:srgbClr val="006699"/>
                </a:solidFill>
                <a:latin typeface="Verdana"/>
              </a:rPr>
              <a:t>Шалтая-Болтая</a:t>
            </a:r>
            <a:br>
              <a:rPr sz="2200"/>
            </a:br>
            <a:r>
              <a:rPr b="1" lang="ru-RU" sz="2200" spc="-1" strike="noStrike">
                <a:solidFill>
                  <a:srgbClr val="006699"/>
                </a:solidFill>
                <a:latin typeface="Verdana"/>
              </a:rPr>
              <a:t>Болтая-Шалтая</a:t>
            </a:r>
            <a:br>
              <a:rPr sz="2200"/>
            </a:br>
            <a:r>
              <a:rPr b="1" lang="ru-RU" sz="2200" spc="-1" strike="noStrike">
                <a:solidFill>
                  <a:srgbClr val="006699"/>
                </a:solidFill>
                <a:latin typeface="Verdana"/>
              </a:rPr>
              <a:t>Шалтая-Болтая собрать!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42800" y="195840"/>
            <a:ext cx="82440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457200" y="1143000"/>
            <a:ext cx="4038480" cy="49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Humpty Dumpty sat on a wall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,</a:t>
            </a:r>
            <a:br>
              <a:rPr sz="2400"/>
            </a:b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Humpty Dumpty had a great fall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;</a:t>
            </a:r>
            <a:br>
              <a:rPr sz="2400"/>
            </a:b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All the King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`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s horses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And all the King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`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s men</a:t>
            </a:r>
            <a:br>
              <a:rPr sz="2400"/>
            </a:b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Couldn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`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t put Humpty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Together again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4648320" y="1143000"/>
            <a:ext cx="4038480" cy="49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ru-RU" sz="2200" spc="-1" strike="noStrike">
                <a:solidFill>
                  <a:srgbClr val="006699"/>
                </a:solidFill>
                <a:latin typeface="Verdana"/>
              </a:rPr>
              <a:t>Шалтай-Болтай </a:t>
            </a:r>
            <a:br>
              <a:rPr sz="2200"/>
            </a:br>
            <a:r>
              <a:rPr b="1" lang="ru-RU" sz="2200" spc="-1" strike="noStrike">
                <a:solidFill>
                  <a:srgbClr val="006699"/>
                </a:solidFill>
                <a:latin typeface="Verdana"/>
              </a:rPr>
              <a:t>Сидел на стене.</a:t>
            </a:r>
            <a:br>
              <a:rPr sz="2200"/>
            </a:br>
            <a:r>
              <a:rPr b="1" lang="ru-RU" sz="2200" spc="-1" strike="noStrike">
                <a:solidFill>
                  <a:srgbClr val="006699"/>
                </a:solidFill>
                <a:latin typeface="Verdana"/>
              </a:rPr>
              <a:t>Шалтай-Болтай</a:t>
            </a:r>
            <a:br>
              <a:rPr sz="2200"/>
            </a:br>
            <a:r>
              <a:rPr b="1" lang="ru-RU" sz="2200" spc="-1" strike="noStrike">
                <a:solidFill>
                  <a:srgbClr val="006699"/>
                </a:solidFill>
                <a:latin typeface="Verdana"/>
              </a:rPr>
              <a:t>Свалился во сне.</a:t>
            </a:r>
            <a:br>
              <a:rPr sz="2200"/>
            </a:br>
            <a:r>
              <a:rPr b="1" lang="ru-RU" sz="2200" spc="-1" strike="noStrike">
                <a:solidFill>
                  <a:srgbClr val="006699"/>
                </a:solidFill>
                <a:latin typeface="Verdana"/>
              </a:rPr>
              <a:t>Вся королевская конница,</a:t>
            </a:r>
            <a:br>
              <a:rPr sz="2200"/>
            </a:br>
            <a:r>
              <a:rPr b="1" lang="ru-RU" sz="2200" spc="-1" strike="noStrike">
                <a:solidFill>
                  <a:srgbClr val="006699"/>
                </a:solidFill>
                <a:latin typeface="Verdana"/>
              </a:rPr>
              <a:t>Вся королевская рать</a:t>
            </a:r>
            <a:br>
              <a:rPr sz="2200"/>
            </a:br>
            <a:r>
              <a:rPr b="1" lang="ru-RU" sz="2200" spc="-1" strike="noStrike">
                <a:solidFill>
                  <a:srgbClr val="006699"/>
                </a:solidFill>
                <a:latin typeface="Verdana"/>
              </a:rPr>
              <a:t>Не может</a:t>
            </a:r>
            <a:br>
              <a:rPr sz="2200"/>
            </a:br>
            <a:r>
              <a:rPr b="1" lang="ru-RU" sz="2200" spc="-1" strike="noStrike">
                <a:solidFill>
                  <a:srgbClr val="006699"/>
                </a:solidFill>
                <a:latin typeface="Verdana"/>
              </a:rPr>
              <a:t>Шалтая,</a:t>
            </a:r>
            <a:br>
              <a:rPr sz="2200"/>
            </a:br>
            <a:r>
              <a:rPr b="1" lang="ru-RU" sz="2200" spc="-1" strike="noStrike">
                <a:solidFill>
                  <a:srgbClr val="006699"/>
                </a:solidFill>
                <a:latin typeface="Verdana"/>
              </a:rPr>
              <a:t>Не может</a:t>
            </a:r>
            <a:br>
              <a:rPr sz="2200"/>
            </a:br>
            <a:r>
              <a:rPr b="1" lang="ru-RU" sz="2200" spc="-1" strike="noStrike">
                <a:solidFill>
                  <a:srgbClr val="006699"/>
                </a:solidFill>
                <a:latin typeface="Verdana"/>
              </a:rPr>
              <a:t>Болтая,</a:t>
            </a:r>
            <a:br>
              <a:rPr sz="2200"/>
            </a:br>
            <a:r>
              <a:rPr b="1" lang="ru-RU" sz="2200" spc="-1" strike="noStrike">
                <a:solidFill>
                  <a:srgbClr val="006699"/>
                </a:solidFill>
                <a:latin typeface="Verdana"/>
              </a:rPr>
              <a:t>Шалтая-Болтая</a:t>
            </a:r>
            <a:br>
              <a:rPr sz="2200"/>
            </a:br>
            <a:r>
              <a:rPr b="1" lang="ru-RU" sz="2200" spc="-1" strike="noStrike">
                <a:solidFill>
                  <a:srgbClr val="006699"/>
                </a:solidFill>
                <a:latin typeface="Verdana"/>
              </a:rPr>
              <a:t>Болтая-Шалтая</a:t>
            </a:r>
            <a:br>
              <a:rPr sz="2200"/>
            </a:br>
            <a:r>
              <a:rPr b="1" lang="ru-RU" sz="2200" spc="-1" strike="noStrike">
                <a:solidFill>
                  <a:srgbClr val="006699"/>
                </a:solidFill>
                <a:latin typeface="Verdana"/>
              </a:rPr>
              <a:t>Шалтая-Болтая собрать!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55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c0000"/>
                </a:solidFill>
                <a:latin typeface="Verdana"/>
              </a:rPr>
              <a:t>С. Я. Марша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Замечательный советский поэт, великолепный мастер перевода, человек высокой культуры и самых разнообразных интересов и знаний – </a:t>
            </a:r>
            <a:r>
              <a:rPr b="1" lang="ru-RU" sz="2200" spc="-1" strike="noStrike">
                <a:solidFill>
                  <a:srgbClr val="6600cc"/>
                </a:solidFill>
                <a:latin typeface="Verdana"/>
              </a:rPr>
              <a:t>Самуил Яковлевич Маршак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 родился </a:t>
            </a:r>
            <a:r>
              <a:rPr b="1" lang="ru-RU" sz="2200" spc="-1" strike="noStrike">
                <a:solidFill>
                  <a:srgbClr val="cc0000"/>
                </a:solidFill>
                <a:latin typeface="Verdana"/>
              </a:rPr>
              <a:t>в 1887 году в Воронеже.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6" name="Picture 7" descr="маршак"/>
          <p:cNvPicPr/>
          <p:nvPr/>
        </p:nvPicPr>
        <p:blipFill>
          <a:blip r:embed="rId1"/>
          <a:stretch/>
        </p:blipFill>
        <p:spPr>
          <a:xfrm>
            <a:off x="5562720" y="2133720"/>
            <a:ext cx="259056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ffff"/>
                </a:solidFill>
                <a:latin typeface="Tahoma"/>
              </a:rPr>
              <a:t>Статья «Служба связи», С.Я. Маршак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63520" y="1066320"/>
            <a:ext cx="7386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«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Искусство поэтического перевода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ef85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дело нелегкое.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но не дается в руки тем, кто видит в нем только средство для заработка и относится к работе поверхностно и небрежно. Для того, чтобы овладеть живым, гибким языком, лишенным неуклюжести, свойственной ремесленным переводам, надо потратить немало труда – не меньше, чем, скажем, тратит балерина, добивающаяся свободы, плавности и гибкости движений. Надо так глубоко и тонко понимать содержание и стиль переводимого текста, чтобы безошибочно чувствовать, какое слово мог бы сказать автор или его герой, а какое было им чуждо»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William Blake  </a:t>
            </a:r>
            <a:r>
              <a:rPr b="1" i="1" lang="ru-RU" sz="2400" spc="-1" strike="noStrike">
                <a:solidFill>
                  <a:srgbClr val="cc0000"/>
                </a:solidFill>
                <a:latin typeface="Verdana"/>
              </a:rPr>
              <a:t>(1757-1827)</a:t>
            </a:r>
            <a:r>
              <a:rPr b="0" i="1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Уильям Блейк </a:t>
            </a:r>
            <a:r>
              <a:rPr b="1" i="1" lang="en-US" sz="2600" spc="-1" strike="noStrike">
                <a:solidFill>
                  <a:srgbClr val="000000"/>
                </a:solidFill>
                <a:latin typeface="Verdana"/>
              </a:rPr>
              <a:t> -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 английский поэт и художник, родился 28 ноября 1757 года в Лондоне, в семье лавочника.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9" name="Picture 7" descr="блейк"/>
          <p:cNvPicPr/>
          <p:nvPr/>
        </p:nvPicPr>
        <p:blipFill>
          <a:blip r:embed="rId1"/>
          <a:stretch/>
        </p:blipFill>
        <p:spPr>
          <a:xfrm>
            <a:off x="762120" y="2133720"/>
            <a:ext cx="2819160" cy="31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Robin the Bob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228240" y="990360"/>
            <a:ext cx="28954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obin the Bobin, the big-bellied Ben.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e ate more meat than fourscore men;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e ate a cow, he ate a calf,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e ate a butcher and a half,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e ate a church, he ate a steeple,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e ate a priest and all the people!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 cow and a calf,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 ox and a half,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 church and a steeple,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d all good people,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d yet he complained that his stomach wasn’t full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095880" y="990720"/>
            <a:ext cx="2819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Робин-Боббин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Кое-как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Подкрепился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Натощак: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Съел телёнка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Утром рано,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Двух овечек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И барана,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Съел корову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Целиком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И прилавок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С мясником,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Сотню жаворонков в тесте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И коня с телегой вместе,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Пять церквей и колоколен –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Да ещё и недоволен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10" descr="лимерик 003"/>
          <p:cNvPicPr/>
          <p:nvPr/>
        </p:nvPicPr>
        <p:blipFill>
          <a:blip r:embed="rId1"/>
          <a:stretch/>
        </p:blipFill>
        <p:spPr>
          <a:xfrm>
            <a:off x="3352680" y="1752480"/>
            <a:ext cx="24926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ree Little Kitten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-360" y="990360"/>
            <a:ext cx="38098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e little kittens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lost their mittens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they began to cry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h, Mother dear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greatly fear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mittens we have lost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st your mittens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 naughty kittens!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n you shall have no pie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ew, miew, miew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, you shall have no pie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e little kittens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found their mittens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they began to cry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h, Mother dear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here, see here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mittens we have found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nd your mittens, you clever kittens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n you shall have some pie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r, purr, purr,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5410080" y="1066680"/>
            <a:ext cx="37339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теряли котятки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дороге перчатки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в слезах прибежали домой: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Мама, мама, прости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ы не можем найти,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ы не можем найти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чатки!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Потеряли перчатки?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т дурные котятки!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вам нынче не дам пирога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яу-мяу, не дам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яу-мяу, не дам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вам нынче не дам пирога!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бежали котятки, отыскали перчатки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, смеясь, прибежали домой: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Мама, мама, не злись,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тому что нашлись,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тому что нашлись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чатки!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Отыскали перчатки?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т спасибо, котятки!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за это вам дам пирога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ур-мур-мур, пирога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ур-мур-мур, пирога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за это вам дам пирог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8" descr="лимерик 002"/>
          <p:cNvPicPr/>
          <p:nvPr/>
        </p:nvPicPr>
        <p:blipFill>
          <a:blip r:embed="rId1"/>
          <a:stretch/>
        </p:blipFill>
        <p:spPr>
          <a:xfrm>
            <a:off x="3352680" y="1981080"/>
            <a:ext cx="2133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Little gir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57200" y="1143000"/>
            <a:ext cx="26668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tle girl, little gir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have you be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’ve been to see grandm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 the gre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What did she give yo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lk in a c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What did you say for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nk you, grandm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6171840" y="990360"/>
            <a:ext cx="2514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Маленькая девоч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ажи, где ты был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Была у старой бабу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том краю с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Что ты пила у бабуш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Пила с вареньем ча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Что ты сказала бабуш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Спасибо» и «Проща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7" descr="лимерик 001"/>
          <p:cNvPicPr/>
          <p:nvPr/>
        </p:nvPicPr>
        <p:blipFill>
          <a:blip r:embed="rId1"/>
          <a:stretch/>
        </p:blipFill>
        <p:spPr>
          <a:xfrm>
            <a:off x="3657600" y="1828800"/>
            <a:ext cx="2292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Black sh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152280" y="1143000"/>
            <a:ext cx="33530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a, baa, black sheep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you any wo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s, sir, yes, si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e bags fu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for the mast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one for the dam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one the little bo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lives down the la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5943240" y="1294920"/>
            <a:ext cx="2971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Ты скажи, барашек наш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олько шерсти ты нам даш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Не стриги меня п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м я шерсти три меш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дин мешок –Хозяин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ругой мешок -Хозяйк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третий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тям маленьк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теплые фуфай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8" descr="лимерик"/>
          <p:cNvPicPr/>
          <p:nvPr/>
        </p:nvPicPr>
        <p:blipFill>
          <a:blip r:embed="rId1"/>
          <a:stretch/>
        </p:blipFill>
        <p:spPr>
          <a:xfrm>
            <a:off x="3429000" y="1600200"/>
            <a:ext cx="2448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he key of the kingdo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228600" y="456840"/>
            <a:ext cx="37339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the key of the kingdom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at kingdom there is a city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at city there is a town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at town there is a street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at street there is a lane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at lane there is a yard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at yard there is a house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at house there is a room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at room there is a bed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that bed there is a basket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at basket there are some flowers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owers in a basket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ket on the bed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d in the room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om in the house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use in the yard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ard in the lane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e in the street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et in the town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wn in the city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ty in the kingdom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Of the kingdom this is the key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5715000" y="685800"/>
            <a:ext cx="3200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т вам ключ от королевства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королевстве – город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в городе – улица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на улице есть двор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 дворе – высокий дом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этом доме – спаленка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пальне колыбелька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колыбельке – ландышей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ная корзина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андышей, ландышей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ная корзина!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андыши – в корзине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рзина – в колыбельке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лыбелька – в спаленке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спаленка – в доме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м стоит среди двора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вор глядит на улицу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улица – в городе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род – в королевстве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т от королевства ключ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люч от королевств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8" descr="лимерик 008"/>
          <p:cNvPicPr/>
          <p:nvPr/>
        </p:nvPicPr>
        <p:blipFill>
          <a:blip r:embed="rId1"/>
          <a:stretch/>
        </p:blipFill>
        <p:spPr>
          <a:xfrm>
            <a:off x="3581280" y="3352680"/>
            <a:ext cx="20019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Verdana"/>
              </a:rPr>
              <a:t>Guess the riddle!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Elizabeth, Elspeth, Betsy and Bess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They all went together to seek a bird’s nest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They found a bird’s nest with fi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v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e eggs in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They all took one, and left four in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Элизабет, Лизи,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Бетси и Бес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Весною с корзинкой отправились в лес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В гнезде на березе, где не было птиц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Нашли они пять розоватых яиц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Им всем четверым по яичку досталось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И все же четыре на месте осталось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05:42:48Z</dcterms:created>
  <dc:creator>User</dc:creator>
  <dc:description/>
  <dc:language>en-US</dc:language>
  <cp:lastModifiedBy>comp1</cp:lastModifiedBy>
  <dcterms:modified xsi:type="dcterms:W3CDTF">2016-03-23T07:00:41Z</dcterms:modified>
  <cp:revision>6</cp:revision>
  <dc:subject/>
  <dc:title>Edward Lear</dc:title>
</cp:coreProperties>
</file>