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171-56BB-4FF9-A37F-C88B56DE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87B-069C-4417-B827-0341D90D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1E3A4-5378-43F5-B81A-611AF440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42D66-866E-4987-B763-B249E504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B28B4-65E2-45AC-AE0C-DB30830B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333AA-6FFD-4D47-AE44-CA5E25A8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7598C-E2C1-4630-9F37-53B03DD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CE403-C709-45B3-9B16-CD265D24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3E918-0FBB-4A02-A583-69873227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DB2D0-2F2F-4CDF-B239-4693E85E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354CB-04AB-4481-AF22-27C9D7EA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02401-851B-412A-99D6-C40D73CA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483-5E6D-417C-AF7C-1D163C33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8243E-CD2E-4103-A4BB-BDDEF514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C0327-769E-40B8-92CF-069881F6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67395-7AFD-4C7E-9B02-8D0CEF2A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11CC8-7D72-4BC3-8F86-0BFC1B65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A869C-92D9-4251-B583-784E2C9B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F2160-497E-4B63-A597-B5D59A4B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1C2B4-C130-4203-A17C-288CF1C9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F66DA-7CE9-48D6-BC4B-727D1C3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9A747-04AB-4E0E-AB76-8311FE6D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3519E-E00E-4832-A09E-6AFE2374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A76-08FE-4C49-89B2-7375B7B0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C85CE-616B-408A-8FFB-85902C72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32DD4-EA85-46E5-A351-9C98958B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45FA1-4B62-4129-AE66-2C266C8A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2215D-61AC-4939-98E5-099EBC2C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A5A53-9F67-4448-ABD6-6C31AC22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5F82F-A848-44F5-9D91-04D4C05C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3976C-7B38-4994-9A8D-4A98BC5C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CC90B-6D39-402D-A59E-657DB5F7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C1A38-0A8F-4488-8A66-9D0970EF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9C177-3FAE-442D-917E-C7A94B65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AC50-62C9-46E9-ADC1-F600EF44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03B9D-86EE-45C5-92B6-0F5CEB1D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CF59F-CE3A-46B2-80D1-F0FEFA4F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9082B-34BE-4CEE-A3FC-435E9EC9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012A-59F9-4102-8288-942BF3DC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563E-3704-4267-90DB-D9913254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AD3B-33C5-4A67-B091-9063C80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03F6-5393-473A-96E0-E67353CD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F4D0-FFE0-4ABF-B137-0189D702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2256-6C59-4793-BA77-89B5FD65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E81-4DE9-4E32-8031-CDB65115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265D-0D38-4B80-A2E2-D49210EF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29F0-C931-4C3D-9E7C-DDCF7351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B84B-CC1B-40C4-A8DA-0FCBE74D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E18F-D26E-462D-85CD-73A34775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BEA8-DCBF-498A-884F-68385628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0BDF-6BB6-4724-AD9B-8961DD95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6934-09D4-48B8-A051-7C4DAD64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28B8-F412-40FA-8ED2-09C78771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4A7B-DEEC-4AF3-AB60-6B707FAB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FB41-B4FF-416C-B56B-0D3E6A0D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58E-4496-474A-924D-0482C87C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3559-DE5F-45D5-9AF6-71F12005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8BFD-893F-42EC-902A-7DD1917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DB55-C8A5-4C0C-80AD-74D345E4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F3DF-51EA-49EF-8913-C5615F0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7AD4-0BC7-4CD5-BA3F-0C9EA964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4A71-5751-40EF-9C44-9C8D941C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A273-B2B2-495D-97C9-E6B320F3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101E-4716-424D-A217-473CD05B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51D1-02CE-4075-B866-8D5429C9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3EB9-3F72-43DF-86E2-3A3791E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385-0B6C-4121-AB92-4F345E32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3765-5257-4E9C-841F-E15E4FF3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B0BF4-25F3-423F-92D9-D40C5E8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D227-0FAD-4A8E-BF2A-2398535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B5B3-40E4-4546-BC33-7D567C8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CDA72-FDD7-4753-B297-83E0E9F6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599D0-BA9C-4A62-8C13-5BDC4F9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97AE-10A4-4645-8554-C8F0AB72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7E75-9B14-48F9-B8D0-3CE2C7FA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F3DE-D928-4604-8D47-21AEFD4A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D25F2-A01A-431C-B8C8-48BBD255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A12-6738-4493-B0F8-41DDB9F9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B167-B637-41AB-8780-DC48B706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19D71-DCD9-48E9-85C7-F3378753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5E15-2F7D-450B-8499-AE87443E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1529-ACA0-498F-B8D6-A59AC3E1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6AD8F-93A7-4320-A7BD-88ADF134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2C8A4-D99F-4C50-9A58-074EE46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BA77F-298F-44E1-98FF-0F96EB8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A927C-7660-428B-9CB4-07926F80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F80CE-E250-46D1-9847-A4E3DF5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CBD57-C6B3-46B9-9BE3-49F35A18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089-6F04-49B9-B75C-EA796E05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C5B53-F2DA-480E-B11C-C27D694B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EC11B-CA4E-49D6-8761-BAE4B836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DC00F-BD8C-4B21-A3E2-F4046AA6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88940-A65D-4FE5-BAC3-9D17ACEA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1725A-6A6E-4353-81D5-165CEF73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99114-545C-448A-A33A-F4006E28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13A8A-F42B-4A13-B205-3859EE77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CF3B2-B4E7-4A3C-B1BF-5FBE8F74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1825D-65C5-4ABA-8BEB-0D86ABF9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DA96E-4E12-43B9-8186-A3781BEB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454-9B59-4E53-938D-E46035FE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A4675-6088-4EBF-BE99-5BD5845C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BD16B-9B96-4C58-AA67-2EB37DFB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ACD9A-04EB-4339-9B30-782F2E76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2248-E300-4FE4-9155-961DBE8A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DC092-5217-40A3-8697-4A119F64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13279-2232-4B4A-A216-5887A879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D3FAC-B17A-46B4-90AC-A1ABBB20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EFD6F-61AB-4164-B70F-EA7CCEE7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36EA9-0059-4EF2-8969-6C0A1C91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47FAE-3AE2-4E14-9B31-64E220F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3B2-C852-4378-AA74-9995B4C1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CA4E3-AF6D-4DB0-9133-61CDEBE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5CC1F-AD3A-4615-8392-4C18B3F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35F76-CAD8-44CE-BDEF-1AD74A27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6FB20-97AE-4AB5-882B-EBFBE97B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30E80-DBAF-43D5-8863-9257DE4F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DF092-6E78-4DC9-A108-786723EE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E5BF9-DE9F-401B-B604-264AE364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DE5E8-26A2-4BCD-9DD1-631201DC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B8595-1F01-4D9D-A676-79673222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3446F-9A23-4D72-8D71-A6DC96CF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9B9-97B7-47F0-9B6A-6C6F512A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5067-7217-4742-AD97-26F8126F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73349-E177-4ECB-AB03-57F0BD4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2A732-67B4-40BF-B979-7F198E1A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D6B1B-9CD7-40B7-AC61-D11FC83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E22CA-6357-4825-9987-001DE48C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F3EC3-B3CC-41BD-82CA-E133DC47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AE80D-E4E0-411F-8B72-D0B1B29D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B4390-76A6-4921-BB83-33CAB146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E33E1-AD3F-4661-8E14-0736979D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DEC1E-BB9B-4320-96EE-319B3062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A94D-6857-4950-AF2A-BCFCA9C331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5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5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6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7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7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7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7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7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48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48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04C1-5BA4-4C67-9BB4-F99B6488E1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DCD2-970B-4B20-AFA1-2E950DABE84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AB40-C8A7-4AD3-A3AB-C6B7C06224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7748-E677-4FE5-B219-F70DA1F0B3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785A-B2F0-4C24-BCB0-1CE222719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7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8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7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88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91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92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9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0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F7F-6FC0-4A84-A5B2-2662F54AE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F239-2309-4D2B-866B-971B9B59CCD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2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9373-2416-4FF1-BF9B-7605E51380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5814-1281-4F42-A172-803681488D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BC03-AAC1-4A41-86DC-696553BBE5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2520" y="4568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Edward Le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42520" y="2514240"/>
            <a:ext cx="72392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Bo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2 May 1812,   Holloway, London, Engl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Di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9 January 1888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aged 75)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nremo,Ita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Occup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Ilustrator, Writer (poe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Nationalit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Englis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Perio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19th centu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Genr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Children's Literature, Literary nonsen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2" name="Picture 4" descr="Edwardlear"/>
          <p:cNvPicPr/>
          <p:nvPr/>
        </p:nvPicPr>
        <p:blipFill>
          <a:blip r:embed="rId1"/>
          <a:stretch/>
        </p:blipFill>
        <p:spPr>
          <a:xfrm>
            <a:off x="5791320" y="228600"/>
            <a:ext cx="2119320" cy="2133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220px-1862ca-a-book-of-nonsense--edward-lear-001"/>
          <p:cNvPicPr/>
          <p:nvPr/>
        </p:nvPicPr>
        <p:blipFill>
          <a:blip r:embed="rId2"/>
          <a:stretch/>
        </p:blipFill>
        <p:spPr>
          <a:xfrm>
            <a:off x="990720" y="4419720"/>
            <a:ext cx="3429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лимерик 005"/>
          <p:cNvPicPr/>
          <p:nvPr/>
        </p:nvPicPr>
        <p:blipFill>
          <a:blip r:embed="rId1"/>
          <a:stretch/>
        </p:blipFill>
        <p:spPr>
          <a:xfrm>
            <a:off x="3124080" y="762120"/>
            <a:ext cx="3427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Verdana"/>
              </a:rPr>
              <a:t>Guess the riddle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Little Nancy Etticoat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With a white petticoat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 red nose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She has no feet and hands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e longer she stands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e shorter she grow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5181480" y="2754360"/>
            <a:ext cx="335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онкая девчонка, белая юбчонк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расный н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длиннее ноч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м она короч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 горючих слез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" descr="лимерик 004"/>
          <p:cNvPicPr/>
          <p:nvPr/>
        </p:nvPicPr>
        <p:blipFill>
          <a:blip r:embed="rId1"/>
          <a:stretch/>
        </p:blipFill>
        <p:spPr>
          <a:xfrm>
            <a:off x="3352680" y="533520"/>
            <a:ext cx="3721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Что такое поэзия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2336400"/>
            <a:ext cx="792504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Поэзия есть наилучшие слова, поставленные в наилучшем порядке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А.Пушкин                 М.Лермонтов,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В. Жуковский             К. Батюш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Picture 3" descr="пушкин"/>
          <p:cNvPicPr/>
          <p:nvPr/>
        </p:nvPicPr>
        <p:blipFill>
          <a:blip r:embed="rId1"/>
          <a:stretch/>
        </p:blipFill>
        <p:spPr>
          <a:xfrm>
            <a:off x="457200" y="1752480"/>
            <a:ext cx="1919160" cy="228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лермонтов"/>
          <p:cNvPicPr/>
          <p:nvPr/>
        </p:nvPicPr>
        <p:blipFill>
          <a:blip r:embed="rId2"/>
          <a:stretch/>
        </p:blipFill>
        <p:spPr>
          <a:xfrm>
            <a:off x="5037120" y="1752480"/>
            <a:ext cx="3135240" cy="2060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jukovski_1194354801_tonnel"/>
          <p:cNvPicPr/>
          <p:nvPr/>
        </p:nvPicPr>
        <p:blipFill>
          <a:blip r:embed="rId3"/>
          <a:stretch/>
        </p:blipFill>
        <p:spPr>
          <a:xfrm>
            <a:off x="2514600" y="3505320"/>
            <a:ext cx="1887480" cy="25146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батюшков Конст Никол"/>
          <p:cNvPicPr/>
          <p:nvPr/>
        </p:nvPicPr>
        <p:blipFill>
          <a:blip r:embed="rId4"/>
          <a:stretch/>
        </p:blipFill>
        <p:spPr>
          <a:xfrm>
            <a:off x="6172200" y="3962520"/>
            <a:ext cx="188424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В. Брюсов     А. Блок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И. Бунин                   Б. Пастерн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7" name="Picture 3" descr="брюсов валерий яковлев"/>
          <p:cNvPicPr/>
          <p:nvPr/>
        </p:nvPicPr>
        <p:blipFill>
          <a:blip r:embed="rId1"/>
          <a:stretch/>
        </p:blipFill>
        <p:spPr>
          <a:xfrm>
            <a:off x="2286000" y="1752480"/>
            <a:ext cx="1838160" cy="27432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блок александр"/>
          <p:cNvPicPr/>
          <p:nvPr/>
        </p:nvPicPr>
        <p:blipFill>
          <a:blip r:embed="rId2"/>
          <a:stretch/>
        </p:blipFill>
        <p:spPr>
          <a:xfrm>
            <a:off x="4648320" y="1752480"/>
            <a:ext cx="2031840" cy="24386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Бунин иван Алекс"/>
          <p:cNvPicPr/>
          <p:nvPr/>
        </p:nvPicPr>
        <p:blipFill>
          <a:blip r:embed="rId3"/>
          <a:stretch/>
        </p:blipFill>
        <p:spPr>
          <a:xfrm>
            <a:off x="685800" y="3581280"/>
            <a:ext cx="1500120" cy="25146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пастернак борис"/>
          <p:cNvPicPr/>
          <p:nvPr/>
        </p:nvPicPr>
        <p:blipFill>
          <a:blip r:embed="rId4"/>
          <a:stretch/>
        </p:blipFill>
        <p:spPr>
          <a:xfrm>
            <a:off x="6858000" y="3429000"/>
            <a:ext cx="1658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Н. Карамзин                    И. Тургенев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            Ф. Тютчев     А. Ф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Picture 3" descr="тургенев иван серг"/>
          <p:cNvPicPr/>
          <p:nvPr/>
        </p:nvPicPr>
        <p:blipFill>
          <a:blip r:embed="rId1"/>
          <a:stretch/>
        </p:blipFill>
        <p:spPr>
          <a:xfrm>
            <a:off x="6553080" y="1752480"/>
            <a:ext cx="1903680" cy="25146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ТИютче Федор иван"/>
          <p:cNvPicPr/>
          <p:nvPr/>
        </p:nvPicPr>
        <p:blipFill>
          <a:blip r:embed="rId2"/>
          <a:stretch/>
        </p:blipFill>
        <p:spPr>
          <a:xfrm>
            <a:off x="2666880" y="3733920"/>
            <a:ext cx="1932120" cy="2361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Фет афанасий Афанас"/>
          <p:cNvPicPr/>
          <p:nvPr/>
        </p:nvPicPr>
        <p:blipFill>
          <a:blip r:embed="rId3"/>
          <a:stretch/>
        </p:blipFill>
        <p:spPr>
          <a:xfrm>
            <a:off x="4800600" y="3733920"/>
            <a:ext cx="1638360" cy="23619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Николай Михайлович  карамзин (Medium)"/>
          <p:cNvPicPr/>
          <p:nvPr/>
        </p:nvPicPr>
        <p:blipFill>
          <a:blip r:embed="rId4"/>
          <a:stretch/>
        </p:blipFill>
        <p:spPr>
          <a:xfrm>
            <a:off x="609480" y="1828800"/>
            <a:ext cx="1836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         </a:t>
            </a:r>
            <a:r>
              <a:rPr b="1" lang="en-US" sz="3800" spc="-1" strike="noStrike">
                <a:solidFill>
                  <a:srgbClr val="ff3399"/>
                </a:solidFill>
                <a:latin typeface="Verdana"/>
              </a:rPr>
              <a:t>Humpty Dumpty</a:t>
            </a:r>
            <a:endParaRPr b="0" lang="en-US" sz="3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47920" y="20574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umpty Dumpty sat on a wall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umpty Dumpty had a great fall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;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ll the King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 horse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nd all the King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 men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ouldn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 put Humpty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ogether agai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800600" y="990720"/>
            <a:ext cx="376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66"/>
                </a:solidFill>
                <a:latin typeface="Verdana"/>
              </a:rPr>
              <a:t>Шалтай–Болтай. </a:t>
            </a:r>
            <a:br>
              <a:rPr sz="3700"/>
            </a:br>
            <a:endParaRPr b="0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514240" y="11426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й-Болтай 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Сидел на стене.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й-Болтай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Свалился во сне.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Вся королевская конница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Вся королевская рать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Не может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Не может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Болтая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-Болтая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Болтая-Шалтая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-Болтая собрать!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2800" y="19584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143000"/>
            <a:ext cx="403848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Humpty Dumpty sat on a wall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Humpty Dumpty had a great fall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ll the King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s horse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nd all the King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s men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uldn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 put Humpt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ogether agai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648320" y="1143000"/>
            <a:ext cx="403848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й-Болтай 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Сидел на стене.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й-Болтай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Свалился во сне.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Вся королевская конница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Вся королевская рать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Не может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Не может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Болтая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-Болтая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Болтая-Шалтая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-Болтая собрать!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С. Я. Марш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мечательный советский поэт, великолепный мастер перевода, человек высокой культуры и самых разнообразных интересов и знаний – </a:t>
            </a:r>
            <a:r>
              <a:rPr b="1" lang="ru-RU" sz="2200" spc="-1" strike="noStrike">
                <a:solidFill>
                  <a:srgbClr val="6600cc"/>
                </a:solidFill>
                <a:latin typeface="Verdana"/>
              </a:rPr>
              <a:t>Самуил Яковлевич Маршак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родился </a:t>
            </a:r>
            <a:r>
              <a:rPr b="1" lang="ru-RU" sz="2200" spc="-1" strike="noStrike">
                <a:solidFill>
                  <a:srgbClr val="cc0000"/>
                </a:solidFill>
                <a:latin typeface="Verdana"/>
              </a:rPr>
              <a:t>в 1887 году в Воронеже.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6" name="Picture 7" descr="маршак"/>
          <p:cNvPicPr/>
          <p:nvPr/>
        </p:nvPicPr>
        <p:blipFill>
          <a:blip r:embed="rId1"/>
          <a:stretch/>
        </p:blipFill>
        <p:spPr>
          <a:xfrm>
            <a:off x="5562720" y="2133720"/>
            <a:ext cx="25905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Tahoma"/>
              </a:rPr>
              <a:t>Статья «Служба связи», С.Я. Маршак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63520" y="106632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Искусство поэтического перевода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ef85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ело нелегкое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о не дается в руки тем, кто видит в нем только средство для заработка и относится к работе поверхностно и небрежно. Для того, чтобы овладеть живым, гибким языком, лишенным неуклюжести, свойственной ремесленным переводам, надо потратить немало труда – не меньше, чем, скажем, тратит балерина, добивающаяся свободы, плавности и гибкости движений. Надо так глубоко и тонко понимать содержание и стиль переводимого текста, чтобы безошибочно чувствовать, какое слово мог бы сказать автор или его герой, а какое было им чуждо»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William Blake  </a:t>
            </a: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(1757-1827)</a:t>
            </a: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Уильям Блейк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английский поэт и художник, родился 28 ноября 1757 года в Лондоне, в семье лавочника.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Picture 7" descr="блейк"/>
          <p:cNvPicPr/>
          <p:nvPr/>
        </p:nvPicPr>
        <p:blipFill>
          <a:blip r:embed="rId1"/>
          <a:stretch/>
        </p:blipFill>
        <p:spPr>
          <a:xfrm>
            <a:off x="762120" y="2133720"/>
            <a:ext cx="281916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Robin the B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28240" y="990360"/>
            <a:ext cx="2895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bin the Bobin, the big-bellied Ben.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 ate more meat than fourscore men;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 ate a cow, he ate a calf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 ate a butcher and a half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 ate a church, he ate a steeple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 ate a priest and all the people!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cow and a calf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x and a half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church and a steeple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all good people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yet he complained that his stomach wasn’t ful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5880" y="990720"/>
            <a:ext cx="281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обин-Боббин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ое-как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дкрепился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атощак: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ъел телёнка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тром рано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вух овечек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 барана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ъел корову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ликом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 прилавок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 мясником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тню жаворонков в тесте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 коня с телегой вместе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ять церквей и колоколен –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а ещё и недоволен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0" descr="лимерик 003"/>
          <p:cNvPicPr/>
          <p:nvPr/>
        </p:nvPicPr>
        <p:blipFill>
          <a:blip r:embed="rId1"/>
          <a:stretch/>
        </p:blipFill>
        <p:spPr>
          <a:xfrm>
            <a:off x="3352680" y="1752480"/>
            <a:ext cx="2492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ree Little Kitten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990360"/>
            <a:ext cx="3809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e little k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lost their m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y began to cry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, Mother dear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greatly fear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mittens we have los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t your m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naughty kittens!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you shall have no pi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ew, miew, miew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, you shall have no pi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e little k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found their m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y began to cry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, Mother dear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here, see here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mittens we have found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nd your mittens, you clever k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you shall have some pi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r, purr, purr,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410080" y="1066680"/>
            <a:ext cx="3733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еряли котят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дороге перчат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 слезах прибежали домой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Мама, мама, прост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не можем найти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не можем най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чатки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теряли перчатки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дурные котятки!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ам нынче не дам пирог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у-мяу, не дам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у-мяу, не дам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ам нынче не дам пирога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бежали котятки, отыскали перчат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, смеясь, прибежали домой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Мама, мама, не злись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ому что нашлись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ому что нашлис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чатки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тыскали перчатки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пасибо, котятки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за это вам дам пирог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р-мур-мур, пирог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р-мур-мур, пирог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за это вам дам пирог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8" descr="лимерик 002"/>
          <p:cNvPicPr/>
          <p:nvPr/>
        </p:nvPicPr>
        <p:blipFill>
          <a:blip r:embed="rId1"/>
          <a:stretch/>
        </p:blipFill>
        <p:spPr>
          <a:xfrm>
            <a:off x="3352680" y="1981080"/>
            <a:ext cx="213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Little gi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143000"/>
            <a:ext cx="2666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girl, little gir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have you b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’ve been to see grandm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the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What did she give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k in a 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What did you say for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k you, grandm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171840" y="990360"/>
            <a:ext cx="2514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Маленькая дев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жи, где ты бы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Была у старой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ом краю с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Что ты пила у бабуш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ила с вареньем ч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Что ты сказала бабуш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пасибо» и «Проща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7" descr="лимерик 001"/>
          <p:cNvPicPr/>
          <p:nvPr/>
        </p:nvPicPr>
        <p:blipFill>
          <a:blip r:embed="rId1"/>
          <a:stretch/>
        </p:blipFill>
        <p:spPr>
          <a:xfrm>
            <a:off x="3657600" y="1828800"/>
            <a:ext cx="229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lack 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52280" y="1143000"/>
            <a:ext cx="3353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a, baa, black shee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any w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, sir, yes, si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bags fu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the mas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one for the da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one the little b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lives down the 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943240" y="1294920"/>
            <a:ext cx="2971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Ты скажи, барашек наш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шерсти ты нам даш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Не стриги меня п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м я шерсти три ме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 мешок –Хозяи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гой мешок -Хозяй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рети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ям малень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еплые фуфа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8" descr="лимерик"/>
          <p:cNvPicPr/>
          <p:nvPr/>
        </p:nvPicPr>
        <p:blipFill>
          <a:blip r:embed="rId1"/>
          <a:stretch/>
        </p:blipFill>
        <p:spPr>
          <a:xfrm>
            <a:off x="3429000" y="1600200"/>
            <a:ext cx="2448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key of the kingd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228600" y="456840"/>
            <a:ext cx="3733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key of the kingdom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kingdom there is a city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city there is a town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town there is a stree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street there is a lan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lane there is a yard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yard there is a hous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house there is a room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room there is a bed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that bed there is a baske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basket there are some flowers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ers in a baske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ket on the bed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d in the room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m in the hous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 in the yard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rd in the lan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e in the stree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et in the town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wn in the city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y in the kingdom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f the kingdom this is the key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715000" y="685800"/>
            <a:ext cx="3200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вам ключ от королевств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ролевстве – город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 городе – улиц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улице есть двор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дворе – высокий дом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доме – спален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пальне колыбель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лыбельке – ландыше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ая корзи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ышей, ландыше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ая корзина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ыши – в корзин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зина – в колыбельк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ыбелька – в спаленк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спаленка – в дом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 стоит среди двор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ор глядит на улицу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улица – в город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 – в королевств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от королевства ключ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юч от королев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лимерик 008"/>
          <p:cNvPicPr/>
          <p:nvPr/>
        </p:nvPicPr>
        <p:blipFill>
          <a:blip r:embed="rId1"/>
          <a:stretch/>
        </p:blipFill>
        <p:spPr>
          <a:xfrm>
            <a:off x="3581280" y="3352680"/>
            <a:ext cx="2001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Verdana"/>
              </a:rPr>
              <a:t>Guess the riddle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Elizabeth, Elspeth, Betsy and Bess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They all went together to seek a bird’s nest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They found a bird’s nest with fi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e eggs in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They all took one, and left four i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Элизабет, Лизи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Бетси и Бес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есною с корзинкой отправились в ле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гнезде на березе, где не было птиц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ашли они пять розоватых яиц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Им всем четверым по яичку досталось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И все же четыре на месте осталос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5:42:48Z</dcterms:created>
  <dc:creator>User</dc:creator>
  <dc:description/>
  <dc:language>en-US</dc:language>
  <cp:lastModifiedBy>comp1</cp:lastModifiedBy>
  <dcterms:modified xsi:type="dcterms:W3CDTF">2016-03-23T07:00:41Z</dcterms:modified>
  <cp:revision>6</cp:revision>
  <dc:subject/>
  <dc:title>Edward Lear</dc:title>
</cp:coreProperties>
</file>