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28A-7E4E-44DF-98D7-DDD81D62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A33E-7B4A-4E78-A404-432562D9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BDD3-8280-4655-A43A-08600F36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76A1-2BAE-4895-9F0C-1E497FBE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7883-F525-4652-BB1F-F92422C5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8B75-2BD1-47EE-BDED-DBCECABF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94ED-75FE-4746-9559-AB1278CA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4EEF-2C3B-4B52-94E3-C2CDF3B6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289E-23E9-4E7F-A35B-758DD8FC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C673-B25B-486A-942E-EEA50009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A84F-3F88-4B87-BBC9-D5055021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6637-B168-4024-9C05-E0AFBFCD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B65B-3703-4A8C-B341-E98B2CA2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470C-E2AA-4528-8D56-5AD092D8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A127-02ED-4D7B-A5ED-0AFC576B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0BAF-30F6-47D1-959F-7F371BD0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BC56-C1F0-4DC6-87FB-85D235B3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FC3D-DB82-4B46-A214-42AC0F1B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A84E-60C5-4ACE-BC17-03140C66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B644-5CA1-4AEA-8CF8-1B47B6F9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A77-B774-47FF-BF88-A04819D5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4273-1382-4DF2-84C2-F0D9C4A2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7FB8-68B6-4DFD-986C-DFCC42BB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C5B-B28C-4D0B-BA41-1006357A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5C77-5CB8-44C4-8336-BB22813CA7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8A74-9478-48E2-9966-09628D98F6E2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9640" y="836280"/>
            <a:ext cx="784404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Тема урока: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«Построение изображений на  основе анализа формы предмета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700360" y="3573000"/>
            <a:ext cx="6192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ль урока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7515"/>
                </a:solidFill>
                <a:latin typeface="Comic Sans MS"/>
              </a:rPr>
              <a:t>научиться читать и строить чертежи предметов на основе анализа их форм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AG00011_"/>
          <p:cNvPicPr/>
          <p:nvPr/>
        </p:nvPicPr>
        <p:blipFill>
          <a:blip r:embed="rId1"/>
          <a:stretch/>
        </p:blipFill>
        <p:spPr>
          <a:xfrm>
            <a:off x="395280" y="3933720"/>
            <a:ext cx="1784520" cy="2016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5651640" y="595008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МБОУ СОШ №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Учитель Дейнеко К.Э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23493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50920" y="2108160"/>
            <a:ext cx="85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описанию детали построить её чертеж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таль называется опо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на состоит из прямоугольного параллелепипеда и цилинд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илиндр расположен вертикально в центре большей грани прямоугольного параллелепипе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доль оси детали проходит глухое цилиндрическое отверстие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20 мм, глубина 20 м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Размеры прямоугольного параллелепипеда: длина 60 мм, ширина 40 мм, высота 20 м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Размеры цилиндра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30 мм, высота 40 м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00000" y="23493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403280" y="2997360"/>
            <a:ext cx="223200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5219640" y="2997360"/>
            <a:ext cx="129708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403280" y="4724280"/>
            <a:ext cx="2232000" cy="12258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20"/>
          <p:cNvSpPr/>
          <p:nvPr/>
        </p:nvSpPr>
        <p:spPr>
          <a:xfrm>
            <a:off x="4356000" y="1916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21"/>
          <p:cNvSpPr/>
          <p:nvPr/>
        </p:nvSpPr>
        <p:spPr>
          <a:xfrm>
            <a:off x="179280" y="4149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6081840" y="5013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п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23"/>
          <p:cNvSpPr/>
          <p:nvPr/>
        </p:nvSpPr>
        <p:spPr>
          <a:xfrm>
            <a:off x="1403280" y="3933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24"/>
          <p:cNvSpPr/>
          <p:nvPr/>
        </p:nvSpPr>
        <p:spPr>
          <a:xfrm>
            <a:off x="1116000" y="472428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6516720" y="29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29"/>
          <p:cNvSpPr/>
          <p:nvPr/>
        </p:nvSpPr>
        <p:spPr>
          <a:xfrm>
            <a:off x="651672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30"/>
          <p:cNvSpPr/>
          <p:nvPr/>
        </p:nvSpPr>
        <p:spPr>
          <a:xfrm>
            <a:off x="1042920" y="5950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104292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32"/>
          <p:cNvSpPr/>
          <p:nvPr/>
        </p:nvSpPr>
        <p:spPr>
          <a:xfrm rot="16200000">
            <a:off x="936000" y="5086440"/>
            <a:ext cx="3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33"/>
          <p:cNvSpPr/>
          <p:nvPr/>
        </p:nvSpPr>
        <p:spPr>
          <a:xfrm>
            <a:off x="6804000" y="299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2328480" y="36957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35"/>
          <p:cNvSpPr/>
          <p:nvPr/>
        </p:nvSpPr>
        <p:spPr>
          <a:xfrm rot="16200000">
            <a:off x="6504840" y="31388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37"/>
          <p:cNvSpPr/>
          <p:nvPr/>
        </p:nvSpPr>
        <p:spPr>
          <a:xfrm>
            <a:off x="363528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39"/>
          <p:cNvSpPr/>
          <p:nvPr/>
        </p:nvSpPr>
        <p:spPr>
          <a:xfrm>
            <a:off x="140328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2522520" y="2852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42"/>
          <p:cNvSpPr/>
          <p:nvPr/>
        </p:nvSpPr>
        <p:spPr>
          <a:xfrm>
            <a:off x="2522520" y="4581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44"/>
          <p:cNvSpPr/>
          <p:nvPr/>
        </p:nvSpPr>
        <p:spPr>
          <a:xfrm>
            <a:off x="1258920" y="53355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45"/>
          <p:cNvSpPr/>
          <p:nvPr/>
        </p:nvSpPr>
        <p:spPr>
          <a:xfrm>
            <a:off x="5867280" y="285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900000" y="23493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352520" y="2997360"/>
            <a:ext cx="223200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5207040" y="2997360"/>
            <a:ext cx="129708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378080" y="4724280"/>
            <a:ext cx="2206440" cy="12258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000160" y="1989000"/>
            <a:ext cx="936720" cy="10083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5389560" y="1989000"/>
            <a:ext cx="936720" cy="10083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2030400" y="4881600"/>
            <a:ext cx="914400" cy="9144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5859360" y="177336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1187280" y="533880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20"/>
          <p:cNvSpPr/>
          <p:nvPr/>
        </p:nvSpPr>
        <p:spPr>
          <a:xfrm>
            <a:off x="4356000" y="1916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21"/>
          <p:cNvSpPr/>
          <p:nvPr/>
        </p:nvSpPr>
        <p:spPr>
          <a:xfrm>
            <a:off x="179280" y="4149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6081840" y="5013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п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Line 23"/>
          <p:cNvSpPr/>
          <p:nvPr/>
        </p:nvSpPr>
        <p:spPr>
          <a:xfrm flipV="1">
            <a:off x="2127240" y="5084280"/>
            <a:ext cx="72072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24"/>
          <p:cNvSpPr/>
          <p:nvPr/>
        </p:nvSpPr>
        <p:spPr>
          <a:xfrm rot="19866600">
            <a:off x="2257200" y="5013000"/>
            <a:ext cx="5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Ø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2890800" y="1989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26"/>
          <p:cNvSpPr/>
          <p:nvPr/>
        </p:nvSpPr>
        <p:spPr>
          <a:xfrm>
            <a:off x="3610080" y="29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27"/>
          <p:cNvSpPr/>
          <p:nvPr/>
        </p:nvSpPr>
        <p:spPr>
          <a:xfrm>
            <a:off x="3924360" y="1989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28"/>
          <p:cNvSpPr/>
          <p:nvPr/>
        </p:nvSpPr>
        <p:spPr>
          <a:xfrm flipV="1" rot="5409000">
            <a:off x="3597480" y="2276280"/>
            <a:ext cx="4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29"/>
          <p:cNvSpPr/>
          <p:nvPr/>
        </p:nvSpPr>
        <p:spPr>
          <a:xfrm>
            <a:off x="2475000" y="1844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30"/>
          <p:cNvSpPr/>
          <p:nvPr/>
        </p:nvSpPr>
        <p:spPr>
          <a:xfrm>
            <a:off x="2487600" y="436572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00000" y="23493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365120" y="2997360"/>
            <a:ext cx="223200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5219640" y="2997360"/>
            <a:ext cx="129708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365120" y="4724280"/>
            <a:ext cx="2232000" cy="12258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004840" y="1989000"/>
            <a:ext cx="936720" cy="10083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5402160" y="1989000"/>
            <a:ext cx="936720" cy="10083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Oval 9"/>
          <p:cNvSpPr/>
          <p:nvPr/>
        </p:nvSpPr>
        <p:spPr>
          <a:xfrm>
            <a:off x="1992240" y="4881600"/>
            <a:ext cx="957240" cy="939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5872320" y="177336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Oval 11"/>
          <p:cNvSpPr/>
          <p:nvPr/>
        </p:nvSpPr>
        <p:spPr>
          <a:xfrm>
            <a:off x="2149560" y="5038560"/>
            <a:ext cx="642960" cy="6271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1187280" y="535140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2174760" y="1989000"/>
            <a:ext cx="0" cy="6480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15"/>
          <p:cNvSpPr/>
          <p:nvPr/>
        </p:nvSpPr>
        <p:spPr>
          <a:xfrm>
            <a:off x="2771640" y="1989000"/>
            <a:ext cx="0" cy="6480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16"/>
          <p:cNvSpPr/>
          <p:nvPr/>
        </p:nvSpPr>
        <p:spPr>
          <a:xfrm>
            <a:off x="5567400" y="1989000"/>
            <a:ext cx="0" cy="6480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6164280" y="1989000"/>
            <a:ext cx="0" cy="6480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20"/>
          <p:cNvSpPr/>
          <p:nvPr/>
        </p:nvSpPr>
        <p:spPr>
          <a:xfrm>
            <a:off x="4356000" y="1916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21"/>
          <p:cNvSpPr/>
          <p:nvPr/>
        </p:nvSpPr>
        <p:spPr>
          <a:xfrm>
            <a:off x="179280" y="4149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22"/>
          <p:cNvSpPr/>
          <p:nvPr/>
        </p:nvSpPr>
        <p:spPr>
          <a:xfrm>
            <a:off x="6081840" y="5013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п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25"/>
          <p:cNvSpPr/>
          <p:nvPr/>
        </p:nvSpPr>
        <p:spPr>
          <a:xfrm>
            <a:off x="3279600" y="1989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31"/>
          <p:cNvSpPr/>
          <p:nvPr/>
        </p:nvSpPr>
        <p:spPr>
          <a:xfrm>
            <a:off x="3360600" y="6300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3111480" y="20541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33"/>
          <p:cNvSpPr/>
          <p:nvPr/>
        </p:nvSpPr>
        <p:spPr>
          <a:xfrm rot="16200000">
            <a:off x="2994840" y="2125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34"/>
          <p:cNvSpPr/>
          <p:nvPr/>
        </p:nvSpPr>
        <p:spPr>
          <a:xfrm>
            <a:off x="3368520" y="6059520"/>
            <a:ext cx="5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Ø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41"/>
          <p:cNvSpPr/>
          <p:nvPr/>
        </p:nvSpPr>
        <p:spPr>
          <a:xfrm>
            <a:off x="2195640" y="2624040"/>
            <a:ext cx="576000" cy="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Line 42"/>
          <p:cNvSpPr/>
          <p:nvPr/>
        </p:nvSpPr>
        <p:spPr>
          <a:xfrm>
            <a:off x="5580000" y="2624040"/>
            <a:ext cx="576360" cy="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43"/>
          <p:cNvSpPr/>
          <p:nvPr/>
        </p:nvSpPr>
        <p:spPr>
          <a:xfrm>
            <a:off x="2484360" y="1844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44"/>
          <p:cNvSpPr/>
          <p:nvPr/>
        </p:nvSpPr>
        <p:spPr>
          <a:xfrm>
            <a:off x="2916360" y="198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45"/>
          <p:cNvSpPr/>
          <p:nvPr/>
        </p:nvSpPr>
        <p:spPr>
          <a:xfrm>
            <a:off x="2771640" y="26240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47"/>
          <p:cNvSpPr/>
          <p:nvPr/>
        </p:nvSpPr>
        <p:spPr>
          <a:xfrm>
            <a:off x="2484360" y="450864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50"/>
          <p:cNvSpPr/>
          <p:nvPr/>
        </p:nvSpPr>
        <p:spPr>
          <a:xfrm>
            <a:off x="2268360" y="509760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Line 52"/>
          <p:cNvSpPr/>
          <p:nvPr/>
        </p:nvSpPr>
        <p:spPr>
          <a:xfrm>
            <a:off x="2700360" y="5589720"/>
            <a:ext cx="64764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900000" y="23493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378080" y="2997360"/>
            <a:ext cx="223200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5219640" y="2997360"/>
            <a:ext cx="129708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365120" y="4724280"/>
            <a:ext cx="2232000" cy="12258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2004840" y="1989000"/>
            <a:ext cx="936720" cy="10083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5402160" y="1989000"/>
            <a:ext cx="936720" cy="10083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Oval 9"/>
          <p:cNvSpPr/>
          <p:nvPr/>
        </p:nvSpPr>
        <p:spPr>
          <a:xfrm>
            <a:off x="1992240" y="4881600"/>
            <a:ext cx="957240" cy="939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5872320" y="177336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Oval 11"/>
          <p:cNvSpPr/>
          <p:nvPr/>
        </p:nvSpPr>
        <p:spPr>
          <a:xfrm>
            <a:off x="2149560" y="5038560"/>
            <a:ext cx="642960" cy="6271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1187280" y="535140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2174760" y="1989000"/>
            <a:ext cx="0" cy="6480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4"/>
          <p:cNvSpPr/>
          <p:nvPr/>
        </p:nvSpPr>
        <p:spPr>
          <a:xfrm>
            <a:off x="2771640" y="1989000"/>
            <a:ext cx="0" cy="6480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5"/>
          <p:cNvSpPr/>
          <p:nvPr/>
        </p:nvSpPr>
        <p:spPr>
          <a:xfrm>
            <a:off x="5567400" y="1989000"/>
            <a:ext cx="0" cy="6480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6"/>
          <p:cNvSpPr/>
          <p:nvPr/>
        </p:nvSpPr>
        <p:spPr>
          <a:xfrm>
            <a:off x="6164280" y="1989000"/>
            <a:ext cx="0" cy="6480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7"/>
          <p:cNvSpPr/>
          <p:nvPr/>
        </p:nvSpPr>
        <p:spPr>
          <a:xfrm>
            <a:off x="4356000" y="1916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179280" y="4149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6081840" y="5013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п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25"/>
          <p:cNvSpPr/>
          <p:nvPr/>
        </p:nvSpPr>
        <p:spPr>
          <a:xfrm>
            <a:off x="2195640" y="2624040"/>
            <a:ext cx="576000" cy="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26"/>
          <p:cNvSpPr/>
          <p:nvPr/>
        </p:nvSpPr>
        <p:spPr>
          <a:xfrm>
            <a:off x="5580000" y="2624040"/>
            <a:ext cx="576360" cy="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27"/>
          <p:cNvSpPr/>
          <p:nvPr/>
        </p:nvSpPr>
        <p:spPr>
          <a:xfrm>
            <a:off x="2484360" y="1844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30"/>
          <p:cNvSpPr/>
          <p:nvPr/>
        </p:nvSpPr>
        <p:spPr>
          <a:xfrm>
            <a:off x="2484360" y="450864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900000" y="23493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365120" y="2997360"/>
            <a:ext cx="223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5219640" y="2997360"/>
            <a:ext cx="1297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365120" y="4724280"/>
            <a:ext cx="223200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2004840" y="1989000"/>
            <a:ext cx="93672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5402160" y="1989000"/>
            <a:ext cx="93672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Oval 9"/>
          <p:cNvSpPr/>
          <p:nvPr/>
        </p:nvSpPr>
        <p:spPr>
          <a:xfrm>
            <a:off x="1992240" y="4881600"/>
            <a:ext cx="957240" cy="9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5872320" y="177336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Oval 11"/>
          <p:cNvSpPr/>
          <p:nvPr/>
        </p:nvSpPr>
        <p:spPr>
          <a:xfrm>
            <a:off x="2149560" y="5038560"/>
            <a:ext cx="642960" cy="627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1187280" y="535140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2174760" y="1989000"/>
            <a:ext cx="0" cy="648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2771640" y="1989000"/>
            <a:ext cx="0" cy="648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15"/>
          <p:cNvSpPr/>
          <p:nvPr/>
        </p:nvSpPr>
        <p:spPr>
          <a:xfrm>
            <a:off x="5567400" y="1989000"/>
            <a:ext cx="0" cy="648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Line 16"/>
          <p:cNvSpPr/>
          <p:nvPr/>
        </p:nvSpPr>
        <p:spPr>
          <a:xfrm>
            <a:off x="6164280" y="1989000"/>
            <a:ext cx="0" cy="648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Line 17"/>
          <p:cNvSpPr/>
          <p:nvPr/>
        </p:nvSpPr>
        <p:spPr>
          <a:xfrm>
            <a:off x="4356000" y="1916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179280" y="4149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716112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п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Line 20"/>
          <p:cNvSpPr/>
          <p:nvPr/>
        </p:nvSpPr>
        <p:spPr>
          <a:xfrm>
            <a:off x="2195640" y="2624040"/>
            <a:ext cx="5760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Line 21"/>
          <p:cNvSpPr/>
          <p:nvPr/>
        </p:nvSpPr>
        <p:spPr>
          <a:xfrm>
            <a:off x="5580000" y="26240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22"/>
          <p:cNvSpPr/>
          <p:nvPr/>
        </p:nvSpPr>
        <p:spPr>
          <a:xfrm>
            <a:off x="2484360" y="1844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23"/>
          <p:cNvSpPr/>
          <p:nvPr/>
        </p:nvSpPr>
        <p:spPr>
          <a:xfrm>
            <a:off x="2484360" y="450864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4427640" y="414972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Дополнительное зада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 стороны меньших граней прямоугольного параллелепипеда выполнить два симметрично расположенных прямоугольных выреза шириной 20 мм и глубиной 10 м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900000" y="23493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24000" y="2060640"/>
            <a:ext cx="828036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</a:rPr>
              <a:t>1. Какова последовательность выполнения чертежа опор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Microsoft Sans Serif"/>
              </a:rPr>
              <a:t>Назв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 габаритные</a:t>
            </a:r>
            <a:r>
              <a:rPr b="0" lang="ru-RU" sz="2400" spc="-1" strike="noStrike">
                <a:solidFill>
                  <a:srgbClr val="000000"/>
                </a:solidFill>
                <a:latin typeface="Microsoft Sans Serif"/>
              </a:rPr>
              <a:t> размеры опоры (длина, ширина, высот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чего необходимо анализировать форму детали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63640" y="1989000"/>
            <a:ext cx="8280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дание №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троить чертежи проекций треугольной призмы, прямоугольного параллелепипеда, цилиндр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дание №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троить чертеж проекций группы геометрических тел (куб и конус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дание №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ределить геометрическое тело по чертежу его проекц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дание №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чертежу проекций группы геометрических тел определить каждое тел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Picture 4" descr="2"/>
          <p:cNvPicPr/>
          <p:nvPr/>
        </p:nvPicPr>
        <p:blipFill>
          <a:blip r:embed="rId1"/>
          <a:stretch/>
        </p:blipFill>
        <p:spPr>
          <a:xfrm>
            <a:off x="2268360" y="1268280"/>
            <a:ext cx="525636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Picture 4" descr="3"/>
          <p:cNvPicPr/>
          <p:nvPr/>
        </p:nvPicPr>
        <p:blipFill>
          <a:blip r:embed="rId1"/>
          <a:stretch/>
        </p:blipFill>
        <p:spPr>
          <a:xfrm>
            <a:off x="324000" y="2276640"/>
            <a:ext cx="3600360" cy="3292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4"/>
          <p:cNvPicPr/>
          <p:nvPr/>
        </p:nvPicPr>
        <p:blipFill>
          <a:blip r:embed="rId2"/>
          <a:stretch/>
        </p:blipFill>
        <p:spPr>
          <a:xfrm>
            <a:off x="4932360" y="2852640"/>
            <a:ext cx="3960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5" descr="6"/>
          <p:cNvPicPr/>
          <p:nvPr/>
        </p:nvPicPr>
        <p:blipFill>
          <a:blip r:embed="rId1"/>
          <a:stretch/>
        </p:blipFill>
        <p:spPr>
          <a:xfrm>
            <a:off x="826920" y="2349360"/>
            <a:ext cx="2874960" cy="302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5"/>
          <p:cNvPicPr/>
          <p:nvPr/>
        </p:nvPicPr>
        <p:blipFill>
          <a:blip r:embed="rId2"/>
          <a:stretch/>
        </p:blipFill>
        <p:spPr>
          <a:xfrm>
            <a:off x="4788000" y="2492280"/>
            <a:ext cx="406872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Picture 5" descr="7"/>
          <p:cNvPicPr/>
          <p:nvPr/>
        </p:nvPicPr>
        <p:blipFill>
          <a:blip r:embed="rId1"/>
          <a:stretch/>
        </p:blipFill>
        <p:spPr>
          <a:xfrm>
            <a:off x="900000" y="2708280"/>
            <a:ext cx="3240360" cy="295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8"/>
          <p:cNvPicPr/>
          <p:nvPr/>
        </p:nvPicPr>
        <p:blipFill>
          <a:blip r:embed="rId2"/>
          <a:stretch/>
        </p:blipFill>
        <p:spPr>
          <a:xfrm>
            <a:off x="4859280" y="2997360"/>
            <a:ext cx="31687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900000" y="23493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995640" y="2349360"/>
            <a:ext cx="5148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рядок построения чертежа противовес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троить 3 проекции  прямоугольного параллелепипед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 параллелепипеду добавить проекции треугольной приз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каждом из 3-х видов противовеса построить проекцию сквозного цилиндрического отверст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5" descr="2"/>
          <p:cNvPicPr/>
          <p:nvPr/>
        </p:nvPicPr>
        <p:blipFill>
          <a:blip r:embed="rId1"/>
          <a:stretch/>
        </p:blipFill>
        <p:spPr>
          <a:xfrm>
            <a:off x="395280" y="2276640"/>
            <a:ext cx="3672000" cy="35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900000" y="23493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971640" y="544500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042920" y="573408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0" y="2205000"/>
            <a:ext cx="42847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15" descr="2"/>
          <p:cNvPicPr/>
          <p:nvPr/>
        </p:nvPicPr>
        <p:blipFill>
          <a:blip r:embed="rId1"/>
          <a:stretch/>
        </p:blipFill>
        <p:spPr>
          <a:xfrm>
            <a:off x="3346560" y="1297080"/>
            <a:ext cx="5797440" cy="55609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9"/>
          <p:cNvSpPr/>
          <p:nvPr/>
        </p:nvSpPr>
        <p:spPr>
          <a:xfrm>
            <a:off x="250920" y="2133720"/>
            <a:ext cx="3601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д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читайте чертеж проекций детали, отвечая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.  На сколько частей можно разбить данную деталь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 С каким геометрическим телом можно сравнить каждую часть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 урока: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строение изображений на основе анализа формы предмета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00000" y="23493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971640" y="544500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042920" y="573408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0" y="2205000"/>
            <a:ext cx="42847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79280" y="2133720"/>
            <a:ext cx="3602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д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читайте чертеж проекций детали, отвечая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.  На сколько частей можно разбить данную деталь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 С каким геометрическим телом можно сравнить каждую часть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10" descr="4"/>
          <p:cNvPicPr/>
          <p:nvPr/>
        </p:nvPicPr>
        <p:blipFill>
          <a:blip r:embed="rId1"/>
          <a:stretch/>
        </p:blipFill>
        <p:spPr>
          <a:xfrm>
            <a:off x="3708360" y="1622520"/>
            <a:ext cx="54356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06:55:50Z</dcterms:created>
  <dc:creator>@</dc:creator>
  <dc:description/>
  <dc:language>en-US</dc:language>
  <cp:lastModifiedBy>Samsung-</cp:lastModifiedBy>
  <dcterms:modified xsi:type="dcterms:W3CDTF">2022-11-24T23:41:40Z</dcterms:modified>
  <cp:revision>14</cp:revision>
  <dc:subject/>
  <dc:title>Тема урока: «Порядок построения изображений на  чертеже»</dc:title>
</cp:coreProperties>
</file>