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B4B-2D2E-4333-9C00-A098FA22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8C2-BCE5-4541-AB6D-7AD01191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AEA-C3D2-442E-A1F8-A5AF65B6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F0F-3EC2-4512-A412-8AE808D7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632A-7A3E-4C53-AF84-9E0ABBDF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0267-F67E-4673-8835-9C7014AC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186-9F34-4DE3-95FE-0DB90665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D321-F514-4676-807E-7D7FC1A3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CF3D-B301-4314-AD91-2D11D8CE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7813-5838-4465-8B43-648F52FE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F960-FD26-44CC-A65C-A17CF57D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37E-AC53-4B54-B4A7-2B99456A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5B77-131B-4F83-B32E-0C9BAE7A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750B-B866-4AD5-9A09-11E9FE46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1BF1-264A-4476-9830-8CDA8082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9C09-C174-41FA-B2AB-70693626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5F71-2DE2-43A2-B963-2BD506A1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7FE-5E18-4B8E-9A90-4265C0BD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100-5D48-4CD0-96F6-45B4C8EF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A50-0E3B-4B73-A981-E83E81CD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1DF-5648-432F-98A1-791AF081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0F4-B062-4A72-A170-0D784861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339-91AB-41E1-8AE8-825840E1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78D-2187-4049-AAF9-2FCB9D9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2B7A-8B9A-46EB-B745-2791DEF92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6025-9F92-498F-9547-0C20E79B0DA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8440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ема урока: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«Построение изображений на  основе анализа формы предмета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00360" y="3573000"/>
            <a:ext cx="619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7515"/>
                </a:solidFill>
                <a:latin typeface="Comic Sans MS"/>
              </a:rPr>
              <a:t>научиться читать и строить чертежи предметов на основе анализа их фор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AG00011_"/>
          <p:cNvPicPr/>
          <p:nvPr/>
        </p:nvPicPr>
        <p:blipFill>
          <a:blip r:embed="rId1"/>
          <a:stretch/>
        </p:blipFill>
        <p:spPr>
          <a:xfrm>
            <a:off x="395280" y="3933720"/>
            <a:ext cx="1784520" cy="2016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5651640" y="595008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МБОУ СОШ №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Учитель Дейнеко К.Э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0920" y="210816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описанию детали построить её чертеж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таль называется опо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а состоит из прямоугольного параллелепипеда и цилинд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линдр расположен вертикально в центре большей грани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доль оси детали проходит глухое цилиндрическое отверстие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20 мм, глубина 20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меры прямоугольного параллелепипеда: длина 60 мм, ширина 40 мм, высота 20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меры цилиндра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30 мм, высота 40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03280" y="2997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219640" y="2997360"/>
            <a:ext cx="129708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403280" y="4724280"/>
            <a:ext cx="2232000" cy="1225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20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21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6081840" y="501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23"/>
          <p:cNvSpPr/>
          <p:nvPr/>
        </p:nvSpPr>
        <p:spPr>
          <a:xfrm>
            <a:off x="1403280" y="3933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1116000" y="472428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51672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651672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30"/>
          <p:cNvSpPr/>
          <p:nvPr/>
        </p:nvSpPr>
        <p:spPr>
          <a:xfrm>
            <a:off x="1042920" y="5950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104292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32"/>
          <p:cNvSpPr/>
          <p:nvPr/>
        </p:nvSpPr>
        <p:spPr>
          <a:xfrm rot="16200000">
            <a:off x="936000" y="5086440"/>
            <a:ext cx="3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3"/>
          <p:cNvSpPr/>
          <p:nvPr/>
        </p:nvSpPr>
        <p:spPr>
          <a:xfrm>
            <a:off x="6804000" y="29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2328480" y="36957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35"/>
          <p:cNvSpPr/>
          <p:nvPr/>
        </p:nvSpPr>
        <p:spPr>
          <a:xfrm rot="16200000">
            <a:off x="6504840" y="3138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7"/>
          <p:cNvSpPr/>
          <p:nvPr/>
        </p:nvSpPr>
        <p:spPr>
          <a:xfrm>
            <a:off x="363528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39"/>
          <p:cNvSpPr/>
          <p:nvPr/>
        </p:nvSpPr>
        <p:spPr>
          <a:xfrm>
            <a:off x="140328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522520" y="285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2522520" y="4581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44"/>
          <p:cNvSpPr/>
          <p:nvPr/>
        </p:nvSpPr>
        <p:spPr>
          <a:xfrm>
            <a:off x="1258920" y="53355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45"/>
          <p:cNvSpPr/>
          <p:nvPr/>
        </p:nvSpPr>
        <p:spPr>
          <a:xfrm>
            <a:off x="586728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52520" y="2997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207040" y="2997360"/>
            <a:ext cx="129708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378080" y="4724280"/>
            <a:ext cx="2206440" cy="1225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00016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538956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2030400" y="4881600"/>
            <a:ext cx="914400" cy="9144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5859360" y="1773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187280" y="53388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081840" y="501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127240" y="5084280"/>
            <a:ext cx="7207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4"/>
          <p:cNvSpPr/>
          <p:nvPr/>
        </p:nvSpPr>
        <p:spPr>
          <a:xfrm rot="19866600">
            <a:off x="2257200" y="5013000"/>
            <a:ext cx="5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2890800" y="1989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3610080" y="29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27"/>
          <p:cNvSpPr/>
          <p:nvPr/>
        </p:nvSpPr>
        <p:spPr>
          <a:xfrm>
            <a:off x="392436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28"/>
          <p:cNvSpPr/>
          <p:nvPr/>
        </p:nvSpPr>
        <p:spPr>
          <a:xfrm flipV="1" rot="5409000">
            <a:off x="3597480" y="227628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9"/>
          <p:cNvSpPr/>
          <p:nvPr/>
        </p:nvSpPr>
        <p:spPr>
          <a:xfrm>
            <a:off x="2475000" y="1844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30"/>
          <p:cNvSpPr/>
          <p:nvPr/>
        </p:nvSpPr>
        <p:spPr>
          <a:xfrm>
            <a:off x="2487600" y="4365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365120" y="2997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5219640" y="2997360"/>
            <a:ext cx="129708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365120" y="4724280"/>
            <a:ext cx="2232000" cy="1225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00484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540216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1992240" y="4881600"/>
            <a:ext cx="957240" cy="939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5872320" y="1773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2149560" y="5038560"/>
            <a:ext cx="642960" cy="6271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1187280" y="53514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17476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277164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556740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616428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6081840" y="501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327960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3360600" y="6300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3111480" y="20541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33"/>
          <p:cNvSpPr/>
          <p:nvPr/>
        </p:nvSpPr>
        <p:spPr>
          <a:xfrm rot="16200000">
            <a:off x="2994840" y="212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3368520" y="6059520"/>
            <a:ext cx="5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41"/>
          <p:cNvSpPr/>
          <p:nvPr/>
        </p:nvSpPr>
        <p:spPr>
          <a:xfrm>
            <a:off x="2195640" y="262404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42"/>
          <p:cNvSpPr/>
          <p:nvPr/>
        </p:nvSpPr>
        <p:spPr>
          <a:xfrm>
            <a:off x="5580000" y="262404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43"/>
          <p:cNvSpPr/>
          <p:nvPr/>
        </p:nvSpPr>
        <p:spPr>
          <a:xfrm>
            <a:off x="2484360" y="184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291636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45"/>
          <p:cNvSpPr/>
          <p:nvPr/>
        </p:nvSpPr>
        <p:spPr>
          <a:xfrm>
            <a:off x="2771640" y="26240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2484360" y="450864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50"/>
          <p:cNvSpPr/>
          <p:nvPr/>
        </p:nvSpPr>
        <p:spPr>
          <a:xfrm>
            <a:off x="2268360" y="509760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2700360" y="5589720"/>
            <a:ext cx="647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378080" y="2997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5219640" y="2997360"/>
            <a:ext cx="129708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365120" y="4724280"/>
            <a:ext cx="2232000" cy="1225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00484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40216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1992240" y="4881600"/>
            <a:ext cx="957240" cy="939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5872320" y="1773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149560" y="5038560"/>
            <a:ext cx="642960" cy="6271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187280" y="53514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217476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277164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556740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616428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6081840" y="501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2195640" y="262404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580000" y="262404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2484360" y="184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30"/>
          <p:cNvSpPr/>
          <p:nvPr/>
        </p:nvSpPr>
        <p:spPr>
          <a:xfrm>
            <a:off x="2484360" y="450864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365120" y="2997360"/>
            <a:ext cx="223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219640" y="2997360"/>
            <a:ext cx="1297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365120" y="4724280"/>
            <a:ext cx="223200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2004840" y="1989000"/>
            <a:ext cx="936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5402160" y="1989000"/>
            <a:ext cx="936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Oval 9"/>
          <p:cNvSpPr/>
          <p:nvPr/>
        </p:nvSpPr>
        <p:spPr>
          <a:xfrm>
            <a:off x="1992240" y="4881600"/>
            <a:ext cx="957240" cy="9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5872320" y="1773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2149560" y="5038560"/>
            <a:ext cx="642960" cy="627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187280" y="53514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2174760" y="198900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2771640" y="198900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5567400" y="198900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6164280" y="198900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716112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2195640" y="26240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5580000" y="26240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22"/>
          <p:cNvSpPr/>
          <p:nvPr/>
        </p:nvSpPr>
        <p:spPr>
          <a:xfrm>
            <a:off x="2484360" y="184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484360" y="450864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4427640" y="414972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полнительное зад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 стороны меньших граней прямоугольного параллелепипеда выполнить два симметрично расположенных прямоугольных выреза шириной 20 мм и глубиной 10 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24000" y="2060640"/>
            <a:ext cx="828036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1. Какова последовательность выполнения чертежа опор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Назв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 габаритные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 размеры опоры (длина, ширина, высо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чего необходимо анализировать форму детал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63640" y="1989000"/>
            <a:ext cx="8280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 №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роить чертежи проекций треугольной призмы, прямоугольного параллелепипеда, цилинд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 №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роить чертеж проекций группы геометрических тел (куб и конус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 №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ить геометрическое тело по чертежу его проекц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 №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чертежу проекций группы геометрических тел определить каждое тел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2"/>
          <p:cNvPicPr/>
          <p:nvPr/>
        </p:nvPicPr>
        <p:blipFill>
          <a:blip r:embed="rId1"/>
          <a:stretch/>
        </p:blipFill>
        <p:spPr>
          <a:xfrm>
            <a:off x="2268360" y="1268280"/>
            <a:ext cx="52563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4" descr="3"/>
          <p:cNvPicPr/>
          <p:nvPr/>
        </p:nvPicPr>
        <p:blipFill>
          <a:blip r:embed="rId1"/>
          <a:stretch/>
        </p:blipFill>
        <p:spPr>
          <a:xfrm>
            <a:off x="324000" y="2276640"/>
            <a:ext cx="3600360" cy="329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4"/>
          <p:cNvPicPr/>
          <p:nvPr/>
        </p:nvPicPr>
        <p:blipFill>
          <a:blip r:embed="rId2"/>
          <a:stretch/>
        </p:blipFill>
        <p:spPr>
          <a:xfrm>
            <a:off x="4932360" y="2852640"/>
            <a:ext cx="3960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5" descr="6"/>
          <p:cNvPicPr/>
          <p:nvPr/>
        </p:nvPicPr>
        <p:blipFill>
          <a:blip r:embed="rId1"/>
          <a:stretch/>
        </p:blipFill>
        <p:spPr>
          <a:xfrm>
            <a:off x="826920" y="2349360"/>
            <a:ext cx="287496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5"/>
          <p:cNvPicPr/>
          <p:nvPr/>
        </p:nvPicPr>
        <p:blipFill>
          <a:blip r:embed="rId2"/>
          <a:stretch/>
        </p:blipFill>
        <p:spPr>
          <a:xfrm>
            <a:off x="4788000" y="2492280"/>
            <a:ext cx="40687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5" descr="7"/>
          <p:cNvPicPr/>
          <p:nvPr/>
        </p:nvPicPr>
        <p:blipFill>
          <a:blip r:embed="rId1"/>
          <a:stretch/>
        </p:blipFill>
        <p:spPr>
          <a:xfrm>
            <a:off x="900000" y="2708280"/>
            <a:ext cx="3240360" cy="295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8"/>
          <p:cNvPicPr/>
          <p:nvPr/>
        </p:nvPicPr>
        <p:blipFill>
          <a:blip r:embed="rId2"/>
          <a:stretch/>
        </p:blipFill>
        <p:spPr>
          <a:xfrm>
            <a:off x="4859280" y="2997360"/>
            <a:ext cx="31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95640" y="2349360"/>
            <a:ext cx="514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рядок построения чертежа противовес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роить 3 проекции  прямоугольного параллелепипед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 параллелепипеду добавить проекции треугольной приз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каждом из 3-х видов противовеса построить проекцию сквозного цилиндрического отверст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2"/>
          <p:cNvPicPr/>
          <p:nvPr/>
        </p:nvPicPr>
        <p:blipFill>
          <a:blip r:embed="rId1"/>
          <a:stretch/>
        </p:blipFill>
        <p:spPr>
          <a:xfrm>
            <a:off x="395280" y="2276640"/>
            <a:ext cx="367200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971640" y="544500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042920" y="573408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0" y="2205000"/>
            <a:ext cx="4284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15" descr="2"/>
          <p:cNvPicPr/>
          <p:nvPr/>
        </p:nvPicPr>
        <p:blipFill>
          <a:blip r:embed="rId1"/>
          <a:stretch/>
        </p:blipFill>
        <p:spPr>
          <a:xfrm>
            <a:off x="3346560" y="1297080"/>
            <a:ext cx="5797440" cy="5560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250920" y="2133720"/>
            <a:ext cx="3601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читайте чертеж проекций детали, отвечая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 На сколько частей можно разбить данную детал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 С каким геометрическим телом можно сравнить каждую част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971640" y="544500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42920" y="573408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2205000"/>
            <a:ext cx="4284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79280" y="2133720"/>
            <a:ext cx="3602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читайте чертеж проекций детали, отвечая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 На сколько частей можно разбить данную детал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 С каким геометрическим телом можно сравнить каждую част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10" descr="4"/>
          <p:cNvPicPr/>
          <p:nvPr/>
        </p:nvPicPr>
        <p:blipFill>
          <a:blip r:embed="rId1"/>
          <a:stretch/>
        </p:blipFill>
        <p:spPr>
          <a:xfrm>
            <a:off x="3708360" y="1622520"/>
            <a:ext cx="54356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6:55:50Z</dcterms:created>
  <dc:creator>@</dc:creator>
  <dc:description/>
  <dc:language>en-US</dc:language>
  <cp:lastModifiedBy>Samsung-</cp:lastModifiedBy>
  <dcterms:modified xsi:type="dcterms:W3CDTF">2022-11-24T23:41:40Z</dcterms:modified>
  <cp:revision>14</cp:revision>
  <dc:subject/>
  <dc:title>Тема урока: «Порядок построения изображений на  чертеже»</dc:title>
</cp:coreProperties>
</file>