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gif" ContentType="image/gif"/>
  <Override PartName="/ppt/media/image26.gif" ContentType="image/gif"/>
  <Override PartName="/ppt/media/image23.gif" ContentType="image/gif"/>
  <Override PartName="/ppt/media/image20.gif" ContentType="image/gif"/>
  <Override PartName="/ppt/media/image5.gif" ContentType="image/gif"/>
  <Override PartName="/ppt/media/image28.gif" ContentType="image/gif"/>
  <Override PartName="/ppt/media/image30.gif" ContentType="image/gif"/>
  <Override PartName="/ppt/media/image10.gif" ContentType="image/gif"/>
  <Override PartName="/ppt/media/image6.gif" ContentType="image/gif"/>
  <Override PartName="/ppt/media/image11.gif" ContentType="image/gif"/>
  <Override PartName="/ppt/media/image3.jpeg" ContentType="image/jpeg"/>
  <Override PartName="/ppt/media/drumroll.wav" ContentType="audio/x-wav"/>
  <Override PartName="/ppt/media/image12.gif" ContentType="image/gif"/>
  <Override PartName="/ppt/media/image7.wmf" ContentType="image/x-wmf"/>
  <Override PartName="/ppt/media/image29.jpeg" ContentType="image/jpeg"/>
  <Override PartName="/ppt/media/image8.jpeg" ContentType="image/jpeg"/>
  <Override PartName="/ppt/media/image25.gif" ContentType="image/gif"/>
  <Override PartName="/ppt/media/wind.wav" ContentType="audio/x-wav"/>
  <Override PartName="/ppt/media/image13.gif" ContentType="image/gif"/>
  <Override PartName="/ppt/media/breeze.wav" ContentType="audio/x-wav"/>
  <Override PartName="/ppt/media/image4.png" ContentType="image/png"/>
  <Override PartName="/ppt/media/image24.gif" ContentType="image/gif"/>
  <Override PartName="/ppt/media/image9.jpeg" ContentType="image/jpeg"/>
  <Override PartName="/ppt/media/image2.png" ContentType="image/png"/>
  <Override PartName="/ppt/media/image22.gif" ContentType="image/gif"/>
  <Override PartName="/ppt/media/image1.png" ContentType="image/png"/>
  <Override PartName="/ppt/media/image19.gif" ContentType="image/gif"/>
  <Override PartName="/ppt/media/image21.gif" ContentType="image/gif"/>
  <Override PartName="/ppt/media/image14.gif" ContentType="image/gif"/>
  <Override PartName="/ppt/media/image15.gif" ContentType="image/gif"/>
  <Override PartName="/ppt/media/image16.gif" ContentType="image/gif"/>
  <Override PartName="/ppt/media/image17.gif" ContentType="image/gif"/>
  <Override PartName="/ppt/media/image18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9F4A9-6821-4386-99D8-7ABE878FD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39064-74E4-450E-9260-4FA5390F4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7B8BC-BAE4-4BB7-9074-AE48CA2B6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28EFD-AFF0-4121-AB87-1B63C53D6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1D9F3-EBFC-460B-B9BF-60D890F9E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705C2-BBEB-4BD2-8FB9-B1CF42677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A5E35-BDA6-4D94-A82B-7C6D48E1D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B0DD1-9BAF-4911-B165-1DB5FCDAC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21A44-2713-453C-943D-EB372BC09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1ABB9-BF76-402B-978B-727CE26D0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E023C-6007-46D6-8689-BBBE32A5F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D9811-CA2D-435D-B68F-D25A93C74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BB163-6AE8-4055-B04A-6DAFFC92FD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5.gif"/><Relationship Id="rId7" Type="http://schemas.openxmlformats.org/officeDocument/2006/relationships/image" Target="../media/image5.gif"/><Relationship Id="rId8" Type="http://schemas.openxmlformats.org/officeDocument/2006/relationships/image" Target="../media/image6.gif"/><Relationship Id="rId9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gif"/><Relationship Id="rId3" Type="http://schemas.openxmlformats.org/officeDocument/2006/relationships/slide" Target="slide3.xml"/><Relationship Id="rId4" Type="http://schemas.openxmlformats.org/officeDocument/2006/relationships/image" Target="../media/image9.jpeg"/><Relationship Id="rId5" Type="http://schemas.openxmlformats.org/officeDocument/2006/relationships/image" Target="../media/image9.jpeg"/><Relationship Id="rId6" Type="http://schemas.openxmlformats.org/officeDocument/2006/relationships/slide" Target="slide2.xml"/><Relationship Id="rId7" Type="http://schemas.openxmlformats.org/officeDocument/2006/relationships/slide" Target="slide3.xml"/><Relationship Id="rId8" Type="http://schemas.openxmlformats.org/officeDocument/2006/relationships/image" Target="../media/image6.gif"/><Relationship Id="rId9" Type="http://schemas.openxmlformats.org/officeDocument/2006/relationships/audio" Target="../media/drumroll.wav"/><Relationship Id="rId10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gif"/><Relationship Id="rId3" Type="http://schemas.openxmlformats.org/officeDocument/2006/relationships/slide" Target="slide3.xml"/><Relationship Id="rId4" Type="http://schemas.openxmlformats.org/officeDocument/2006/relationships/image" Target="../media/image9.jpeg"/><Relationship Id="rId5" Type="http://schemas.openxmlformats.org/officeDocument/2006/relationships/image" Target="../media/image9.jpeg"/><Relationship Id="rId6" Type="http://schemas.openxmlformats.org/officeDocument/2006/relationships/slide" Target="slide2.xml"/><Relationship Id="rId7" Type="http://schemas.openxmlformats.org/officeDocument/2006/relationships/slide" Target="slide3.xml"/><Relationship Id="rId8" Type="http://schemas.openxmlformats.org/officeDocument/2006/relationships/image" Target="../media/image14.gif"/><Relationship Id="rId9" Type="http://schemas.openxmlformats.org/officeDocument/2006/relationships/audio" Target="../media/drumroll.wav"/><Relationship Id="rId10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gif"/><Relationship Id="rId3" Type="http://schemas.openxmlformats.org/officeDocument/2006/relationships/slide" Target="slide3.xml"/><Relationship Id="rId4" Type="http://schemas.openxmlformats.org/officeDocument/2006/relationships/image" Target="../media/image9.jpeg"/><Relationship Id="rId5" Type="http://schemas.openxmlformats.org/officeDocument/2006/relationships/image" Target="../media/image9.jpeg"/><Relationship Id="rId6" Type="http://schemas.openxmlformats.org/officeDocument/2006/relationships/slide" Target="slide2.xml"/><Relationship Id="rId7" Type="http://schemas.openxmlformats.org/officeDocument/2006/relationships/slide" Target="slide3.xml"/><Relationship Id="rId8" Type="http://schemas.openxmlformats.org/officeDocument/2006/relationships/image" Target="../media/image5.gif"/><Relationship Id="rId9" Type="http://schemas.openxmlformats.org/officeDocument/2006/relationships/audio" Target="../media/drumroll.wav"/><Relationship Id="rId10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gif"/><Relationship Id="rId3" Type="http://schemas.openxmlformats.org/officeDocument/2006/relationships/slide" Target="slide3.xml"/><Relationship Id="rId4" Type="http://schemas.openxmlformats.org/officeDocument/2006/relationships/image" Target="../media/image9.jpeg"/><Relationship Id="rId5" Type="http://schemas.openxmlformats.org/officeDocument/2006/relationships/image" Target="../media/image9.jpeg"/><Relationship Id="rId6" Type="http://schemas.openxmlformats.org/officeDocument/2006/relationships/slide" Target="slide2.xml"/><Relationship Id="rId7" Type="http://schemas.openxmlformats.org/officeDocument/2006/relationships/slide" Target="slide3.xml"/><Relationship Id="rId8" Type="http://schemas.openxmlformats.org/officeDocument/2006/relationships/image" Target="../media/image15.gif"/><Relationship Id="rId9" Type="http://schemas.openxmlformats.org/officeDocument/2006/relationships/audio" Target="../media/drumroll.wav"/><Relationship Id="rId10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gif"/><Relationship Id="rId3" Type="http://schemas.openxmlformats.org/officeDocument/2006/relationships/slide" Target="slide3.xml"/><Relationship Id="rId4" Type="http://schemas.openxmlformats.org/officeDocument/2006/relationships/image" Target="../media/image9.jpeg"/><Relationship Id="rId5" Type="http://schemas.openxmlformats.org/officeDocument/2006/relationships/image" Target="../media/image9.jpeg"/><Relationship Id="rId6" Type="http://schemas.openxmlformats.org/officeDocument/2006/relationships/slide" Target="slide2.xml"/><Relationship Id="rId7" Type="http://schemas.openxmlformats.org/officeDocument/2006/relationships/slide" Target="slide3.xml"/><Relationship Id="rId8" Type="http://schemas.openxmlformats.org/officeDocument/2006/relationships/image" Target="../media/image5.gif"/><Relationship Id="rId9" Type="http://schemas.openxmlformats.org/officeDocument/2006/relationships/audio" Target="../media/drumroll.wav"/><Relationship Id="rId10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gif"/><Relationship Id="rId3" Type="http://schemas.openxmlformats.org/officeDocument/2006/relationships/slide" Target="slide3.xml"/><Relationship Id="rId4" Type="http://schemas.openxmlformats.org/officeDocument/2006/relationships/image" Target="../media/image9.jpeg"/><Relationship Id="rId5" Type="http://schemas.openxmlformats.org/officeDocument/2006/relationships/image" Target="../media/image9.jpeg"/><Relationship Id="rId6" Type="http://schemas.openxmlformats.org/officeDocument/2006/relationships/slide" Target="slide2.xml"/><Relationship Id="rId7" Type="http://schemas.openxmlformats.org/officeDocument/2006/relationships/slide" Target="slide3.xml"/><Relationship Id="rId8" Type="http://schemas.openxmlformats.org/officeDocument/2006/relationships/image" Target="../media/image16.gif"/><Relationship Id="rId9" Type="http://schemas.openxmlformats.org/officeDocument/2006/relationships/audio" Target="../media/drumroll.wav"/><Relationship Id="rId10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gif"/><Relationship Id="rId3" Type="http://schemas.openxmlformats.org/officeDocument/2006/relationships/slide" Target="slide3.xml"/><Relationship Id="rId4" Type="http://schemas.openxmlformats.org/officeDocument/2006/relationships/image" Target="../media/image9.jpeg"/><Relationship Id="rId5" Type="http://schemas.openxmlformats.org/officeDocument/2006/relationships/image" Target="../media/image9.jpeg"/><Relationship Id="rId6" Type="http://schemas.openxmlformats.org/officeDocument/2006/relationships/slide" Target="slide2.xml"/><Relationship Id="rId7" Type="http://schemas.openxmlformats.org/officeDocument/2006/relationships/slide" Target="slide3.xml"/><Relationship Id="rId8" Type="http://schemas.openxmlformats.org/officeDocument/2006/relationships/image" Target="../media/image5.gif"/><Relationship Id="rId9" Type="http://schemas.openxmlformats.org/officeDocument/2006/relationships/audio" Target="../media/drumroll.wav"/><Relationship Id="rId10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gif"/><Relationship Id="rId3" Type="http://schemas.openxmlformats.org/officeDocument/2006/relationships/slide" Target="slide3.xml"/><Relationship Id="rId4" Type="http://schemas.openxmlformats.org/officeDocument/2006/relationships/image" Target="../media/image9.jpeg"/><Relationship Id="rId5" Type="http://schemas.openxmlformats.org/officeDocument/2006/relationships/image" Target="../media/image9.jpeg"/><Relationship Id="rId6" Type="http://schemas.openxmlformats.org/officeDocument/2006/relationships/slide" Target="slide2.xml"/><Relationship Id="rId7" Type="http://schemas.openxmlformats.org/officeDocument/2006/relationships/slide" Target="slide3.xml"/><Relationship Id="rId8" Type="http://schemas.openxmlformats.org/officeDocument/2006/relationships/image" Target="../media/image17.gif"/><Relationship Id="rId9" Type="http://schemas.openxmlformats.org/officeDocument/2006/relationships/audio" Target="../media/drumroll.wav"/><Relationship Id="rId10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gif"/><Relationship Id="rId3" Type="http://schemas.openxmlformats.org/officeDocument/2006/relationships/slide" Target="slide3.xml"/><Relationship Id="rId4" Type="http://schemas.openxmlformats.org/officeDocument/2006/relationships/image" Target="../media/image9.jpeg"/><Relationship Id="rId5" Type="http://schemas.openxmlformats.org/officeDocument/2006/relationships/image" Target="../media/image9.jpeg"/><Relationship Id="rId6" Type="http://schemas.openxmlformats.org/officeDocument/2006/relationships/slide" Target="slide2.xml"/><Relationship Id="rId7" Type="http://schemas.openxmlformats.org/officeDocument/2006/relationships/slide" Target="slide3.xml"/><Relationship Id="rId8" Type="http://schemas.openxmlformats.org/officeDocument/2006/relationships/image" Target="../media/image5.gif"/><Relationship Id="rId9" Type="http://schemas.openxmlformats.org/officeDocument/2006/relationships/audio" Target="../media/drumroll.wav"/><Relationship Id="rId10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gif"/><Relationship Id="rId3" Type="http://schemas.openxmlformats.org/officeDocument/2006/relationships/slide" Target="slide3.xml"/><Relationship Id="rId4" Type="http://schemas.openxmlformats.org/officeDocument/2006/relationships/image" Target="../media/image9.jpeg"/><Relationship Id="rId5" Type="http://schemas.openxmlformats.org/officeDocument/2006/relationships/image" Target="../media/image9.jpeg"/><Relationship Id="rId6" Type="http://schemas.openxmlformats.org/officeDocument/2006/relationships/slide" Target="slide2.xml"/><Relationship Id="rId7" Type="http://schemas.openxmlformats.org/officeDocument/2006/relationships/slide" Target="slide3.xml"/><Relationship Id="rId8" Type="http://schemas.openxmlformats.org/officeDocument/2006/relationships/image" Target="../media/image17.gif"/><Relationship Id="rId9" Type="http://schemas.openxmlformats.org/officeDocument/2006/relationships/audio" Target="../media/drumroll.wav"/><Relationship Id="rId10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slide" Target="slide3.xml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7.wmf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gif"/><Relationship Id="rId3" Type="http://schemas.openxmlformats.org/officeDocument/2006/relationships/slide" Target="slide3.xml"/><Relationship Id="rId4" Type="http://schemas.openxmlformats.org/officeDocument/2006/relationships/image" Target="../media/image9.jpeg"/><Relationship Id="rId5" Type="http://schemas.openxmlformats.org/officeDocument/2006/relationships/image" Target="../media/image9.jpeg"/><Relationship Id="rId6" Type="http://schemas.openxmlformats.org/officeDocument/2006/relationships/slide" Target="slide2.xml"/><Relationship Id="rId7" Type="http://schemas.openxmlformats.org/officeDocument/2006/relationships/image" Target="../media/image5.gif"/><Relationship Id="rId8" Type="http://schemas.openxmlformats.org/officeDocument/2006/relationships/audio" Target="../media/drumroll.wav"/><Relationship Id="rId9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gif"/><Relationship Id="rId3" Type="http://schemas.openxmlformats.org/officeDocument/2006/relationships/slide" Target="slide3.xml"/><Relationship Id="rId4" Type="http://schemas.openxmlformats.org/officeDocument/2006/relationships/image" Target="../media/image9.jpeg"/><Relationship Id="rId5" Type="http://schemas.openxmlformats.org/officeDocument/2006/relationships/image" Target="../media/image9.jpeg"/><Relationship Id="rId6" Type="http://schemas.openxmlformats.org/officeDocument/2006/relationships/slide" Target="slide2.xml"/><Relationship Id="rId7" Type="http://schemas.openxmlformats.org/officeDocument/2006/relationships/image" Target="../media/image18.gif"/><Relationship Id="rId8" Type="http://schemas.openxmlformats.org/officeDocument/2006/relationships/audio" Target="../media/drumroll.wav"/><Relationship Id="rId9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gif"/><Relationship Id="rId3" Type="http://schemas.openxmlformats.org/officeDocument/2006/relationships/slide" Target="slide3.xml"/><Relationship Id="rId4" Type="http://schemas.openxmlformats.org/officeDocument/2006/relationships/image" Target="../media/image9.jpeg"/><Relationship Id="rId5" Type="http://schemas.openxmlformats.org/officeDocument/2006/relationships/image" Target="../media/image9.jpeg"/><Relationship Id="rId6" Type="http://schemas.openxmlformats.org/officeDocument/2006/relationships/slide" Target="slide2.xml"/><Relationship Id="rId7" Type="http://schemas.openxmlformats.org/officeDocument/2006/relationships/image" Target="../media/image5.gif"/><Relationship Id="rId8" Type="http://schemas.openxmlformats.org/officeDocument/2006/relationships/audio" Target="../media/drumroll.wav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gif"/><Relationship Id="rId3" Type="http://schemas.openxmlformats.org/officeDocument/2006/relationships/slide" Target="slide3.xml"/><Relationship Id="rId4" Type="http://schemas.openxmlformats.org/officeDocument/2006/relationships/image" Target="../media/image9.jpeg"/><Relationship Id="rId5" Type="http://schemas.openxmlformats.org/officeDocument/2006/relationships/image" Target="../media/image9.jpeg"/><Relationship Id="rId6" Type="http://schemas.openxmlformats.org/officeDocument/2006/relationships/slide" Target="slide2.xml"/><Relationship Id="rId7" Type="http://schemas.openxmlformats.org/officeDocument/2006/relationships/image" Target="../media/image19.gif"/><Relationship Id="rId8" Type="http://schemas.openxmlformats.org/officeDocument/2006/relationships/audio" Target="../media/drumroll.wav"/><Relationship Id="rId9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gif"/><Relationship Id="rId3" Type="http://schemas.openxmlformats.org/officeDocument/2006/relationships/slide" Target="slide3.xml"/><Relationship Id="rId4" Type="http://schemas.openxmlformats.org/officeDocument/2006/relationships/image" Target="../media/image9.jpeg"/><Relationship Id="rId5" Type="http://schemas.openxmlformats.org/officeDocument/2006/relationships/image" Target="../media/image9.jpeg"/><Relationship Id="rId6" Type="http://schemas.openxmlformats.org/officeDocument/2006/relationships/slide" Target="slide2.xml"/><Relationship Id="rId7" Type="http://schemas.openxmlformats.org/officeDocument/2006/relationships/image" Target="../media/image17.gif"/><Relationship Id="rId8" Type="http://schemas.openxmlformats.org/officeDocument/2006/relationships/audio" Target="../media/drumroll.wav"/><Relationship Id="rId9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gif"/><Relationship Id="rId3" Type="http://schemas.openxmlformats.org/officeDocument/2006/relationships/slide" Target="slide3.xml"/><Relationship Id="rId4" Type="http://schemas.openxmlformats.org/officeDocument/2006/relationships/image" Target="../media/image9.jpeg"/><Relationship Id="rId5" Type="http://schemas.openxmlformats.org/officeDocument/2006/relationships/image" Target="../media/image9.jpeg"/><Relationship Id="rId6" Type="http://schemas.openxmlformats.org/officeDocument/2006/relationships/slide" Target="slide2.xml"/><Relationship Id="rId7" Type="http://schemas.openxmlformats.org/officeDocument/2006/relationships/image" Target="../media/image20.gif"/><Relationship Id="rId8" Type="http://schemas.openxmlformats.org/officeDocument/2006/relationships/audio" Target="../media/drumroll.wav"/><Relationship Id="rId9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gif"/><Relationship Id="rId3" Type="http://schemas.openxmlformats.org/officeDocument/2006/relationships/slide" Target="slide3.xml"/><Relationship Id="rId4" Type="http://schemas.openxmlformats.org/officeDocument/2006/relationships/image" Target="../media/image9.jpeg"/><Relationship Id="rId5" Type="http://schemas.openxmlformats.org/officeDocument/2006/relationships/image" Target="../media/image9.jpeg"/><Relationship Id="rId6" Type="http://schemas.openxmlformats.org/officeDocument/2006/relationships/slide" Target="slide2.xml"/><Relationship Id="rId7" Type="http://schemas.openxmlformats.org/officeDocument/2006/relationships/image" Target="../media/image21.gif"/><Relationship Id="rId8" Type="http://schemas.openxmlformats.org/officeDocument/2006/relationships/audio" Target="../media/drumroll.wav"/><Relationship Id="rId9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gif"/><Relationship Id="rId3" Type="http://schemas.openxmlformats.org/officeDocument/2006/relationships/slide" Target="slide3.xml"/><Relationship Id="rId4" Type="http://schemas.openxmlformats.org/officeDocument/2006/relationships/image" Target="../media/image9.jpeg"/><Relationship Id="rId5" Type="http://schemas.openxmlformats.org/officeDocument/2006/relationships/image" Target="../media/image9.jpeg"/><Relationship Id="rId6" Type="http://schemas.openxmlformats.org/officeDocument/2006/relationships/slide" Target="slide2.xml"/><Relationship Id="rId7" Type="http://schemas.openxmlformats.org/officeDocument/2006/relationships/image" Target="../media/image22.gif"/><Relationship Id="rId8" Type="http://schemas.openxmlformats.org/officeDocument/2006/relationships/audio" Target="../media/drumroll.wav"/><Relationship Id="rId9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gif"/><Relationship Id="rId3" Type="http://schemas.openxmlformats.org/officeDocument/2006/relationships/slide" Target="slide3.xml"/><Relationship Id="rId4" Type="http://schemas.openxmlformats.org/officeDocument/2006/relationships/image" Target="../media/image9.jpeg"/><Relationship Id="rId5" Type="http://schemas.openxmlformats.org/officeDocument/2006/relationships/image" Target="../media/image9.jpeg"/><Relationship Id="rId6" Type="http://schemas.openxmlformats.org/officeDocument/2006/relationships/slide" Target="slide2.xml"/><Relationship Id="rId7" Type="http://schemas.openxmlformats.org/officeDocument/2006/relationships/image" Target="../media/image21.gif"/><Relationship Id="rId8" Type="http://schemas.openxmlformats.org/officeDocument/2006/relationships/audio" Target="../media/drumroll.wav"/><Relationship Id="rId9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gif"/><Relationship Id="rId3" Type="http://schemas.openxmlformats.org/officeDocument/2006/relationships/slide" Target="slide3.xml"/><Relationship Id="rId4" Type="http://schemas.openxmlformats.org/officeDocument/2006/relationships/image" Target="../media/image9.jpeg"/><Relationship Id="rId5" Type="http://schemas.openxmlformats.org/officeDocument/2006/relationships/image" Target="../media/image9.jpeg"/><Relationship Id="rId6" Type="http://schemas.openxmlformats.org/officeDocument/2006/relationships/slide" Target="slide2.xml"/><Relationship Id="rId7" Type="http://schemas.openxmlformats.org/officeDocument/2006/relationships/image" Target="../media/image23.gif"/><Relationship Id="rId8" Type="http://schemas.openxmlformats.org/officeDocument/2006/relationships/audio" Target="../media/drumroll.wav"/><Relationship Id="rId9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image" Target="../media/image9.jpeg"/><Relationship Id="rId6" Type="http://schemas.openxmlformats.org/officeDocument/2006/relationships/image" Target="../media/image9.jpeg"/><Relationship Id="rId7" Type="http://schemas.openxmlformats.org/officeDocument/2006/relationships/image" Target="../media/image9.jpeg"/><Relationship Id="rId8" Type="http://schemas.openxmlformats.org/officeDocument/2006/relationships/image" Target="../media/image9.jpeg"/><Relationship Id="rId9" Type="http://schemas.openxmlformats.org/officeDocument/2006/relationships/image" Target="../media/image9.jpeg"/><Relationship Id="rId10" Type="http://schemas.openxmlformats.org/officeDocument/2006/relationships/image" Target="../media/image9.jpeg"/><Relationship Id="rId11" Type="http://schemas.openxmlformats.org/officeDocument/2006/relationships/image" Target="../media/image9.jpeg"/><Relationship Id="rId12" Type="http://schemas.openxmlformats.org/officeDocument/2006/relationships/image" Target="../media/image9.jpeg"/><Relationship Id="rId13" Type="http://schemas.openxmlformats.org/officeDocument/2006/relationships/image" Target="../media/image9.jpeg"/><Relationship Id="rId14" Type="http://schemas.openxmlformats.org/officeDocument/2006/relationships/image" Target="../media/image9.jpeg"/><Relationship Id="rId15" Type="http://schemas.openxmlformats.org/officeDocument/2006/relationships/image" Target="../media/image9.jpeg"/><Relationship Id="rId16" Type="http://schemas.openxmlformats.org/officeDocument/2006/relationships/image" Target="../media/image9.jpeg"/><Relationship Id="rId17" Type="http://schemas.openxmlformats.org/officeDocument/2006/relationships/image" Target="../media/image9.jpeg"/><Relationship Id="rId18" Type="http://schemas.openxmlformats.org/officeDocument/2006/relationships/image" Target="../media/image9.jpeg"/><Relationship Id="rId19" Type="http://schemas.openxmlformats.org/officeDocument/2006/relationships/image" Target="../media/image9.jpeg"/><Relationship Id="rId20" Type="http://schemas.openxmlformats.org/officeDocument/2006/relationships/image" Target="../media/image9.jpeg"/><Relationship Id="rId21" Type="http://schemas.openxmlformats.org/officeDocument/2006/relationships/image" Target="../media/image9.jpeg"/><Relationship Id="rId22" Type="http://schemas.openxmlformats.org/officeDocument/2006/relationships/image" Target="../media/image9.jpeg"/><Relationship Id="rId23" Type="http://schemas.openxmlformats.org/officeDocument/2006/relationships/image" Target="../media/image9.jpeg"/><Relationship Id="rId24" Type="http://schemas.openxmlformats.org/officeDocument/2006/relationships/image" Target="../media/image9.jpeg"/><Relationship Id="rId25" Type="http://schemas.openxmlformats.org/officeDocument/2006/relationships/image" Target="../media/image9.jpeg"/><Relationship Id="rId26" Type="http://schemas.openxmlformats.org/officeDocument/2006/relationships/image" Target="../media/image9.jpeg"/><Relationship Id="rId27" Type="http://schemas.openxmlformats.org/officeDocument/2006/relationships/image" Target="../media/image9.jpeg"/><Relationship Id="rId28" Type="http://schemas.openxmlformats.org/officeDocument/2006/relationships/image" Target="../media/image9.jpeg"/><Relationship Id="rId29" Type="http://schemas.openxmlformats.org/officeDocument/2006/relationships/image" Target="../media/image9.jpeg"/><Relationship Id="rId30" Type="http://schemas.openxmlformats.org/officeDocument/2006/relationships/image" Target="../media/image9.jpeg"/><Relationship Id="rId31" Type="http://schemas.openxmlformats.org/officeDocument/2006/relationships/image" Target="../media/image9.jpeg"/><Relationship Id="rId32" Type="http://schemas.openxmlformats.org/officeDocument/2006/relationships/image" Target="../media/image9.jpeg"/><Relationship Id="rId33" Type="http://schemas.openxmlformats.org/officeDocument/2006/relationships/image" Target="../media/image9.jpeg"/><Relationship Id="rId34" Type="http://schemas.openxmlformats.org/officeDocument/2006/relationships/image" Target="../media/image9.jpeg"/><Relationship Id="rId35" Type="http://schemas.openxmlformats.org/officeDocument/2006/relationships/image" Target="../media/image9.jpeg"/><Relationship Id="rId36" Type="http://schemas.openxmlformats.org/officeDocument/2006/relationships/image" Target="../media/image9.jpeg"/><Relationship Id="rId37" Type="http://schemas.openxmlformats.org/officeDocument/2006/relationships/image" Target="../media/image9.jpeg"/><Relationship Id="rId38" Type="http://schemas.openxmlformats.org/officeDocument/2006/relationships/image" Target="../media/image9.jpeg"/><Relationship Id="rId39" Type="http://schemas.openxmlformats.org/officeDocument/2006/relationships/image" Target="../media/image9.jpeg"/><Relationship Id="rId40" Type="http://schemas.openxmlformats.org/officeDocument/2006/relationships/image" Target="../media/image9.jpeg"/><Relationship Id="rId41" Type="http://schemas.openxmlformats.org/officeDocument/2006/relationships/image" Target="../media/image9.jpeg"/><Relationship Id="rId42" Type="http://schemas.openxmlformats.org/officeDocument/2006/relationships/image" Target="../media/image9.jpeg"/><Relationship Id="rId43" Type="http://schemas.openxmlformats.org/officeDocument/2006/relationships/image" Target="../media/image9.jpeg"/><Relationship Id="rId44" Type="http://schemas.openxmlformats.org/officeDocument/2006/relationships/image" Target="../media/image9.jpeg"/><Relationship Id="rId45" Type="http://schemas.openxmlformats.org/officeDocument/2006/relationships/image" Target="../media/image9.jpeg"/><Relationship Id="rId46" Type="http://schemas.openxmlformats.org/officeDocument/2006/relationships/image" Target="../media/image9.jpeg"/><Relationship Id="rId47" Type="http://schemas.openxmlformats.org/officeDocument/2006/relationships/image" Target="../media/image9.jpeg"/><Relationship Id="rId48" Type="http://schemas.openxmlformats.org/officeDocument/2006/relationships/image" Target="../media/image9.jpeg"/><Relationship Id="rId49" Type="http://schemas.openxmlformats.org/officeDocument/2006/relationships/image" Target="../media/image9.jpeg"/><Relationship Id="rId50" Type="http://schemas.openxmlformats.org/officeDocument/2006/relationships/image" Target="../media/image9.jpeg"/><Relationship Id="rId51" Type="http://schemas.openxmlformats.org/officeDocument/2006/relationships/image" Target="../media/image9.jpeg"/><Relationship Id="rId52" Type="http://schemas.openxmlformats.org/officeDocument/2006/relationships/image" Target="../media/image9.jpeg"/><Relationship Id="rId53" Type="http://schemas.openxmlformats.org/officeDocument/2006/relationships/image" Target="../media/image9.jpeg"/><Relationship Id="rId54" Type="http://schemas.openxmlformats.org/officeDocument/2006/relationships/image" Target="../media/image9.jpeg"/><Relationship Id="rId55" Type="http://schemas.openxmlformats.org/officeDocument/2006/relationships/image" Target="../media/image9.jpeg"/><Relationship Id="rId56" Type="http://schemas.openxmlformats.org/officeDocument/2006/relationships/image" Target="../media/image9.jpeg"/><Relationship Id="rId57" Type="http://schemas.openxmlformats.org/officeDocument/2006/relationships/image" Target="../media/image9.jpeg"/><Relationship Id="rId58" Type="http://schemas.openxmlformats.org/officeDocument/2006/relationships/image" Target="../media/image9.jpeg"/><Relationship Id="rId59" Type="http://schemas.openxmlformats.org/officeDocument/2006/relationships/image" Target="../media/image9.jpeg"/><Relationship Id="rId60" Type="http://schemas.openxmlformats.org/officeDocument/2006/relationships/image" Target="../media/image9.jpeg"/><Relationship Id="rId61" Type="http://schemas.openxmlformats.org/officeDocument/2006/relationships/image" Target="../media/image9.jpeg"/><Relationship Id="rId62" Type="http://schemas.openxmlformats.org/officeDocument/2006/relationships/image" Target="../media/image9.jpeg"/><Relationship Id="rId63" Type="http://schemas.openxmlformats.org/officeDocument/2006/relationships/image" Target="../media/image9.jpeg"/><Relationship Id="rId64" Type="http://schemas.openxmlformats.org/officeDocument/2006/relationships/image" Target="../media/image9.jpeg"/><Relationship Id="rId65" Type="http://schemas.openxmlformats.org/officeDocument/2006/relationships/image" Target="../media/image9.jpeg"/><Relationship Id="rId66" Type="http://schemas.openxmlformats.org/officeDocument/2006/relationships/image" Target="../media/image9.jpeg"/><Relationship Id="rId67" Type="http://schemas.openxmlformats.org/officeDocument/2006/relationships/image" Target="../media/image9.jpeg"/><Relationship Id="rId68" Type="http://schemas.openxmlformats.org/officeDocument/2006/relationships/image" Target="../media/image9.jpeg"/><Relationship Id="rId69" Type="http://schemas.openxmlformats.org/officeDocument/2006/relationships/image" Target="../media/image9.jpeg"/><Relationship Id="rId70" Type="http://schemas.openxmlformats.org/officeDocument/2006/relationships/image" Target="../media/image9.jpeg"/><Relationship Id="rId71" Type="http://schemas.openxmlformats.org/officeDocument/2006/relationships/image" Target="../media/image9.jpeg"/><Relationship Id="rId72" Type="http://schemas.openxmlformats.org/officeDocument/2006/relationships/slide" Target="slide2.xml"/><Relationship Id="rId73" Type="http://schemas.openxmlformats.org/officeDocument/2006/relationships/slide" Target=""/><Relationship Id="rId7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gif"/><Relationship Id="rId3" Type="http://schemas.openxmlformats.org/officeDocument/2006/relationships/slide" Target="slide3.xml"/><Relationship Id="rId4" Type="http://schemas.openxmlformats.org/officeDocument/2006/relationships/image" Target="../media/image9.jpeg"/><Relationship Id="rId5" Type="http://schemas.openxmlformats.org/officeDocument/2006/relationships/image" Target="../media/image9.jpeg"/><Relationship Id="rId6" Type="http://schemas.openxmlformats.org/officeDocument/2006/relationships/slide" Target="slide2.xml"/><Relationship Id="rId7" Type="http://schemas.openxmlformats.org/officeDocument/2006/relationships/image" Target="../media/image24.gif"/><Relationship Id="rId8" Type="http://schemas.openxmlformats.org/officeDocument/2006/relationships/audio" Target="../media/drumroll.wav"/><Relationship Id="rId9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gif"/><Relationship Id="rId3" Type="http://schemas.openxmlformats.org/officeDocument/2006/relationships/slide" Target="slide3.xml"/><Relationship Id="rId4" Type="http://schemas.openxmlformats.org/officeDocument/2006/relationships/image" Target="../media/image9.jpeg"/><Relationship Id="rId5" Type="http://schemas.openxmlformats.org/officeDocument/2006/relationships/image" Target="../media/image9.jpeg"/><Relationship Id="rId6" Type="http://schemas.openxmlformats.org/officeDocument/2006/relationships/slide" Target="slide2.xml"/><Relationship Id="rId7" Type="http://schemas.openxmlformats.org/officeDocument/2006/relationships/image" Target="../media/image22.gif"/><Relationship Id="rId8" Type="http://schemas.openxmlformats.org/officeDocument/2006/relationships/audio" Target="../media/drumroll.wav"/><Relationship Id="rId9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gif"/><Relationship Id="rId3" Type="http://schemas.openxmlformats.org/officeDocument/2006/relationships/slide" Target="slide3.xml"/><Relationship Id="rId4" Type="http://schemas.openxmlformats.org/officeDocument/2006/relationships/image" Target="../media/image9.jpeg"/><Relationship Id="rId5" Type="http://schemas.openxmlformats.org/officeDocument/2006/relationships/image" Target="../media/image9.jpeg"/><Relationship Id="rId6" Type="http://schemas.openxmlformats.org/officeDocument/2006/relationships/slide" Target="slide2.xml"/><Relationship Id="rId7" Type="http://schemas.openxmlformats.org/officeDocument/2006/relationships/image" Target="../media/image25.gif"/><Relationship Id="rId8" Type="http://schemas.openxmlformats.org/officeDocument/2006/relationships/audio" Target="../media/drumroll.wav"/><Relationship Id="rId9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gif"/><Relationship Id="rId3" Type="http://schemas.openxmlformats.org/officeDocument/2006/relationships/slide" Target="slide3.xml"/><Relationship Id="rId4" Type="http://schemas.openxmlformats.org/officeDocument/2006/relationships/image" Target="../media/image9.jpeg"/><Relationship Id="rId5" Type="http://schemas.openxmlformats.org/officeDocument/2006/relationships/image" Target="../media/image9.jpeg"/><Relationship Id="rId6" Type="http://schemas.openxmlformats.org/officeDocument/2006/relationships/slide" Target="slide2.xml"/><Relationship Id="rId7" Type="http://schemas.openxmlformats.org/officeDocument/2006/relationships/image" Target="../media/image26.gif"/><Relationship Id="rId8" Type="http://schemas.openxmlformats.org/officeDocument/2006/relationships/audio" Target="../media/drumroll.wav"/><Relationship Id="rId9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gif"/><Relationship Id="rId3" Type="http://schemas.openxmlformats.org/officeDocument/2006/relationships/slide" Target="slide3.xml"/><Relationship Id="rId4" Type="http://schemas.openxmlformats.org/officeDocument/2006/relationships/image" Target="../media/image9.jpeg"/><Relationship Id="rId5" Type="http://schemas.openxmlformats.org/officeDocument/2006/relationships/image" Target="../media/image9.jpeg"/><Relationship Id="rId6" Type="http://schemas.openxmlformats.org/officeDocument/2006/relationships/slide" Target="slide2.xml"/><Relationship Id="rId7" Type="http://schemas.openxmlformats.org/officeDocument/2006/relationships/image" Target="../media/image27.gif"/><Relationship Id="rId8" Type="http://schemas.openxmlformats.org/officeDocument/2006/relationships/audio" Target="../media/drumroll.wav"/><Relationship Id="rId9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image" Target="../media/image28.gif"/><Relationship Id="rId5" Type="http://schemas.openxmlformats.org/officeDocument/2006/relationships/slide" Target="slide3.xml"/><Relationship Id="rId6" Type="http://schemas.openxmlformats.org/officeDocument/2006/relationships/image" Target="../media/image29.jpeg"/><Relationship Id="rId7" Type="http://schemas.openxmlformats.org/officeDocument/2006/relationships/audio" Target="../media/wind.wav"/><Relationship Id="rId8" Type="http://schemas.openxmlformats.org/officeDocument/2006/relationships/audio" Target="../media/breeze.wav"/><Relationship Id="rId9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0.gif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slide" Target="slide3.xml"/><Relationship Id="rId6" Type="http://schemas.openxmlformats.org/officeDocument/2006/relationships/image" Target="../media/image29.jpeg"/><Relationship Id="rId7" Type="http://schemas.openxmlformats.org/officeDocument/2006/relationships/audio" Target="../media/wind.wav"/><Relationship Id="rId8" Type="http://schemas.openxmlformats.org/officeDocument/2006/relationships/audio" Target="../media/breeze.wav"/><Relationship Id="rId9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image" Target="../media/image30.gif"/><Relationship Id="rId5" Type="http://schemas.openxmlformats.org/officeDocument/2006/relationships/slide" Target="slide3.xml"/><Relationship Id="rId6" Type="http://schemas.openxmlformats.org/officeDocument/2006/relationships/image" Target="../media/image29.jpeg"/><Relationship Id="rId7" Type="http://schemas.openxmlformats.org/officeDocument/2006/relationships/audio" Target="../media/wind.wav"/><Relationship Id="rId8" Type="http://schemas.openxmlformats.org/officeDocument/2006/relationships/audio" Target="../media/breeze.wav"/><Relationship Id="rId9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image" Target="../media/image28.gif"/><Relationship Id="rId5" Type="http://schemas.openxmlformats.org/officeDocument/2006/relationships/slide" Target="slide3.xml"/><Relationship Id="rId6" Type="http://schemas.openxmlformats.org/officeDocument/2006/relationships/image" Target="../media/image29.jpeg"/><Relationship Id="rId7" Type="http://schemas.openxmlformats.org/officeDocument/2006/relationships/audio" Target="../media/wind.wav"/><Relationship Id="rId8" Type="http://schemas.openxmlformats.org/officeDocument/2006/relationships/audio" Target="../media/breeze.wav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gif"/><Relationship Id="rId3" Type="http://schemas.openxmlformats.org/officeDocument/2006/relationships/slide" Target="slide3.xml"/><Relationship Id="rId4" Type="http://schemas.openxmlformats.org/officeDocument/2006/relationships/image" Target="../media/image9.jpeg"/><Relationship Id="rId5" Type="http://schemas.openxmlformats.org/officeDocument/2006/relationships/image" Target="../media/image9.jpeg"/><Relationship Id="rId6" Type="http://schemas.openxmlformats.org/officeDocument/2006/relationships/slide" Target="slide2.xml"/><Relationship Id="rId7" Type="http://schemas.openxmlformats.org/officeDocument/2006/relationships/slide" Target="slide3.xml"/><Relationship Id="rId8" Type="http://schemas.openxmlformats.org/officeDocument/2006/relationships/image" Target="../media/image6.gif"/><Relationship Id="rId9" Type="http://schemas.openxmlformats.org/officeDocument/2006/relationships/audio" Target="../media/drumroll.wav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gif"/><Relationship Id="rId3" Type="http://schemas.openxmlformats.org/officeDocument/2006/relationships/slide" Target="slide3.xml"/><Relationship Id="rId4" Type="http://schemas.openxmlformats.org/officeDocument/2006/relationships/image" Target="../media/image9.jpeg"/><Relationship Id="rId5" Type="http://schemas.openxmlformats.org/officeDocument/2006/relationships/image" Target="../media/image9.jpeg"/><Relationship Id="rId6" Type="http://schemas.openxmlformats.org/officeDocument/2006/relationships/slide" Target="slide2.xml"/><Relationship Id="rId7" Type="http://schemas.openxmlformats.org/officeDocument/2006/relationships/slide" Target="slide3.xml"/><Relationship Id="rId8" Type="http://schemas.openxmlformats.org/officeDocument/2006/relationships/image" Target="../media/image11.gif"/><Relationship Id="rId9" Type="http://schemas.openxmlformats.org/officeDocument/2006/relationships/audio" Target="../media/drumroll.wav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gif"/><Relationship Id="rId3" Type="http://schemas.openxmlformats.org/officeDocument/2006/relationships/slide" Target="slide3.xml"/><Relationship Id="rId4" Type="http://schemas.openxmlformats.org/officeDocument/2006/relationships/image" Target="../media/image9.jpeg"/><Relationship Id="rId5" Type="http://schemas.openxmlformats.org/officeDocument/2006/relationships/image" Target="../media/image9.jpeg"/><Relationship Id="rId6" Type="http://schemas.openxmlformats.org/officeDocument/2006/relationships/slide" Target="slide2.xml"/><Relationship Id="rId7" Type="http://schemas.openxmlformats.org/officeDocument/2006/relationships/slide" Target="slide3.xml"/><Relationship Id="rId8" Type="http://schemas.openxmlformats.org/officeDocument/2006/relationships/image" Target="../media/image5.gif"/><Relationship Id="rId9" Type="http://schemas.openxmlformats.org/officeDocument/2006/relationships/audio" Target="../media/drumroll.wav"/><Relationship Id="rId10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gif"/><Relationship Id="rId3" Type="http://schemas.openxmlformats.org/officeDocument/2006/relationships/slide" Target="slide3.xml"/><Relationship Id="rId4" Type="http://schemas.openxmlformats.org/officeDocument/2006/relationships/image" Target="../media/image9.jpeg"/><Relationship Id="rId5" Type="http://schemas.openxmlformats.org/officeDocument/2006/relationships/image" Target="../media/image9.jpeg"/><Relationship Id="rId6" Type="http://schemas.openxmlformats.org/officeDocument/2006/relationships/slide" Target="slide2.xml"/><Relationship Id="rId7" Type="http://schemas.openxmlformats.org/officeDocument/2006/relationships/slide" Target="slide3.xml"/><Relationship Id="rId8" Type="http://schemas.openxmlformats.org/officeDocument/2006/relationships/image" Target="../media/image12.gif"/><Relationship Id="rId9" Type="http://schemas.openxmlformats.org/officeDocument/2006/relationships/audio" Target="../media/drumroll.wav"/><Relationship Id="rId10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gif"/><Relationship Id="rId3" Type="http://schemas.openxmlformats.org/officeDocument/2006/relationships/slide" Target="slide3.xml"/><Relationship Id="rId4" Type="http://schemas.openxmlformats.org/officeDocument/2006/relationships/image" Target="../media/image9.jpeg"/><Relationship Id="rId5" Type="http://schemas.openxmlformats.org/officeDocument/2006/relationships/image" Target="../media/image9.jpeg"/><Relationship Id="rId6" Type="http://schemas.openxmlformats.org/officeDocument/2006/relationships/slide" Target="slide2.xml"/><Relationship Id="rId7" Type="http://schemas.openxmlformats.org/officeDocument/2006/relationships/slide" Target="slide3.xml"/><Relationship Id="rId8" Type="http://schemas.openxmlformats.org/officeDocument/2006/relationships/image" Target="../media/image13.gif"/><Relationship Id="rId9" Type="http://schemas.openxmlformats.org/officeDocument/2006/relationships/audio" Target="../media/drumroll.wav"/><Relationship Id="rId10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gif"/><Relationship Id="rId3" Type="http://schemas.openxmlformats.org/officeDocument/2006/relationships/slide" Target="slide3.xml"/><Relationship Id="rId4" Type="http://schemas.openxmlformats.org/officeDocument/2006/relationships/image" Target="../media/image9.jpeg"/><Relationship Id="rId5" Type="http://schemas.openxmlformats.org/officeDocument/2006/relationships/image" Target="../media/image9.jpeg"/><Relationship Id="rId6" Type="http://schemas.openxmlformats.org/officeDocument/2006/relationships/slide" Target="slide2.xml"/><Relationship Id="rId7" Type="http://schemas.openxmlformats.org/officeDocument/2006/relationships/slide" Target="slide3.xml"/><Relationship Id="rId8" Type="http://schemas.openxmlformats.org/officeDocument/2006/relationships/image" Target="../media/image5.gif"/><Relationship Id="rId9" Type="http://schemas.openxmlformats.org/officeDocument/2006/relationships/audio" Target="../media/drumroll.wav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908000" y="4437000"/>
            <a:ext cx="5328000" cy="1584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755640" y="1341360"/>
            <a:ext cx="79930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788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географическая игра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2268360" y="3068640"/>
            <a:ext cx="43214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759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географ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524720" y="6381720"/>
            <a:ext cx="1420920" cy="287280"/>
          </a:xfrm>
          <a:prstGeom prst="rect">
            <a:avLst/>
          </a:prstGeom>
          <a:gradFill rotWithShape="0">
            <a:gsLst>
              <a:gs pos="0">
                <a:srgbClr val="3c3e5a"/>
              </a:gs>
              <a:gs pos="50000">
                <a:srgbClr val="8488c4">
                  <a:alpha val="63137"/>
                </a:srgbClr>
              </a:gs>
              <a:gs pos="100000">
                <a:srgbClr val="3c3e5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равила игр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6"/>
          <a:stretch/>
        </p:blipFill>
        <p:spPr>
          <a:xfrm>
            <a:off x="1908000" y="4437000"/>
            <a:ext cx="1095480" cy="9716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7"/>
          <a:stretch/>
        </p:blipFill>
        <p:spPr>
          <a:xfrm>
            <a:off x="6012000" y="4508640"/>
            <a:ext cx="1095120" cy="9712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8"/>
          <a:stretch/>
        </p:blipFill>
        <p:spPr>
          <a:xfrm>
            <a:off x="4067280" y="4581360"/>
            <a:ext cx="115236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583236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ВНИМАНИЕ !  ВОПРО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332000" y="1989000"/>
            <a:ext cx="6780240" cy="1368720"/>
          </a:xfrm>
          <a:prstGeom prst="rect">
            <a:avLst/>
          </a:prstGeom>
          <a:solidFill>
            <a:srgbClr val="ffff00">
              <a:alpha val="34000"/>
            </a:srgbClr>
          </a:solidFill>
          <a:ln w="57240">
            <a:solidFill>
              <a:srgbClr val="ffff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Какой океан самый мелкий на Земл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2"/>
          <a:stretch/>
        </p:blipFill>
        <p:spPr>
          <a:xfrm>
            <a:off x="395280" y="404640"/>
            <a:ext cx="1368360" cy="1368720"/>
          </a:xfrm>
          <a:prstGeom prst="rect">
            <a:avLst/>
          </a:prstGeom>
          <a:ln w="0">
            <a:noFill/>
          </a:ln>
        </p:spPr>
      </p:pic>
      <p:sp>
        <p:nvSpPr>
          <p:cNvPr id="241" name="">
            <a:hlinkClick r:id="rId3" action="ppaction://hlinksldjump"/>
          </p:cNvPr>
          <p:cNvSpPr/>
          <p:nvPr/>
        </p:nvSpPr>
        <p:spPr>
          <a:xfrm>
            <a:off x="539640" y="549360"/>
            <a:ext cx="1042920" cy="1042920"/>
          </a:xfrm>
          <a:custGeom>
            <a:avLst/>
            <a:gdLst>
              <a:gd name="textAreaLeft" fmla="*/ 96480 w 1042920"/>
              <a:gd name="textAreaRight" fmla="*/ 946440 w 1042920"/>
              <a:gd name="textAreaTop" fmla="*/ 96480 h 1042920"/>
              <a:gd name="textAreaBottom" fmla="*/ 94644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9595" y="2005"/>
                </a:lnTo>
                <a:lnTo>
                  <a:pt x="2005" y="2005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9595" y="19595"/>
                </a:lnTo>
                <a:lnTo>
                  <a:pt x="19595" y="2005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2005" y="19595"/>
                </a:lnTo>
                <a:lnTo>
                  <a:pt x="19595" y="19595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2005" y="2005"/>
                </a:lnTo>
                <a:lnTo>
                  <a:pt x="2005" y="19595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755640" y="765000"/>
            <a:ext cx="64764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Book Antiqua"/>
              </a:rPr>
              <a:t>22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243" name=""/>
          <p:cNvSpPr/>
          <p:nvPr/>
        </p:nvSpPr>
        <p:spPr>
          <a:xfrm>
            <a:off x="684360" y="5589720"/>
            <a:ext cx="647640" cy="538200"/>
          </a:xfrm>
          <a:custGeom>
            <a:avLst/>
            <a:gdLst>
              <a:gd name="textAreaLeft" fmla="*/ 115200 w 647640"/>
              <a:gd name="textAreaRight" fmla="*/ 532440 w 647640"/>
              <a:gd name="textAreaTop" fmla="*/ 115200 h 538200"/>
              <a:gd name="textAreaBottom" fmla="*/ 42300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1361" y="4629"/>
                </a:lnTo>
                <a:lnTo>
                  <a:pt x="4629" y="4629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1361" y="16971"/>
                </a:lnTo>
                <a:lnTo>
                  <a:pt x="21361" y="4629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4629" y="16971"/>
                </a:lnTo>
                <a:lnTo>
                  <a:pt x="21361" y="16971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4629" y="4629"/>
                </a:lnTo>
                <a:lnTo>
                  <a:pt x="4629" y="1697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547640" y="5589720"/>
            <a:ext cx="648000" cy="538200"/>
          </a:xfrm>
          <a:custGeom>
            <a:avLst/>
            <a:gdLst>
              <a:gd name="textAreaLeft" fmla="*/ 115200 w 648000"/>
              <a:gd name="textAreaRight" fmla="*/ 532800 w 648000"/>
              <a:gd name="textAreaTop" fmla="*/ 115200 h 538200"/>
              <a:gd name="textAreaBottom" fmla="*/ 42300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1375" y="4629"/>
                </a:lnTo>
                <a:lnTo>
                  <a:pt x="4629" y="4629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1375" y="16971"/>
                </a:lnTo>
                <a:lnTo>
                  <a:pt x="21375" y="4629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4629" y="16971"/>
                </a:lnTo>
                <a:lnTo>
                  <a:pt x="21375" y="16971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4629" y="4629"/>
                </a:lnTo>
                <a:lnTo>
                  <a:pt x="4629" y="1697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411280" y="5589720"/>
            <a:ext cx="648000" cy="538200"/>
          </a:xfrm>
          <a:custGeom>
            <a:avLst/>
            <a:gdLst>
              <a:gd name="textAreaLeft" fmla="*/ 115200 w 648000"/>
              <a:gd name="textAreaRight" fmla="*/ 532800 w 648000"/>
              <a:gd name="textAreaTop" fmla="*/ 115200 h 538200"/>
              <a:gd name="textAreaBottom" fmla="*/ 42300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1375" y="4629"/>
                </a:lnTo>
                <a:lnTo>
                  <a:pt x="4629" y="4629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1375" y="16971"/>
                </a:lnTo>
                <a:lnTo>
                  <a:pt x="21375" y="4629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4629" y="16971"/>
                </a:lnTo>
                <a:lnTo>
                  <a:pt x="21375" y="16971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4629" y="4629"/>
                </a:lnTo>
                <a:lnTo>
                  <a:pt x="4629" y="1697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5589720"/>
            <a:ext cx="647640" cy="538200"/>
          </a:xfrm>
          <a:custGeom>
            <a:avLst/>
            <a:gdLst>
              <a:gd name="textAreaLeft" fmla="*/ 115200 w 647640"/>
              <a:gd name="textAreaRight" fmla="*/ 532440 w 647640"/>
              <a:gd name="textAreaTop" fmla="*/ 115200 h 538200"/>
              <a:gd name="textAreaBottom" fmla="*/ 42300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1361" y="4629"/>
                </a:lnTo>
                <a:lnTo>
                  <a:pt x="4629" y="4629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1361" y="16971"/>
                </a:lnTo>
                <a:lnTo>
                  <a:pt x="21361" y="4629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4629" y="16971"/>
                </a:lnTo>
                <a:lnTo>
                  <a:pt x="21361" y="16971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4629" y="4629"/>
                </a:lnTo>
                <a:lnTo>
                  <a:pt x="4629" y="1697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140360" y="5589720"/>
            <a:ext cx="647640" cy="538200"/>
          </a:xfrm>
          <a:custGeom>
            <a:avLst/>
            <a:gdLst>
              <a:gd name="textAreaLeft" fmla="*/ 115200 w 647640"/>
              <a:gd name="textAreaRight" fmla="*/ 532440 w 647640"/>
              <a:gd name="textAreaTop" fmla="*/ 115200 h 538200"/>
              <a:gd name="textAreaBottom" fmla="*/ 42300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1361" y="4629"/>
                </a:lnTo>
                <a:lnTo>
                  <a:pt x="4629" y="4629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1361" y="16971"/>
                </a:lnTo>
                <a:lnTo>
                  <a:pt x="21361" y="4629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4629" y="16971"/>
                </a:lnTo>
                <a:lnTo>
                  <a:pt x="21361" y="16971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4629" y="4629"/>
                </a:lnTo>
                <a:lnTo>
                  <a:pt x="4629" y="1697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572000" y="3716280"/>
            <a:ext cx="4321080" cy="574560"/>
          </a:xfrm>
          <a:prstGeom prst="rect">
            <a:avLst/>
          </a:prstGeom>
          <a:noFill/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33"/>
                </a:solidFill>
                <a:latin typeface="Arial"/>
              </a:rPr>
              <a:t>Правильный 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rot="10800000">
            <a:off x="5148000" y="4797000"/>
            <a:ext cx="3600360" cy="1295640"/>
          </a:xfrm>
          <a:prstGeom prst="wedgeRectCallout">
            <a:avLst>
              <a:gd name="adj1" fmla="val -837"/>
              <a:gd name="adj2" fmla="val 85416"/>
            </a:avLst>
          </a:prstGeom>
          <a:noFill/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Северный Ледовиты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250920" y="189000"/>
            <a:ext cx="1657080" cy="21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58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географ</a:t>
            </a:r>
            <a:endParaRPr b="0" i="1" lang="en-US" sz="1800" spc="1" strike="noStrike">
              <a:ln w="158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1" name=""/>
          <p:cNvSpPr/>
          <p:nvPr/>
        </p:nvSpPr>
        <p:spPr>
          <a:xfrm>
            <a:off x="0" y="6297480"/>
            <a:ext cx="9144000" cy="56052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68360" y="6453360"/>
            <a:ext cx="4174920" cy="23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58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гра "географ"</a:t>
            </a:r>
            <a:endParaRPr b="0" i="1" lang="en-US" sz="1800" spc="1" strike="noStrike">
              <a:ln w="158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3" name="">
            <a:hlinkClick r:id="rId6" action="ppaction://hlinksldjump"/>
          </p:cNvPr>
          <p:cNvSpPr/>
          <p:nvPr/>
        </p:nvSpPr>
        <p:spPr>
          <a:xfrm>
            <a:off x="5940360" y="6453360"/>
            <a:ext cx="1420920" cy="288720"/>
          </a:xfrm>
          <a:prstGeom prst="rect">
            <a:avLst/>
          </a:prstGeom>
          <a:gradFill rotWithShape="0">
            <a:gsLst>
              <a:gs pos="0">
                <a:srgbClr val="3c3e5a"/>
              </a:gs>
              <a:gs pos="50000">
                <a:srgbClr val="8488c4">
                  <a:alpha val="63137"/>
                </a:srgbClr>
              </a:gs>
              <a:gs pos="100000">
                <a:srgbClr val="3c3e5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равила игр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>
            <a:hlinkClick r:id="rId7" action="ppaction://hlinksldjump"/>
          </p:cNvPr>
          <p:cNvSpPr/>
          <p:nvPr/>
        </p:nvSpPr>
        <p:spPr>
          <a:xfrm>
            <a:off x="7451640" y="6453360"/>
            <a:ext cx="1565280" cy="288720"/>
          </a:xfrm>
          <a:prstGeom prst="rect">
            <a:avLst/>
          </a:prstGeom>
          <a:gradFill rotWithShape="0">
            <a:gsLst>
              <a:gs pos="0">
                <a:srgbClr val="3c3e5a"/>
              </a:gs>
              <a:gs pos="50000">
                <a:srgbClr val="8488c4">
                  <a:alpha val="63137"/>
                </a:srgbClr>
              </a:gs>
              <a:gs pos="100000">
                <a:srgbClr val="3c3e5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Продолжить игр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8"/>
          <a:stretch/>
        </p:blipFill>
        <p:spPr>
          <a:xfrm>
            <a:off x="1403280" y="3716280"/>
            <a:ext cx="1513080" cy="15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4" dur="indefinite" restart="never" nodeType="tmRoot">
          <p:childTnLst>
            <p:seq>
              <p:cTn id="585" dur="indefinite" nodeType="mainSeq">
                <p:childTnLst>
                  <p:par>
                    <p:cTn id="586" fill="hold">
                      <p:stCondLst>
                        <p:cond delay="0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3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94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fill="hold">
                            <p:stCondLst>
                              <p:cond delay="500"/>
                            </p:stCondLst>
                            <p:childTnLst>
                              <p:par>
                                <p:cTn id="59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98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fill="hold">
                            <p:stCondLst>
                              <p:cond delay="1000"/>
                            </p:stCondLst>
                            <p:childTnLst>
                              <p:par>
                                <p:cTn id="60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02" dur="5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fill="hold">
                            <p:stCondLst>
                              <p:cond delay="1500"/>
                            </p:stCondLst>
                            <p:childTnLst>
                              <p:par>
                                <p:cTn id="604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6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5000"/>
                            </p:stCondLst>
                            <p:childTnLst>
                              <p:par>
                                <p:cTn id="608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0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fill="hold">
                            <p:stCondLst>
                              <p:cond delay="7000"/>
                            </p:stCondLst>
                            <p:childTnLst>
                              <p:par>
                                <p:cTn id="612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4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fill="hold">
                            <p:stCondLst>
                              <p:cond delay="9000"/>
                            </p:stCondLst>
                            <p:childTnLst>
                              <p:par>
                                <p:cTn id="616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8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fill="hold">
                            <p:stCondLst>
                              <p:cond delay="11000"/>
                            </p:stCondLst>
                            <p:childTnLst>
                              <p:par>
                                <p:cTn id="620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2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7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fill="hold">
                            <p:stCondLst>
                              <p:cond delay="500"/>
                            </p:stCondLst>
                            <p:childTnLst>
                              <p:par>
                                <p:cTn id="6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583236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ВНИМАНИЕ !  ВОПРО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332000" y="1989000"/>
            <a:ext cx="6780240" cy="1368720"/>
          </a:xfrm>
          <a:prstGeom prst="rect">
            <a:avLst/>
          </a:prstGeom>
          <a:solidFill>
            <a:srgbClr val="ffff00">
              <a:alpha val="34000"/>
            </a:srgbClr>
          </a:solidFill>
          <a:ln w="57240">
            <a:solidFill>
              <a:srgbClr val="ffff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Arial"/>
              </a:rPr>
              <a:t>К бассейну какого океана относится Красное море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2"/>
          <a:stretch/>
        </p:blipFill>
        <p:spPr>
          <a:xfrm>
            <a:off x="395280" y="404640"/>
            <a:ext cx="1368360" cy="1368720"/>
          </a:xfrm>
          <a:prstGeom prst="rect">
            <a:avLst/>
          </a:prstGeom>
          <a:ln w="0">
            <a:noFill/>
          </a:ln>
        </p:spPr>
      </p:pic>
      <p:sp>
        <p:nvSpPr>
          <p:cNvPr id="259" name="">
            <a:hlinkClick r:id="rId3" action="ppaction://hlinksldjump"/>
          </p:cNvPr>
          <p:cNvSpPr/>
          <p:nvPr/>
        </p:nvSpPr>
        <p:spPr>
          <a:xfrm>
            <a:off x="539640" y="549360"/>
            <a:ext cx="1042920" cy="1042920"/>
          </a:xfrm>
          <a:custGeom>
            <a:avLst/>
            <a:gdLst>
              <a:gd name="textAreaLeft" fmla="*/ 96480 w 1042920"/>
              <a:gd name="textAreaRight" fmla="*/ 946440 w 1042920"/>
              <a:gd name="textAreaTop" fmla="*/ 96480 h 1042920"/>
              <a:gd name="textAreaBottom" fmla="*/ 94644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9595" y="2005"/>
                </a:lnTo>
                <a:lnTo>
                  <a:pt x="2005" y="2005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9595" y="19595"/>
                </a:lnTo>
                <a:lnTo>
                  <a:pt x="19595" y="2005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2005" y="19595"/>
                </a:lnTo>
                <a:lnTo>
                  <a:pt x="19595" y="19595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2005" y="2005"/>
                </a:lnTo>
                <a:lnTo>
                  <a:pt x="2005" y="19595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755640" y="76500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Book Antiqua"/>
              </a:rPr>
              <a:t>25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261" name=""/>
          <p:cNvSpPr/>
          <p:nvPr/>
        </p:nvSpPr>
        <p:spPr>
          <a:xfrm>
            <a:off x="684360" y="5589720"/>
            <a:ext cx="647640" cy="538200"/>
          </a:xfrm>
          <a:custGeom>
            <a:avLst/>
            <a:gdLst>
              <a:gd name="textAreaLeft" fmla="*/ 115200 w 647640"/>
              <a:gd name="textAreaRight" fmla="*/ 532440 w 647640"/>
              <a:gd name="textAreaTop" fmla="*/ 115200 h 538200"/>
              <a:gd name="textAreaBottom" fmla="*/ 42300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1361" y="4629"/>
                </a:lnTo>
                <a:lnTo>
                  <a:pt x="4629" y="4629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1361" y="16971"/>
                </a:lnTo>
                <a:lnTo>
                  <a:pt x="21361" y="4629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4629" y="16971"/>
                </a:lnTo>
                <a:lnTo>
                  <a:pt x="21361" y="16971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4629" y="4629"/>
                </a:lnTo>
                <a:lnTo>
                  <a:pt x="4629" y="1697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547640" y="5589720"/>
            <a:ext cx="648000" cy="538200"/>
          </a:xfrm>
          <a:custGeom>
            <a:avLst/>
            <a:gdLst>
              <a:gd name="textAreaLeft" fmla="*/ 115200 w 648000"/>
              <a:gd name="textAreaRight" fmla="*/ 532800 w 648000"/>
              <a:gd name="textAreaTop" fmla="*/ 115200 h 538200"/>
              <a:gd name="textAreaBottom" fmla="*/ 42300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1375" y="4629"/>
                </a:lnTo>
                <a:lnTo>
                  <a:pt x="4629" y="4629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1375" y="16971"/>
                </a:lnTo>
                <a:lnTo>
                  <a:pt x="21375" y="4629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4629" y="16971"/>
                </a:lnTo>
                <a:lnTo>
                  <a:pt x="21375" y="16971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4629" y="4629"/>
                </a:lnTo>
                <a:lnTo>
                  <a:pt x="4629" y="1697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411280" y="5589720"/>
            <a:ext cx="648000" cy="538200"/>
          </a:xfrm>
          <a:custGeom>
            <a:avLst/>
            <a:gdLst>
              <a:gd name="textAreaLeft" fmla="*/ 115200 w 648000"/>
              <a:gd name="textAreaRight" fmla="*/ 532800 w 648000"/>
              <a:gd name="textAreaTop" fmla="*/ 115200 h 538200"/>
              <a:gd name="textAreaBottom" fmla="*/ 42300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1375" y="4629"/>
                </a:lnTo>
                <a:lnTo>
                  <a:pt x="4629" y="4629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1375" y="16971"/>
                </a:lnTo>
                <a:lnTo>
                  <a:pt x="21375" y="4629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4629" y="16971"/>
                </a:lnTo>
                <a:lnTo>
                  <a:pt x="21375" y="16971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4629" y="4629"/>
                </a:lnTo>
                <a:lnTo>
                  <a:pt x="4629" y="1697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276720" y="5589720"/>
            <a:ext cx="647640" cy="538200"/>
          </a:xfrm>
          <a:custGeom>
            <a:avLst/>
            <a:gdLst>
              <a:gd name="textAreaLeft" fmla="*/ 115200 w 647640"/>
              <a:gd name="textAreaRight" fmla="*/ 532440 w 647640"/>
              <a:gd name="textAreaTop" fmla="*/ 115200 h 538200"/>
              <a:gd name="textAreaBottom" fmla="*/ 42300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1361" y="4629"/>
                </a:lnTo>
                <a:lnTo>
                  <a:pt x="4629" y="4629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1361" y="16971"/>
                </a:lnTo>
                <a:lnTo>
                  <a:pt x="21361" y="4629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4629" y="16971"/>
                </a:lnTo>
                <a:lnTo>
                  <a:pt x="21361" y="16971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4629" y="4629"/>
                </a:lnTo>
                <a:lnTo>
                  <a:pt x="4629" y="1697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140360" y="5589720"/>
            <a:ext cx="647640" cy="538200"/>
          </a:xfrm>
          <a:custGeom>
            <a:avLst/>
            <a:gdLst>
              <a:gd name="textAreaLeft" fmla="*/ 115200 w 647640"/>
              <a:gd name="textAreaRight" fmla="*/ 532440 w 647640"/>
              <a:gd name="textAreaTop" fmla="*/ 115200 h 538200"/>
              <a:gd name="textAreaBottom" fmla="*/ 42300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1361" y="4629"/>
                </a:lnTo>
                <a:lnTo>
                  <a:pt x="4629" y="4629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1361" y="16971"/>
                </a:lnTo>
                <a:lnTo>
                  <a:pt x="21361" y="4629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4629" y="16971"/>
                </a:lnTo>
                <a:lnTo>
                  <a:pt x="21361" y="16971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4629" y="4629"/>
                </a:lnTo>
                <a:lnTo>
                  <a:pt x="4629" y="1697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572000" y="3716280"/>
            <a:ext cx="4321080" cy="574560"/>
          </a:xfrm>
          <a:prstGeom prst="rect">
            <a:avLst/>
          </a:prstGeom>
          <a:noFill/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33"/>
                </a:solidFill>
                <a:latin typeface="Arial"/>
              </a:rPr>
              <a:t>Правильный 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 rot="10800000">
            <a:off x="5148360" y="4797000"/>
            <a:ext cx="3311280" cy="1295640"/>
          </a:xfrm>
          <a:prstGeom prst="wedgeRectCallout">
            <a:avLst>
              <a:gd name="adj1" fmla="val -5277"/>
              <a:gd name="adj2" fmla="val 85416"/>
            </a:avLst>
          </a:prstGeom>
          <a:noFill/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Индийск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Океа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250920" y="189000"/>
            <a:ext cx="1657080" cy="21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58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географ</a:t>
            </a:r>
            <a:endParaRPr b="0" i="1" lang="en-US" sz="1800" spc="1" strike="noStrike">
              <a:ln w="158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9" name=""/>
          <p:cNvSpPr/>
          <p:nvPr/>
        </p:nvSpPr>
        <p:spPr>
          <a:xfrm>
            <a:off x="0" y="6297480"/>
            <a:ext cx="9144000" cy="56052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68360" y="6453360"/>
            <a:ext cx="4174920" cy="23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58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гра "географ"</a:t>
            </a:r>
            <a:endParaRPr b="0" i="1" lang="en-US" sz="1800" spc="1" strike="noStrike">
              <a:ln w="158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71" name="">
            <a:hlinkClick r:id="rId6" action="ppaction://hlinksldjump"/>
          </p:cNvPr>
          <p:cNvSpPr/>
          <p:nvPr/>
        </p:nvSpPr>
        <p:spPr>
          <a:xfrm>
            <a:off x="5940360" y="6453360"/>
            <a:ext cx="1420920" cy="288720"/>
          </a:xfrm>
          <a:prstGeom prst="rect">
            <a:avLst/>
          </a:prstGeom>
          <a:gradFill rotWithShape="0">
            <a:gsLst>
              <a:gs pos="0">
                <a:srgbClr val="3c3e5a"/>
              </a:gs>
              <a:gs pos="50000">
                <a:srgbClr val="8488c4">
                  <a:alpha val="63137"/>
                </a:srgbClr>
              </a:gs>
              <a:gs pos="100000">
                <a:srgbClr val="3c3e5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равила игр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>
            <a:hlinkClick r:id="rId7" action="ppaction://hlinksldjump"/>
          </p:cNvPr>
          <p:cNvSpPr/>
          <p:nvPr/>
        </p:nvSpPr>
        <p:spPr>
          <a:xfrm>
            <a:off x="7451640" y="6453360"/>
            <a:ext cx="1565280" cy="288720"/>
          </a:xfrm>
          <a:prstGeom prst="rect">
            <a:avLst/>
          </a:prstGeom>
          <a:gradFill rotWithShape="0">
            <a:gsLst>
              <a:gs pos="0">
                <a:srgbClr val="3c3e5a"/>
              </a:gs>
              <a:gs pos="50000">
                <a:srgbClr val="8488c4">
                  <a:alpha val="63137"/>
                </a:srgbClr>
              </a:gs>
              <a:gs pos="100000">
                <a:srgbClr val="3c3e5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Продолжить игр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8"/>
          <a:stretch/>
        </p:blipFill>
        <p:spPr>
          <a:xfrm>
            <a:off x="1258920" y="3716280"/>
            <a:ext cx="866880" cy="12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2" dur="indefinite" restart="never" nodeType="tmRoot">
          <p:childTnLst>
            <p:seq>
              <p:cTn id="633" dur="indefinite" nodeType="mainSeq">
                <p:childTnLst>
                  <p:par>
                    <p:cTn id="634" fill="hold">
                      <p:stCondLst>
                        <p:cond delay="0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0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1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4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fill="hold">
                            <p:stCondLst>
                              <p:cond delay="500"/>
                            </p:stCondLst>
                            <p:childTnLst>
                              <p:par>
                                <p:cTn id="644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46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fill="hold">
                            <p:stCondLst>
                              <p:cond delay="1000"/>
                            </p:stCondLst>
                            <p:childTnLst>
                              <p:par>
                                <p:cTn id="64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50" dur="5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fill="hold">
                            <p:stCondLst>
                              <p:cond delay="1500"/>
                            </p:stCondLst>
                            <p:childTnLst>
                              <p:par>
                                <p:cTn id="652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4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fill="hold">
                            <p:stCondLst>
                              <p:cond delay="5000"/>
                            </p:stCondLst>
                            <p:childTnLst>
                              <p:par>
                                <p:cTn id="656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8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fill="hold">
                            <p:stCondLst>
                              <p:cond delay="7000"/>
                            </p:stCondLst>
                            <p:childTnLst>
                              <p:par>
                                <p:cTn id="660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fill="hold">
                            <p:stCondLst>
                              <p:cond delay="9000"/>
                            </p:stCondLst>
                            <p:childTnLst>
                              <p:par>
                                <p:cTn id="664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6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fill="hold">
                            <p:stCondLst>
                              <p:cond delay="11000"/>
                            </p:stCondLst>
                            <p:childTnLst>
                              <p:par>
                                <p:cTn id="668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0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5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6" fill="hold">
                            <p:stCondLst>
                              <p:cond delay="500"/>
                            </p:stCondLst>
                            <p:childTnLst>
                              <p:par>
                                <p:cTn id="6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9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583236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ВНИМАНИЕ !  ВОПРО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332000" y="1989000"/>
            <a:ext cx="7488000" cy="1368720"/>
          </a:xfrm>
          <a:prstGeom prst="rect">
            <a:avLst/>
          </a:prstGeom>
          <a:solidFill>
            <a:srgbClr val="ffff00">
              <a:alpha val="34000"/>
            </a:srgbClr>
          </a:solidFill>
          <a:ln w="57240">
            <a:solidFill>
              <a:srgbClr val="ffff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Средняя солёность вод Мирового океана составляет….(промилле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2"/>
          <a:stretch/>
        </p:blipFill>
        <p:spPr>
          <a:xfrm>
            <a:off x="395280" y="404640"/>
            <a:ext cx="1368360" cy="1368720"/>
          </a:xfrm>
          <a:prstGeom prst="rect">
            <a:avLst/>
          </a:prstGeom>
          <a:ln w="0">
            <a:noFill/>
          </a:ln>
        </p:spPr>
      </p:pic>
      <p:sp>
        <p:nvSpPr>
          <p:cNvPr id="277" name="">
            <a:hlinkClick r:id="rId3" action="ppaction://hlinksldjump"/>
          </p:cNvPr>
          <p:cNvSpPr/>
          <p:nvPr/>
        </p:nvSpPr>
        <p:spPr>
          <a:xfrm>
            <a:off x="539640" y="549360"/>
            <a:ext cx="1042920" cy="1042920"/>
          </a:xfrm>
          <a:custGeom>
            <a:avLst/>
            <a:gdLst>
              <a:gd name="textAreaLeft" fmla="*/ 96480 w 1042920"/>
              <a:gd name="textAreaRight" fmla="*/ 946440 w 1042920"/>
              <a:gd name="textAreaTop" fmla="*/ 96480 h 1042920"/>
              <a:gd name="textAreaBottom" fmla="*/ 94644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9595" y="2005"/>
                </a:lnTo>
                <a:lnTo>
                  <a:pt x="2005" y="2005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9595" y="19595"/>
                </a:lnTo>
                <a:lnTo>
                  <a:pt x="19595" y="2005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2005" y="19595"/>
                </a:lnTo>
                <a:lnTo>
                  <a:pt x="19595" y="19595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2005" y="2005"/>
                </a:lnTo>
                <a:lnTo>
                  <a:pt x="2005" y="19595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755640" y="76500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Book Antiqua"/>
              </a:rPr>
              <a:t>30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279" name=""/>
          <p:cNvSpPr/>
          <p:nvPr/>
        </p:nvSpPr>
        <p:spPr>
          <a:xfrm>
            <a:off x="684360" y="5589720"/>
            <a:ext cx="647640" cy="538200"/>
          </a:xfrm>
          <a:custGeom>
            <a:avLst/>
            <a:gdLst>
              <a:gd name="textAreaLeft" fmla="*/ 115200 w 647640"/>
              <a:gd name="textAreaRight" fmla="*/ 532440 w 647640"/>
              <a:gd name="textAreaTop" fmla="*/ 115200 h 538200"/>
              <a:gd name="textAreaBottom" fmla="*/ 42300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1361" y="4629"/>
                </a:lnTo>
                <a:lnTo>
                  <a:pt x="4629" y="4629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1361" y="16971"/>
                </a:lnTo>
                <a:lnTo>
                  <a:pt x="21361" y="4629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4629" y="16971"/>
                </a:lnTo>
                <a:lnTo>
                  <a:pt x="21361" y="16971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4629" y="4629"/>
                </a:lnTo>
                <a:lnTo>
                  <a:pt x="4629" y="1697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547640" y="5589720"/>
            <a:ext cx="648000" cy="538200"/>
          </a:xfrm>
          <a:custGeom>
            <a:avLst/>
            <a:gdLst>
              <a:gd name="textAreaLeft" fmla="*/ 115200 w 648000"/>
              <a:gd name="textAreaRight" fmla="*/ 532800 w 648000"/>
              <a:gd name="textAreaTop" fmla="*/ 115200 h 538200"/>
              <a:gd name="textAreaBottom" fmla="*/ 42300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1375" y="4629"/>
                </a:lnTo>
                <a:lnTo>
                  <a:pt x="4629" y="4629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1375" y="16971"/>
                </a:lnTo>
                <a:lnTo>
                  <a:pt x="21375" y="4629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4629" y="16971"/>
                </a:lnTo>
                <a:lnTo>
                  <a:pt x="21375" y="16971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4629" y="4629"/>
                </a:lnTo>
                <a:lnTo>
                  <a:pt x="4629" y="1697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411280" y="5589720"/>
            <a:ext cx="648000" cy="538200"/>
          </a:xfrm>
          <a:custGeom>
            <a:avLst/>
            <a:gdLst>
              <a:gd name="textAreaLeft" fmla="*/ 115200 w 648000"/>
              <a:gd name="textAreaRight" fmla="*/ 532800 w 648000"/>
              <a:gd name="textAreaTop" fmla="*/ 115200 h 538200"/>
              <a:gd name="textAreaBottom" fmla="*/ 42300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1375" y="4629"/>
                </a:lnTo>
                <a:lnTo>
                  <a:pt x="4629" y="4629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1375" y="16971"/>
                </a:lnTo>
                <a:lnTo>
                  <a:pt x="21375" y="4629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4629" y="16971"/>
                </a:lnTo>
                <a:lnTo>
                  <a:pt x="21375" y="16971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4629" y="4629"/>
                </a:lnTo>
                <a:lnTo>
                  <a:pt x="4629" y="1697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276720" y="5589720"/>
            <a:ext cx="647640" cy="538200"/>
          </a:xfrm>
          <a:custGeom>
            <a:avLst/>
            <a:gdLst>
              <a:gd name="textAreaLeft" fmla="*/ 115200 w 647640"/>
              <a:gd name="textAreaRight" fmla="*/ 532440 w 647640"/>
              <a:gd name="textAreaTop" fmla="*/ 115200 h 538200"/>
              <a:gd name="textAreaBottom" fmla="*/ 42300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1361" y="4629"/>
                </a:lnTo>
                <a:lnTo>
                  <a:pt x="4629" y="4629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1361" y="16971"/>
                </a:lnTo>
                <a:lnTo>
                  <a:pt x="21361" y="4629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4629" y="16971"/>
                </a:lnTo>
                <a:lnTo>
                  <a:pt x="21361" y="16971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4629" y="4629"/>
                </a:lnTo>
                <a:lnTo>
                  <a:pt x="4629" y="1697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4140360" y="5589720"/>
            <a:ext cx="647640" cy="538200"/>
          </a:xfrm>
          <a:custGeom>
            <a:avLst/>
            <a:gdLst>
              <a:gd name="textAreaLeft" fmla="*/ 115200 w 647640"/>
              <a:gd name="textAreaRight" fmla="*/ 532440 w 647640"/>
              <a:gd name="textAreaTop" fmla="*/ 115200 h 538200"/>
              <a:gd name="textAreaBottom" fmla="*/ 42300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1361" y="4629"/>
                </a:lnTo>
                <a:lnTo>
                  <a:pt x="4629" y="4629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1361" y="16971"/>
                </a:lnTo>
                <a:lnTo>
                  <a:pt x="21361" y="4629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4629" y="16971"/>
                </a:lnTo>
                <a:lnTo>
                  <a:pt x="21361" y="16971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4629" y="4629"/>
                </a:lnTo>
                <a:lnTo>
                  <a:pt x="4629" y="1697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4572000" y="3716280"/>
            <a:ext cx="4321080" cy="574560"/>
          </a:xfrm>
          <a:prstGeom prst="rect">
            <a:avLst/>
          </a:prstGeom>
          <a:noFill/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33"/>
                </a:solidFill>
                <a:latin typeface="Arial"/>
              </a:rPr>
              <a:t>Правильный 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 rot="10800000">
            <a:off x="5148360" y="4797000"/>
            <a:ext cx="3311280" cy="1295640"/>
          </a:xfrm>
          <a:prstGeom prst="wedgeRectCallout">
            <a:avLst>
              <a:gd name="adj1" fmla="val -5277"/>
              <a:gd name="adj2" fmla="val 85416"/>
            </a:avLst>
          </a:prstGeom>
          <a:noFill/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35 промилл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250920" y="189000"/>
            <a:ext cx="1657080" cy="21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58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географ</a:t>
            </a:r>
            <a:endParaRPr b="0" i="1" lang="en-US" sz="1800" spc="1" strike="noStrike">
              <a:ln w="158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87" name=""/>
          <p:cNvSpPr/>
          <p:nvPr/>
        </p:nvSpPr>
        <p:spPr>
          <a:xfrm>
            <a:off x="0" y="6297480"/>
            <a:ext cx="9144000" cy="56052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468360" y="6453360"/>
            <a:ext cx="4174920" cy="23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58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гра "географ"</a:t>
            </a:r>
            <a:endParaRPr b="0" i="1" lang="en-US" sz="1800" spc="1" strike="noStrike">
              <a:ln w="158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89" name="">
            <a:hlinkClick r:id="rId6" action="ppaction://hlinksldjump"/>
          </p:cNvPr>
          <p:cNvSpPr/>
          <p:nvPr/>
        </p:nvSpPr>
        <p:spPr>
          <a:xfrm>
            <a:off x="5940360" y="6453360"/>
            <a:ext cx="1420920" cy="288720"/>
          </a:xfrm>
          <a:prstGeom prst="rect">
            <a:avLst/>
          </a:prstGeom>
          <a:gradFill rotWithShape="0">
            <a:gsLst>
              <a:gs pos="0">
                <a:srgbClr val="3c3e5a"/>
              </a:gs>
              <a:gs pos="50000">
                <a:srgbClr val="8488c4">
                  <a:alpha val="63137"/>
                </a:srgbClr>
              </a:gs>
              <a:gs pos="100000">
                <a:srgbClr val="3c3e5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равила игр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>
            <a:hlinkClick r:id="rId7" action="ppaction://hlinksldjump"/>
          </p:cNvPr>
          <p:cNvSpPr/>
          <p:nvPr/>
        </p:nvSpPr>
        <p:spPr>
          <a:xfrm>
            <a:off x="7451640" y="6453360"/>
            <a:ext cx="1565280" cy="288720"/>
          </a:xfrm>
          <a:prstGeom prst="rect">
            <a:avLst/>
          </a:prstGeom>
          <a:gradFill rotWithShape="0">
            <a:gsLst>
              <a:gs pos="0">
                <a:srgbClr val="3c3e5a"/>
              </a:gs>
              <a:gs pos="50000">
                <a:srgbClr val="8488c4">
                  <a:alpha val="63137"/>
                </a:srgbClr>
              </a:gs>
              <a:gs pos="100000">
                <a:srgbClr val="3c3e5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Продолжить игр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8"/>
          <a:stretch/>
        </p:blipFill>
        <p:spPr>
          <a:xfrm>
            <a:off x="1692360" y="3860640"/>
            <a:ext cx="1095120" cy="9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0" dur="indefinite" restart="never" nodeType="tmRoot">
          <p:childTnLst>
            <p:seq>
              <p:cTn id="681" dur="indefinite" nodeType="mainSeq">
                <p:childTnLst>
                  <p:par>
                    <p:cTn id="682" fill="hold">
                      <p:stCondLst>
                        <p:cond delay="0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8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9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90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500"/>
                            </p:stCondLst>
                            <p:childTnLst>
                              <p:par>
                                <p:cTn id="69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94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5" fill="hold">
                            <p:stCondLst>
                              <p:cond delay="1000"/>
                            </p:stCondLst>
                            <p:childTnLst>
                              <p:par>
                                <p:cTn id="69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98" dur="50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fill="hold">
                            <p:stCondLst>
                              <p:cond delay="1500"/>
                            </p:stCondLst>
                            <p:childTnLst>
                              <p:par>
                                <p:cTn id="700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2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3" fill="hold">
                            <p:stCondLst>
                              <p:cond delay="5000"/>
                            </p:stCondLst>
                            <p:childTnLst>
                              <p:par>
                                <p:cTn id="704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6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7" fill="hold">
                            <p:stCondLst>
                              <p:cond delay="7000"/>
                            </p:stCondLst>
                            <p:childTnLst>
                              <p:par>
                                <p:cTn id="708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1" fill="hold">
                            <p:stCondLst>
                              <p:cond delay="9000"/>
                            </p:stCondLst>
                            <p:childTnLst>
                              <p:par>
                                <p:cTn id="712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4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5" fill="hold">
                            <p:stCondLst>
                              <p:cond delay="11000"/>
                            </p:stCondLst>
                            <p:childTnLst>
                              <p:par>
                                <p:cTn id="716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8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3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fill="hold">
                            <p:stCondLst>
                              <p:cond delay="500"/>
                            </p:stCondLst>
                            <p:childTnLst>
                              <p:par>
                                <p:cTn id="7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7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583236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ВНИМАНИЕ !  ВОПРО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332000" y="1700280"/>
            <a:ext cx="6780240" cy="1657440"/>
          </a:xfrm>
          <a:prstGeom prst="rect">
            <a:avLst/>
          </a:prstGeom>
          <a:solidFill>
            <a:srgbClr val="ff0000">
              <a:alpha val="40000"/>
            </a:srgbClr>
          </a:solidFill>
          <a:ln w="5724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В какое море впадают реки Амударья и Сырдарь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2"/>
          <a:stretch/>
        </p:blipFill>
        <p:spPr>
          <a:xfrm>
            <a:off x="395280" y="404640"/>
            <a:ext cx="1368360" cy="1368720"/>
          </a:xfrm>
          <a:prstGeom prst="rect">
            <a:avLst/>
          </a:prstGeom>
          <a:ln w="0">
            <a:noFill/>
          </a:ln>
        </p:spPr>
      </p:pic>
      <p:sp>
        <p:nvSpPr>
          <p:cNvPr id="295" name="">
            <a:hlinkClick r:id="rId3" action="ppaction://hlinksldjump"/>
          </p:cNvPr>
          <p:cNvSpPr/>
          <p:nvPr/>
        </p:nvSpPr>
        <p:spPr>
          <a:xfrm>
            <a:off x="539640" y="549360"/>
            <a:ext cx="1042920" cy="1042920"/>
          </a:xfrm>
          <a:custGeom>
            <a:avLst/>
            <a:gdLst>
              <a:gd name="textAreaLeft" fmla="*/ 96480 w 1042920"/>
              <a:gd name="textAreaRight" fmla="*/ 946440 w 1042920"/>
              <a:gd name="textAreaTop" fmla="*/ 96480 h 1042920"/>
              <a:gd name="textAreaBottom" fmla="*/ 94644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9595" y="2005"/>
                </a:lnTo>
                <a:lnTo>
                  <a:pt x="2005" y="2005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9595" y="19595"/>
                </a:lnTo>
                <a:lnTo>
                  <a:pt x="19595" y="2005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2005" y="19595"/>
                </a:lnTo>
                <a:lnTo>
                  <a:pt x="19595" y="19595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2005" y="2005"/>
                </a:lnTo>
                <a:lnTo>
                  <a:pt x="2005" y="19595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900000" y="765000"/>
            <a:ext cx="2872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Book Antiqua"/>
              </a:rPr>
              <a:t>3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297" name=""/>
          <p:cNvSpPr/>
          <p:nvPr/>
        </p:nvSpPr>
        <p:spPr>
          <a:xfrm>
            <a:off x="684360" y="5589720"/>
            <a:ext cx="647640" cy="538200"/>
          </a:xfrm>
          <a:custGeom>
            <a:avLst/>
            <a:gdLst>
              <a:gd name="textAreaLeft" fmla="*/ 115200 w 647640"/>
              <a:gd name="textAreaRight" fmla="*/ 532440 w 647640"/>
              <a:gd name="textAreaTop" fmla="*/ 115200 h 538200"/>
              <a:gd name="textAreaBottom" fmla="*/ 42300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1361" y="4629"/>
                </a:lnTo>
                <a:lnTo>
                  <a:pt x="4629" y="4629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1361" y="16971"/>
                </a:lnTo>
                <a:lnTo>
                  <a:pt x="21361" y="4629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4629" y="16971"/>
                </a:lnTo>
                <a:lnTo>
                  <a:pt x="21361" y="16971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4629" y="4629"/>
                </a:lnTo>
                <a:lnTo>
                  <a:pt x="4629" y="1697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1547640" y="5589720"/>
            <a:ext cx="648000" cy="538200"/>
          </a:xfrm>
          <a:custGeom>
            <a:avLst/>
            <a:gdLst>
              <a:gd name="textAreaLeft" fmla="*/ 115200 w 648000"/>
              <a:gd name="textAreaRight" fmla="*/ 532800 w 648000"/>
              <a:gd name="textAreaTop" fmla="*/ 115200 h 538200"/>
              <a:gd name="textAreaBottom" fmla="*/ 42300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1375" y="4629"/>
                </a:lnTo>
                <a:lnTo>
                  <a:pt x="4629" y="4629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1375" y="16971"/>
                </a:lnTo>
                <a:lnTo>
                  <a:pt x="21375" y="4629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4629" y="16971"/>
                </a:lnTo>
                <a:lnTo>
                  <a:pt x="21375" y="16971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4629" y="4629"/>
                </a:lnTo>
                <a:lnTo>
                  <a:pt x="4629" y="1697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2411280" y="5589720"/>
            <a:ext cx="648000" cy="538200"/>
          </a:xfrm>
          <a:custGeom>
            <a:avLst/>
            <a:gdLst>
              <a:gd name="textAreaLeft" fmla="*/ 115200 w 648000"/>
              <a:gd name="textAreaRight" fmla="*/ 532800 w 648000"/>
              <a:gd name="textAreaTop" fmla="*/ 115200 h 538200"/>
              <a:gd name="textAreaBottom" fmla="*/ 42300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1375" y="4629"/>
                </a:lnTo>
                <a:lnTo>
                  <a:pt x="4629" y="4629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1375" y="16971"/>
                </a:lnTo>
                <a:lnTo>
                  <a:pt x="21375" y="4629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4629" y="16971"/>
                </a:lnTo>
                <a:lnTo>
                  <a:pt x="21375" y="16971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4629" y="4629"/>
                </a:lnTo>
                <a:lnTo>
                  <a:pt x="4629" y="1697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276720" y="5589720"/>
            <a:ext cx="647640" cy="538200"/>
          </a:xfrm>
          <a:custGeom>
            <a:avLst/>
            <a:gdLst>
              <a:gd name="textAreaLeft" fmla="*/ 115200 w 647640"/>
              <a:gd name="textAreaRight" fmla="*/ 532440 w 647640"/>
              <a:gd name="textAreaTop" fmla="*/ 115200 h 538200"/>
              <a:gd name="textAreaBottom" fmla="*/ 42300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1361" y="4629"/>
                </a:lnTo>
                <a:lnTo>
                  <a:pt x="4629" y="4629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1361" y="16971"/>
                </a:lnTo>
                <a:lnTo>
                  <a:pt x="21361" y="4629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4629" y="16971"/>
                </a:lnTo>
                <a:lnTo>
                  <a:pt x="21361" y="16971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4629" y="4629"/>
                </a:lnTo>
                <a:lnTo>
                  <a:pt x="4629" y="1697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140360" y="5589720"/>
            <a:ext cx="647640" cy="538200"/>
          </a:xfrm>
          <a:custGeom>
            <a:avLst/>
            <a:gdLst>
              <a:gd name="textAreaLeft" fmla="*/ 115200 w 647640"/>
              <a:gd name="textAreaRight" fmla="*/ 532440 w 647640"/>
              <a:gd name="textAreaTop" fmla="*/ 115200 h 538200"/>
              <a:gd name="textAreaBottom" fmla="*/ 42300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1361" y="4629"/>
                </a:lnTo>
                <a:lnTo>
                  <a:pt x="4629" y="4629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1361" y="16971"/>
                </a:lnTo>
                <a:lnTo>
                  <a:pt x="21361" y="4629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4629" y="16971"/>
                </a:lnTo>
                <a:lnTo>
                  <a:pt x="21361" y="16971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4629" y="4629"/>
                </a:lnTo>
                <a:lnTo>
                  <a:pt x="4629" y="1697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572000" y="3716280"/>
            <a:ext cx="4321080" cy="574560"/>
          </a:xfrm>
          <a:prstGeom prst="rect">
            <a:avLst/>
          </a:prstGeom>
          <a:noFill/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33"/>
                </a:solidFill>
                <a:latin typeface="Arial"/>
              </a:rPr>
              <a:t>Правильный 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 rot="10800000">
            <a:off x="5148360" y="4797000"/>
            <a:ext cx="3311280" cy="1295640"/>
          </a:xfrm>
          <a:prstGeom prst="wedgeRectCallout">
            <a:avLst>
              <a:gd name="adj1" fmla="val -5277"/>
              <a:gd name="adj2" fmla="val 85416"/>
            </a:avLst>
          </a:prstGeom>
          <a:noFill/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Аральское мор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250920" y="189000"/>
            <a:ext cx="1657080" cy="21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58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географ</a:t>
            </a:r>
            <a:endParaRPr b="0" i="1" lang="en-US" sz="1800" spc="1" strike="noStrike">
              <a:ln w="158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05" name=""/>
          <p:cNvSpPr/>
          <p:nvPr/>
        </p:nvSpPr>
        <p:spPr>
          <a:xfrm>
            <a:off x="0" y="6297480"/>
            <a:ext cx="9144000" cy="56052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468360" y="6453360"/>
            <a:ext cx="4174920" cy="23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58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гра "географ"</a:t>
            </a:r>
            <a:endParaRPr b="0" i="1" lang="en-US" sz="1800" spc="1" strike="noStrike">
              <a:ln w="158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07" name="">
            <a:hlinkClick r:id="rId6" action="ppaction://hlinksldjump"/>
          </p:cNvPr>
          <p:cNvSpPr/>
          <p:nvPr/>
        </p:nvSpPr>
        <p:spPr>
          <a:xfrm>
            <a:off x="5940360" y="6453360"/>
            <a:ext cx="1420920" cy="288720"/>
          </a:xfrm>
          <a:prstGeom prst="rect">
            <a:avLst/>
          </a:prstGeom>
          <a:gradFill rotWithShape="0">
            <a:gsLst>
              <a:gs pos="0">
                <a:srgbClr val="3c3e5a"/>
              </a:gs>
              <a:gs pos="50000">
                <a:srgbClr val="8488c4">
                  <a:alpha val="63137"/>
                </a:srgbClr>
              </a:gs>
              <a:gs pos="100000">
                <a:srgbClr val="3c3e5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равила игр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>
            <a:hlinkClick r:id="rId7" action="ppaction://hlinksldjump"/>
          </p:cNvPr>
          <p:cNvSpPr/>
          <p:nvPr/>
        </p:nvSpPr>
        <p:spPr>
          <a:xfrm>
            <a:off x="7451640" y="6453360"/>
            <a:ext cx="1565280" cy="288720"/>
          </a:xfrm>
          <a:prstGeom prst="rect">
            <a:avLst/>
          </a:prstGeom>
          <a:gradFill rotWithShape="0">
            <a:gsLst>
              <a:gs pos="0">
                <a:srgbClr val="3c3e5a"/>
              </a:gs>
              <a:gs pos="50000">
                <a:srgbClr val="8488c4">
                  <a:alpha val="63137"/>
                </a:srgbClr>
              </a:gs>
              <a:gs pos="100000">
                <a:srgbClr val="3c3e5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Продолжить игр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8"/>
          <a:stretch/>
        </p:blipFill>
        <p:spPr>
          <a:xfrm>
            <a:off x="0" y="2997360"/>
            <a:ext cx="147636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8" dur="indefinite" restart="never" nodeType="tmRoot">
          <p:childTnLst>
            <p:seq>
              <p:cTn id="729" dur="indefinite" nodeType="mainSeq">
                <p:childTnLst>
                  <p:par>
                    <p:cTn id="730" fill="hold">
                      <p:stCondLst>
                        <p:cond delay="0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4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6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7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38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fill="hold">
                            <p:stCondLst>
                              <p:cond delay="500"/>
                            </p:stCondLst>
                            <p:childTnLst>
                              <p:par>
                                <p:cTn id="74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42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3" fill="hold">
                            <p:stCondLst>
                              <p:cond delay="1000"/>
                            </p:stCondLst>
                            <p:childTnLst>
                              <p:par>
                                <p:cTn id="744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46" dur="500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7" fill="hold">
                            <p:stCondLst>
                              <p:cond delay="1500"/>
                            </p:stCondLst>
                            <p:childTnLst>
                              <p:par>
                                <p:cTn id="748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0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1" fill="hold">
                            <p:stCondLst>
                              <p:cond delay="5000"/>
                            </p:stCondLst>
                            <p:childTnLst>
                              <p:par>
                                <p:cTn id="752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4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5" fill="hold">
                            <p:stCondLst>
                              <p:cond delay="7000"/>
                            </p:stCondLst>
                            <p:childTnLst>
                              <p:par>
                                <p:cTn id="756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8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9" fill="hold">
                            <p:stCondLst>
                              <p:cond delay="9000"/>
                            </p:stCondLst>
                            <p:childTnLst>
                              <p:par>
                                <p:cTn id="760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2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3" fill="hold">
                            <p:stCondLst>
                              <p:cond delay="11000"/>
                            </p:stCondLst>
                            <p:childTnLst>
                              <p:par>
                                <p:cTn id="764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1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2" fill="hold">
                            <p:stCondLst>
                              <p:cond delay="500"/>
                            </p:stCondLst>
                            <p:childTnLst>
                              <p:par>
                                <p:cTn id="7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5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583236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ВНИМАНИЕ !  ВОПРО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332000" y="1484280"/>
            <a:ext cx="6780240" cy="1873440"/>
          </a:xfrm>
          <a:prstGeom prst="rect">
            <a:avLst/>
          </a:prstGeom>
          <a:solidFill>
            <a:srgbClr val="ff0000">
              <a:alpha val="40000"/>
            </a:srgbClr>
          </a:solidFill>
          <a:ln w="5724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Река Волга протекает по …..(равнине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2"/>
          <a:stretch/>
        </p:blipFill>
        <p:spPr>
          <a:xfrm>
            <a:off x="395280" y="404640"/>
            <a:ext cx="1368360" cy="1368720"/>
          </a:xfrm>
          <a:prstGeom prst="rect">
            <a:avLst/>
          </a:prstGeom>
          <a:ln w="0">
            <a:noFill/>
          </a:ln>
        </p:spPr>
      </p:pic>
      <p:sp>
        <p:nvSpPr>
          <p:cNvPr id="313" name="">
            <a:hlinkClick r:id="rId3" action="ppaction://hlinksldjump"/>
          </p:cNvPr>
          <p:cNvSpPr/>
          <p:nvPr/>
        </p:nvSpPr>
        <p:spPr>
          <a:xfrm>
            <a:off x="539640" y="549360"/>
            <a:ext cx="1042920" cy="1042920"/>
          </a:xfrm>
          <a:custGeom>
            <a:avLst/>
            <a:gdLst>
              <a:gd name="textAreaLeft" fmla="*/ 96480 w 1042920"/>
              <a:gd name="textAreaRight" fmla="*/ 946440 w 1042920"/>
              <a:gd name="textAreaTop" fmla="*/ 96480 h 1042920"/>
              <a:gd name="textAreaBottom" fmla="*/ 94644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9595" y="2005"/>
                </a:lnTo>
                <a:lnTo>
                  <a:pt x="2005" y="2005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9595" y="19595"/>
                </a:lnTo>
                <a:lnTo>
                  <a:pt x="19595" y="2005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2005" y="19595"/>
                </a:lnTo>
                <a:lnTo>
                  <a:pt x="19595" y="19595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2005" y="2005"/>
                </a:lnTo>
                <a:lnTo>
                  <a:pt x="2005" y="19595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971640" y="765000"/>
            <a:ext cx="2872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Book Antiqua"/>
              </a:rPr>
              <a:t>7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315" name=""/>
          <p:cNvSpPr/>
          <p:nvPr/>
        </p:nvSpPr>
        <p:spPr>
          <a:xfrm>
            <a:off x="684360" y="5589720"/>
            <a:ext cx="647640" cy="538200"/>
          </a:xfrm>
          <a:custGeom>
            <a:avLst/>
            <a:gdLst>
              <a:gd name="textAreaLeft" fmla="*/ 115200 w 647640"/>
              <a:gd name="textAreaRight" fmla="*/ 532440 w 647640"/>
              <a:gd name="textAreaTop" fmla="*/ 115200 h 538200"/>
              <a:gd name="textAreaBottom" fmla="*/ 42300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1361" y="4629"/>
                </a:lnTo>
                <a:lnTo>
                  <a:pt x="4629" y="4629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1361" y="16971"/>
                </a:lnTo>
                <a:lnTo>
                  <a:pt x="21361" y="4629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4629" y="16971"/>
                </a:lnTo>
                <a:lnTo>
                  <a:pt x="21361" y="16971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4629" y="4629"/>
                </a:lnTo>
                <a:lnTo>
                  <a:pt x="4629" y="1697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547640" y="5589720"/>
            <a:ext cx="648000" cy="538200"/>
          </a:xfrm>
          <a:custGeom>
            <a:avLst/>
            <a:gdLst>
              <a:gd name="textAreaLeft" fmla="*/ 115200 w 648000"/>
              <a:gd name="textAreaRight" fmla="*/ 532800 w 648000"/>
              <a:gd name="textAreaTop" fmla="*/ 115200 h 538200"/>
              <a:gd name="textAreaBottom" fmla="*/ 42300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1375" y="4629"/>
                </a:lnTo>
                <a:lnTo>
                  <a:pt x="4629" y="4629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1375" y="16971"/>
                </a:lnTo>
                <a:lnTo>
                  <a:pt x="21375" y="4629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4629" y="16971"/>
                </a:lnTo>
                <a:lnTo>
                  <a:pt x="21375" y="16971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4629" y="4629"/>
                </a:lnTo>
                <a:lnTo>
                  <a:pt x="4629" y="1697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411280" y="5589720"/>
            <a:ext cx="648000" cy="538200"/>
          </a:xfrm>
          <a:custGeom>
            <a:avLst/>
            <a:gdLst>
              <a:gd name="textAreaLeft" fmla="*/ 115200 w 648000"/>
              <a:gd name="textAreaRight" fmla="*/ 532800 w 648000"/>
              <a:gd name="textAreaTop" fmla="*/ 115200 h 538200"/>
              <a:gd name="textAreaBottom" fmla="*/ 42300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1375" y="4629"/>
                </a:lnTo>
                <a:lnTo>
                  <a:pt x="4629" y="4629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1375" y="16971"/>
                </a:lnTo>
                <a:lnTo>
                  <a:pt x="21375" y="4629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4629" y="16971"/>
                </a:lnTo>
                <a:lnTo>
                  <a:pt x="21375" y="16971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4629" y="4629"/>
                </a:lnTo>
                <a:lnTo>
                  <a:pt x="4629" y="1697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276720" y="5589720"/>
            <a:ext cx="647640" cy="538200"/>
          </a:xfrm>
          <a:custGeom>
            <a:avLst/>
            <a:gdLst>
              <a:gd name="textAreaLeft" fmla="*/ 115200 w 647640"/>
              <a:gd name="textAreaRight" fmla="*/ 532440 w 647640"/>
              <a:gd name="textAreaTop" fmla="*/ 115200 h 538200"/>
              <a:gd name="textAreaBottom" fmla="*/ 42300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1361" y="4629"/>
                </a:lnTo>
                <a:lnTo>
                  <a:pt x="4629" y="4629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1361" y="16971"/>
                </a:lnTo>
                <a:lnTo>
                  <a:pt x="21361" y="4629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4629" y="16971"/>
                </a:lnTo>
                <a:lnTo>
                  <a:pt x="21361" y="16971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4629" y="4629"/>
                </a:lnTo>
                <a:lnTo>
                  <a:pt x="4629" y="1697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4140360" y="5589720"/>
            <a:ext cx="647640" cy="538200"/>
          </a:xfrm>
          <a:custGeom>
            <a:avLst/>
            <a:gdLst>
              <a:gd name="textAreaLeft" fmla="*/ 115200 w 647640"/>
              <a:gd name="textAreaRight" fmla="*/ 532440 w 647640"/>
              <a:gd name="textAreaTop" fmla="*/ 115200 h 538200"/>
              <a:gd name="textAreaBottom" fmla="*/ 42300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1361" y="4629"/>
                </a:lnTo>
                <a:lnTo>
                  <a:pt x="4629" y="4629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1361" y="16971"/>
                </a:lnTo>
                <a:lnTo>
                  <a:pt x="21361" y="4629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4629" y="16971"/>
                </a:lnTo>
                <a:lnTo>
                  <a:pt x="21361" y="16971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4629" y="4629"/>
                </a:lnTo>
                <a:lnTo>
                  <a:pt x="4629" y="1697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4572000" y="3716280"/>
            <a:ext cx="4321080" cy="574560"/>
          </a:xfrm>
          <a:prstGeom prst="rect">
            <a:avLst/>
          </a:prstGeom>
          <a:noFill/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33"/>
                </a:solidFill>
                <a:latin typeface="Arial"/>
              </a:rPr>
              <a:t>Правильный 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 rot="10800000">
            <a:off x="5003640" y="4797000"/>
            <a:ext cx="3889440" cy="1368360"/>
          </a:xfrm>
          <a:prstGeom prst="wedgeRectCallout">
            <a:avLst>
              <a:gd name="adj1" fmla="val -819"/>
              <a:gd name="adj2" fmla="val 83523"/>
            </a:avLst>
          </a:prstGeom>
          <a:noFill/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Восточно-Европейс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250920" y="189000"/>
            <a:ext cx="1657080" cy="21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58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географ</a:t>
            </a:r>
            <a:endParaRPr b="0" i="1" lang="en-US" sz="1800" spc="1" strike="noStrike">
              <a:ln w="158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23" name=""/>
          <p:cNvSpPr/>
          <p:nvPr/>
        </p:nvSpPr>
        <p:spPr>
          <a:xfrm>
            <a:off x="0" y="6297480"/>
            <a:ext cx="9144000" cy="56052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468360" y="6453360"/>
            <a:ext cx="4174920" cy="23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58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гра "географ"</a:t>
            </a:r>
            <a:endParaRPr b="0" i="1" lang="en-US" sz="1800" spc="1" strike="noStrike">
              <a:ln w="158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25" name="">
            <a:hlinkClick r:id="rId6" action="ppaction://hlinksldjump"/>
          </p:cNvPr>
          <p:cNvSpPr/>
          <p:nvPr/>
        </p:nvSpPr>
        <p:spPr>
          <a:xfrm>
            <a:off x="5940360" y="6453360"/>
            <a:ext cx="1420920" cy="288720"/>
          </a:xfrm>
          <a:prstGeom prst="rect">
            <a:avLst/>
          </a:prstGeom>
          <a:gradFill rotWithShape="0">
            <a:gsLst>
              <a:gs pos="0">
                <a:srgbClr val="3c3e5a"/>
              </a:gs>
              <a:gs pos="50000">
                <a:srgbClr val="8488c4">
                  <a:alpha val="63137"/>
                </a:srgbClr>
              </a:gs>
              <a:gs pos="100000">
                <a:srgbClr val="3c3e5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равила игр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>
            <a:hlinkClick r:id="rId7" action="ppaction://hlinksldjump"/>
          </p:cNvPr>
          <p:cNvSpPr/>
          <p:nvPr/>
        </p:nvSpPr>
        <p:spPr>
          <a:xfrm>
            <a:off x="7451640" y="6453360"/>
            <a:ext cx="1565280" cy="288720"/>
          </a:xfrm>
          <a:prstGeom prst="rect">
            <a:avLst/>
          </a:prstGeom>
          <a:gradFill rotWithShape="0">
            <a:gsLst>
              <a:gs pos="0">
                <a:srgbClr val="3c3e5a"/>
              </a:gs>
              <a:gs pos="50000">
                <a:srgbClr val="8488c4">
                  <a:alpha val="63137"/>
                </a:srgbClr>
              </a:gs>
              <a:gs pos="100000">
                <a:srgbClr val="3c3e5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Продолжить игр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" descr=""/>
          <p:cNvPicPr/>
          <p:nvPr/>
        </p:nvPicPr>
        <p:blipFill>
          <a:blip r:embed="rId8"/>
          <a:stretch/>
        </p:blipFill>
        <p:spPr>
          <a:xfrm>
            <a:off x="1403280" y="4005360"/>
            <a:ext cx="1095480" cy="97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6" dur="indefinite" restart="never" nodeType="tmRoot">
          <p:childTnLst>
            <p:seq>
              <p:cTn id="777" dur="indefinite" nodeType="mainSeq">
                <p:childTnLst>
                  <p:par>
                    <p:cTn id="778" fill="hold">
                      <p:stCondLst>
                        <p:cond delay="0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2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4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5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86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7" fill="hold">
                            <p:stCondLst>
                              <p:cond delay="500"/>
                            </p:stCondLst>
                            <p:childTnLst>
                              <p:par>
                                <p:cTn id="78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90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1" fill="hold">
                            <p:stCondLst>
                              <p:cond delay="1000"/>
                            </p:stCondLst>
                            <p:childTnLst>
                              <p:par>
                                <p:cTn id="79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94" dur="500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5" fill="hold">
                            <p:stCondLst>
                              <p:cond delay="1500"/>
                            </p:stCondLst>
                            <p:childTnLst>
                              <p:par>
                                <p:cTn id="796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8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9" fill="hold">
                            <p:stCondLst>
                              <p:cond delay="5000"/>
                            </p:stCondLst>
                            <p:childTnLst>
                              <p:par>
                                <p:cTn id="800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2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3" fill="hold">
                            <p:stCondLst>
                              <p:cond delay="7000"/>
                            </p:stCondLst>
                            <p:childTnLst>
                              <p:par>
                                <p:cTn id="804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6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7" fill="hold">
                            <p:stCondLst>
                              <p:cond delay="9000"/>
                            </p:stCondLst>
                            <p:childTnLst>
                              <p:par>
                                <p:cTn id="808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0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1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2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4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9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0" fill="hold">
                            <p:stCondLst>
                              <p:cond delay="500"/>
                            </p:stCondLst>
                            <p:childTnLst>
                              <p:par>
                                <p:cTn id="8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3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583236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ВНИМАНИЕ !  ВОПРО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99640" y="1700280"/>
            <a:ext cx="7704360" cy="1657440"/>
          </a:xfrm>
          <a:prstGeom prst="rect">
            <a:avLst/>
          </a:prstGeom>
          <a:solidFill>
            <a:srgbClr val="ff0000">
              <a:alpha val="40000"/>
            </a:srgbClr>
          </a:solidFill>
          <a:ln w="5724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Самый ледяной остров на Земле 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0" name="" descr=""/>
          <p:cNvPicPr/>
          <p:nvPr/>
        </p:nvPicPr>
        <p:blipFill>
          <a:blip r:embed="rId2"/>
          <a:stretch/>
        </p:blipFill>
        <p:spPr>
          <a:xfrm>
            <a:off x="395280" y="404640"/>
            <a:ext cx="1368360" cy="1368720"/>
          </a:xfrm>
          <a:prstGeom prst="rect">
            <a:avLst/>
          </a:prstGeom>
          <a:ln w="0">
            <a:noFill/>
          </a:ln>
        </p:spPr>
      </p:pic>
      <p:sp>
        <p:nvSpPr>
          <p:cNvPr id="331" name="">
            <a:hlinkClick r:id="rId3" action="ppaction://hlinksldjump"/>
          </p:cNvPr>
          <p:cNvSpPr/>
          <p:nvPr/>
        </p:nvSpPr>
        <p:spPr>
          <a:xfrm>
            <a:off x="539640" y="549360"/>
            <a:ext cx="1042920" cy="1042920"/>
          </a:xfrm>
          <a:custGeom>
            <a:avLst/>
            <a:gdLst>
              <a:gd name="textAreaLeft" fmla="*/ 96480 w 1042920"/>
              <a:gd name="textAreaRight" fmla="*/ 946440 w 1042920"/>
              <a:gd name="textAreaTop" fmla="*/ 96480 h 1042920"/>
              <a:gd name="textAreaBottom" fmla="*/ 94644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9595" y="2005"/>
                </a:lnTo>
                <a:lnTo>
                  <a:pt x="2005" y="2005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9595" y="19595"/>
                </a:lnTo>
                <a:lnTo>
                  <a:pt x="19595" y="2005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2005" y="19595"/>
                </a:lnTo>
                <a:lnTo>
                  <a:pt x="19595" y="19595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2005" y="2005"/>
                </a:lnTo>
                <a:lnTo>
                  <a:pt x="2005" y="19595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755640" y="76500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Book Antiqua"/>
              </a:rPr>
              <a:t>11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333" name=""/>
          <p:cNvSpPr/>
          <p:nvPr/>
        </p:nvSpPr>
        <p:spPr>
          <a:xfrm>
            <a:off x="684360" y="5589720"/>
            <a:ext cx="647640" cy="538200"/>
          </a:xfrm>
          <a:custGeom>
            <a:avLst/>
            <a:gdLst>
              <a:gd name="textAreaLeft" fmla="*/ 115200 w 647640"/>
              <a:gd name="textAreaRight" fmla="*/ 532440 w 647640"/>
              <a:gd name="textAreaTop" fmla="*/ 115200 h 538200"/>
              <a:gd name="textAreaBottom" fmla="*/ 42300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1361" y="4629"/>
                </a:lnTo>
                <a:lnTo>
                  <a:pt x="4629" y="4629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1361" y="16971"/>
                </a:lnTo>
                <a:lnTo>
                  <a:pt x="21361" y="4629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4629" y="16971"/>
                </a:lnTo>
                <a:lnTo>
                  <a:pt x="21361" y="16971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4629" y="4629"/>
                </a:lnTo>
                <a:lnTo>
                  <a:pt x="4629" y="1697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547640" y="5589720"/>
            <a:ext cx="648000" cy="538200"/>
          </a:xfrm>
          <a:custGeom>
            <a:avLst/>
            <a:gdLst>
              <a:gd name="textAreaLeft" fmla="*/ 115200 w 648000"/>
              <a:gd name="textAreaRight" fmla="*/ 532800 w 648000"/>
              <a:gd name="textAreaTop" fmla="*/ 115200 h 538200"/>
              <a:gd name="textAreaBottom" fmla="*/ 42300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1375" y="4629"/>
                </a:lnTo>
                <a:lnTo>
                  <a:pt x="4629" y="4629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1375" y="16971"/>
                </a:lnTo>
                <a:lnTo>
                  <a:pt x="21375" y="4629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4629" y="16971"/>
                </a:lnTo>
                <a:lnTo>
                  <a:pt x="21375" y="16971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4629" y="4629"/>
                </a:lnTo>
                <a:lnTo>
                  <a:pt x="4629" y="1697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411280" y="5589720"/>
            <a:ext cx="648000" cy="538200"/>
          </a:xfrm>
          <a:custGeom>
            <a:avLst/>
            <a:gdLst>
              <a:gd name="textAreaLeft" fmla="*/ 115200 w 648000"/>
              <a:gd name="textAreaRight" fmla="*/ 532800 w 648000"/>
              <a:gd name="textAreaTop" fmla="*/ 115200 h 538200"/>
              <a:gd name="textAreaBottom" fmla="*/ 42300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1375" y="4629"/>
                </a:lnTo>
                <a:lnTo>
                  <a:pt x="4629" y="4629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1375" y="16971"/>
                </a:lnTo>
                <a:lnTo>
                  <a:pt x="21375" y="4629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4629" y="16971"/>
                </a:lnTo>
                <a:lnTo>
                  <a:pt x="21375" y="16971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4629" y="4629"/>
                </a:lnTo>
                <a:lnTo>
                  <a:pt x="4629" y="1697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3276720" y="5589720"/>
            <a:ext cx="647640" cy="538200"/>
          </a:xfrm>
          <a:custGeom>
            <a:avLst/>
            <a:gdLst>
              <a:gd name="textAreaLeft" fmla="*/ 115200 w 647640"/>
              <a:gd name="textAreaRight" fmla="*/ 532440 w 647640"/>
              <a:gd name="textAreaTop" fmla="*/ 115200 h 538200"/>
              <a:gd name="textAreaBottom" fmla="*/ 42300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1361" y="4629"/>
                </a:lnTo>
                <a:lnTo>
                  <a:pt x="4629" y="4629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1361" y="16971"/>
                </a:lnTo>
                <a:lnTo>
                  <a:pt x="21361" y="4629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4629" y="16971"/>
                </a:lnTo>
                <a:lnTo>
                  <a:pt x="21361" y="16971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4629" y="4629"/>
                </a:lnTo>
                <a:lnTo>
                  <a:pt x="4629" y="1697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4140360" y="5589720"/>
            <a:ext cx="647640" cy="538200"/>
          </a:xfrm>
          <a:custGeom>
            <a:avLst/>
            <a:gdLst>
              <a:gd name="textAreaLeft" fmla="*/ 115200 w 647640"/>
              <a:gd name="textAreaRight" fmla="*/ 532440 w 647640"/>
              <a:gd name="textAreaTop" fmla="*/ 115200 h 538200"/>
              <a:gd name="textAreaBottom" fmla="*/ 42300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1361" y="4629"/>
                </a:lnTo>
                <a:lnTo>
                  <a:pt x="4629" y="4629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1361" y="16971"/>
                </a:lnTo>
                <a:lnTo>
                  <a:pt x="21361" y="4629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4629" y="16971"/>
                </a:lnTo>
                <a:lnTo>
                  <a:pt x="21361" y="16971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4629" y="4629"/>
                </a:lnTo>
                <a:lnTo>
                  <a:pt x="4629" y="1697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572000" y="3716280"/>
            <a:ext cx="4321080" cy="574560"/>
          </a:xfrm>
          <a:prstGeom prst="rect">
            <a:avLst/>
          </a:prstGeom>
          <a:noFill/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33"/>
                </a:solidFill>
                <a:latin typeface="Arial"/>
              </a:rPr>
              <a:t>Правильный 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 rot="10800000">
            <a:off x="5148360" y="4797000"/>
            <a:ext cx="3311280" cy="1368360"/>
          </a:xfrm>
          <a:prstGeom prst="wedgeRectCallout">
            <a:avLst>
              <a:gd name="adj1" fmla="val -5277"/>
              <a:gd name="adj2" fmla="val 83523"/>
            </a:avLst>
          </a:prstGeom>
          <a:noFill/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о. Гренланд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250920" y="189000"/>
            <a:ext cx="1657080" cy="21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58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географ</a:t>
            </a:r>
            <a:endParaRPr b="0" i="1" lang="en-US" sz="1800" spc="1" strike="noStrike">
              <a:ln w="158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41" name=""/>
          <p:cNvSpPr/>
          <p:nvPr/>
        </p:nvSpPr>
        <p:spPr>
          <a:xfrm>
            <a:off x="0" y="6297480"/>
            <a:ext cx="9144000" cy="56052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468360" y="6453360"/>
            <a:ext cx="4174920" cy="23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58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гра "географ"</a:t>
            </a:r>
            <a:endParaRPr b="0" i="1" lang="en-US" sz="1800" spc="1" strike="noStrike">
              <a:ln w="158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43" name="">
            <a:hlinkClick r:id="rId6" action="ppaction://hlinksldjump"/>
          </p:cNvPr>
          <p:cNvSpPr/>
          <p:nvPr/>
        </p:nvSpPr>
        <p:spPr>
          <a:xfrm>
            <a:off x="5940360" y="6453360"/>
            <a:ext cx="1420920" cy="288720"/>
          </a:xfrm>
          <a:prstGeom prst="rect">
            <a:avLst/>
          </a:prstGeom>
          <a:gradFill rotWithShape="0">
            <a:gsLst>
              <a:gs pos="0">
                <a:srgbClr val="3c3e5a"/>
              </a:gs>
              <a:gs pos="50000">
                <a:srgbClr val="8488c4">
                  <a:alpha val="63137"/>
                </a:srgbClr>
              </a:gs>
              <a:gs pos="100000">
                <a:srgbClr val="3c3e5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равила игр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>
            <a:hlinkClick r:id="rId7" action="ppaction://hlinksldjump"/>
          </p:cNvPr>
          <p:cNvSpPr/>
          <p:nvPr/>
        </p:nvSpPr>
        <p:spPr>
          <a:xfrm>
            <a:off x="7451640" y="6453360"/>
            <a:ext cx="1565280" cy="288720"/>
          </a:xfrm>
          <a:prstGeom prst="rect">
            <a:avLst/>
          </a:prstGeom>
          <a:gradFill rotWithShape="0">
            <a:gsLst>
              <a:gs pos="0">
                <a:srgbClr val="3c3e5a"/>
              </a:gs>
              <a:gs pos="50000">
                <a:srgbClr val="8488c4">
                  <a:alpha val="63137"/>
                </a:srgbClr>
              </a:gs>
              <a:gs pos="100000">
                <a:srgbClr val="3c3e5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Продолжить игр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8"/>
          <a:stretch/>
        </p:blipFill>
        <p:spPr>
          <a:xfrm>
            <a:off x="1042920" y="3789360"/>
            <a:ext cx="1533600" cy="14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4" dur="indefinite" restart="never" nodeType="tmRoot">
          <p:childTnLst>
            <p:seq>
              <p:cTn id="825" dur="indefinite" nodeType="mainSeq">
                <p:childTnLst>
                  <p:par>
                    <p:cTn id="826" fill="hold">
                      <p:stCondLst>
                        <p:cond delay="0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0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2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3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5" fill="hold">
                            <p:stCondLst>
                              <p:cond delay="500"/>
                            </p:stCondLst>
                            <p:childTnLst>
                              <p:par>
                                <p:cTn id="83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38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9" fill="hold">
                            <p:stCondLst>
                              <p:cond delay="1000"/>
                            </p:stCondLst>
                            <p:childTnLst>
                              <p:par>
                                <p:cTn id="84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42" dur="500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4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6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7" fill="hold">
                            <p:stCondLst>
                              <p:cond delay="5000"/>
                            </p:stCondLst>
                            <p:childTnLst>
                              <p:par>
                                <p:cTn id="848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0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1" fill="hold">
                            <p:stCondLst>
                              <p:cond delay="7000"/>
                            </p:stCondLst>
                            <p:childTnLst>
                              <p:par>
                                <p:cTn id="852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4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5" fill="hold">
                            <p:stCondLst>
                              <p:cond delay="9000"/>
                            </p:stCondLst>
                            <p:childTnLst>
                              <p:par>
                                <p:cTn id="856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8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9" fill="hold">
                            <p:stCondLst>
                              <p:cond delay="11000"/>
                            </p:stCondLst>
                            <p:childTnLst>
                              <p:par>
                                <p:cTn id="860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2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7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8" fill="hold">
                            <p:stCondLst>
                              <p:cond delay="500"/>
                            </p:stCondLst>
                            <p:childTnLst>
                              <p:par>
                                <p:cTn id="8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1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583236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ВНИМАНИЕ !  ВОПРО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11280" y="1989000"/>
            <a:ext cx="7632720" cy="1368720"/>
          </a:xfrm>
          <a:prstGeom prst="rect">
            <a:avLst/>
          </a:prstGeom>
          <a:solidFill>
            <a:srgbClr val="ff0000">
              <a:alpha val="40000"/>
            </a:srgbClr>
          </a:solidFill>
          <a:ln w="5724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зеро из которого не вытекает ни одна река называется …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" descr=""/>
          <p:cNvPicPr/>
          <p:nvPr/>
        </p:nvPicPr>
        <p:blipFill>
          <a:blip r:embed="rId2"/>
          <a:stretch/>
        </p:blipFill>
        <p:spPr>
          <a:xfrm>
            <a:off x="395280" y="404640"/>
            <a:ext cx="1368360" cy="1368720"/>
          </a:xfrm>
          <a:prstGeom prst="rect">
            <a:avLst/>
          </a:prstGeom>
          <a:ln w="0">
            <a:noFill/>
          </a:ln>
        </p:spPr>
      </p:pic>
      <p:sp>
        <p:nvSpPr>
          <p:cNvPr id="349" name="">
            <a:hlinkClick r:id="rId3" action="ppaction://hlinksldjump"/>
          </p:cNvPr>
          <p:cNvSpPr/>
          <p:nvPr/>
        </p:nvSpPr>
        <p:spPr>
          <a:xfrm>
            <a:off x="539640" y="549360"/>
            <a:ext cx="1042920" cy="1042920"/>
          </a:xfrm>
          <a:custGeom>
            <a:avLst/>
            <a:gdLst>
              <a:gd name="textAreaLeft" fmla="*/ 96480 w 1042920"/>
              <a:gd name="textAreaRight" fmla="*/ 946440 w 1042920"/>
              <a:gd name="textAreaTop" fmla="*/ 96480 h 1042920"/>
              <a:gd name="textAreaBottom" fmla="*/ 94644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9595" y="2005"/>
                </a:lnTo>
                <a:lnTo>
                  <a:pt x="2005" y="2005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9595" y="19595"/>
                </a:lnTo>
                <a:lnTo>
                  <a:pt x="19595" y="2005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2005" y="19595"/>
                </a:lnTo>
                <a:lnTo>
                  <a:pt x="19595" y="19595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2005" y="2005"/>
                </a:lnTo>
                <a:lnTo>
                  <a:pt x="2005" y="19595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755640" y="76500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Book Antiqua"/>
              </a:rPr>
              <a:t>19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351" name=""/>
          <p:cNvSpPr/>
          <p:nvPr/>
        </p:nvSpPr>
        <p:spPr>
          <a:xfrm>
            <a:off x="684360" y="5589720"/>
            <a:ext cx="647640" cy="538200"/>
          </a:xfrm>
          <a:custGeom>
            <a:avLst/>
            <a:gdLst>
              <a:gd name="textAreaLeft" fmla="*/ 115200 w 647640"/>
              <a:gd name="textAreaRight" fmla="*/ 532440 w 647640"/>
              <a:gd name="textAreaTop" fmla="*/ 115200 h 538200"/>
              <a:gd name="textAreaBottom" fmla="*/ 42300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1361" y="4629"/>
                </a:lnTo>
                <a:lnTo>
                  <a:pt x="4629" y="4629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1361" y="16971"/>
                </a:lnTo>
                <a:lnTo>
                  <a:pt x="21361" y="4629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4629" y="16971"/>
                </a:lnTo>
                <a:lnTo>
                  <a:pt x="21361" y="16971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4629" y="4629"/>
                </a:lnTo>
                <a:lnTo>
                  <a:pt x="4629" y="1697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1547640" y="5589720"/>
            <a:ext cx="648000" cy="538200"/>
          </a:xfrm>
          <a:custGeom>
            <a:avLst/>
            <a:gdLst>
              <a:gd name="textAreaLeft" fmla="*/ 115200 w 648000"/>
              <a:gd name="textAreaRight" fmla="*/ 532800 w 648000"/>
              <a:gd name="textAreaTop" fmla="*/ 115200 h 538200"/>
              <a:gd name="textAreaBottom" fmla="*/ 42300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1375" y="4629"/>
                </a:lnTo>
                <a:lnTo>
                  <a:pt x="4629" y="4629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1375" y="16971"/>
                </a:lnTo>
                <a:lnTo>
                  <a:pt x="21375" y="4629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4629" y="16971"/>
                </a:lnTo>
                <a:lnTo>
                  <a:pt x="21375" y="16971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4629" y="4629"/>
                </a:lnTo>
                <a:lnTo>
                  <a:pt x="4629" y="1697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411280" y="5589720"/>
            <a:ext cx="648000" cy="538200"/>
          </a:xfrm>
          <a:custGeom>
            <a:avLst/>
            <a:gdLst>
              <a:gd name="textAreaLeft" fmla="*/ 115200 w 648000"/>
              <a:gd name="textAreaRight" fmla="*/ 532800 w 648000"/>
              <a:gd name="textAreaTop" fmla="*/ 115200 h 538200"/>
              <a:gd name="textAreaBottom" fmla="*/ 42300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1375" y="4629"/>
                </a:lnTo>
                <a:lnTo>
                  <a:pt x="4629" y="4629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1375" y="16971"/>
                </a:lnTo>
                <a:lnTo>
                  <a:pt x="21375" y="4629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4629" y="16971"/>
                </a:lnTo>
                <a:lnTo>
                  <a:pt x="21375" y="16971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4629" y="4629"/>
                </a:lnTo>
                <a:lnTo>
                  <a:pt x="4629" y="1697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3276720" y="5589720"/>
            <a:ext cx="647640" cy="538200"/>
          </a:xfrm>
          <a:custGeom>
            <a:avLst/>
            <a:gdLst>
              <a:gd name="textAreaLeft" fmla="*/ 115200 w 647640"/>
              <a:gd name="textAreaRight" fmla="*/ 532440 w 647640"/>
              <a:gd name="textAreaTop" fmla="*/ 115200 h 538200"/>
              <a:gd name="textAreaBottom" fmla="*/ 42300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1361" y="4629"/>
                </a:lnTo>
                <a:lnTo>
                  <a:pt x="4629" y="4629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1361" y="16971"/>
                </a:lnTo>
                <a:lnTo>
                  <a:pt x="21361" y="4629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4629" y="16971"/>
                </a:lnTo>
                <a:lnTo>
                  <a:pt x="21361" y="16971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4629" y="4629"/>
                </a:lnTo>
                <a:lnTo>
                  <a:pt x="4629" y="1697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4140360" y="5589720"/>
            <a:ext cx="647640" cy="538200"/>
          </a:xfrm>
          <a:custGeom>
            <a:avLst/>
            <a:gdLst>
              <a:gd name="textAreaLeft" fmla="*/ 115200 w 647640"/>
              <a:gd name="textAreaRight" fmla="*/ 532440 w 647640"/>
              <a:gd name="textAreaTop" fmla="*/ 115200 h 538200"/>
              <a:gd name="textAreaBottom" fmla="*/ 42300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1361" y="4629"/>
                </a:lnTo>
                <a:lnTo>
                  <a:pt x="4629" y="4629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1361" y="16971"/>
                </a:lnTo>
                <a:lnTo>
                  <a:pt x="21361" y="4629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4629" y="16971"/>
                </a:lnTo>
                <a:lnTo>
                  <a:pt x="21361" y="16971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4629" y="4629"/>
                </a:lnTo>
                <a:lnTo>
                  <a:pt x="4629" y="1697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4572000" y="3716280"/>
            <a:ext cx="4321080" cy="574560"/>
          </a:xfrm>
          <a:prstGeom prst="rect">
            <a:avLst/>
          </a:prstGeom>
          <a:noFill/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33"/>
                </a:solidFill>
                <a:latin typeface="Arial"/>
              </a:rPr>
              <a:t>Правильный 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 rot="10800000">
            <a:off x="5076720" y="4797000"/>
            <a:ext cx="3456000" cy="1295640"/>
          </a:xfrm>
          <a:prstGeom prst="wedgeRectCallout">
            <a:avLst>
              <a:gd name="adj1" fmla="val -7143"/>
              <a:gd name="adj2" fmla="val 85416"/>
            </a:avLst>
          </a:prstGeom>
          <a:noFill/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Бессточны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250920" y="189000"/>
            <a:ext cx="1657080" cy="21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58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географ</a:t>
            </a:r>
            <a:endParaRPr b="0" i="1" lang="en-US" sz="1800" spc="1" strike="noStrike">
              <a:ln w="158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59" name=""/>
          <p:cNvSpPr/>
          <p:nvPr/>
        </p:nvSpPr>
        <p:spPr>
          <a:xfrm>
            <a:off x="0" y="6297480"/>
            <a:ext cx="9144000" cy="56052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468360" y="6453360"/>
            <a:ext cx="4174920" cy="23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58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гра "географ"</a:t>
            </a:r>
            <a:endParaRPr b="0" i="1" lang="en-US" sz="1800" spc="1" strike="noStrike">
              <a:ln w="158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61" name="">
            <a:hlinkClick r:id="rId6" action="ppaction://hlinksldjump"/>
          </p:cNvPr>
          <p:cNvSpPr/>
          <p:nvPr/>
        </p:nvSpPr>
        <p:spPr>
          <a:xfrm>
            <a:off x="5940360" y="6453360"/>
            <a:ext cx="1420920" cy="288720"/>
          </a:xfrm>
          <a:prstGeom prst="rect">
            <a:avLst/>
          </a:prstGeom>
          <a:gradFill rotWithShape="0">
            <a:gsLst>
              <a:gs pos="0">
                <a:srgbClr val="3c3e5a"/>
              </a:gs>
              <a:gs pos="50000">
                <a:srgbClr val="8488c4">
                  <a:alpha val="63137"/>
                </a:srgbClr>
              </a:gs>
              <a:gs pos="100000">
                <a:srgbClr val="3c3e5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равила игр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>
            <a:hlinkClick r:id="rId7" action="ppaction://hlinksldjump"/>
          </p:cNvPr>
          <p:cNvSpPr/>
          <p:nvPr/>
        </p:nvSpPr>
        <p:spPr>
          <a:xfrm>
            <a:off x="7451640" y="6453360"/>
            <a:ext cx="1565280" cy="288720"/>
          </a:xfrm>
          <a:prstGeom prst="rect">
            <a:avLst/>
          </a:prstGeom>
          <a:gradFill rotWithShape="0">
            <a:gsLst>
              <a:gs pos="0">
                <a:srgbClr val="3c3e5a"/>
              </a:gs>
              <a:gs pos="50000">
                <a:srgbClr val="8488c4">
                  <a:alpha val="63137"/>
                </a:srgbClr>
              </a:gs>
              <a:gs pos="100000">
                <a:srgbClr val="3c3e5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Продолжить игр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8"/>
          <a:stretch/>
        </p:blipFill>
        <p:spPr>
          <a:xfrm>
            <a:off x="971640" y="3860640"/>
            <a:ext cx="1095120" cy="9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2" dur="indefinite" restart="never" nodeType="tmRoot">
          <p:childTnLst>
            <p:seq>
              <p:cTn id="873" dur="indefinite" nodeType="mainSeq">
                <p:childTnLst>
                  <p:par>
                    <p:cTn id="874" fill="hold">
                      <p:stCondLst>
                        <p:cond delay="0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8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0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1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82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3" fill="hold">
                            <p:stCondLst>
                              <p:cond delay="500"/>
                            </p:stCondLst>
                            <p:childTnLst>
                              <p:par>
                                <p:cTn id="884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86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7" fill="hold">
                            <p:stCondLst>
                              <p:cond delay="1000"/>
                            </p:stCondLst>
                            <p:childTnLst>
                              <p:par>
                                <p:cTn id="88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90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1" fill="hold">
                            <p:stCondLst>
                              <p:cond delay="1500"/>
                            </p:stCondLst>
                            <p:childTnLst>
                              <p:par>
                                <p:cTn id="892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4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5" fill="hold">
                            <p:stCondLst>
                              <p:cond delay="5000"/>
                            </p:stCondLst>
                            <p:childTnLst>
                              <p:par>
                                <p:cTn id="896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8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9" fill="hold">
                            <p:stCondLst>
                              <p:cond delay="7000"/>
                            </p:stCondLst>
                            <p:childTnLst>
                              <p:par>
                                <p:cTn id="900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2" dur="1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3" fill="hold">
                            <p:stCondLst>
                              <p:cond delay="9000"/>
                            </p:stCondLst>
                            <p:childTnLst>
                              <p:par>
                                <p:cTn id="904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6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7" fill="hold">
                            <p:stCondLst>
                              <p:cond delay="11000"/>
                            </p:stCondLst>
                            <p:childTnLst>
                              <p:par>
                                <p:cTn id="908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5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6" fill="hold">
                            <p:stCondLst>
                              <p:cond delay="500"/>
                            </p:stCondLst>
                            <p:childTnLst>
                              <p:par>
                                <p:cTn id="9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9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583236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ВНИМАНИЕ !  ВОПРО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755640" y="1989000"/>
            <a:ext cx="7920000" cy="1368720"/>
          </a:xfrm>
          <a:prstGeom prst="rect">
            <a:avLst/>
          </a:prstGeom>
          <a:solidFill>
            <a:srgbClr val="ff0000">
              <a:alpha val="40000"/>
            </a:srgbClr>
          </a:solidFill>
          <a:ln w="5724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Укажите пролив разделяющий Евразию и Африк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95280" y="404640"/>
            <a:ext cx="1368360" cy="1368720"/>
          </a:xfrm>
          <a:prstGeom prst="rect">
            <a:avLst/>
          </a:prstGeom>
          <a:ln w="0">
            <a:noFill/>
          </a:ln>
        </p:spPr>
      </p:pic>
      <p:sp>
        <p:nvSpPr>
          <p:cNvPr id="367" name="">
            <a:hlinkClick r:id="rId3" action="ppaction://hlinksldjump"/>
          </p:cNvPr>
          <p:cNvSpPr/>
          <p:nvPr/>
        </p:nvSpPr>
        <p:spPr>
          <a:xfrm>
            <a:off x="539640" y="549360"/>
            <a:ext cx="1042920" cy="1042920"/>
          </a:xfrm>
          <a:custGeom>
            <a:avLst/>
            <a:gdLst>
              <a:gd name="textAreaLeft" fmla="*/ 96480 w 1042920"/>
              <a:gd name="textAreaRight" fmla="*/ 946440 w 1042920"/>
              <a:gd name="textAreaTop" fmla="*/ 96480 h 1042920"/>
              <a:gd name="textAreaBottom" fmla="*/ 94644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9595" y="2005"/>
                </a:lnTo>
                <a:lnTo>
                  <a:pt x="2005" y="2005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9595" y="19595"/>
                </a:lnTo>
                <a:lnTo>
                  <a:pt x="19595" y="2005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2005" y="19595"/>
                </a:lnTo>
                <a:lnTo>
                  <a:pt x="19595" y="19595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2005" y="2005"/>
                </a:lnTo>
                <a:lnTo>
                  <a:pt x="2005" y="19595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755640" y="76500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Book Antiqua"/>
              </a:rPr>
              <a:t>23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369" name=""/>
          <p:cNvSpPr/>
          <p:nvPr/>
        </p:nvSpPr>
        <p:spPr>
          <a:xfrm>
            <a:off x="684360" y="5589720"/>
            <a:ext cx="647640" cy="538200"/>
          </a:xfrm>
          <a:custGeom>
            <a:avLst/>
            <a:gdLst>
              <a:gd name="textAreaLeft" fmla="*/ 115200 w 647640"/>
              <a:gd name="textAreaRight" fmla="*/ 532440 w 647640"/>
              <a:gd name="textAreaTop" fmla="*/ 115200 h 538200"/>
              <a:gd name="textAreaBottom" fmla="*/ 42300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1361" y="4629"/>
                </a:lnTo>
                <a:lnTo>
                  <a:pt x="4629" y="4629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1361" y="16971"/>
                </a:lnTo>
                <a:lnTo>
                  <a:pt x="21361" y="4629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4629" y="16971"/>
                </a:lnTo>
                <a:lnTo>
                  <a:pt x="21361" y="16971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4629" y="4629"/>
                </a:lnTo>
                <a:lnTo>
                  <a:pt x="4629" y="1697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1547640" y="5589720"/>
            <a:ext cx="648000" cy="538200"/>
          </a:xfrm>
          <a:custGeom>
            <a:avLst/>
            <a:gdLst>
              <a:gd name="textAreaLeft" fmla="*/ 115200 w 648000"/>
              <a:gd name="textAreaRight" fmla="*/ 532800 w 648000"/>
              <a:gd name="textAreaTop" fmla="*/ 115200 h 538200"/>
              <a:gd name="textAreaBottom" fmla="*/ 42300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1375" y="4629"/>
                </a:lnTo>
                <a:lnTo>
                  <a:pt x="4629" y="4629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1375" y="16971"/>
                </a:lnTo>
                <a:lnTo>
                  <a:pt x="21375" y="4629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4629" y="16971"/>
                </a:lnTo>
                <a:lnTo>
                  <a:pt x="21375" y="16971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4629" y="4629"/>
                </a:lnTo>
                <a:lnTo>
                  <a:pt x="4629" y="1697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411280" y="5589720"/>
            <a:ext cx="648000" cy="538200"/>
          </a:xfrm>
          <a:custGeom>
            <a:avLst/>
            <a:gdLst>
              <a:gd name="textAreaLeft" fmla="*/ 115200 w 648000"/>
              <a:gd name="textAreaRight" fmla="*/ 532800 w 648000"/>
              <a:gd name="textAreaTop" fmla="*/ 115200 h 538200"/>
              <a:gd name="textAreaBottom" fmla="*/ 42300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1375" y="4629"/>
                </a:lnTo>
                <a:lnTo>
                  <a:pt x="4629" y="4629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1375" y="16971"/>
                </a:lnTo>
                <a:lnTo>
                  <a:pt x="21375" y="4629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4629" y="16971"/>
                </a:lnTo>
                <a:lnTo>
                  <a:pt x="21375" y="16971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4629" y="4629"/>
                </a:lnTo>
                <a:lnTo>
                  <a:pt x="4629" y="1697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3276720" y="5589720"/>
            <a:ext cx="647640" cy="538200"/>
          </a:xfrm>
          <a:custGeom>
            <a:avLst/>
            <a:gdLst>
              <a:gd name="textAreaLeft" fmla="*/ 115200 w 647640"/>
              <a:gd name="textAreaRight" fmla="*/ 532440 w 647640"/>
              <a:gd name="textAreaTop" fmla="*/ 115200 h 538200"/>
              <a:gd name="textAreaBottom" fmla="*/ 42300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1361" y="4629"/>
                </a:lnTo>
                <a:lnTo>
                  <a:pt x="4629" y="4629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1361" y="16971"/>
                </a:lnTo>
                <a:lnTo>
                  <a:pt x="21361" y="4629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4629" y="16971"/>
                </a:lnTo>
                <a:lnTo>
                  <a:pt x="21361" y="16971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4629" y="4629"/>
                </a:lnTo>
                <a:lnTo>
                  <a:pt x="4629" y="1697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4140360" y="5589720"/>
            <a:ext cx="647640" cy="538200"/>
          </a:xfrm>
          <a:custGeom>
            <a:avLst/>
            <a:gdLst>
              <a:gd name="textAreaLeft" fmla="*/ 115200 w 647640"/>
              <a:gd name="textAreaRight" fmla="*/ 532440 w 647640"/>
              <a:gd name="textAreaTop" fmla="*/ 115200 h 538200"/>
              <a:gd name="textAreaBottom" fmla="*/ 42300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1361" y="4629"/>
                </a:lnTo>
                <a:lnTo>
                  <a:pt x="4629" y="4629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1361" y="16971"/>
                </a:lnTo>
                <a:lnTo>
                  <a:pt x="21361" y="4629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4629" y="16971"/>
                </a:lnTo>
                <a:lnTo>
                  <a:pt x="21361" y="16971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4629" y="4629"/>
                </a:lnTo>
                <a:lnTo>
                  <a:pt x="4629" y="1697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4572000" y="3716280"/>
            <a:ext cx="4321080" cy="574560"/>
          </a:xfrm>
          <a:prstGeom prst="rect">
            <a:avLst/>
          </a:prstGeom>
          <a:noFill/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33"/>
                </a:solidFill>
                <a:latin typeface="Arial"/>
              </a:rPr>
              <a:t>Правильный 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 rot="10800000">
            <a:off x="5148000" y="4797000"/>
            <a:ext cx="3816360" cy="1295640"/>
          </a:xfrm>
          <a:prstGeom prst="wedgeRectCallout">
            <a:avLst>
              <a:gd name="adj1" fmla="val 2037"/>
              <a:gd name="adj2" fmla="val 85416"/>
            </a:avLst>
          </a:prstGeom>
          <a:noFill/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Гибралтарский проли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250920" y="189000"/>
            <a:ext cx="1657080" cy="21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58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географ</a:t>
            </a:r>
            <a:endParaRPr b="0" i="1" lang="en-US" sz="1800" spc="1" strike="noStrike">
              <a:ln w="158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77" name=""/>
          <p:cNvSpPr/>
          <p:nvPr/>
        </p:nvSpPr>
        <p:spPr>
          <a:xfrm>
            <a:off x="0" y="6297480"/>
            <a:ext cx="9144000" cy="56052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468360" y="6453360"/>
            <a:ext cx="4174920" cy="23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58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гра "географ"</a:t>
            </a:r>
            <a:endParaRPr b="0" i="1" lang="en-US" sz="1800" spc="1" strike="noStrike">
              <a:ln w="158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79" name="">
            <a:hlinkClick r:id="rId6" action="ppaction://hlinksldjump"/>
          </p:cNvPr>
          <p:cNvSpPr/>
          <p:nvPr/>
        </p:nvSpPr>
        <p:spPr>
          <a:xfrm>
            <a:off x="5940360" y="6453360"/>
            <a:ext cx="1420920" cy="288720"/>
          </a:xfrm>
          <a:prstGeom prst="rect">
            <a:avLst/>
          </a:prstGeom>
          <a:gradFill rotWithShape="0">
            <a:gsLst>
              <a:gs pos="0">
                <a:srgbClr val="3c3e5a"/>
              </a:gs>
              <a:gs pos="50000">
                <a:srgbClr val="8488c4">
                  <a:alpha val="63137"/>
                </a:srgbClr>
              </a:gs>
              <a:gs pos="100000">
                <a:srgbClr val="3c3e5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равила игр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>
            <a:hlinkClick r:id="rId7" action="ppaction://hlinksldjump"/>
          </p:cNvPr>
          <p:cNvSpPr/>
          <p:nvPr/>
        </p:nvSpPr>
        <p:spPr>
          <a:xfrm>
            <a:off x="7451640" y="6453360"/>
            <a:ext cx="1565280" cy="288720"/>
          </a:xfrm>
          <a:prstGeom prst="rect">
            <a:avLst/>
          </a:prstGeom>
          <a:gradFill rotWithShape="0">
            <a:gsLst>
              <a:gs pos="0">
                <a:srgbClr val="3c3e5a"/>
              </a:gs>
              <a:gs pos="50000">
                <a:srgbClr val="8488c4">
                  <a:alpha val="63137"/>
                </a:srgbClr>
              </a:gs>
              <a:gs pos="100000">
                <a:srgbClr val="3c3e5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Продолжить игр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" descr=""/>
          <p:cNvPicPr/>
          <p:nvPr/>
        </p:nvPicPr>
        <p:blipFill>
          <a:blip r:embed="rId8"/>
          <a:stretch/>
        </p:blipFill>
        <p:spPr>
          <a:xfrm>
            <a:off x="1547640" y="3860640"/>
            <a:ext cx="95256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0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6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8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9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30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1" fill="hold">
                            <p:stCondLst>
                              <p:cond delay="500"/>
                            </p:stCondLst>
                            <p:childTnLst>
                              <p:par>
                                <p:cTn id="93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34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5" fill="hold">
                            <p:stCondLst>
                              <p:cond delay="1000"/>
                            </p:stCondLst>
                            <p:childTnLst>
                              <p:par>
                                <p:cTn id="93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38" dur="500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9" fill="hold">
                            <p:stCondLst>
                              <p:cond delay="1500"/>
                            </p:stCondLst>
                            <p:childTnLst>
                              <p:par>
                                <p:cTn id="940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2" dur="1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3" fill="hold">
                            <p:stCondLst>
                              <p:cond delay="5000"/>
                            </p:stCondLst>
                            <p:childTnLst>
                              <p:par>
                                <p:cTn id="944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6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7" fill="hold">
                            <p:stCondLst>
                              <p:cond delay="7000"/>
                            </p:stCondLst>
                            <p:childTnLst>
                              <p:par>
                                <p:cTn id="948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1" fill="hold">
                            <p:stCondLst>
                              <p:cond delay="9000"/>
                            </p:stCondLst>
                            <p:childTnLst>
                              <p:par>
                                <p:cTn id="952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4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5" fill="hold">
                            <p:stCondLst>
                              <p:cond delay="11000"/>
                            </p:stCondLst>
                            <p:childTnLst>
                              <p:par>
                                <p:cTn id="956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8" dur="1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3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4" fill="hold">
                            <p:stCondLst>
                              <p:cond delay="500"/>
                            </p:stCondLst>
                            <p:childTnLst>
                              <p:par>
                                <p:cTn id="9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7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583236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ВНИМАНИЕ !  ВОПРО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332000" y="1989000"/>
            <a:ext cx="6780240" cy="1368720"/>
          </a:xfrm>
          <a:prstGeom prst="rect">
            <a:avLst/>
          </a:prstGeom>
          <a:solidFill>
            <a:srgbClr val="ff0000">
              <a:alpha val="40000"/>
            </a:srgbClr>
          </a:solidFill>
          <a:ln w="5724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 бассейну какого океана относится Карибское мор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4" name="" descr=""/>
          <p:cNvPicPr/>
          <p:nvPr/>
        </p:nvPicPr>
        <p:blipFill>
          <a:blip r:embed="rId2"/>
          <a:stretch/>
        </p:blipFill>
        <p:spPr>
          <a:xfrm>
            <a:off x="395280" y="404640"/>
            <a:ext cx="1368360" cy="1368720"/>
          </a:xfrm>
          <a:prstGeom prst="rect">
            <a:avLst/>
          </a:prstGeom>
          <a:ln w="0">
            <a:noFill/>
          </a:ln>
        </p:spPr>
      </p:pic>
      <p:sp>
        <p:nvSpPr>
          <p:cNvPr id="385" name="">
            <a:hlinkClick r:id="rId3" action="ppaction://hlinksldjump"/>
          </p:cNvPr>
          <p:cNvSpPr/>
          <p:nvPr/>
        </p:nvSpPr>
        <p:spPr>
          <a:xfrm>
            <a:off x="539640" y="549360"/>
            <a:ext cx="1042920" cy="1042920"/>
          </a:xfrm>
          <a:custGeom>
            <a:avLst/>
            <a:gdLst>
              <a:gd name="textAreaLeft" fmla="*/ 96480 w 1042920"/>
              <a:gd name="textAreaRight" fmla="*/ 946440 w 1042920"/>
              <a:gd name="textAreaTop" fmla="*/ 96480 h 1042920"/>
              <a:gd name="textAreaBottom" fmla="*/ 94644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9595" y="2005"/>
                </a:lnTo>
                <a:lnTo>
                  <a:pt x="2005" y="2005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9595" y="19595"/>
                </a:lnTo>
                <a:lnTo>
                  <a:pt x="19595" y="2005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2005" y="19595"/>
                </a:lnTo>
                <a:lnTo>
                  <a:pt x="19595" y="19595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2005" y="2005"/>
                </a:lnTo>
                <a:lnTo>
                  <a:pt x="2005" y="19595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755640" y="76500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Book Antiqua"/>
              </a:rPr>
              <a:t>27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387" name=""/>
          <p:cNvSpPr/>
          <p:nvPr/>
        </p:nvSpPr>
        <p:spPr>
          <a:xfrm>
            <a:off x="684360" y="5589720"/>
            <a:ext cx="647640" cy="538200"/>
          </a:xfrm>
          <a:custGeom>
            <a:avLst/>
            <a:gdLst>
              <a:gd name="textAreaLeft" fmla="*/ 115200 w 647640"/>
              <a:gd name="textAreaRight" fmla="*/ 532440 w 647640"/>
              <a:gd name="textAreaTop" fmla="*/ 115200 h 538200"/>
              <a:gd name="textAreaBottom" fmla="*/ 42300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1361" y="4629"/>
                </a:lnTo>
                <a:lnTo>
                  <a:pt x="4629" y="4629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1361" y="16971"/>
                </a:lnTo>
                <a:lnTo>
                  <a:pt x="21361" y="4629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4629" y="16971"/>
                </a:lnTo>
                <a:lnTo>
                  <a:pt x="21361" y="16971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4629" y="4629"/>
                </a:lnTo>
                <a:lnTo>
                  <a:pt x="4629" y="1697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1547640" y="5589720"/>
            <a:ext cx="648000" cy="538200"/>
          </a:xfrm>
          <a:custGeom>
            <a:avLst/>
            <a:gdLst>
              <a:gd name="textAreaLeft" fmla="*/ 115200 w 648000"/>
              <a:gd name="textAreaRight" fmla="*/ 532800 w 648000"/>
              <a:gd name="textAreaTop" fmla="*/ 115200 h 538200"/>
              <a:gd name="textAreaBottom" fmla="*/ 42300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1375" y="4629"/>
                </a:lnTo>
                <a:lnTo>
                  <a:pt x="4629" y="4629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1375" y="16971"/>
                </a:lnTo>
                <a:lnTo>
                  <a:pt x="21375" y="4629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4629" y="16971"/>
                </a:lnTo>
                <a:lnTo>
                  <a:pt x="21375" y="16971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4629" y="4629"/>
                </a:lnTo>
                <a:lnTo>
                  <a:pt x="4629" y="1697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2411280" y="5589720"/>
            <a:ext cx="648000" cy="538200"/>
          </a:xfrm>
          <a:custGeom>
            <a:avLst/>
            <a:gdLst>
              <a:gd name="textAreaLeft" fmla="*/ 115200 w 648000"/>
              <a:gd name="textAreaRight" fmla="*/ 532800 w 648000"/>
              <a:gd name="textAreaTop" fmla="*/ 115200 h 538200"/>
              <a:gd name="textAreaBottom" fmla="*/ 42300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1375" y="4629"/>
                </a:lnTo>
                <a:lnTo>
                  <a:pt x="4629" y="4629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1375" y="16971"/>
                </a:lnTo>
                <a:lnTo>
                  <a:pt x="21375" y="4629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4629" y="16971"/>
                </a:lnTo>
                <a:lnTo>
                  <a:pt x="21375" y="16971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4629" y="4629"/>
                </a:lnTo>
                <a:lnTo>
                  <a:pt x="4629" y="1697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3276720" y="5589720"/>
            <a:ext cx="647640" cy="538200"/>
          </a:xfrm>
          <a:custGeom>
            <a:avLst/>
            <a:gdLst>
              <a:gd name="textAreaLeft" fmla="*/ 115200 w 647640"/>
              <a:gd name="textAreaRight" fmla="*/ 532440 w 647640"/>
              <a:gd name="textAreaTop" fmla="*/ 115200 h 538200"/>
              <a:gd name="textAreaBottom" fmla="*/ 42300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1361" y="4629"/>
                </a:lnTo>
                <a:lnTo>
                  <a:pt x="4629" y="4629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1361" y="16971"/>
                </a:lnTo>
                <a:lnTo>
                  <a:pt x="21361" y="4629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4629" y="16971"/>
                </a:lnTo>
                <a:lnTo>
                  <a:pt x="21361" y="16971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4629" y="4629"/>
                </a:lnTo>
                <a:lnTo>
                  <a:pt x="4629" y="1697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4140360" y="5589720"/>
            <a:ext cx="647640" cy="538200"/>
          </a:xfrm>
          <a:custGeom>
            <a:avLst/>
            <a:gdLst>
              <a:gd name="textAreaLeft" fmla="*/ 115200 w 647640"/>
              <a:gd name="textAreaRight" fmla="*/ 532440 w 647640"/>
              <a:gd name="textAreaTop" fmla="*/ 115200 h 538200"/>
              <a:gd name="textAreaBottom" fmla="*/ 42300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1361" y="4629"/>
                </a:lnTo>
                <a:lnTo>
                  <a:pt x="4629" y="4629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1361" y="16971"/>
                </a:lnTo>
                <a:lnTo>
                  <a:pt x="21361" y="4629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4629" y="16971"/>
                </a:lnTo>
                <a:lnTo>
                  <a:pt x="21361" y="16971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4629" y="4629"/>
                </a:lnTo>
                <a:lnTo>
                  <a:pt x="4629" y="1697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4572000" y="3716280"/>
            <a:ext cx="4321080" cy="574560"/>
          </a:xfrm>
          <a:prstGeom prst="rect">
            <a:avLst/>
          </a:prstGeom>
          <a:noFill/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33"/>
                </a:solidFill>
                <a:latin typeface="Arial"/>
              </a:rPr>
              <a:t>Правильный 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 rot="10800000">
            <a:off x="5076360" y="4797000"/>
            <a:ext cx="3816360" cy="1295640"/>
          </a:xfrm>
          <a:prstGeom prst="wedgeRectCallout">
            <a:avLst>
              <a:gd name="adj1" fmla="val 78"/>
              <a:gd name="adj2" fmla="val 85416"/>
            </a:avLst>
          </a:prstGeom>
          <a:noFill/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Атлантическо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океа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250920" y="189000"/>
            <a:ext cx="1657080" cy="21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58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географ</a:t>
            </a:r>
            <a:endParaRPr b="0" i="1" lang="en-US" sz="1800" spc="1" strike="noStrike">
              <a:ln w="158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95" name=""/>
          <p:cNvSpPr/>
          <p:nvPr/>
        </p:nvSpPr>
        <p:spPr>
          <a:xfrm>
            <a:off x="0" y="6297480"/>
            <a:ext cx="9144000" cy="56052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468360" y="6453360"/>
            <a:ext cx="4174920" cy="23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58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гра "географ"</a:t>
            </a:r>
            <a:endParaRPr b="0" i="1" lang="en-US" sz="1800" spc="1" strike="noStrike">
              <a:ln w="158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97" name="">
            <a:hlinkClick r:id="rId6" action="ppaction://hlinksldjump"/>
          </p:cNvPr>
          <p:cNvSpPr/>
          <p:nvPr/>
        </p:nvSpPr>
        <p:spPr>
          <a:xfrm>
            <a:off x="5940360" y="6453360"/>
            <a:ext cx="1420920" cy="288720"/>
          </a:xfrm>
          <a:prstGeom prst="rect">
            <a:avLst/>
          </a:prstGeom>
          <a:gradFill rotWithShape="0">
            <a:gsLst>
              <a:gs pos="0">
                <a:srgbClr val="3c3e5a"/>
              </a:gs>
              <a:gs pos="50000">
                <a:srgbClr val="8488c4">
                  <a:alpha val="63137"/>
                </a:srgbClr>
              </a:gs>
              <a:gs pos="100000">
                <a:srgbClr val="3c3e5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равила игр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>
            <a:hlinkClick r:id="rId7" action="ppaction://hlinksldjump"/>
          </p:cNvPr>
          <p:cNvSpPr/>
          <p:nvPr/>
        </p:nvSpPr>
        <p:spPr>
          <a:xfrm>
            <a:off x="7451640" y="6453360"/>
            <a:ext cx="1565280" cy="288720"/>
          </a:xfrm>
          <a:prstGeom prst="rect">
            <a:avLst/>
          </a:prstGeom>
          <a:gradFill rotWithShape="0">
            <a:gsLst>
              <a:gs pos="0">
                <a:srgbClr val="3c3e5a"/>
              </a:gs>
              <a:gs pos="50000">
                <a:srgbClr val="8488c4">
                  <a:alpha val="63137"/>
                </a:srgbClr>
              </a:gs>
              <a:gs pos="100000">
                <a:srgbClr val="3c3e5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Продолжить игр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8"/>
          <a:stretch/>
        </p:blipFill>
        <p:spPr>
          <a:xfrm>
            <a:off x="1332000" y="3716280"/>
            <a:ext cx="1095120" cy="9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8" dur="indefinite" restart="never" nodeType="tmRoot">
          <p:childTnLst>
            <p:seq>
              <p:cTn id="969" dur="indefinite" nodeType="mainSeq">
                <p:childTnLst>
                  <p:par>
                    <p:cTn id="970" fill="hold">
                      <p:stCondLst>
                        <p:cond delay="0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4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6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7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78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9" fill="hold">
                            <p:stCondLst>
                              <p:cond delay="500"/>
                            </p:stCondLst>
                            <p:childTnLst>
                              <p:par>
                                <p:cTn id="98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82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3" fill="hold">
                            <p:stCondLst>
                              <p:cond delay="1000"/>
                            </p:stCondLst>
                            <p:childTnLst>
                              <p:par>
                                <p:cTn id="984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86" dur="500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7" fill="hold">
                            <p:stCondLst>
                              <p:cond delay="1500"/>
                            </p:stCondLst>
                            <p:childTnLst>
                              <p:par>
                                <p:cTn id="988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0" dur="1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1" fill="hold">
                            <p:stCondLst>
                              <p:cond delay="5000"/>
                            </p:stCondLst>
                            <p:childTnLst>
                              <p:par>
                                <p:cTn id="992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4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5" fill="hold">
                            <p:stCondLst>
                              <p:cond delay="7000"/>
                            </p:stCondLst>
                            <p:childTnLst>
                              <p:par>
                                <p:cTn id="996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8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9" fill="hold">
                            <p:stCondLst>
                              <p:cond delay="9000"/>
                            </p:stCondLst>
                            <p:childTnLst>
                              <p:par>
                                <p:cTn id="1000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1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3" fill="hold">
                            <p:stCondLst>
                              <p:cond delay="11000"/>
                            </p:stCondLst>
                            <p:childTnLst>
                              <p:par>
                                <p:cTn id="1004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6" dur="1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1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2" fill="hold">
                            <p:stCondLst>
                              <p:cond delay="500"/>
                            </p:stCondLst>
                            <p:childTnLst>
                              <p:par>
                                <p:cTn id="10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5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583236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ВНИМАНИЕ !  ВОПРО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68000" y="1989000"/>
            <a:ext cx="8064360" cy="1368720"/>
          </a:xfrm>
          <a:prstGeom prst="rect">
            <a:avLst/>
          </a:prstGeom>
          <a:solidFill>
            <a:srgbClr val="ff0000">
              <a:alpha val="40000"/>
            </a:srgbClr>
          </a:solidFill>
          <a:ln w="5724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Реки Дунай и Днепр впадают в … (море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2"/>
          <a:stretch/>
        </p:blipFill>
        <p:spPr>
          <a:xfrm>
            <a:off x="395280" y="404640"/>
            <a:ext cx="1368360" cy="1368720"/>
          </a:xfrm>
          <a:prstGeom prst="rect">
            <a:avLst/>
          </a:prstGeom>
          <a:ln w="0">
            <a:noFill/>
          </a:ln>
        </p:spPr>
      </p:pic>
      <p:sp>
        <p:nvSpPr>
          <p:cNvPr id="403" name="">
            <a:hlinkClick r:id="rId3" action="ppaction://hlinksldjump"/>
          </p:cNvPr>
          <p:cNvSpPr/>
          <p:nvPr/>
        </p:nvSpPr>
        <p:spPr>
          <a:xfrm>
            <a:off x="539640" y="549360"/>
            <a:ext cx="1042920" cy="1042920"/>
          </a:xfrm>
          <a:custGeom>
            <a:avLst/>
            <a:gdLst>
              <a:gd name="textAreaLeft" fmla="*/ 96480 w 1042920"/>
              <a:gd name="textAreaRight" fmla="*/ 946440 w 1042920"/>
              <a:gd name="textAreaTop" fmla="*/ 96480 h 1042920"/>
              <a:gd name="textAreaBottom" fmla="*/ 94644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9595" y="2005"/>
                </a:lnTo>
                <a:lnTo>
                  <a:pt x="2005" y="2005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9595" y="19595"/>
                </a:lnTo>
                <a:lnTo>
                  <a:pt x="19595" y="2005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2005" y="19595"/>
                </a:lnTo>
                <a:lnTo>
                  <a:pt x="19595" y="19595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2005" y="2005"/>
                </a:lnTo>
                <a:lnTo>
                  <a:pt x="2005" y="19595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755640" y="76500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Book Antiqua"/>
              </a:rPr>
              <a:t>31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405" name=""/>
          <p:cNvSpPr/>
          <p:nvPr/>
        </p:nvSpPr>
        <p:spPr>
          <a:xfrm>
            <a:off x="684360" y="5589720"/>
            <a:ext cx="647640" cy="538200"/>
          </a:xfrm>
          <a:custGeom>
            <a:avLst/>
            <a:gdLst>
              <a:gd name="textAreaLeft" fmla="*/ 115200 w 647640"/>
              <a:gd name="textAreaRight" fmla="*/ 532440 w 647640"/>
              <a:gd name="textAreaTop" fmla="*/ 115200 h 538200"/>
              <a:gd name="textAreaBottom" fmla="*/ 42300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1361" y="4629"/>
                </a:lnTo>
                <a:lnTo>
                  <a:pt x="4629" y="4629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1361" y="16971"/>
                </a:lnTo>
                <a:lnTo>
                  <a:pt x="21361" y="4629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4629" y="16971"/>
                </a:lnTo>
                <a:lnTo>
                  <a:pt x="21361" y="16971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4629" y="4629"/>
                </a:lnTo>
                <a:lnTo>
                  <a:pt x="4629" y="1697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1547640" y="5589720"/>
            <a:ext cx="648000" cy="538200"/>
          </a:xfrm>
          <a:custGeom>
            <a:avLst/>
            <a:gdLst>
              <a:gd name="textAreaLeft" fmla="*/ 115200 w 648000"/>
              <a:gd name="textAreaRight" fmla="*/ 532800 w 648000"/>
              <a:gd name="textAreaTop" fmla="*/ 115200 h 538200"/>
              <a:gd name="textAreaBottom" fmla="*/ 42300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1375" y="4629"/>
                </a:lnTo>
                <a:lnTo>
                  <a:pt x="4629" y="4629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1375" y="16971"/>
                </a:lnTo>
                <a:lnTo>
                  <a:pt x="21375" y="4629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4629" y="16971"/>
                </a:lnTo>
                <a:lnTo>
                  <a:pt x="21375" y="16971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4629" y="4629"/>
                </a:lnTo>
                <a:lnTo>
                  <a:pt x="4629" y="1697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2411280" y="5589720"/>
            <a:ext cx="648000" cy="538200"/>
          </a:xfrm>
          <a:custGeom>
            <a:avLst/>
            <a:gdLst>
              <a:gd name="textAreaLeft" fmla="*/ 115200 w 648000"/>
              <a:gd name="textAreaRight" fmla="*/ 532800 w 648000"/>
              <a:gd name="textAreaTop" fmla="*/ 115200 h 538200"/>
              <a:gd name="textAreaBottom" fmla="*/ 42300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1375" y="4629"/>
                </a:lnTo>
                <a:lnTo>
                  <a:pt x="4629" y="4629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1375" y="16971"/>
                </a:lnTo>
                <a:lnTo>
                  <a:pt x="21375" y="4629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4629" y="16971"/>
                </a:lnTo>
                <a:lnTo>
                  <a:pt x="21375" y="16971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4629" y="4629"/>
                </a:lnTo>
                <a:lnTo>
                  <a:pt x="4629" y="1697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276720" y="5589720"/>
            <a:ext cx="647640" cy="538200"/>
          </a:xfrm>
          <a:custGeom>
            <a:avLst/>
            <a:gdLst>
              <a:gd name="textAreaLeft" fmla="*/ 115200 w 647640"/>
              <a:gd name="textAreaRight" fmla="*/ 532440 w 647640"/>
              <a:gd name="textAreaTop" fmla="*/ 115200 h 538200"/>
              <a:gd name="textAreaBottom" fmla="*/ 42300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1361" y="4629"/>
                </a:lnTo>
                <a:lnTo>
                  <a:pt x="4629" y="4629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1361" y="16971"/>
                </a:lnTo>
                <a:lnTo>
                  <a:pt x="21361" y="4629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4629" y="16971"/>
                </a:lnTo>
                <a:lnTo>
                  <a:pt x="21361" y="16971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4629" y="4629"/>
                </a:lnTo>
                <a:lnTo>
                  <a:pt x="4629" y="1697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4140360" y="5589720"/>
            <a:ext cx="647640" cy="538200"/>
          </a:xfrm>
          <a:custGeom>
            <a:avLst/>
            <a:gdLst>
              <a:gd name="textAreaLeft" fmla="*/ 115200 w 647640"/>
              <a:gd name="textAreaRight" fmla="*/ 532440 w 647640"/>
              <a:gd name="textAreaTop" fmla="*/ 115200 h 538200"/>
              <a:gd name="textAreaBottom" fmla="*/ 42300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1361" y="4629"/>
                </a:lnTo>
                <a:lnTo>
                  <a:pt x="4629" y="4629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1361" y="16971"/>
                </a:lnTo>
                <a:lnTo>
                  <a:pt x="21361" y="4629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4629" y="16971"/>
                </a:lnTo>
                <a:lnTo>
                  <a:pt x="21361" y="16971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4629" y="4629"/>
                </a:lnTo>
                <a:lnTo>
                  <a:pt x="4629" y="1697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4572000" y="3716280"/>
            <a:ext cx="4321080" cy="574560"/>
          </a:xfrm>
          <a:prstGeom prst="rect">
            <a:avLst/>
          </a:prstGeom>
          <a:noFill/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33"/>
                </a:solidFill>
                <a:latin typeface="Arial"/>
              </a:rPr>
              <a:t>Правильный 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 rot="10800000">
            <a:off x="5148000" y="4797000"/>
            <a:ext cx="3995640" cy="1295640"/>
          </a:xfrm>
          <a:prstGeom prst="wedgeRectCallout">
            <a:avLst>
              <a:gd name="adj1" fmla="val 4189"/>
              <a:gd name="adj2" fmla="val 85416"/>
            </a:avLst>
          </a:prstGeom>
          <a:noFill/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Чёрное мор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250920" y="189000"/>
            <a:ext cx="1657080" cy="21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58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географ</a:t>
            </a:r>
            <a:endParaRPr b="0" i="1" lang="en-US" sz="1800" spc="1" strike="noStrike">
              <a:ln w="158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13" name=""/>
          <p:cNvSpPr/>
          <p:nvPr/>
        </p:nvSpPr>
        <p:spPr>
          <a:xfrm>
            <a:off x="0" y="6297480"/>
            <a:ext cx="9144000" cy="56052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468360" y="6453360"/>
            <a:ext cx="4174920" cy="23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58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гра "географ"</a:t>
            </a:r>
            <a:endParaRPr b="0" i="1" lang="en-US" sz="1800" spc="1" strike="noStrike">
              <a:ln w="158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15" name="">
            <a:hlinkClick r:id="rId6" action="ppaction://hlinksldjump"/>
          </p:cNvPr>
          <p:cNvSpPr/>
          <p:nvPr/>
        </p:nvSpPr>
        <p:spPr>
          <a:xfrm>
            <a:off x="5940360" y="6453360"/>
            <a:ext cx="1420920" cy="288720"/>
          </a:xfrm>
          <a:prstGeom prst="rect">
            <a:avLst/>
          </a:prstGeom>
          <a:gradFill rotWithShape="0">
            <a:gsLst>
              <a:gs pos="0">
                <a:srgbClr val="3c3e5a"/>
              </a:gs>
              <a:gs pos="50000">
                <a:srgbClr val="8488c4">
                  <a:alpha val="63137"/>
                </a:srgbClr>
              </a:gs>
              <a:gs pos="100000">
                <a:srgbClr val="3c3e5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равила игр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>
            <a:hlinkClick r:id="rId7" action="ppaction://hlinksldjump"/>
          </p:cNvPr>
          <p:cNvSpPr/>
          <p:nvPr/>
        </p:nvSpPr>
        <p:spPr>
          <a:xfrm>
            <a:off x="7451640" y="6453360"/>
            <a:ext cx="1565280" cy="288720"/>
          </a:xfrm>
          <a:prstGeom prst="rect">
            <a:avLst/>
          </a:prstGeom>
          <a:gradFill rotWithShape="0">
            <a:gsLst>
              <a:gs pos="0">
                <a:srgbClr val="3c3e5a"/>
              </a:gs>
              <a:gs pos="50000">
                <a:srgbClr val="8488c4">
                  <a:alpha val="63137"/>
                </a:srgbClr>
              </a:gs>
              <a:gs pos="100000">
                <a:srgbClr val="3c3e5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Продолжить игр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" descr=""/>
          <p:cNvPicPr/>
          <p:nvPr/>
        </p:nvPicPr>
        <p:blipFill>
          <a:blip r:embed="rId8"/>
          <a:stretch/>
        </p:blipFill>
        <p:spPr>
          <a:xfrm>
            <a:off x="1332000" y="3933720"/>
            <a:ext cx="95256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6" dur="indefinite" restart="never" nodeType="tmRoot">
          <p:childTnLst>
            <p:seq>
              <p:cTn id="1017" dur="indefinite" nodeType="mainSeq">
                <p:childTnLst>
                  <p:par>
                    <p:cTn id="1018" fill="hold">
                      <p:stCondLst>
                        <p:cond delay="0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2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3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4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5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26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7" fill="hold">
                            <p:stCondLst>
                              <p:cond delay="500"/>
                            </p:stCondLst>
                            <p:childTnLst>
                              <p:par>
                                <p:cTn id="102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30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34" dur="500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5" fill="hold">
                            <p:stCondLst>
                              <p:cond delay="1500"/>
                            </p:stCondLst>
                            <p:childTnLst>
                              <p:par>
                                <p:cTn id="1036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9" fill="hold">
                            <p:stCondLst>
                              <p:cond delay="5000"/>
                            </p:stCondLst>
                            <p:childTnLst>
                              <p:par>
                                <p:cTn id="1040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2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3" fill="hold">
                            <p:stCondLst>
                              <p:cond delay="7000"/>
                            </p:stCondLst>
                            <p:childTnLst>
                              <p:par>
                                <p:cTn id="1044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1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7" fill="hold">
                            <p:stCondLst>
                              <p:cond delay="9000"/>
                            </p:stCondLst>
                            <p:childTnLst>
                              <p:par>
                                <p:cTn id="1048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0" dur="1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1" fill="hold">
                            <p:stCondLst>
                              <p:cond delay="11000"/>
                            </p:stCondLst>
                            <p:childTnLst>
                              <p:par>
                                <p:cTn id="1052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4" dur="1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9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0" fill="hold">
                            <p:stCondLst>
                              <p:cond delay="500"/>
                            </p:stCondLst>
                            <p:childTnLst>
                              <p:par>
                                <p:cTn id="10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3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2916360" y="404640"/>
            <a:ext cx="3384360" cy="2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788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Правила игры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49" name="">
            <a:hlinkClick r:id="rId4" action="ppaction://hlinksldjump"/>
          </p:cNvPr>
          <p:cNvSpPr/>
          <p:nvPr/>
        </p:nvSpPr>
        <p:spPr>
          <a:xfrm>
            <a:off x="6588000" y="6381720"/>
            <a:ext cx="1420920" cy="287280"/>
          </a:xfrm>
          <a:prstGeom prst="rect">
            <a:avLst/>
          </a:prstGeom>
          <a:gradFill rotWithShape="0">
            <a:gsLst>
              <a:gs pos="0">
                <a:srgbClr val="3c3e5a"/>
              </a:gs>
              <a:gs pos="50000">
                <a:srgbClr val="8488c4">
                  <a:alpha val="63137"/>
                </a:srgbClr>
              </a:gs>
              <a:gs pos="100000">
                <a:srgbClr val="3c3e5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Начать игр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81520" y="1773360"/>
            <a:ext cx="5262480" cy="41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33"/>
                </a:solidFill>
                <a:latin typeface="Arial"/>
              </a:rPr>
              <a:t>1.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Выбери ячейку с номером и щёлкни по ней мышк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33"/>
                </a:solidFill>
                <a:latin typeface="Arial"/>
              </a:rPr>
              <a:t>2.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Прочитай вопро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33"/>
                </a:solidFill>
                <a:latin typeface="Arial"/>
              </a:rPr>
              <a:t>3.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Время на обдумывание – 5 секунд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33"/>
                </a:solidFill>
                <a:latin typeface="Arial"/>
              </a:rPr>
              <a:t>4.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После звукового сигнала дай устный отв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484360" y="836640"/>
            <a:ext cx="417672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759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"географ"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179280" y="2276640"/>
            <a:ext cx="3492360" cy="2520720"/>
            <a:chOff x="179280" y="2276640"/>
            <a:chExt cx="3492360" cy="2520720"/>
          </a:xfrm>
        </p:grpSpPr>
        <p:pic>
          <p:nvPicPr>
            <p:cNvPr id="53" name="" descr=""/>
            <p:cNvPicPr/>
            <p:nvPr/>
          </p:nvPicPr>
          <p:blipFill>
            <a:blip r:embed="rId7"/>
            <a:stretch/>
          </p:blipFill>
          <p:spPr>
            <a:xfrm>
              <a:off x="358560" y="2421000"/>
              <a:ext cx="3162240" cy="227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179280" y="2276640"/>
              <a:ext cx="3492360" cy="252072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">
            <a:hlinkClick r:id="rId8" action="ppaction://hlinksldjump"/>
          </p:cNvPr>
          <p:cNvSpPr/>
          <p:nvPr/>
        </p:nvSpPr>
        <p:spPr>
          <a:xfrm>
            <a:off x="8244000" y="6381720"/>
            <a:ext cx="701640" cy="287280"/>
          </a:xfrm>
          <a:prstGeom prst="rect">
            <a:avLst/>
          </a:prstGeom>
          <a:gradFill rotWithShape="0">
            <a:gsLst>
              <a:gs pos="0">
                <a:srgbClr val="3c3e5a"/>
              </a:gs>
              <a:gs pos="50000">
                <a:srgbClr val="8488c4">
                  <a:alpha val="63137"/>
                </a:srgbClr>
              </a:gs>
              <a:gs pos="100000">
                <a:srgbClr val="3c3e5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Выхо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583236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ВНИМАНИЕ !  ВОПРО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1258920" y="1989000"/>
            <a:ext cx="6780240" cy="1368720"/>
          </a:xfrm>
          <a:prstGeom prst="rect">
            <a:avLst/>
          </a:prstGeom>
          <a:solidFill>
            <a:srgbClr val="ff0000">
              <a:alpha val="40000"/>
            </a:srgbClr>
          </a:solidFill>
          <a:ln w="5724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Песок относится к водо…. горным породам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0" name="" descr=""/>
          <p:cNvPicPr/>
          <p:nvPr/>
        </p:nvPicPr>
        <p:blipFill>
          <a:blip r:embed="rId2"/>
          <a:stretch/>
        </p:blipFill>
        <p:spPr>
          <a:xfrm>
            <a:off x="395280" y="404640"/>
            <a:ext cx="1368360" cy="1368720"/>
          </a:xfrm>
          <a:prstGeom prst="rect">
            <a:avLst/>
          </a:prstGeom>
          <a:ln w="0">
            <a:noFill/>
          </a:ln>
        </p:spPr>
      </p:pic>
      <p:sp>
        <p:nvSpPr>
          <p:cNvPr id="421" name="">
            <a:hlinkClick r:id="rId3" action="ppaction://hlinksldjump"/>
          </p:cNvPr>
          <p:cNvSpPr/>
          <p:nvPr/>
        </p:nvSpPr>
        <p:spPr>
          <a:xfrm>
            <a:off x="539640" y="549360"/>
            <a:ext cx="1042920" cy="1042920"/>
          </a:xfrm>
          <a:custGeom>
            <a:avLst/>
            <a:gdLst>
              <a:gd name="textAreaLeft" fmla="*/ 96480 w 1042920"/>
              <a:gd name="textAreaRight" fmla="*/ 946440 w 1042920"/>
              <a:gd name="textAreaTop" fmla="*/ 96480 h 1042920"/>
              <a:gd name="textAreaBottom" fmla="*/ 94644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9595" y="2005"/>
                </a:lnTo>
                <a:lnTo>
                  <a:pt x="2005" y="2005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9595" y="19595"/>
                </a:lnTo>
                <a:lnTo>
                  <a:pt x="19595" y="2005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2005" y="19595"/>
                </a:lnTo>
                <a:lnTo>
                  <a:pt x="19595" y="19595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2005" y="2005"/>
                </a:lnTo>
                <a:lnTo>
                  <a:pt x="2005" y="19595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755640" y="76500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Book Antiqua"/>
              </a:rPr>
              <a:t>35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423" name=""/>
          <p:cNvSpPr/>
          <p:nvPr/>
        </p:nvSpPr>
        <p:spPr>
          <a:xfrm>
            <a:off x="684360" y="5589720"/>
            <a:ext cx="647640" cy="538200"/>
          </a:xfrm>
          <a:custGeom>
            <a:avLst/>
            <a:gdLst>
              <a:gd name="textAreaLeft" fmla="*/ 115200 w 647640"/>
              <a:gd name="textAreaRight" fmla="*/ 532440 w 647640"/>
              <a:gd name="textAreaTop" fmla="*/ 115200 h 538200"/>
              <a:gd name="textAreaBottom" fmla="*/ 42300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1361" y="4629"/>
                </a:lnTo>
                <a:lnTo>
                  <a:pt x="4629" y="4629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1361" y="16971"/>
                </a:lnTo>
                <a:lnTo>
                  <a:pt x="21361" y="4629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4629" y="16971"/>
                </a:lnTo>
                <a:lnTo>
                  <a:pt x="21361" y="16971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4629" y="4629"/>
                </a:lnTo>
                <a:lnTo>
                  <a:pt x="4629" y="1697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547640" y="5589720"/>
            <a:ext cx="648000" cy="538200"/>
          </a:xfrm>
          <a:custGeom>
            <a:avLst/>
            <a:gdLst>
              <a:gd name="textAreaLeft" fmla="*/ 115200 w 648000"/>
              <a:gd name="textAreaRight" fmla="*/ 532800 w 648000"/>
              <a:gd name="textAreaTop" fmla="*/ 115200 h 538200"/>
              <a:gd name="textAreaBottom" fmla="*/ 42300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1375" y="4629"/>
                </a:lnTo>
                <a:lnTo>
                  <a:pt x="4629" y="4629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1375" y="16971"/>
                </a:lnTo>
                <a:lnTo>
                  <a:pt x="21375" y="4629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4629" y="16971"/>
                </a:lnTo>
                <a:lnTo>
                  <a:pt x="21375" y="16971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4629" y="4629"/>
                </a:lnTo>
                <a:lnTo>
                  <a:pt x="4629" y="1697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2411280" y="5589720"/>
            <a:ext cx="648000" cy="538200"/>
          </a:xfrm>
          <a:custGeom>
            <a:avLst/>
            <a:gdLst>
              <a:gd name="textAreaLeft" fmla="*/ 115200 w 648000"/>
              <a:gd name="textAreaRight" fmla="*/ 532800 w 648000"/>
              <a:gd name="textAreaTop" fmla="*/ 115200 h 538200"/>
              <a:gd name="textAreaBottom" fmla="*/ 42300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1375" y="4629"/>
                </a:lnTo>
                <a:lnTo>
                  <a:pt x="4629" y="4629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1375" y="16971"/>
                </a:lnTo>
                <a:lnTo>
                  <a:pt x="21375" y="4629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4629" y="16971"/>
                </a:lnTo>
                <a:lnTo>
                  <a:pt x="21375" y="16971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4629" y="4629"/>
                </a:lnTo>
                <a:lnTo>
                  <a:pt x="4629" y="1697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3276720" y="5589720"/>
            <a:ext cx="647640" cy="538200"/>
          </a:xfrm>
          <a:custGeom>
            <a:avLst/>
            <a:gdLst>
              <a:gd name="textAreaLeft" fmla="*/ 115200 w 647640"/>
              <a:gd name="textAreaRight" fmla="*/ 532440 w 647640"/>
              <a:gd name="textAreaTop" fmla="*/ 115200 h 538200"/>
              <a:gd name="textAreaBottom" fmla="*/ 42300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1361" y="4629"/>
                </a:lnTo>
                <a:lnTo>
                  <a:pt x="4629" y="4629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1361" y="16971"/>
                </a:lnTo>
                <a:lnTo>
                  <a:pt x="21361" y="4629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4629" y="16971"/>
                </a:lnTo>
                <a:lnTo>
                  <a:pt x="21361" y="16971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4629" y="4629"/>
                </a:lnTo>
                <a:lnTo>
                  <a:pt x="4629" y="1697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140360" y="5589720"/>
            <a:ext cx="647640" cy="538200"/>
          </a:xfrm>
          <a:custGeom>
            <a:avLst/>
            <a:gdLst>
              <a:gd name="textAreaLeft" fmla="*/ 115200 w 647640"/>
              <a:gd name="textAreaRight" fmla="*/ 532440 w 647640"/>
              <a:gd name="textAreaTop" fmla="*/ 115200 h 538200"/>
              <a:gd name="textAreaBottom" fmla="*/ 42300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1361" y="4629"/>
                </a:lnTo>
                <a:lnTo>
                  <a:pt x="4629" y="4629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1361" y="16971"/>
                </a:lnTo>
                <a:lnTo>
                  <a:pt x="21361" y="4629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4629" y="16971"/>
                </a:lnTo>
                <a:lnTo>
                  <a:pt x="21361" y="16971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4629" y="4629"/>
                </a:lnTo>
                <a:lnTo>
                  <a:pt x="4629" y="1697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4572000" y="3573360"/>
            <a:ext cx="4321080" cy="717480"/>
          </a:xfrm>
          <a:prstGeom prst="rect">
            <a:avLst/>
          </a:prstGeom>
          <a:noFill/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33"/>
                </a:solidFill>
                <a:latin typeface="Arial"/>
              </a:rPr>
              <a:t>Правильный 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 rot="10800000">
            <a:off x="4859280" y="4653000"/>
            <a:ext cx="4284720" cy="1440000"/>
          </a:xfrm>
          <a:prstGeom prst="wedgeRectCallout">
            <a:avLst>
              <a:gd name="adj1" fmla="val 388"/>
              <a:gd name="adj2" fmla="val 71606"/>
            </a:avLst>
          </a:prstGeom>
          <a:noFill/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Водопроницаемы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250920" y="189000"/>
            <a:ext cx="1657080" cy="21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58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географ</a:t>
            </a:r>
            <a:endParaRPr b="0" i="1" lang="en-US" sz="1800" spc="1" strike="noStrike">
              <a:ln w="158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31" name=""/>
          <p:cNvSpPr/>
          <p:nvPr/>
        </p:nvSpPr>
        <p:spPr>
          <a:xfrm>
            <a:off x="0" y="6297480"/>
            <a:ext cx="9144000" cy="56052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468360" y="6453360"/>
            <a:ext cx="4174920" cy="23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58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гра "географ"</a:t>
            </a:r>
            <a:endParaRPr b="0" i="1" lang="en-US" sz="1800" spc="1" strike="noStrike">
              <a:ln w="158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33" name="">
            <a:hlinkClick r:id="rId6" action="ppaction://hlinksldjump"/>
          </p:cNvPr>
          <p:cNvSpPr/>
          <p:nvPr/>
        </p:nvSpPr>
        <p:spPr>
          <a:xfrm>
            <a:off x="5940360" y="6453360"/>
            <a:ext cx="1420920" cy="288720"/>
          </a:xfrm>
          <a:prstGeom prst="rect">
            <a:avLst/>
          </a:prstGeom>
          <a:gradFill rotWithShape="0">
            <a:gsLst>
              <a:gs pos="0">
                <a:srgbClr val="3c3e5a"/>
              </a:gs>
              <a:gs pos="50000">
                <a:srgbClr val="8488c4">
                  <a:alpha val="63137"/>
                </a:srgbClr>
              </a:gs>
              <a:gs pos="100000">
                <a:srgbClr val="3c3e5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равила игр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7451640" y="6453360"/>
            <a:ext cx="1565280" cy="288720"/>
          </a:xfrm>
          <a:prstGeom prst="rect">
            <a:avLst/>
          </a:prstGeom>
          <a:gradFill rotWithShape="0">
            <a:gsLst>
              <a:gs pos="0">
                <a:srgbClr val="3c3e5a"/>
              </a:gs>
              <a:gs pos="50000">
                <a:srgbClr val="8488c4">
                  <a:alpha val="63137"/>
                </a:srgbClr>
              </a:gs>
              <a:gs pos="100000">
                <a:srgbClr val="3c3e5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Продолжить игр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" descr=""/>
          <p:cNvPicPr/>
          <p:nvPr/>
        </p:nvPicPr>
        <p:blipFill>
          <a:blip r:embed="rId7"/>
          <a:stretch/>
        </p:blipFill>
        <p:spPr>
          <a:xfrm>
            <a:off x="1403280" y="3860640"/>
            <a:ext cx="1095480" cy="9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4" dur="indefinite" restart="never" nodeType="tmRoot">
          <p:childTnLst>
            <p:seq>
              <p:cTn id="1065" dur="indefinite" nodeType="mainSeq">
                <p:childTnLst>
                  <p:par>
                    <p:cTn id="1066" fill="hold">
                      <p:stCondLst>
                        <p:cond delay="0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0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1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2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3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74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5" fill="hold">
                            <p:stCondLst>
                              <p:cond delay="500"/>
                            </p:stCondLst>
                            <p:childTnLst>
                              <p:par>
                                <p:cTn id="107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78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82" dur="500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3" fill="hold">
                            <p:stCondLst>
                              <p:cond delay="1500"/>
                            </p:stCondLst>
                            <p:childTnLst>
                              <p:par>
                                <p:cTn id="1084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6" dur="1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7" fill="hold">
                            <p:stCondLst>
                              <p:cond delay="5000"/>
                            </p:stCondLst>
                            <p:childTnLst>
                              <p:par>
                                <p:cTn id="1088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0" dur="1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1" fill="hold">
                            <p:stCondLst>
                              <p:cond delay="7000"/>
                            </p:stCondLst>
                            <p:childTnLst>
                              <p:par>
                                <p:cTn id="1092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4" dur="1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5" fill="hold">
                            <p:stCondLst>
                              <p:cond delay="9000"/>
                            </p:stCondLst>
                            <p:childTnLst>
                              <p:par>
                                <p:cTn id="1096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8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9" fill="hold">
                            <p:stCondLst>
                              <p:cond delay="11000"/>
                            </p:stCondLst>
                            <p:childTnLst>
                              <p:par>
                                <p:cTn id="1100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2" dur="1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7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8" fill="hold">
                            <p:stCondLst>
                              <p:cond delay="500"/>
                            </p:stCondLst>
                            <p:childTnLst>
                              <p:par>
                                <p:cTn id="110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1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583236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ВНИМАНИЕ !  ВОПРО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1331640" y="1989000"/>
            <a:ext cx="7272360" cy="1368720"/>
          </a:xfrm>
          <a:prstGeom prst="rect">
            <a:avLst/>
          </a:prstGeom>
          <a:solidFill>
            <a:srgbClr val="00cc00">
              <a:alpha val="26000"/>
            </a:srgbClr>
          </a:solidFill>
          <a:ln w="57240">
            <a:solidFill>
              <a:srgbClr val="008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Какие две реки дали начал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р.Амур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8" name="" descr=""/>
          <p:cNvPicPr/>
          <p:nvPr/>
        </p:nvPicPr>
        <p:blipFill>
          <a:blip r:embed="rId2"/>
          <a:stretch/>
        </p:blipFill>
        <p:spPr>
          <a:xfrm>
            <a:off x="395280" y="404640"/>
            <a:ext cx="1368360" cy="1368720"/>
          </a:xfrm>
          <a:prstGeom prst="rect">
            <a:avLst/>
          </a:prstGeom>
          <a:ln w="0">
            <a:noFill/>
          </a:ln>
        </p:spPr>
      </p:pic>
      <p:sp>
        <p:nvSpPr>
          <p:cNvPr id="439" name="">
            <a:hlinkClick r:id="rId3" action="ppaction://hlinksldjump"/>
          </p:cNvPr>
          <p:cNvSpPr/>
          <p:nvPr/>
        </p:nvSpPr>
        <p:spPr>
          <a:xfrm>
            <a:off x="539640" y="549360"/>
            <a:ext cx="1042920" cy="1042920"/>
          </a:xfrm>
          <a:custGeom>
            <a:avLst/>
            <a:gdLst>
              <a:gd name="textAreaLeft" fmla="*/ 96480 w 1042920"/>
              <a:gd name="textAreaRight" fmla="*/ 946440 w 1042920"/>
              <a:gd name="textAreaTop" fmla="*/ 96480 h 1042920"/>
              <a:gd name="textAreaBottom" fmla="*/ 94644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9595" y="2005"/>
                </a:lnTo>
                <a:lnTo>
                  <a:pt x="2005" y="2005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9595" y="19595"/>
                </a:lnTo>
                <a:lnTo>
                  <a:pt x="19595" y="2005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2005" y="19595"/>
                </a:lnTo>
                <a:lnTo>
                  <a:pt x="19595" y="19595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2005" y="2005"/>
                </a:lnTo>
                <a:lnTo>
                  <a:pt x="2005" y="19595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900000" y="765000"/>
            <a:ext cx="2872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Book Antiqua"/>
              </a:rPr>
              <a:t>2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441" name=""/>
          <p:cNvSpPr/>
          <p:nvPr/>
        </p:nvSpPr>
        <p:spPr>
          <a:xfrm>
            <a:off x="684360" y="5589720"/>
            <a:ext cx="647640" cy="538200"/>
          </a:xfrm>
          <a:custGeom>
            <a:avLst/>
            <a:gdLst>
              <a:gd name="textAreaLeft" fmla="*/ 115200 w 647640"/>
              <a:gd name="textAreaRight" fmla="*/ 532440 w 647640"/>
              <a:gd name="textAreaTop" fmla="*/ 115200 h 538200"/>
              <a:gd name="textAreaBottom" fmla="*/ 42300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1361" y="4629"/>
                </a:lnTo>
                <a:lnTo>
                  <a:pt x="4629" y="4629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1361" y="16971"/>
                </a:lnTo>
                <a:lnTo>
                  <a:pt x="21361" y="4629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4629" y="16971"/>
                </a:lnTo>
                <a:lnTo>
                  <a:pt x="21361" y="16971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4629" y="4629"/>
                </a:lnTo>
                <a:lnTo>
                  <a:pt x="4629" y="1697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1547640" y="5589720"/>
            <a:ext cx="648000" cy="538200"/>
          </a:xfrm>
          <a:custGeom>
            <a:avLst/>
            <a:gdLst>
              <a:gd name="textAreaLeft" fmla="*/ 115200 w 648000"/>
              <a:gd name="textAreaRight" fmla="*/ 532800 w 648000"/>
              <a:gd name="textAreaTop" fmla="*/ 115200 h 538200"/>
              <a:gd name="textAreaBottom" fmla="*/ 42300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1375" y="4629"/>
                </a:lnTo>
                <a:lnTo>
                  <a:pt x="4629" y="4629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1375" y="16971"/>
                </a:lnTo>
                <a:lnTo>
                  <a:pt x="21375" y="4629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4629" y="16971"/>
                </a:lnTo>
                <a:lnTo>
                  <a:pt x="21375" y="16971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4629" y="4629"/>
                </a:lnTo>
                <a:lnTo>
                  <a:pt x="4629" y="1697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411280" y="5589720"/>
            <a:ext cx="648000" cy="538200"/>
          </a:xfrm>
          <a:custGeom>
            <a:avLst/>
            <a:gdLst>
              <a:gd name="textAreaLeft" fmla="*/ 115200 w 648000"/>
              <a:gd name="textAreaRight" fmla="*/ 532800 w 648000"/>
              <a:gd name="textAreaTop" fmla="*/ 115200 h 538200"/>
              <a:gd name="textAreaBottom" fmla="*/ 42300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1375" y="4629"/>
                </a:lnTo>
                <a:lnTo>
                  <a:pt x="4629" y="4629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1375" y="16971"/>
                </a:lnTo>
                <a:lnTo>
                  <a:pt x="21375" y="4629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4629" y="16971"/>
                </a:lnTo>
                <a:lnTo>
                  <a:pt x="21375" y="16971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4629" y="4629"/>
                </a:lnTo>
                <a:lnTo>
                  <a:pt x="4629" y="1697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3276720" y="5589720"/>
            <a:ext cx="647640" cy="538200"/>
          </a:xfrm>
          <a:custGeom>
            <a:avLst/>
            <a:gdLst>
              <a:gd name="textAreaLeft" fmla="*/ 115200 w 647640"/>
              <a:gd name="textAreaRight" fmla="*/ 532440 w 647640"/>
              <a:gd name="textAreaTop" fmla="*/ 115200 h 538200"/>
              <a:gd name="textAreaBottom" fmla="*/ 42300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1361" y="4629"/>
                </a:lnTo>
                <a:lnTo>
                  <a:pt x="4629" y="4629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1361" y="16971"/>
                </a:lnTo>
                <a:lnTo>
                  <a:pt x="21361" y="4629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4629" y="16971"/>
                </a:lnTo>
                <a:lnTo>
                  <a:pt x="21361" y="16971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4629" y="4629"/>
                </a:lnTo>
                <a:lnTo>
                  <a:pt x="4629" y="1697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4140360" y="5589720"/>
            <a:ext cx="647640" cy="538200"/>
          </a:xfrm>
          <a:custGeom>
            <a:avLst/>
            <a:gdLst>
              <a:gd name="textAreaLeft" fmla="*/ 115200 w 647640"/>
              <a:gd name="textAreaRight" fmla="*/ 532440 w 647640"/>
              <a:gd name="textAreaTop" fmla="*/ 115200 h 538200"/>
              <a:gd name="textAreaBottom" fmla="*/ 42300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1361" y="4629"/>
                </a:lnTo>
                <a:lnTo>
                  <a:pt x="4629" y="4629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1361" y="16971"/>
                </a:lnTo>
                <a:lnTo>
                  <a:pt x="21361" y="4629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4629" y="16971"/>
                </a:lnTo>
                <a:lnTo>
                  <a:pt x="21361" y="16971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4629" y="4629"/>
                </a:lnTo>
                <a:lnTo>
                  <a:pt x="4629" y="1697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4572000" y="3716280"/>
            <a:ext cx="4321080" cy="574560"/>
          </a:xfrm>
          <a:prstGeom prst="rect">
            <a:avLst/>
          </a:prstGeom>
          <a:noFill/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33"/>
                </a:solidFill>
                <a:latin typeface="Arial"/>
              </a:rPr>
              <a:t>Правильный 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 rot="10800000">
            <a:off x="5148000" y="4797000"/>
            <a:ext cx="3816360" cy="1295640"/>
          </a:xfrm>
          <a:prstGeom prst="wedgeRectCallout">
            <a:avLst>
              <a:gd name="adj1" fmla="val 2037"/>
              <a:gd name="adj2" fmla="val 85416"/>
            </a:avLst>
          </a:prstGeom>
          <a:noFill/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р.Шилка и р.Аргун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250920" y="189000"/>
            <a:ext cx="1657080" cy="21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58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географ</a:t>
            </a:r>
            <a:endParaRPr b="0" i="1" lang="en-US" sz="1800" spc="1" strike="noStrike">
              <a:ln w="158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49" name=""/>
          <p:cNvSpPr/>
          <p:nvPr/>
        </p:nvSpPr>
        <p:spPr>
          <a:xfrm>
            <a:off x="0" y="6297480"/>
            <a:ext cx="9144000" cy="56052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468360" y="6453360"/>
            <a:ext cx="4174920" cy="23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58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гра "географ"</a:t>
            </a:r>
            <a:endParaRPr b="0" i="1" lang="en-US" sz="1800" spc="1" strike="noStrike">
              <a:ln w="158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51" name="">
            <a:hlinkClick r:id="rId6" action="ppaction://hlinksldjump"/>
          </p:cNvPr>
          <p:cNvSpPr/>
          <p:nvPr/>
        </p:nvSpPr>
        <p:spPr>
          <a:xfrm>
            <a:off x="5940360" y="6453360"/>
            <a:ext cx="1420920" cy="288720"/>
          </a:xfrm>
          <a:prstGeom prst="rect">
            <a:avLst/>
          </a:prstGeom>
          <a:gradFill rotWithShape="0">
            <a:gsLst>
              <a:gs pos="0">
                <a:srgbClr val="3c3e5a"/>
              </a:gs>
              <a:gs pos="50000">
                <a:srgbClr val="8488c4">
                  <a:alpha val="63137"/>
                </a:srgbClr>
              </a:gs>
              <a:gs pos="100000">
                <a:srgbClr val="3c3e5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равила игр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451640" y="6453360"/>
            <a:ext cx="1565280" cy="288720"/>
          </a:xfrm>
          <a:prstGeom prst="rect">
            <a:avLst/>
          </a:prstGeom>
          <a:gradFill rotWithShape="0">
            <a:gsLst>
              <a:gs pos="0">
                <a:srgbClr val="3c3e5a"/>
              </a:gs>
              <a:gs pos="50000">
                <a:srgbClr val="8488c4">
                  <a:alpha val="63137"/>
                </a:srgbClr>
              </a:gs>
              <a:gs pos="100000">
                <a:srgbClr val="3c3e5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Продолжить игр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3" name="" descr=""/>
          <p:cNvPicPr/>
          <p:nvPr/>
        </p:nvPicPr>
        <p:blipFill>
          <a:blip r:embed="rId7"/>
          <a:stretch/>
        </p:blipFill>
        <p:spPr>
          <a:xfrm>
            <a:off x="900000" y="3716280"/>
            <a:ext cx="1871640" cy="14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0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8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9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0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1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2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3" fill="hold">
                            <p:stCondLst>
                              <p:cond delay="500"/>
                            </p:stCondLst>
                            <p:childTnLst>
                              <p:par>
                                <p:cTn id="1124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26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30" dur="500"/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3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34" dur="500"/>
                                        <p:tgtEl>
                                          <p:spTgt spid="4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36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8" dur="1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9" fill="hold">
                            <p:stCondLst>
                              <p:cond delay="5500"/>
                            </p:stCondLst>
                            <p:childTnLst>
                              <p:par>
                                <p:cTn id="1140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2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3" fill="hold">
                            <p:stCondLst>
                              <p:cond delay="7500"/>
                            </p:stCondLst>
                            <p:childTnLst>
                              <p:par>
                                <p:cTn id="1144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6" dur="1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7" fill="hold">
                            <p:stCondLst>
                              <p:cond delay="9500"/>
                            </p:stCondLst>
                            <p:childTnLst>
                              <p:par>
                                <p:cTn id="1148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0" dur="1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1" fill="hold">
                            <p:stCondLst>
                              <p:cond delay="11500"/>
                            </p:stCondLst>
                            <p:childTnLst>
                              <p:par>
                                <p:cTn id="1152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4" dur="1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9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1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3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583236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ВНИМАНИЕ !  ВОПРО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1332000" y="1628280"/>
            <a:ext cx="6780240" cy="1729080"/>
          </a:xfrm>
          <a:prstGeom prst="rect">
            <a:avLst/>
          </a:prstGeom>
          <a:solidFill>
            <a:srgbClr val="00cc00">
              <a:alpha val="26000"/>
            </a:srgbClr>
          </a:solidFill>
          <a:ln w="57240">
            <a:solidFill>
              <a:srgbClr val="008000"/>
            </a:solidFill>
            <a:miter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Arial"/>
              </a:rPr>
              <a:t>Правым притоком р.Лена является …(река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6" name="" descr=""/>
          <p:cNvPicPr/>
          <p:nvPr/>
        </p:nvPicPr>
        <p:blipFill>
          <a:blip r:embed="rId2"/>
          <a:stretch/>
        </p:blipFill>
        <p:spPr>
          <a:xfrm>
            <a:off x="395280" y="404640"/>
            <a:ext cx="1368360" cy="1368720"/>
          </a:xfrm>
          <a:prstGeom prst="rect">
            <a:avLst/>
          </a:prstGeom>
          <a:ln w="0">
            <a:noFill/>
          </a:ln>
        </p:spPr>
      </p:pic>
      <p:sp>
        <p:nvSpPr>
          <p:cNvPr id="457" name="">
            <a:hlinkClick r:id="rId3" action="ppaction://hlinksldjump"/>
          </p:cNvPr>
          <p:cNvSpPr/>
          <p:nvPr/>
        </p:nvSpPr>
        <p:spPr>
          <a:xfrm>
            <a:off x="539640" y="549360"/>
            <a:ext cx="1042920" cy="1042920"/>
          </a:xfrm>
          <a:custGeom>
            <a:avLst/>
            <a:gdLst>
              <a:gd name="textAreaLeft" fmla="*/ 96480 w 1042920"/>
              <a:gd name="textAreaRight" fmla="*/ 946440 w 1042920"/>
              <a:gd name="textAreaTop" fmla="*/ 96480 h 1042920"/>
              <a:gd name="textAreaBottom" fmla="*/ 94644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9595" y="2005"/>
                </a:lnTo>
                <a:lnTo>
                  <a:pt x="2005" y="2005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9595" y="19595"/>
                </a:lnTo>
                <a:lnTo>
                  <a:pt x="19595" y="2005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2005" y="19595"/>
                </a:lnTo>
                <a:lnTo>
                  <a:pt x="19595" y="19595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2005" y="2005"/>
                </a:lnTo>
                <a:lnTo>
                  <a:pt x="2005" y="19595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900000" y="765000"/>
            <a:ext cx="2872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Book Antiqua"/>
              </a:rPr>
              <a:t>6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459" name=""/>
          <p:cNvSpPr/>
          <p:nvPr/>
        </p:nvSpPr>
        <p:spPr>
          <a:xfrm>
            <a:off x="684360" y="5589720"/>
            <a:ext cx="647640" cy="538200"/>
          </a:xfrm>
          <a:custGeom>
            <a:avLst/>
            <a:gdLst>
              <a:gd name="textAreaLeft" fmla="*/ 115200 w 647640"/>
              <a:gd name="textAreaRight" fmla="*/ 532440 w 647640"/>
              <a:gd name="textAreaTop" fmla="*/ 115200 h 538200"/>
              <a:gd name="textAreaBottom" fmla="*/ 42300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1361" y="4629"/>
                </a:lnTo>
                <a:lnTo>
                  <a:pt x="4629" y="4629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1361" y="16971"/>
                </a:lnTo>
                <a:lnTo>
                  <a:pt x="21361" y="4629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4629" y="16971"/>
                </a:lnTo>
                <a:lnTo>
                  <a:pt x="21361" y="16971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4629" y="4629"/>
                </a:lnTo>
                <a:lnTo>
                  <a:pt x="4629" y="1697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1547640" y="5589720"/>
            <a:ext cx="648000" cy="538200"/>
          </a:xfrm>
          <a:custGeom>
            <a:avLst/>
            <a:gdLst>
              <a:gd name="textAreaLeft" fmla="*/ 115200 w 648000"/>
              <a:gd name="textAreaRight" fmla="*/ 532800 w 648000"/>
              <a:gd name="textAreaTop" fmla="*/ 115200 h 538200"/>
              <a:gd name="textAreaBottom" fmla="*/ 42300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1375" y="4629"/>
                </a:lnTo>
                <a:lnTo>
                  <a:pt x="4629" y="4629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1375" y="16971"/>
                </a:lnTo>
                <a:lnTo>
                  <a:pt x="21375" y="4629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4629" y="16971"/>
                </a:lnTo>
                <a:lnTo>
                  <a:pt x="21375" y="16971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4629" y="4629"/>
                </a:lnTo>
                <a:lnTo>
                  <a:pt x="4629" y="1697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411280" y="5589720"/>
            <a:ext cx="648000" cy="538200"/>
          </a:xfrm>
          <a:custGeom>
            <a:avLst/>
            <a:gdLst>
              <a:gd name="textAreaLeft" fmla="*/ 115200 w 648000"/>
              <a:gd name="textAreaRight" fmla="*/ 532800 w 648000"/>
              <a:gd name="textAreaTop" fmla="*/ 115200 h 538200"/>
              <a:gd name="textAreaBottom" fmla="*/ 42300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1375" y="4629"/>
                </a:lnTo>
                <a:lnTo>
                  <a:pt x="4629" y="4629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1375" y="16971"/>
                </a:lnTo>
                <a:lnTo>
                  <a:pt x="21375" y="4629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4629" y="16971"/>
                </a:lnTo>
                <a:lnTo>
                  <a:pt x="21375" y="16971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4629" y="4629"/>
                </a:lnTo>
                <a:lnTo>
                  <a:pt x="4629" y="1697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276720" y="5589720"/>
            <a:ext cx="647640" cy="538200"/>
          </a:xfrm>
          <a:custGeom>
            <a:avLst/>
            <a:gdLst>
              <a:gd name="textAreaLeft" fmla="*/ 115200 w 647640"/>
              <a:gd name="textAreaRight" fmla="*/ 532440 w 647640"/>
              <a:gd name="textAreaTop" fmla="*/ 115200 h 538200"/>
              <a:gd name="textAreaBottom" fmla="*/ 42300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1361" y="4629"/>
                </a:lnTo>
                <a:lnTo>
                  <a:pt x="4629" y="4629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1361" y="16971"/>
                </a:lnTo>
                <a:lnTo>
                  <a:pt x="21361" y="4629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4629" y="16971"/>
                </a:lnTo>
                <a:lnTo>
                  <a:pt x="21361" y="16971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4629" y="4629"/>
                </a:lnTo>
                <a:lnTo>
                  <a:pt x="4629" y="1697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4140360" y="5589720"/>
            <a:ext cx="647640" cy="538200"/>
          </a:xfrm>
          <a:custGeom>
            <a:avLst/>
            <a:gdLst>
              <a:gd name="textAreaLeft" fmla="*/ 115200 w 647640"/>
              <a:gd name="textAreaRight" fmla="*/ 532440 w 647640"/>
              <a:gd name="textAreaTop" fmla="*/ 115200 h 538200"/>
              <a:gd name="textAreaBottom" fmla="*/ 42300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1361" y="4629"/>
                </a:lnTo>
                <a:lnTo>
                  <a:pt x="4629" y="4629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1361" y="16971"/>
                </a:lnTo>
                <a:lnTo>
                  <a:pt x="21361" y="4629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4629" y="16971"/>
                </a:lnTo>
                <a:lnTo>
                  <a:pt x="21361" y="16971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4629" y="4629"/>
                </a:lnTo>
                <a:lnTo>
                  <a:pt x="4629" y="1697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4572000" y="3716280"/>
            <a:ext cx="4321080" cy="574560"/>
          </a:xfrm>
          <a:prstGeom prst="rect">
            <a:avLst/>
          </a:prstGeom>
          <a:noFill/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33"/>
                </a:solidFill>
                <a:latin typeface="Arial"/>
              </a:rPr>
              <a:t>Правильный 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 rot="10800000">
            <a:off x="5003640" y="4797360"/>
            <a:ext cx="3889440" cy="1152720"/>
          </a:xfrm>
          <a:prstGeom prst="wedgeRectCallout">
            <a:avLst>
              <a:gd name="adj1" fmla="val -861"/>
              <a:gd name="adj2" fmla="val 89805"/>
            </a:avLst>
          </a:prstGeom>
          <a:noFill/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Алда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250920" y="189000"/>
            <a:ext cx="1657080" cy="21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58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географ</a:t>
            </a:r>
            <a:endParaRPr b="0" i="1" lang="en-US" sz="1800" spc="1" strike="noStrike">
              <a:ln w="158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67" name=""/>
          <p:cNvSpPr/>
          <p:nvPr/>
        </p:nvSpPr>
        <p:spPr>
          <a:xfrm>
            <a:off x="0" y="6297480"/>
            <a:ext cx="9144000" cy="56052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 txBox="1"/>
          <p:nvPr/>
        </p:nvSpPr>
        <p:spPr>
          <a:xfrm>
            <a:off x="468360" y="6453360"/>
            <a:ext cx="4174920" cy="23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58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гра "географ"</a:t>
            </a:r>
            <a:endParaRPr b="0" i="1" lang="en-US" sz="1800" spc="1" strike="noStrike">
              <a:ln w="158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69" name="">
            <a:hlinkClick r:id="rId6" action="ppaction://hlinksldjump"/>
          </p:cNvPr>
          <p:cNvSpPr/>
          <p:nvPr/>
        </p:nvSpPr>
        <p:spPr>
          <a:xfrm>
            <a:off x="5940360" y="6453360"/>
            <a:ext cx="1420920" cy="288720"/>
          </a:xfrm>
          <a:prstGeom prst="rect">
            <a:avLst/>
          </a:prstGeom>
          <a:gradFill rotWithShape="0">
            <a:gsLst>
              <a:gs pos="0">
                <a:srgbClr val="3c3e5a"/>
              </a:gs>
              <a:gs pos="50000">
                <a:srgbClr val="8488c4">
                  <a:alpha val="63137"/>
                </a:srgbClr>
              </a:gs>
              <a:gs pos="100000">
                <a:srgbClr val="3c3e5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равила игр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451640" y="6453360"/>
            <a:ext cx="1565280" cy="288720"/>
          </a:xfrm>
          <a:prstGeom prst="rect">
            <a:avLst/>
          </a:prstGeom>
          <a:gradFill rotWithShape="0">
            <a:gsLst>
              <a:gs pos="0">
                <a:srgbClr val="3c3e5a"/>
              </a:gs>
              <a:gs pos="50000">
                <a:srgbClr val="8488c4">
                  <a:alpha val="63137"/>
                </a:srgbClr>
              </a:gs>
              <a:gs pos="100000">
                <a:srgbClr val="3c3e5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Продолжить игр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1" name="" descr=""/>
          <p:cNvPicPr/>
          <p:nvPr/>
        </p:nvPicPr>
        <p:blipFill>
          <a:blip r:embed="rId7"/>
          <a:stretch/>
        </p:blipFill>
        <p:spPr>
          <a:xfrm>
            <a:off x="1476360" y="4005360"/>
            <a:ext cx="1095480" cy="97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4" dur="indefinite" restart="never" nodeType="tmRoot">
          <p:childTnLst>
            <p:seq>
              <p:cTn id="1165" dur="indefinite" nodeType="mainSeq">
                <p:childTnLst>
                  <p:par>
                    <p:cTn id="1166" fill="hold">
                      <p:stCondLst>
                        <p:cond delay="0"/>
                      </p:stCondLst>
                      <p:childTnLst>
                        <p:par>
                          <p:cTn id="1167" fill="hold">
                            <p:stCondLst>
                              <p:cond delay="0"/>
                            </p:stCondLst>
                            <p:childTnLst>
                              <p:par>
                                <p:cTn id="116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0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2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3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4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500"/>
                            </p:stCondLst>
                            <p:childTnLst>
                              <p:par>
                                <p:cTn id="117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78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82" dur="500"/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3" fill="hold">
                            <p:stCondLst>
                              <p:cond delay="1500"/>
                            </p:stCondLst>
                            <p:childTnLst>
                              <p:par>
                                <p:cTn id="1184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6" dur="1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7" fill="hold">
                            <p:stCondLst>
                              <p:cond delay="5000"/>
                            </p:stCondLst>
                            <p:childTnLst>
                              <p:par>
                                <p:cTn id="1188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0" dur="1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1" fill="hold">
                            <p:stCondLst>
                              <p:cond delay="7000"/>
                            </p:stCondLst>
                            <p:childTnLst>
                              <p:par>
                                <p:cTn id="1192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4" dur="1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9000"/>
                            </p:stCondLst>
                            <p:childTnLst>
                              <p:par>
                                <p:cTn id="1196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8" dur="1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9" fill="hold">
                            <p:stCondLst>
                              <p:cond delay="11000"/>
                            </p:stCondLst>
                            <p:childTnLst>
                              <p:par>
                                <p:cTn id="1200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2" dur="1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3" fill="hold">
                      <p:stCondLst>
                        <p:cond delay="indefinite"/>
                      </p:stCondLst>
                      <p:childTnLst>
                        <p:par>
                          <p:cTn id="1204" fill="hold">
                            <p:stCondLst>
                              <p:cond delay="0"/>
                            </p:stCondLst>
                            <p:childTnLst>
                              <p:par>
                                <p:cTn id="12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7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8" fill="hold">
                            <p:stCondLst>
                              <p:cond delay="500"/>
                            </p:stCondLst>
                            <p:childTnLst>
                              <p:par>
                                <p:cTn id="120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1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583236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ВНИМАНИЕ !  ВОПРО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1332000" y="1989000"/>
            <a:ext cx="7488000" cy="1368720"/>
          </a:xfrm>
          <a:prstGeom prst="rect">
            <a:avLst/>
          </a:prstGeom>
          <a:solidFill>
            <a:srgbClr val="00cc00">
              <a:alpha val="26000"/>
            </a:srgbClr>
          </a:solidFill>
          <a:ln w="57240">
            <a:solidFill>
              <a:srgbClr val="008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Река Ангара является …. (правым или левым) притоком р.Енис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4" name="" descr=""/>
          <p:cNvPicPr/>
          <p:nvPr/>
        </p:nvPicPr>
        <p:blipFill>
          <a:blip r:embed="rId2"/>
          <a:stretch/>
        </p:blipFill>
        <p:spPr>
          <a:xfrm>
            <a:off x="395280" y="404640"/>
            <a:ext cx="1368360" cy="1368720"/>
          </a:xfrm>
          <a:prstGeom prst="rect">
            <a:avLst/>
          </a:prstGeom>
          <a:ln w="0">
            <a:noFill/>
          </a:ln>
        </p:spPr>
      </p:pic>
      <p:sp>
        <p:nvSpPr>
          <p:cNvPr id="475" name="">
            <a:hlinkClick r:id="rId3" action="ppaction://hlinksldjump"/>
          </p:cNvPr>
          <p:cNvSpPr/>
          <p:nvPr/>
        </p:nvSpPr>
        <p:spPr>
          <a:xfrm>
            <a:off x="539640" y="549360"/>
            <a:ext cx="1042920" cy="1042920"/>
          </a:xfrm>
          <a:custGeom>
            <a:avLst/>
            <a:gdLst>
              <a:gd name="textAreaLeft" fmla="*/ 96480 w 1042920"/>
              <a:gd name="textAreaRight" fmla="*/ 946440 w 1042920"/>
              <a:gd name="textAreaTop" fmla="*/ 96480 h 1042920"/>
              <a:gd name="textAreaBottom" fmla="*/ 94644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9595" y="2005"/>
                </a:lnTo>
                <a:lnTo>
                  <a:pt x="2005" y="2005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9595" y="19595"/>
                </a:lnTo>
                <a:lnTo>
                  <a:pt x="19595" y="2005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2005" y="19595"/>
                </a:lnTo>
                <a:lnTo>
                  <a:pt x="19595" y="19595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2005" y="2005"/>
                </a:lnTo>
                <a:lnTo>
                  <a:pt x="2005" y="19595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 txBox="1"/>
          <p:nvPr/>
        </p:nvSpPr>
        <p:spPr>
          <a:xfrm>
            <a:off x="755640" y="76500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Book Antiqua"/>
              </a:rPr>
              <a:t>10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477" name=""/>
          <p:cNvSpPr/>
          <p:nvPr/>
        </p:nvSpPr>
        <p:spPr>
          <a:xfrm>
            <a:off x="684360" y="5589720"/>
            <a:ext cx="647640" cy="538200"/>
          </a:xfrm>
          <a:custGeom>
            <a:avLst/>
            <a:gdLst>
              <a:gd name="textAreaLeft" fmla="*/ 115200 w 647640"/>
              <a:gd name="textAreaRight" fmla="*/ 532440 w 647640"/>
              <a:gd name="textAreaTop" fmla="*/ 115200 h 538200"/>
              <a:gd name="textAreaBottom" fmla="*/ 42300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1361" y="4629"/>
                </a:lnTo>
                <a:lnTo>
                  <a:pt x="4629" y="4629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1361" y="16971"/>
                </a:lnTo>
                <a:lnTo>
                  <a:pt x="21361" y="4629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4629" y="16971"/>
                </a:lnTo>
                <a:lnTo>
                  <a:pt x="21361" y="16971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4629" y="4629"/>
                </a:lnTo>
                <a:lnTo>
                  <a:pt x="4629" y="1697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1547640" y="5589720"/>
            <a:ext cx="648000" cy="538200"/>
          </a:xfrm>
          <a:custGeom>
            <a:avLst/>
            <a:gdLst>
              <a:gd name="textAreaLeft" fmla="*/ 115200 w 648000"/>
              <a:gd name="textAreaRight" fmla="*/ 532800 w 648000"/>
              <a:gd name="textAreaTop" fmla="*/ 115200 h 538200"/>
              <a:gd name="textAreaBottom" fmla="*/ 42300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1375" y="4629"/>
                </a:lnTo>
                <a:lnTo>
                  <a:pt x="4629" y="4629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1375" y="16971"/>
                </a:lnTo>
                <a:lnTo>
                  <a:pt x="21375" y="4629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4629" y="16971"/>
                </a:lnTo>
                <a:lnTo>
                  <a:pt x="21375" y="16971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4629" y="4629"/>
                </a:lnTo>
                <a:lnTo>
                  <a:pt x="4629" y="1697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411280" y="5589720"/>
            <a:ext cx="648000" cy="538200"/>
          </a:xfrm>
          <a:custGeom>
            <a:avLst/>
            <a:gdLst>
              <a:gd name="textAreaLeft" fmla="*/ 115200 w 648000"/>
              <a:gd name="textAreaRight" fmla="*/ 532800 w 648000"/>
              <a:gd name="textAreaTop" fmla="*/ 115200 h 538200"/>
              <a:gd name="textAreaBottom" fmla="*/ 42300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1375" y="4629"/>
                </a:lnTo>
                <a:lnTo>
                  <a:pt x="4629" y="4629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1375" y="16971"/>
                </a:lnTo>
                <a:lnTo>
                  <a:pt x="21375" y="4629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4629" y="16971"/>
                </a:lnTo>
                <a:lnTo>
                  <a:pt x="21375" y="16971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4629" y="4629"/>
                </a:lnTo>
                <a:lnTo>
                  <a:pt x="4629" y="1697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3276720" y="5589720"/>
            <a:ext cx="647640" cy="538200"/>
          </a:xfrm>
          <a:custGeom>
            <a:avLst/>
            <a:gdLst>
              <a:gd name="textAreaLeft" fmla="*/ 115200 w 647640"/>
              <a:gd name="textAreaRight" fmla="*/ 532440 w 647640"/>
              <a:gd name="textAreaTop" fmla="*/ 115200 h 538200"/>
              <a:gd name="textAreaBottom" fmla="*/ 42300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1361" y="4629"/>
                </a:lnTo>
                <a:lnTo>
                  <a:pt x="4629" y="4629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1361" y="16971"/>
                </a:lnTo>
                <a:lnTo>
                  <a:pt x="21361" y="4629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4629" y="16971"/>
                </a:lnTo>
                <a:lnTo>
                  <a:pt x="21361" y="16971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4629" y="4629"/>
                </a:lnTo>
                <a:lnTo>
                  <a:pt x="4629" y="1697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140360" y="5589720"/>
            <a:ext cx="647640" cy="538200"/>
          </a:xfrm>
          <a:custGeom>
            <a:avLst/>
            <a:gdLst>
              <a:gd name="textAreaLeft" fmla="*/ 115200 w 647640"/>
              <a:gd name="textAreaRight" fmla="*/ 532440 w 647640"/>
              <a:gd name="textAreaTop" fmla="*/ 115200 h 538200"/>
              <a:gd name="textAreaBottom" fmla="*/ 42300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1361" y="4629"/>
                </a:lnTo>
                <a:lnTo>
                  <a:pt x="4629" y="4629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1361" y="16971"/>
                </a:lnTo>
                <a:lnTo>
                  <a:pt x="21361" y="4629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4629" y="16971"/>
                </a:lnTo>
                <a:lnTo>
                  <a:pt x="21361" y="16971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4629" y="4629"/>
                </a:lnTo>
                <a:lnTo>
                  <a:pt x="4629" y="1697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4572000" y="3716280"/>
            <a:ext cx="4321080" cy="574560"/>
          </a:xfrm>
          <a:prstGeom prst="rect">
            <a:avLst/>
          </a:prstGeom>
          <a:noFill/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33"/>
                </a:solidFill>
                <a:latin typeface="Arial"/>
              </a:rPr>
              <a:t>Правильный 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rot="10800000">
            <a:off x="5148360" y="4797000"/>
            <a:ext cx="3311280" cy="1295640"/>
          </a:xfrm>
          <a:prstGeom prst="wedgeRectCallout">
            <a:avLst>
              <a:gd name="adj1" fmla="val -5277"/>
              <a:gd name="adj2" fmla="val 85416"/>
            </a:avLst>
          </a:prstGeom>
          <a:noFill/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Правы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250920" y="189000"/>
            <a:ext cx="1657080" cy="21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58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географ</a:t>
            </a:r>
            <a:endParaRPr b="0" i="1" lang="en-US" sz="1800" spc="1" strike="noStrike">
              <a:ln w="158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85" name=""/>
          <p:cNvSpPr/>
          <p:nvPr/>
        </p:nvSpPr>
        <p:spPr>
          <a:xfrm>
            <a:off x="0" y="6297480"/>
            <a:ext cx="9144000" cy="56052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 txBox="1"/>
          <p:nvPr/>
        </p:nvSpPr>
        <p:spPr>
          <a:xfrm>
            <a:off x="468360" y="6453360"/>
            <a:ext cx="4174920" cy="23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58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гра "географ"</a:t>
            </a:r>
            <a:endParaRPr b="0" i="1" lang="en-US" sz="1800" spc="1" strike="noStrike">
              <a:ln w="158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87" name="">
            <a:hlinkClick r:id="rId6" action="ppaction://hlinksldjump"/>
          </p:cNvPr>
          <p:cNvSpPr/>
          <p:nvPr/>
        </p:nvSpPr>
        <p:spPr>
          <a:xfrm>
            <a:off x="5940360" y="6453360"/>
            <a:ext cx="1420920" cy="288720"/>
          </a:xfrm>
          <a:prstGeom prst="rect">
            <a:avLst/>
          </a:prstGeom>
          <a:gradFill rotWithShape="0">
            <a:gsLst>
              <a:gs pos="0">
                <a:srgbClr val="3c3e5a"/>
              </a:gs>
              <a:gs pos="50000">
                <a:srgbClr val="8488c4">
                  <a:alpha val="63137"/>
                </a:srgbClr>
              </a:gs>
              <a:gs pos="100000">
                <a:srgbClr val="3c3e5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равила игр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451640" y="6453360"/>
            <a:ext cx="1565280" cy="288720"/>
          </a:xfrm>
          <a:prstGeom prst="rect">
            <a:avLst/>
          </a:prstGeom>
          <a:gradFill rotWithShape="0">
            <a:gsLst>
              <a:gs pos="0">
                <a:srgbClr val="3c3e5a"/>
              </a:gs>
              <a:gs pos="50000">
                <a:srgbClr val="8488c4">
                  <a:alpha val="63137"/>
                </a:srgbClr>
              </a:gs>
              <a:gs pos="100000">
                <a:srgbClr val="3c3e5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Продолжить игр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9" name="" descr=""/>
          <p:cNvPicPr/>
          <p:nvPr/>
        </p:nvPicPr>
        <p:blipFill>
          <a:blip r:embed="rId7"/>
          <a:stretch/>
        </p:blipFill>
        <p:spPr>
          <a:xfrm>
            <a:off x="1332000" y="3645000"/>
            <a:ext cx="1584360" cy="141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2" dur="indefinite" restart="never" nodeType="tmRoot">
          <p:childTnLst>
            <p:seq>
              <p:cTn id="1213" dur="indefinite" nodeType="mainSeq">
                <p:childTnLst>
                  <p:par>
                    <p:cTn id="1214" fill="hold">
                      <p:stCondLst>
                        <p:cond delay="0"/>
                      </p:stCondLst>
                      <p:childTnLst>
                        <p:par>
                          <p:cTn id="1215" fill="hold">
                            <p:stCondLst>
                              <p:cond delay="0"/>
                            </p:stCondLst>
                            <p:childTnLst>
                              <p:par>
                                <p:cTn id="121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8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9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22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3" fill="hold">
                            <p:stCondLst>
                              <p:cond delay="500"/>
                            </p:stCondLst>
                            <p:childTnLst>
                              <p:par>
                                <p:cTn id="1224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26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7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30" dur="500"/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1" fill="hold">
                            <p:stCondLst>
                              <p:cond delay="1500"/>
                            </p:stCondLst>
                            <p:childTnLst>
                              <p:par>
                                <p:cTn id="1232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4" dur="10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5" fill="hold">
                            <p:stCondLst>
                              <p:cond delay="5000"/>
                            </p:stCondLst>
                            <p:childTnLst>
                              <p:par>
                                <p:cTn id="1236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8" dur="10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9" fill="hold">
                            <p:stCondLst>
                              <p:cond delay="7000"/>
                            </p:stCondLst>
                            <p:childTnLst>
                              <p:par>
                                <p:cTn id="1240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2" dur="10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3" fill="hold">
                            <p:stCondLst>
                              <p:cond delay="9000"/>
                            </p:stCondLst>
                            <p:childTnLst>
                              <p:par>
                                <p:cTn id="1244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6" dur="10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7" fill="hold">
                            <p:stCondLst>
                              <p:cond delay="11000"/>
                            </p:stCondLst>
                            <p:childTnLst>
                              <p:par>
                                <p:cTn id="1248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0" dur="10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1" fill="hold">
                      <p:stCondLst>
                        <p:cond delay="indefinite"/>
                      </p:stCondLst>
                      <p:childTnLst>
                        <p:par>
                          <p:cTn id="1252" fill="hold">
                            <p:stCondLst>
                              <p:cond delay="0"/>
                            </p:stCondLst>
                            <p:childTnLst>
                              <p:par>
                                <p:cTn id="12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5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6" fill="hold">
                            <p:stCondLst>
                              <p:cond delay="500"/>
                            </p:stCondLst>
                            <p:childTnLst>
                              <p:par>
                                <p:cTn id="1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9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583236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ВНИМАНИЕ !  ВОПРО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1258560" y="1989000"/>
            <a:ext cx="7488360" cy="1368720"/>
          </a:xfrm>
          <a:prstGeom prst="rect">
            <a:avLst/>
          </a:prstGeom>
          <a:solidFill>
            <a:srgbClr val="00cc00">
              <a:alpha val="26000"/>
            </a:srgbClr>
          </a:solidFill>
          <a:ln w="57240">
            <a:solidFill>
              <a:srgbClr val="008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Главной причиной возникновения течений в океанах является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2" name="" descr=""/>
          <p:cNvPicPr/>
          <p:nvPr/>
        </p:nvPicPr>
        <p:blipFill>
          <a:blip r:embed="rId2"/>
          <a:stretch/>
        </p:blipFill>
        <p:spPr>
          <a:xfrm>
            <a:off x="395280" y="404640"/>
            <a:ext cx="1368360" cy="1368720"/>
          </a:xfrm>
          <a:prstGeom prst="rect">
            <a:avLst/>
          </a:prstGeom>
          <a:ln w="0">
            <a:noFill/>
          </a:ln>
        </p:spPr>
      </p:pic>
      <p:sp>
        <p:nvSpPr>
          <p:cNvPr id="493" name="">
            <a:hlinkClick r:id="rId3" action="ppaction://hlinksldjump"/>
          </p:cNvPr>
          <p:cNvSpPr/>
          <p:nvPr/>
        </p:nvSpPr>
        <p:spPr>
          <a:xfrm>
            <a:off x="539640" y="549360"/>
            <a:ext cx="1042920" cy="1042920"/>
          </a:xfrm>
          <a:custGeom>
            <a:avLst/>
            <a:gdLst>
              <a:gd name="textAreaLeft" fmla="*/ 96480 w 1042920"/>
              <a:gd name="textAreaRight" fmla="*/ 946440 w 1042920"/>
              <a:gd name="textAreaTop" fmla="*/ 96480 h 1042920"/>
              <a:gd name="textAreaBottom" fmla="*/ 94644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9595" y="2005"/>
                </a:lnTo>
                <a:lnTo>
                  <a:pt x="2005" y="2005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9595" y="19595"/>
                </a:lnTo>
                <a:lnTo>
                  <a:pt x="19595" y="2005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2005" y="19595"/>
                </a:lnTo>
                <a:lnTo>
                  <a:pt x="19595" y="19595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2005" y="2005"/>
                </a:lnTo>
                <a:lnTo>
                  <a:pt x="2005" y="19595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755640" y="76500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Book Antiqua"/>
              </a:rPr>
              <a:t>18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495" name=""/>
          <p:cNvSpPr/>
          <p:nvPr/>
        </p:nvSpPr>
        <p:spPr>
          <a:xfrm>
            <a:off x="684360" y="5589720"/>
            <a:ext cx="647640" cy="538200"/>
          </a:xfrm>
          <a:custGeom>
            <a:avLst/>
            <a:gdLst>
              <a:gd name="textAreaLeft" fmla="*/ 115200 w 647640"/>
              <a:gd name="textAreaRight" fmla="*/ 532440 w 647640"/>
              <a:gd name="textAreaTop" fmla="*/ 115200 h 538200"/>
              <a:gd name="textAreaBottom" fmla="*/ 42300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1361" y="4629"/>
                </a:lnTo>
                <a:lnTo>
                  <a:pt x="4629" y="4629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1361" y="16971"/>
                </a:lnTo>
                <a:lnTo>
                  <a:pt x="21361" y="4629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4629" y="16971"/>
                </a:lnTo>
                <a:lnTo>
                  <a:pt x="21361" y="16971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4629" y="4629"/>
                </a:lnTo>
                <a:lnTo>
                  <a:pt x="4629" y="1697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1547640" y="5589720"/>
            <a:ext cx="648000" cy="538200"/>
          </a:xfrm>
          <a:custGeom>
            <a:avLst/>
            <a:gdLst>
              <a:gd name="textAreaLeft" fmla="*/ 115200 w 648000"/>
              <a:gd name="textAreaRight" fmla="*/ 532800 w 648000"/>
              <a:gd name="textAreaTop" fmla="*/ 115200 h 538200"/>
              <a:gd name="textAreaBottom" fmla="*/ 42300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1375" y="4629"/>
                </a:lnTo>
                <a:lnTo>
                  <a:pt x="4629" y="4629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1375" y="16971"/>
                </a:lnTo>
                <a:lnTo>
                  <a:pt x="21375" y="4629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4629" y="16971"/>
                </a:lnTo>
                <a:lnTo>
                  <a:pt x="21375" y="16971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4629" y="4629"/>
                </a:lnTo>
                <a:lnTo>
                  <a:pt x="4629" y="1697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411280" y="5589720"/>
            <a:ext cx="648000" cy="538200"/>
          </a:xfrm>
          <a:custGeom>
            <a:avLst/>
            <a:gdLst>
              <a:gd name="textAreaLeft" fmla="*/ 115200 w 648000"/>
              <a:gd name="textAreaRight" fmla="*/ 532800 w 648000"/>
              <a:gd name="textAreaTop" fmla="*/ 115200 h 538200"/>
              <a:gd name="textAreaBottom" fmla="*/ 42300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1375" y="4629"/>
                </a:lnTo>
                <a:lnTo>
                  <a:pt x="4629" y="4629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1375" y="16971"/>
                </a:lnTo>
                <a:lnTo>
                  <a:pt x="21375" y="4629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4629" y="16971"/>
                </a:lnTo>
                <a:lnTo>
                  <a:pt x="21375" y="16971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4629" y="4629"/>
                </a:lnTo>
                <a:lnTo>
                  <a:pt x="4629" y="1697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3276720" y="5589720"/>
            <a:ext cx="647640" cy="538200"/>
          </a:xfrm>
          <a:custGeom>
            <a:avLst/>
            <a:gdLst>
              <a:gd name="textAreaLeft" fmla="*/ 115200 w 647640"/>
              <a:gd name="textAreaRight" fmla="*/ 532440 w 647640"/>
              <a:gd name="textAreaTop" fmla="*/ 115200 h 538200"/>
              <a:gd name="textAreaBottom" fmla="*/ 42300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1361" y="4629"/>
                </a:lnTo>
                <a:lnTo>
                  <a:pt x="4629" y="4629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1361" y="16971"/>
                </a:lnTo>
                <a:lnTo>
                  <a:pt x="21361" y="4629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4629" y="16971"/>
                </a:lnTo>
                <a:lnTo>
                  <a:pt x="21361" y="16971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4629" y="4629"/>
                </a:lnTo>
                <a:lnTo>
                  <a:pt x="4629" y="1697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4140360" y="5589720"/>
            <a:ext cx="647640" cy="538200"/>
          </a:xfrm>
          <a:custGeom>
            <a:avLst/>
            <a:gdLst>
              <a:gd name="textAreaLeft" fmla="*/ 115200 w 647640"/>
              <a:gd name="textAreaRight" fmla="*/ 532440 w 647640"/>
              <a:gd name="textAreaTop" fmla="*/ 115200 h 538200"/>
              <a:gd name="textAreaBottom" fmla="*/ 42300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1361" y="4629"/>
                </a:lnTo>
                <a:lnTo>
                  <a:pt x="4629" y="4629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1361" y="16971"/>
                </a:lnTo>
                <a:lnTo>
                  <a:pt x="21361" y="4629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4629" y="16971"/>
                </a:lnTo>
                <a:lnTo>
                  <a:pt x="21361" y="16971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4629" y="4629"/>
                </a:lnTo>
                <a:lnTo>
                  <a:pt x="4629" y="1697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4572000" y="3716280"/>
            <a:ext cx="4321080" cy="574560"/>
          </a:xfrm>
          <a:prstGeom prst="rect">
            <a:avLst/>
          </a:prstGeom>
          <a:noFill/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33"/>
                </a:solidFill>
                <a:latin typeface="Arial"/>
              </a:rPr>
              <a:t>Правильный 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rot="10800000">
            <a:off x="4932000" y="4797000"/>
            <a:ext cx="4211640" cy="1295640"/>
          </a:xfrm>
          <a:prstGeom prst="wedgeRectCallout">
            <a:avLst>
              <a:gd name="adj1" fmla="val 1337"/>
              <a:gd name="adj2" fmla="val 85416"/>
            </a:avLst>
          </a:prstGeom>
          <a:noFill/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Постоянные ветр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250920" y="189000"/>
            <a:ext cx="1657080" cy="21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58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географ</a:t>
            </a:r>
            <a:endParaRPr b="0" i="1" lang="en-US" sz="1800" spc="1" strike="noStrike">
              <a:ln w="158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03" name=""/>
          <p:cNvSpPr/>
          <p:nvPr/>
        </p:nvSpPr>
        <p:spPr>
          <a:xfrm>
            <a:off x="0" y="6297480"/>
            <a:ext cx="9144000" cy="56052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 txBox="1"/>
          <p:nvPr/>
        </p:nvSpPr>
        <p:spPr>
          <a:xfrm>
            <a:off x="468360" y="6453360"/>
            <a:ext cx="4174920" cy="23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58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гра "географ"</a:t>
            </a:r>
            <a:endParaRPr b="0" i="1" lang="en-US" sz="1800" spc="1" strike="noStrike">
              <a:ln w="158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05" name="">
            <a:hlinkClick r:id="rId6" action="ppaction://hlinksldjump"/>
          </p:cNvPr>
          <p:cNvSpPr/>
          <p:nvPr/>
        </p:nvSpPr>
        <p:spPr>
          <a:xfrm>
            <a:off x="5940360" y="6453360"/>
            <a:ext cx="1420920" cy="288720"/>
          </a:xfrm>
          <a:prstGeom prst="rect">
            <a:avLst/>
          </a:prstGeom>
          <a:gradFill rotWithShape="0">
            <a:gsLst>
              <a:gs pos="0">
                <a:srgbClr val="3c3e5a"/>
              </a:gs>
              <a:gs pos="50000">
                <a:srgbClr val="8488c4">
                  <a:alpha val="63137"/>
                </a:srgbClr>
              </a:gs>
              <a:gs pos="100000">
                <a:srgbClr val="3c3e5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равила игр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7451640" y="6453360"/>
            <a:ext cx="1565280" cy="288720"/>
          </a:xfrm>
          <a:prstGeom prst="rect">
            <a:avLst/>
          </a:prstGeom>
          <a:gradFill rotWithShape="0">
            <a:gsLst>
              <a:gs pos="0">
                <a:srgbClr val="3c3e5a"/>
              </a:gs>
              <a:gs pos="50000">
                <a:srgbClr val="8488c4">
                  <a:alpha val="63137"/>
                </a:srgbClr>
              </a:gs>
              <a:gs pos="100000">
                <a:srgbClr val="3c3e5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Продолжить игр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7" name="" descr=""/>
          <p:cNvPicPr/>
          <p:nvPr/>
        </p:nvPicPr>
        <p:blipFill>
          <a:blip r:embed="rId7"/>
          <a:stretch/>
        </p:blipFill>
        <p:spPr>
          <a:xfrm>
            <a:off x="1547640" y="4076640"/>
            <a:ext cx="95256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0" dur="indefinite" restart="never" nodeType="tmRoot">
          <p:childTnLst>
            <p:seq>
              <p:cTn id="1261" dur="indefinite" nodeType="mainSeq">
                <p:childTnLst>
                  <p:par>
                    <p:cTn id="1262" fill="hold">
                      <p:stCondLst>
                        <p:cond delay="0"/>
                      </p:stCondLst>
                      <p:childTnLst>
                        <p:par>
                          <p:cTn id="1263" fill="hold">
                            <p:stCondLst>
                              <p:cond delay="0"/>
                            </p:stCondLst>
                            <p:childTnLst>
                              <p:par>
                                <p:cTn id="126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6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7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8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9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70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1" fill="hold">
                            <p:stCondLst>
                              <p:cond delay="500"/>
                            </p:stCondLst>
                            <p:childTnLst>
                              <p:par>
                                <p:cTn id="127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74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78" dur="500"/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9" fill="hold">
                            <p:stCondLst>
                              <p:cond delay="1500"/>
                            </p:stCondLst>
                            <p:childTnLst>
                              <p:par>
                                <p:cTn id="1280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2" dur="10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3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4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6" dur="10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7" fill="hold">
                            <p:stCondLst>
                              <p:cond delay="7000"/>
                            </p:stCondLst>
                            <p:childTnLst>
                              <p:par>
                                <p:cTn id="1288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0" dur="10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1" fill="hold">
                            <p:stCondLst>
                              <p:cond delay="9000"/>
                            </p:stCondLst>
                            <p:childTnLst>
                              <p:par>
                                <p:cTn id="1292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4" dur="10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5" fill="hold">
                            <p:stCondLst>
                              <p:cond delay="11000"/>
                            </p:stCondLst>
                            <p:childTnLst>
                              <p:par>
                                <p:cTn id="1296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8" dur="10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3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4" fill="hold">
                            <p:stCondLst>
                              <p:cond delay="500"/>
                            </p:stCondLst>
                            <p:childTnLst>
                              <p:par>
                                <p:cTn id="13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7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583236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ВНИМАНИЕ !  ВОПРО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1332000" y="1989000"/>
            <a:ext cx="7632720" cy="1368720"/>
          </a:xfrm>
          <a:prstGeom prst="rect">
            <a:avLst/>
          </a:prstGeom>
          <a:solidFill>
            <a:srgbClr val="00cc00">
              <a:alpha val="26000"/>
            </a:srgbClr>
          </a:solidFill>
          <a:ln w="57240">
            <a:solidFill>
              <a:srgbClr val="008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Arial"/>
              </a:rPr>
              <a:t>Углубление, по которому воды реки текут постоянно, называется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0" name="" descr=""/>
          <p:cNvPicPr/>
          <p:nvPr/>
        </p:nvPicPr>
        <p:blipFill>
          <a:blip r:embed="rId2"/>
          <a:stretch/>
        </p:blipFill>
        <p:spPr>
          <a:xfrm>
            <a:off x="395280" y="404640"/>
            <a:ext cx="1368360" cy="1368720"/>
          </a:xfrm>
          <a:prstGeom prst="rect">
            <a:avLst/>
          </a:prstGeom>
          <a:ln w="0">
            <a:noFill/>
          </a:ln>
        </p:spPr>
      </p:pic>
      <p:sp>
        <p:nvSpPr>
          <p:cNvPr id="511" name="">
            <a:hlinkClick r:id="rId3" action="ppaction://hlinksldjump"/>
          </p:cNvPr>
          <p:cNvSpPr/>
          <p:nvPr/>
        </p:nvSpPr>
        <p:spPr>
          <a:xfrm>
            <a:off x="539640" y="549360"/>
            <a:ext cx="1042920" cy="1042920"/>
          </a:xfrm>
          <a:custGeom>
            <a:avLst/>
            <a:gdLst>
              <a:gd name="textAreaLeft" fmla="*/ 96480 w 1042920"/>
              <a:gd name="textAreaRight" fmla="*/ 946440 w 1042920"/>
              <a:gd name="textAreaTop" fmla="*/ 96480 h 1042920"/>
              <a:gd name="textAreaBottom" fmla="*/ 94644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9595" y="2005"/>
                </a:lnTo>
                <a:lnTo>
                  <a:pt x="2005" y="2005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9595" y="19595"/>
                </a:lnTo>
                <a:lnTo>
                  <a:pt x="19595" y="2005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2005" y="19595"/>
                </a:lnTo>
                <a:lnTo>
                  <a:pt x="19595" y="19595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2005" y="2005"/>
                </a:lnTo>
                <a:lnTo>
                  <a:pt x="2005" y="19595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755640" y="76500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Book Antiqua"/>
              </a:rPr>
              <a:t>26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513" name=""/>
          <p:cNvSpPr/>
          <p:nvPr/>
        </p:nvSpPr>
        <p:spPr>
          <a:xfrm>
            <a:off x="684360" y="5589720"/>
            <a:ext cx="647640" cy="538200"/>
          </a:xfrm>
          <a:custGeom>
            <a:avLst/>
            <a:gdLst>
              <a:gd name="textAreaLeft" fmla="*/ 115200 w 647640"/>
              <a:gd name="textAreaRight" fmla="*/ 532440 w 647640"/>
              <a:gd name="textAreaTop" fmla="*/ 115200 h 538200"/>
              <a:gd name="textAreaBottom" fmla="*/ 42300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1361" y="4629"/>
                </a:lnTo>
                <a:lnTo>
                  <a:pt x="4629" y="4629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1361" y="16971"/>
                </a:lnTo>
                <a:lnTo>
                  <a:pt x="21361" y="4629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4629" y="16971"/>
                </a:lnTo>
                <a:lnTo>
                  <a:pt x="21361" y="16971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4629" y="4629"/>
                </a:lnTo>
                <a:lnTo>
                  <a:pt x="4629" y="1697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1547640" y="5589720"/>
            <a:ext cx="648000" cy="538200"/>
          </a:xfrm>
          <a:custGeom>
            <a:avLst/>
            <a:gdLst>
              <a:gd name="textAreaLeft" fmla="*/ 115200 w 648000"/>
              <a:gd name="textAreaRight" fmla="*/ 532800 w 648000"/>
              <a:gd name="textAreaTop" fmla="*/ 115200 h 538200"/>
              <a:gd name="textAreaBottom" fmla="*/ 42300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1375" y="4629"/>
                </a:lnTo>
                <a:lnTo>
                  <a:pt x="4629" y="4629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1375" y="16971"/>
                </a:lnTo>
                <a:lnTo>
                  <a:pt x="21375" y="4629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4629" y="16971"/>
                </a:lnTo>
                <a:lnTo>
                  <a:pt x="21375" y="16971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4629" y="4629"/>
                </a:lnTo>
                <a:lnTo>
                  <a:pt x="4629" y="1697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2411280" y="5589720"/>
            <a:ext cx="648000" cy="538200"/>
          </a:xfrm>
          <a:custGeom>
            <a:avLst/>
            <a:gdLst>
              <a:gd name="textAreaLeft" fmla="*/ 115200 w 648000"/>
              <a:gd name="textAreaRight" fmla="*/ 532800 w 648000"/>
              <a:gd name="textAreaTop" fmla="*/ 115200 h 538200"/>
              <a:gd name="textAreaBottom" fmla="*/ 42300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1375" y="4629"/>
                </a:lnTo>
                <a:lnTo>
                  <a:pt x="4629" y="4629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1375" y="16971"/>
                </a:lnTo>
                <a:lnTo>
                  <a:pt x="21375" y="4629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4629" y="16971"/>
                </a:lnTo>
                <a:lnTo>
                  <a:pt x="21375" y="16971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4629" y="4629"/>
                </a:lnTo>
                <a:lnTo>
                  <a:pt x="4629" y="1697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3276720" y="5589720"/>
            <a:ext cx="647640" cy="538200"/>
          </a:xfrm>
          <a:custGeom>
            <a:avLst/>
            <a:gdLst>
              <a:gd name="textAreaLeft" fmla="*/ 115200 w 647640"/>
              <a:gd name="textAreaRight" fmla="*/ 532440 w 647640"/>
              <a:gd name="textAreaTop" fmla="*/ 115200 h 538200"/>
              <a:gd name="textAreaBottom" fmla="*/ 42300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1361" y="4629"/>
                </a:lnTo>
                <a:lnTo>
                  <a:pt x="4629" y="4629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1361" y="16971"/>
                </a:lnTo>
                <a:lnTo>
                  <a:pt x="21361" y="4629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4629" y="16971"/>
                </a:lnTo>
                <a:lnTo>
                  <a:pt x="21361" y="16971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4629" y="4629"/>
                </a:lnTo>
                <a:lnTo>
                  <a:pt x="4629" y="1697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4140360" y="5589720"/>
            <a:ext cx="647640" cy="538200"/>
          </a:xfrm>
          <a:custGeom>
            <a:avLst/>
            <a:gdLst>
              <a:gd name="textAreaLeft" fmla="*/ 115200 w 647640"/>
              <a:gd name="textAreaRight" fmla="*/ 532440 w 647640"/>
              <a:gd name="textAreaTop" fmla="*/ 115200 h 538200"/>
              <a:gd name="textAreaBottom" fmla="*/ 42300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1361" y="4629"/>
                </a:lnTo>
                <a:lnTo>
                  <a:pt x="4629" y="4629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1361" y="16971"/>
                </a:lnTo>
                <a:lnTo>
                  <a:pt x="21361" y="4629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4629" y="16971"/>
                </a:lnTo>
                <a:lnTo>
                  <a:pt x="21361" y="16971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4629" y="4629"/>
                </a:lnTo>
                <a:lnTo>
                  <a:pt x="4629" y="1697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4572000" y="3716280"/>
            <a:ext cx="4321080" cy="574560"/>
          </a:xfrm>
          <a:prstGeom prst="rect">
            <a:avLst/>
          </a:prstGeom>
          <a:noFill/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33"/>
                </a:solidFill>
                <a:latin typeface="Arial"/>
              </a:rPr>
              <a:t>Правильный 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 rot="10800000">
            <a:off x="5148360" y="4797000"/>
            <a:ext cx="3311280" cy="1295640"/>
          </a:xfrm>
          <a:prstGeom prst="wedgeRectCallout">
            <a:avLst>
              <a:gd name="adj1" fmla="val -5277"/>
              <a:gd name="adj2" fmla="val 85416"/>
            </a:avLst>
          </a:prstGeom>
          <a:noFill/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Русл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250920" y="189000"/>
            <a:ext cx="1657080" cy="21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58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географ</a:t>
            </a:r>
            <a:endParaRPr b="0" i="1" lang="en-US" sz="1800" spc="1" strike="noStrike">
              <a:ln w="158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21" name=""/>
          <p:cNvSpPr/>
          <p:nvPr/>
        </p:nvSpPr>
        <p:spPr>
          <a:xfrm>
            <a:off x="0" y="6297480"/>
            <a:ext cx="9144000" cy="56052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 txBox="1"/>
          <p:nvPr/>
        </p:nvSpPr>
        <p:spPr>
          <a:xfrm>
            <a:off x="468360" y="6453360"/>
            <a:ext cx="4174920" cy="23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58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гра "географ"</a:t>
            </a:r>
            <a:endParaRPr b="0" i="1" lang="en-US" sz="1800" spc="1" strike="noStrike">
              <a:ln w="158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23" name="">
            <a:hlinkClick r:id="rId6" action="ppaction://hlinksldjump"/>
          </p:cNvPr>
          <p:cNvSpPr/>
          <p:nvPr/>
        </p:nvSpPr>
        <p:spPr>
          <a:xfrm>
            <a:off x="5940360" y="6453360"/>
            <a:ext cx="1420920" cy="288720"/>
          </a:xfrm>
          <a:prstGeom prst="rect">
            <a:avLst/>
          </a:prstGeom>
          <a:gradFill rotWithShape="0">
            <a:gsLst>
              <a:gs pos="0">
                <a:srgbClr val="3c3e5a"/>
              </a:gs>
              <a:gs pos="50000">
                <a:srgbClr val="8488c4">
                  <a:alpha val="63137"/>
                </a:srgbClr>
              </a:gs>
              <a:gs pos="100000">
                <a:srgbClr val="3c3e5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равила игр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7451640" y="6453360"/>
            <a:ext cx="1565280" cy="288720"/>
          </a:xfrm>
          <a:prstGeom prst="rect">
            <a:avLst/>
          </a:prstGeom>
          <a:gradFill rotWithShape="0">
            <a:gsLst>
              <a:gs pos="0">
                <a:srgbClr val="3c3e5a"/>
              </a:gs>
              <a:gs pos="50000">
                <a:srgbClr val="8488c4">
                  <a:alpha val="63137"/>
                </a:srgbClr>
              </a:gs>
              <a:gs pos="100000">
                <a:srgbClr val="3c3e5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Продолжить игр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5" name="" descr=""/>
          <p:cNvPicPr/>
          <p:nvPr/>
        </p:nvPicPr>
        <p:blipFill>
          <a:blip r:embed="rId7"/>
          <a:stretch/>
        </p:blipFill>
        <p:spPr>
          <a:xfrm>
            <a:off x="1116000" y="4076640"/>
            <a:ext cx="14288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8" dur="indefinite" restart="never" nodeType="tmRoot">
          <p:childTnLst>
            <p:seq>
              <p:cTn id="1309" dur="indefinite" nodeType="mainSeq">
                <p:childTnLst>
                  <p:par>
                    <p:cTn id="1310" fill="hold">
                      <p:stCondLst>
                        <p:cond delay="0"/>
                      </p:stCondLst>
                      <p:childTnLst>
                        <p:par>
                          <p:cTn id="1311" fill="hold">
                            <p:stCondLst>
                              <p:cond delay="0"/>
                            </p:stCondLst>
                            <p:childTnLst>
                              <p:par>
                                <p:cTn id="131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4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5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6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7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18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9" fill="hold">
                            <p:stCondLst>
                              <p:cond delay="500"/>
                            </p:stCondLst>
                            <p:childTnLst>
                              <p:par>
                                <p:cTn id="132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22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3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4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26" dur="500"/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7" fill="hold">
                            <p:stCondLst>
                              <p:cond delay="1500"/>
                            </p:stCondLst>
                            <p:childTnLst>
                              <p:par>
                                <p:cTn id="1328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0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1" fill="hold">
                            <p:stCondLst>
                              <p:cond delay="5000"/>
                            </p:stCondLst>
                            <p:childTnLst>
                              <p:par>
                                <p:cTn id="1332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4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5" fill="hold">
                            <p:stCondLst>
                              <p:cond delay="7000"/>
                            </p:stCondLst>
                            <p:childTnLst>
                              <p:par>
                                <p:cTn id="1336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8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9" fill="hold">
                            <p:stCondLst>
                              <p:cond delay="9000"/>
                            </p:stCondLst>
                            <p:childTnLst>
                              <p:par>
                                <p:cTn id="1340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2" dur="1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3" fill="hold">
                            <p:stCondLst>
                              <p:cond delay="11000"/>
                            </p:stCondLst>
                            <p:childTnLst>
                              <p:par>
                                <p:cTn id="1344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6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1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2" fill="hold">
                            <p:stCondLst>
                              <p:cond delay="500"/>
                            </p:stCondLst>
                            <p:childTnLst>
                              <p:par>
                                <p:cTn id="13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5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583236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ВНИМАНИЕ !  ВОПРО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1332000" y="1628280"/>
            <a:ext cx="7416720" cy="1729080"/>
          </a:xfrm>
          <a:prstGeom prst="rect">
            <a:avLst/>
          </a:prstGeom>
          <a:solidFill>
            <a:srgbClr val="00cc00">
              <a:alpha val="26000"/>
            </a:srgbClr>
          </a:solidFill>
          <a:ln w="57240">
            <a:solidFill>
              <a:srgbClr val="008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Arial"/>
              </a:rPr>
              <a:t>Часть океана или моря, глубоко вдающиеся в сушу называется …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8" name="" descr=""/>
          <p:cNvPicPr/>
          <p:nvPr/>
        </p:nvPicPr>
        <p:blipFill>
          <a:blip r:embed="rId2"/>
          <a:stretch/>
        </p:blipFill>
        <p:spPr>
          <a:xfrm>
            <a:off x="395280" y="404640"/>
            <a:ext cx="1368360" cy="1368720"/>
          </a:xfrm>
          <a:prstGeom prst="rect">
            <a:avLst/>
          </a:prstGeom>
          <a:ln w="0">
            <a:noFill/>
          </a:ln>
        </p:spPr>
      </p:pic>
      <p:sp>
        <p:nvSpPr>
          <p:cNvPr id="529" name="">
            <a:hlinkClick r:id="rId3" action="ppaction://hlinksldjump"/>
          </p:cNvPr>
          <p:cNvSpPr/>
          <p:nvPr/>
        </p:nvSpPr>
        <p:spPr>
          <a:xfrm>
            <a:off x="539640" y="549360"/>
            <a:ext cx="1042920" cy="1042920"/>
          </a:xfrm>
          <a:custGeom>
            <a:avLst/>
            <a:gdLst>
              <a:gd name="textAreaLeft" fmla="*/ 96480 w 1042920"/>
              <a:gd name="textAreaRight" fmla="*/ 946440 w 1042920"/>
              <a:gd name="textAreaTop" fmla="*/ 96480 h 1042920"/>
              <a:gd name="textAreaBottom" fmla="*/ 94644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9595" y="2005"/>
                </a:lnTo>
                <a:lnTo>
                  <a:pt x="2005" y="2005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9595" y="19595"/>
                </a:lnTo>
                <a:lnTo>
                  <a:pt x="19595" y="2005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2005" y="19595"/>
                </a:lnTo>
                <a:lnTo>
                  <a:pt x="19595" y="19595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2005" y="2005"/>
                </a:lnTo>
                <a:lnTo>
                  <a:pt x="2005" y="19595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755640" y="76500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Book Antiqua"/>
              </a:rPr>
              <a:t>29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531" name=""/>
          <p:cNvSpPr/>
          <p:nvPr/>
        </p:nvSpPr>
        <p:spPr>
          <a:xfrm>
            <a:off x="684360" y="5589720"/>
            <a:ext cx="647640" cy="538200"/>
          </a:xfrm>
          <a:custGeom>
            <a:avLst/>
            <a:gdLst>
              <a:gd name="textAreaLeft" fmla="*/ 115200 w 647640"/>
              <a:gd name="textAreaRight" fmla="*/ 532440 w 647640"/>
              <a:gd name="textAreaTop" fmla="*/ 115200 h 538200"/>
              <a:gd name="textAreaBottom" fmla="*/ 42300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1361" y="4629"/>
                </a:lnTo>
                <a:lnTo>
                  <a:pt x="4629" y="4629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1361" y="16971"/>
                </a:lnTo>
                <a:lnTo>
                  <a:pt x="21361" y="4629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4629" y="16971"/>
                </a:lnTo>
                <a:lnTo>
                  <a:pt x="21361" y="16971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4629" y="4629"/>
                </a:lnTo>
                <a:lnTo>
                  <a:pt x="4629" y="1697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1547640" y="5589720"/>
            <a:ext cx="648000" cy="538200"/>
          </a:xfrm>
          <a:custGeom>
            <a:avLst/>
            <a:gdLst>
              <a:gd name="textAreaLeft" fmla="*/ 115200 w 648000"/>
              <a:gd name="textAreaRight" fmla="*/ 532800 w 648000"/>
              <a:gd name="textAreaTop" fmla="*/ 115200 h 538200"/>
              <a:gd name="textAreaBottom" fmla="*/ 42300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1375" y="4629"/>
                </a:lnTo>
                <a:lnTo>
                  <a:pt x="4629" y="4629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1375" y="16971"/>
                </a:lnTo>
                <a:lnTo>
                  <a:pt x="21375" y="4629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4629" y="16971"/>
                </a:lnTo>
                <a:lnTo>
                  <a:pt x="21375" y="16971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4629" y="4629"/>
                </a:lnTo>
                <a:lnTo>
                  <a:pt x="4629" y="1697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2411280" y="5589720"/>
            <a:ext cx="648000" cy="538200"/>
          </a:xfrm>
          <a:custGeom>
            <a:avLst/>
            <a:gdLst>
              <a:gd name="textAreaLeft" fmla="*/ 115200 w 648000"/>
              <a:gd name="textAreaRight" fmla="*/ 532800 w 648000"/>
              <a:gd name="textAreaTop" fmla="*/ 115200 h 538200"/>
              <a:gd name="textAreaBottom" fmla="*/ 42300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1375" y="4629"/>
                </a:lnTo>
                <a:lnTo>
                  <a:pt x="4629" y="4629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1375" y="16971"/>
                </a:lnTo>
                <a:lnTo>
                  <a:pt x="21375" y="4629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4629" y="16971"/>
                </a:lnTo>
                <a:lnTo>
                  <a:pt x="21375" y="16971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4629" y="4629"/>
                </a:lnTo>
                <a:lnTo>
                  <a:pt x="4629" y="1697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3276720" y="5589720"/>
            <a:ext cx="647640" cy="538200"/>
          </a:xfrm>
          <a:custGeom>
            <a:avLst/>
            <a:gdLst>
              <a:gd name="textAreaLeft" fmla="*/ 115200 w 647640"/>
              <a:gd name="textAreaRight" fmla="*/ 532440 w 647640"/>
              <a:gd name="textAreaTop" fmla="*/ 115200 h 538200"/>
              <a:gd name="textAreaBottom" fmla="*/ 42300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1361" y="4629"/>
                </a:lnTo>
                <a:lnTo>
                  <a:pt x="4629" y="4629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1361" y="16971"/>
                </a:lnTo>
                <a:lnTo>
                  <a:pt x="21361" y="4629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4629" y="16971"/>
                </a:lnTo>
                <a:lnTo>
                  <a:pt x="21361" y="16971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4629" y="4629"/>
                </a:lnTo>
                <a:lnTo>
                  <a:pt x="4629" y="1697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4140360" y="5589720"/>
            <a:ext cx="647640" cy="538200"/>
          </a:xfrm>
          <a:custGeom>
            <a:avLst/>
            <a:gdLst>
              <a:gd name="textAreaLeft" fmla="*/ 115200 w 647640"/>
              <a:gd name="textAreaRight" fmla="*/ 532440 w 647640"/>
              <a:gd name="textAreaTop" fmla="*/ 115200 h 538200"/>
              <a:gd name="textAreaBottom" fmla="*/ 42300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1361" y="4629"/>
                </a:lnTo>
                <a:lnTo>
                  <a:pt x="4629" y="4629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1361" y="16971"/>
                </a:lnTo>
                <a:lnTo>
                  <a:pt x="21361" y="4629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4629" y="16971"/>
                </a:lnTo>
                <a:lnTo>
                  <a:pt x="21361" y="16971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4629" y="4629"/>
                </a:lnTo>
                <a:lnTo>
                  <a:pt x="4629" y="1697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4572000" y="3716280"/>
            <a:ext cx="4321080" cy="574560"/>
          </a:xfrm>
          <a:prstGeom prst="rect">
            <a:avLst/>
          </a:prstGeom>
          <a:noFill/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33"/>
                </a:solidFill>
                <a:latin typeface="Arial"/>
              </a:rPr>
              <a:t>Правильный 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 rot="10800000">
            <a:off x="4932000" y="4797360"/>
            <a:ext cx="4032360" cy="1440000"/>
          </a:xfrm>
          <a:prstGeom prst="wedgeRectCallout">
            <a:avLst>
              <a:gd name="adj1" fmla="val -828"/>
              <a:gd name="adj2" fmla="val 81861"/>
            </a:avLst>
          </a:prstGeom>
          <a:noFill/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Заливом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250920" y="189000"/>
            <a:ext cx="1657080" cy="21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58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географ</a:t>
            </a:r>
            <a:endParaRPr b="0" i="1" lang="en-US" sz="1800" spc="1" strike="noStrike">
              <a:ln w="158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39" name=""/>
          <p:cNvSpPr/>
          <p:nvPr/>
        </p:nvSpPr>
        <p:spPr>
          <a:xfrm>
            <a:off x="0" y="6297480"/>
            <a:ext cx="9144000" cy="56052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 txBox="1"/>
          <p:nvPr/>
        </p:nvSpPr>
        <p:spPr>
          <a:xfrm>
            <a:off x="468360" y="6453360"/>
            <a:ext cx="4174920" cy="23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58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гра "географ"</a:t>
            </a:r>
            <a:endParaRPr b="0" i="1" lang="en-US" sz="1800" spc="1" strike="noStrike">
              <a:ln w="158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41" name="">
            <a:hlinkClick r:id="rId6" action="ppaction://hlinksldjump"/>
          </p:cNvPr>
          <p:cNvSpPr/>
          <p:nvPr/>
        </p:nvSpPr>
        <p:spPr>
          <a:xfrm>
            <a:off x="5940360" y="6453360"/>
            <a:ext cx="1420920" cy="288720"/>
          </a:xfrm>
          <a:prstGeom prst="rect">
            <a:avLst/>
          </a:prstGeom>
          <a:gradFill rotWithShape="0">
            <a:gsLst>
              <a:gs pos="0">
                <a:srgbClr val="3c3e5a"/>
              </a:gs>
              <a:gs pos="50000">
                <a:srgbClr val="8488c4">
                  <a:alpha val="63137"/>
                </a:srgbClr>
              </a:gs>
              <a:gs pos="100000">
                <a:srgbClr val="3c3e5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равила игр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7451640" y="6453360"/>
            <a:ext cx="1565280" cy="288720"/>
          </a:xfrm>
          <a:prstGeom prst="rect">
            <a:avLst/>
          </a:prstGeom>
          <a:gradFill rotWithShape="0">
            <a:gsLst>
              <a:gs pos="0">
                <a:srgbClr val="3c3e5a"/>
              </a:gs>
              <a:gs pos="50000">
                <a:srgbClr val="8488c4">
                  <a:alpha val="63137"/>
                </a:srgbClr>
              </a:gs>
              <a:gs pos="100000">
                <a:srgbClr val="3c3e5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Продолжить игр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3" name="" descr=""/>
          <p:cNvPicPr/>
          <p:nvPr/>
        </p:nvPicPr>
        <p:blipFill>
          <a:blip r:embed="rId7"/>
          <a:stretch/>
        </p:blipFill>
        <p:spPr>
          <a:xfrm>
            <a:off x="755640" y="3357720"/>
            <a:ext cx="123048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6" dur="indefinite" restart="never" nodeType="tmRoot">
          <p:childTnLst>
            <p:seq>
              <p:cTn id="1357" dur="indefinite" nodeType="mainSeq">
                <p:childTnLst>
                  <p:par>
                    <p:cTn id="1358" fill="hold">
                      <p:stCondLst>
                        <p:cond delay="0"/>
                      </p:stCondLst>
                      <p:childTnLst>
                        <p:par>
                          <p:cTn id="1359" fill="hold">
                            <p:stCondLst>
                              <p:cond delay="0"/>
                            </p:stCondLst>
                            <p:childTnLst>
                              <p:par>
                                <p:cTn id="136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2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3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4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5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66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7" fill="hold">
                            <p:stCondLst>
                              <p:cond delay="500"/>
                            </p:stCondLst>
                            <p:childTnLst>
                              <p:par>
                                <p:cTn id="136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70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74" dur="500"/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5" fill="hold">
                            <p:stCondLst>
                              <p:cond delay="1500"/>
                            </p:stCondLst>
                            <p:childTnLst>
                              <p:par>
                                <p:cTn id="1376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8" dur="1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9" fill="hold">
                            <p:stCondLst>
                              <p:cond delay="5000"/>
                            </p:stCondLst>
                            <p:childTnLst>
                              <p:par>
                                <p:cTn id="1380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2" dur="1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3" fill="hold">
                            <p:stCondLst>
                              <p:cond delay="7000"/>
                            </p:stCondLst>
                            <p:childTnLst>
                              <p:par>
                                <p:cTn id="1384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6" dur="10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7" fill="hold">
                            <p:stCondLst>
                              <p:cond delay="9000"/>
                            </p:stCondLst>
                            <p:childTnLst>
                              <p:par>
                                <p:cTn id="1388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0" dur="1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1" fill="hold">
                            <p:stCondLst>
                              <p:cond delay="11000"/>
                            </p:stCondLst>
                            <p:childTnLst>
                              <p:par>
                                <p:cTn id="1392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4" dur="1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5" fill="hold">
                      <p:stCondLst>
                        <p:cond delay="indefinite"/>
                      </p:stCondLst>
                      <p:childTnLst>
                        <p:par>
                          <p:cTn id="1396" fill="hold">
                            <p:stCondLst>
                              <p:cond delay="0"/>
                            </p:stCondLst>
                            <p:childTnLst>
                              <p:par>
                                <p:cTn id="13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9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0" fill="hold">
                            <p:stCondLst>
                              <p:cond delay="500"/>
                            </p:stCondLst>
                            <p:childTnLst>
                              <p:par>
                                <p:cTn id="140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3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583236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ВНИМАНИЕ !  ВОПРО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1332000" y="1484280"/>
            <a:ext cx="7632720" cy="1873440"/>
          </a:xfrm>
          <a:prstGeom prst="rect">
            <a:avLst/>
          </a:prstGeom>
          <a:solidFill>
            <a:srgbClr val="00cc00">
              <a:alpha val="26000"/>
            </a:srgbClr>
          </a:solidFill>
          <a:ln w="57240">
            <a:solidFill>
              <a:srgbClr val="008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Узкое водное пространство, ограниченное с двух сторон берегами материков или островов называется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6" name="" descr=""/>
          <p:cNvPicPr/>
          <p:nvPr/>
        </p:nvPicPr>
        <p:blipFill>
          <a:blip r:embed="rId2"/>
          <a:stretch/>
        </p:blipFill>
        <p:spPr>
          <a:xfrm>
            <a:off x="395280" y="404640"/>
            <a:ext cx="1368360" cy="1368720"/>
          </a:xfrm>
          <a:prstGeom prst="rect">
            <a:avLst/>
          </a:prstGeom>
          <a:ln w="0">
            <a:noFill/>
          </a:ln>
        </p:spPr>
      </p:pic>
      <p:sp>
        <p:nvSpPr>
          <p:cNvPr id="547" name="">
            <a:hlinkClick r:id="rId3" action="ppaction://hlinksldjump"/>
          </p:cNvPr>
          <p:cNvSpPr/>
          <p:nvPr/>
        </p:nvSpPr>
        <p:spPr>
          <a:xfrm>
            <a:off x="539640" y="549360"/>
            <a:ext cx="1042920" cy="1042920"/>
          </a:xfrm>
          <a:custGeom>
            <a:avLst/>
            <a:gdLst>
              <a:gd name="textAreaLeft" fmla="*/ 96480 w 1042920"/>
              <a:gd name="textAreaRight" fmla="*/ 946440 w 1042920"/>
              <a:gd name="textAreaTop" fmla="*/ 96480 h 1042920"/>
              <a:gd name="textAreaBottom" fmla="*/ 94644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9595" y="2005"/>
                </a:lnTo>
                <a:lnTo>
                  <a:pt x="2005" y="2005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9595" y="19595"/>
                </a:lnTo>
                <a:lnTo>
                  <a:pt x="19595" y="2005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2005" y="19595"/>
                </a:lnTo>
                <a:lnTo>
                  <a:pt x="19595" y="19595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2005" y="2005"/>
                </a:lnTo>
                <a:lnTo>
                  <a:pt x="2005" y="19595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 txBox="1"/>
          <p:nvPr/>
        </p:nvSpPr>
        <p:spPr>
          <a:xfrm>
            <a:off x="755640" y="76500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Book Antiqua"/>
              </a:rPr>
              <a:t>34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549" name=""/>
          <p:cNvSpPr/>
          <p:nvPr/>
        </p:nvSpPr>
        <p:spPr>
          <a:xfrm>
            <a:off x="684360" y="5589720"/>
            <a:ext cx="647640" cy="538200"/>
          </a:xfrm>
          <a:custGeom>
            <a:avLst/>
            <a:gdLst>
              <a:gd name="textAreaLeft" fmla="*/ 115200 w 647640"/>
              <a:gd name="textAreaRight" fmla="*/ 532440 w 647640"/>
              <a:gd name="textAreaTop" fmla="*/ 115200 h 538200"/>
              <a:gd name="textAreaBottom" fmla="*/ 42300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1361" y="4629"/>
                </a:lnTo>
                <a:lnTo>
                  <a:pt x="4629" y="4629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1361" y="16971"/>
                </a:lnTo>
                <a:lnTo>
                  <a:pt x="21361" y="4629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4629" y="16971"/>
                </a:lnTo>
                <a:lnTo>
                  <a:pt x="21361" y="16971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4629" y="4629"/>
                </a:lnTo>
                <a:lnTo>
                  <a:pt x="4629" y="1697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1547640" y="5589720"/>
            <a:ext cx="648000" cy="538200"/>
          </a:xfrm>
          <a:custGeom>
            <a:avLst/>
            <a:gdLst>
              <a:gd name="textAreaLeft" fmla="*/ 115200 w 648000"/>
              <a:gd name="textAreaRight" fmla="*/ 532800 w 648000"/>
              <a:gd name="textAreaTop" fmla="*/ 115200 h 538200"/>
              <a:gd name="textAreaBottom" fmla="*/ 42300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1375" y="4629"/>
                </a:lnTo>
                <a:lnTo>
                  <a:pt x="4629" y="4629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1375" y="16971"/>
                </a:lnTo>
                <a:lnTo>
                  <a:pt x="21375" y="4629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4629" y="16971"/>
                </a:lnTo>
                <a:lnTo>
                  <a:pt x="21375" y="16971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4629" y="4629"/>
                </a:lnTo>
                <a:lnTo>
                  <a:pt x="4629" y="1697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2411280" y="5589720"/>
            <a:ext cx="648000" cy="538200"/>
          </a:xfrm>
          <a:custGeom>
            <a:avLst/>
            <a:gdLst>
              <a:gd name="textAreaLeft" fmla="*/ 115200 w 648000"/>
              <a:gd name="textAreaRight" fmla="*/ 532800 w 648000"/>
              <a:gd name="textAreaTop" fmla="*/ 115200 h 538200"/>
              <a:gd name="textAreaBottom" fmla="*/ 42300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1375" y="4629"/>
                </a:lnTo>
                <a:lnTo>
                  <a:pt x="4629" y="4629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1375" y="16971"/>
                </a:lnTo>
                <a:lnTo>
                  <a:pt x="21375" y="4629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4629" y="16971"/>
                </a:lnTo>
                <a:lnTo>
                  <a:pt x="21375" y="16971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4629" y="4629"/>
                </a:lnTo>
                <a:lnTo>
                  <a:pt x="4629" y="1697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3276720" y="5589720"/>
            <a:ext cx="647640" cy="538200"/>
          </a:xfrm>
          <a:custGeom>
            <a:avLst/>
            <a:gdLst>
              <a:gd name="textAreaLeft" fmla="*/ 115200 w 647640"/>
              <a:gd name="textAreaRight" fmla="*/ 532440 w 647640"/>
              <a:gd name="textAreaTop" fmla="*/ 115200 h 538200"/>
              <a:gd name="textAreaBottom" fmla="*/ 42300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1361" y="4629"/>
                </a:lnTo>
                <a:lnTo>
                  <a:pt x="4629" y="4629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1361" y="16971"/>
                </a:lnTo>
                <a:lnTo>
                  <a:pt x="21361" y="4629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4629" y="16971"/>
                </a:lnTo>
                <a:lnTo>
                  <a:pt x="21361" y="16971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4629" y="4629"/>
                </a:lnTo>
                <a:lnTo>
                  <a:pt x="4629" y="1697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4140360" y="5589720"/>
            <a:ext cx="647640" cy="538200"/>
          </a:xfrm>
          <a:custGeom>
            <a:avLst/>
            <a:gdLst>
              <a:gd name="textAreaLeft" fmla="*/ 115200 w 647640"/>
              <a:gd name="textAreaRight" fmla="*/ 532440 w 647640"/>
              <a:gd name="textAreaTop" fmla="*/ 115200 h 538200"/>
              <a:gd name="textAreaBottom" fmla="*/ 42300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1361" y="4629"/>
                </a:lnTo>
                <a:lnTo>
                  <a:pt x="4629" y="4629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1361" y="16971"/>
                </a:lnTo>
                <a:lnTo>
                  <a:pt x="21361" y="4629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4629" y="16971"/>
                </a:lnTo>
                <a:lnTo>
                  <a:pt x="21361" y="16971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4629" y="4629"/>
                </a:lnTo>
                <a:lnTo>
                  <a:pt x="4629" y="1697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4572000" y="3716280"/>
            <a:ext cx="4321080" cy="574560"/>
          </a:xfrm>
          <a:prstGeom prst="rect">
            <a:avLst/>
          </a:prstGeom>
          <a:noFill/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33"/>
                </a:solidFill>
                <a:latin typeface="Arial"/>
              </a:rPr>
              <a:t>Правильный 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 rot="10800000">
            <a:off x="5003280" y="4797000"/>
            <a:ext cx="3745080" cy="1295640"/>
          </a:xfrm>
          <a:prstGeom prst="wedgeRectCallout">
            <a:avLst>
              <a:gd name="adj1" fmla="val -2736"/>
              <a:gd name="adj2" fmla="val 85416"/>
            </a:avLst>
          </a:prstGeom>
          <a:noFill/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Пролив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250920" y="189000"/>
            <a:ext cx="1657080" cy="21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58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географ</a:t>
            </a:r>
            <a:endParaRPr b="0" i="1" lang="en-US" sz="1800" spc="1" strike="noStrike">
              <a:ln w="158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57" name=""/>
          <p:cNvSpPr/>
          <p:nvPr/>
        </p:nvSpPr>
        <p:spPr>
          <a:xfrm>
            <a:off x="0" y="6297480"/>
            <a:ext cx="9144000" cy="56052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 txBox="1"/>
          <p:nvPr/>
        </p:nvSpPr>
        <p:spPr>
          <a:xfrm>
            <a:off x="468360" y="6453360"/>
            <a:ext cx="4174920" cy="23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58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гра "географ"</a:t>
            </a:r>
            <a:endParaRPr b="0" i="1" lang="en-US" sz="1800" spc="1" strike="noStrike">
              <a:ln w="158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59" name="">
            <a:hlinkClick r:id="rId6" action="ppaction://hlinksldjump"/>
          </p:cNvPr>
          <p:cNvSpPr/>
          <p:nvPr/>
        </p:nvSpPr>
        <p:spPr>
          <a:xfrm>
            <a:off x="5940360" y="6453360"/>
            <a:ext cx="1420920" cy="288720"/>
          </a:xfrm>
          <a:prstGeom prst="rect">
            <a:avLst/>
          </a:prstGeom>
          <a:gradFill rotWithShape="0">
            <a:gsLst>
              <a:gs pos="0">
                <a:srgbClr val="3c3e5a"/>
              </a:gs>
              <a:gs pos="50000">
                <a:srgbClr val="8488c4">
                  <a:alpha val="63137"/>
                </a:srgbClr>
              </a:gs>
              <a:gs pos="100000">
                <a:srgbClr val="3c3e5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равила игр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7451640" y="6453360"/>
            <a:ext cx="1565280" cy="288720"/>
          </a:xfrm>
          <a:prstGeom prst="rect">
            <a:avLst/>
          </a:prstGeom>
          <a:gradFill rotWithShape="0">
            <a:gsLst>
              <a:gs pos="0">
                <a:srgbClr val="3c3e5a"/>
              </a:gs>
              <a:gs pos="50000">
                <a:srgbClr val="8488c4">
                  <a:alpha val="63137"/>
                </a:srgbClr>
              </a:gs>
              <a:gs pos="100000">
                <a:srgbClr val="3c3e5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Продолжить игр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" descr=""/>
          <p:cNvPicPr/>
          <p:nvPr/>
        </p:nvPicPr>
        <p:blipFill>
          <a:blip r:embed="rId7"/>
          <a:stretch/>
        </p:blipFill>
        <p:spPr>
          <a:xfrm>
            <a:off x="755640" y="3716280"/>
            <a:ext cx="1360440" cy="14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4" dur="indefinite" restart="never" nodeType="tmRoot">
          <p:childTnLst>
            <p:seq>
              <p:cTn id="1405" dur="indefinite" nodeType="mainSeq">
                <p:childTnLst>
                  <p:par>
                    <p:cTn id="1406" fill="hold">
                      <p:stCondLst>
                        <p:cond delay="0"/>
                      </p:stCondLst>
                      <p:childTnLst>
                        <p:par>
                          <p:cTn id="1407" fill="hold">
                            <p:stCondLst>
                              <p:cond delay="0"/>
                            </p:stCondLst>
                            <p:childTnLst>
                              <p:par>
                                <p:cTn id="140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0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1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3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14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5" fill="hold">
                            <p:stCondLst>
                              <p:cond delay="500"/>
                            </p:stCondLst>
                            <p:childTnLst>
                              <p:par>
                                <p:cTn id="141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18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22" dur="500"/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3" fill="hold">
                            <p:stCondLst>
                              <p:cond delay="1500"/>
                            </p:stCondLst>
                            <p:childTnLst>
                              <p:par>
                                <p:cTn id="1424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6" dur="1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428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0" dur="10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1" fill="hold">
                            <p:stCondLst>
                              <p:cond delay="7000"/>
                            </p:stCondLst>
                            <p:childTnLst>
                              <p:par>
                                <p:cTn id="1432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4" dur="10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5" fill="hold">
                            <p:stCondLst>
                              <p:cond delay="9000"/>
                            </p:stCondLst>
                            <p:childTnLst>
                              <p:par>
                                <p:cTn id="1436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8" dur="10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9" fill="hold">
                            <p:stCondLst>
                              <p:cond delay="11000"/>
                            </p:stCondLst>
                            <p:childTnLst>
                              <p:par>
                                <p:cTn id="1440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2" dur="1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3" fill="hold">
                      <p:stCondLst>
                        <p:cond delay="indefinite"/>
                      </p:stCondLst>
                      <p:childTnLst>
                        <p:par>
                          <p:cTn id="1444" fill="hold">
                            <p:stCondLst>
                              <p:cond delay="0"/>
                            </p:stCondLst>
                            <p:childTnLst>
                              <p:par>
                                <p:cTn id="1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7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8" fill="hold">
                            <p:stCondLst>
                              <p:cond delay="500"/>
                            </p:stCondLst>
                            <p:childTnLst>
                              <p:par>
                                <p:cTn id="1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1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583236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ВНИМАНИЕ !  ВОПРО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1331640" y="1484280"/>
            <a:ext cx="7561080" cy="1873440"/>
          </a:xfrm>
          <a:prstGeom prst="rect">
            <a:avLst/>
          </a:prstGeom>
          <a:solidFill>
            <a:srgbClr val="0066ff">
              <a:alpha val="19000"/>
            </a:srgbClr>
          </a:solidFill>
          <a:ln w="5724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Перемещение воды в океане или море в горизонтальном направлении называется 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4" name="" descr=""/>
          <p:cNvPicPr/>
          <p:nvPr/>
        </p:nvPicPr>
        <p:blipFill>
          <a:blip r:embed="rId2"/>
          <a:stretch/>
        </p:blipFill>
        <p:spPr>
          <a:xfrm>
            <a:off x="395280" y="404640"/>
            <a:ext cx="1368360" cy="1368720"/>
          </a:xfrm>
          <a:prstGeom prst="rect">
            <a:avLst/>
          </a:prstGeom>
          <a:ln w="0">
            <a:noFill/>
          </a:ln>
        </p:spPr>
      </p:pic>
      <p:sp>
        <p:nvSpPr>
          <p:cNvPr id="565" name="">
            <a:hlinkClick r:id="rId3" action="ppaction://hlinksldjump"/>
          </p:cNvPr>
          <p:cNvSpPr/>
          <p:nvPr/>
        </p:nvSpPr>
        <p:spPr>
          <a:xfrm>
            <a:off x="539640" y="549360"/>
            <a:ext cx="1042920" cy="1042920"/>
          </a:xfrm>
          <a:custGeom>
            <a:avLst/>
            <a:gdLst>
              <a:gd name="textAreaLeft" fmla="*/ 96480 w 1042920"/>
              <a:gd name="textAreaRight" fmla="*/ 946440 w 1042920"/>
              <a:gd name="textAreaTop" fmla="*/ 96480 h 1042920"/>
              <a:gd name="textAreaBottom" fmla="*/ 94644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9595" y="2005"/>
                </a:lnTo>
                <a:lnTo>
                  <a:pt x="2005" y="2005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9595" y="19595"/>
                </a:lnTo>
                <a:lnTo>
                  <a:pt x="19595" y="2005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2005" y="19595"/>
                </a:lnTo>
                <a:lnTo>
                  <a:pt x="19595" y="19595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2005" y="2005"/>
                </a:lnTo>
                <a:lnTo>
                  <a:pt x="2005" y="19595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66ff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 txBox="1"/>
          <p:nvPr/>
        </p:nvSpPr>
        <p:spPr>
          <a:xfrm>
            <a:off x="900000" y="765000"/>
            <a:ext cx="2872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Book Antiqua"/>
              </a:rPr>
              <a:t>4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567" name=""/>
          <p:cNvSpPr/>
          <p:nvPr/>
        </p:nvSpPr>
        <p:spPr>
          <a:xfrm>
            <a:off x="684360" y="5589720"/>
            <a:ext cx="647640" cy="538200"/>
          </a:xfrm>
          <a:custGeom>
            <a:avLst/>
            <a:gdLst>
              <a:gd name="textAreaLeft" fmla="*/ 115200 w 647640"/>
              <a:gd name="textAreaRight" fmla="*/ 532440 w 647640"/>
              <a:gd name="textAreaTop" fmla="*/ 115200 h 538200"/>
              <a:gd name="textAreaBottom" fmla="*/ 42300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1361" y="4629"/>
                </a:lnTo>
                <a:lnTo>
                  <a:pt x="4629" y="4629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1361" y="16971"/>
                </a:lnTo>
                <a:lnTo>
                  <a:pt x="21361" y="4629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4629" y="16971"/>
                </a:lnTo>
                <a:lnTo>
                  <a:pt x="21361" y="16971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4629" y="4629"/>
                </a:lnTo>
                <a:lnTo>
                  <a:pt x="4629" y="1697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66ff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1547640" y="5589720"/>
            <a:ext cx="648000" cy="538200"/>
          </a:xfrm>
          <a:custGeom>
            <a:avLst/>
            <a:gdLst>
              <a:gd name="textAreaLeft" fmla="*/ 115200 w 648000"/>
              <a:gd name="textAreaRight" fmla="*/ 532800 w 648000"/>
              <a:gd name="textAreaTop" fmla="*/ 115200 h 538200"/>
              <a:gd name="textAreaBottom" fmla="*/ 42300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1375" y="4629"/>
                </a:lnTo>
                <a:lnTo>
                  <a:pt x="4629" y="4629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1375" y="16971"/>
                </a:lnTo>
                <a:lnTo>
                  <a:pt x="21375" y="4629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4629" y="16971"/>
                </a:lnTo>
                <a:lnTo>
                  <a:pt x="21375" y="16971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4629" y="4629"/>
                </a:lnTo>
                <a:lnTo>
                  <a:pt x="4629" y="1697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66ff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2411280" y="5589720"/>
            <a:ext cx="648000" cy="538200"/>
          </a:xfrm>
          <a:custGeom>
            <a:avLst/>
            <a:gdLst>
              <a:gd name="textAreaLeft" fmla="*/ 115200 w 648000"/>
              <a:gd name="textAreaRight" fmla="*/ 532800 w 648000"/>
              <a:gd name="textAreaTop" fmla="*/ 115200 h 538200"/>
              <a:gd name="textAreaBottom" fmla="*/ 42300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1375" y="4629"/>
                </a:lnTo>
                <a:lnTo>
                  <a:pt x="4629" y="4629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1375" y="16971"/>
                </a:lnTo>
                <a:lnTo>
                  <a:pt x="21375" y="4629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4629" y="16971"/>
                </a:lnTo>
                <a:lnTo>
                  <a:pt x="21375" y="16971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4629" y="4629"/>
                </a:lnTo>
                <a:lnTo>
                  <a:pt x="4629" y="1697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66ff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3276720" y="5589720"/>
            <a:ext cx="647640" cy="538200"/>
          </a:xfrm>
          <a:custGeom>
            <a:avLst/>
            <a:gdLst>
              <a:gd name="textAreaLeft" fmla="*/ 115200 w 647640"/>
              <a:gd name="textAreaRight" fmla="*/ 532440 w 647640"/>
              <a:gd name="textAreaTop" fmla="*/ 115200 h 538200"/>
              <a:gd name="textAreaBottom" fmla="*/ 42300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1361" y="4629"/>
                </a:lnTo>
                <a:lnTo>
                  <a:pt x="4629" y="4629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1361" y="16971"/>
                </a:lnTo>
                <a:lnTo>
                  <a:pt x="21361" y="4629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4629" y="16971"/>
                </a:lnTo>
                <a:lnTo>
                  <a:pt x="21361" y="16971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4629" y="4629"/>
                </a:lnTo>
                <a:lnTo>
                  <a:pt x="4629" y="1697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66ff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4140360" y="5589720"/>
            <a:ext cx="647640" cy="538200"/>
          </a:xfrm>
          <a:custGeom>
            <a:avLst/>
            <a:gdLst>
              <a:gd name="textAreaLeft" fmla="*/ 115200 w 647640"/>
              <a:gd name="textAreaRight" fmla="*/ 532440 w 647640"/>
              <a:gd name="textAreaTop" fmla="*/ 115200 h 538200"/>
              <a:gd name="textAreaBottom" fmla="*/ 42300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1361" y="4629"/>
                </a:lnTo>
                <a:lnTo>
                  <a:pt x="4629" y="4629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1361" y="16971"/>
                </a:lnTo>
                <a:lnTo>
                  <a:pt x="21361" y="4629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4629" y="16971"/>
                </a:lnTo>
                <a:lnTo>
                  <a:pt x="21361" y="16971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4629" y="4629"/>
                </a:lnTo>
                <a:lnTo>
                  <a:pt x="4629" y="1697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66ff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4572000" y="3716280"/>
            <a:ext cx="4321080" cy="574560"/>
          </a:xfrm>
          <a:prstGeom prst="rect">
            <a:avLst/>
          </a:prstGeom>
          <a:noFill/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33"/>
                </a:solidFill>
                <a:latin typeface="Arial"/>
              </a:rPr>
              <a:t>Правильный 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 rot="10800000">
            <a:off x="5148360" y="4797000"/>
            <a:ext cx="3311280" cy="1295640"/>
          </a:xfrm>
          <a:prstGeom prst="wedgeRectCallout">
            <a:avLst>
              <a:gd name="adj1" fmla="val -5277"/>
              <a:gd name="adj2" fmla="val 85416"/>
            </a:avLst>
          </a:prstGeom>
          <a:noFill/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Теч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 txBox="1"/>
          <p:nvPr/>
        </p:nvSpPr>
        <p:spPr>
          <a:xfrm>
            <a:off x="250920" y="189000"/>
            <a:ext cx="1657080" cy="21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58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географ</a:t>
            </a:r>
            <a:endParaRPr b="0" i="1" lang="en-US" sz="1800" spc="1" strike="noStrike">
              <a:ln w="158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75" name=""/>
          <p:cNvSpPr/>
          <p:nvPr/>
        </p:nvSpPr>
        <p:spPr>
          <a:xfrm>
            <a:off x="0" y="6297480"/>
            <a:ext cx="9144000" cy="56052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 txBox="1"/>
          <p:nvPr/>
        </p:nvSpPr>
        <p:spPr>
          <a:xfrm>
            <a:off x="468360" y="6453360"/>
            <a:ext cx="4174920" cy="23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58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гра "географ"</a:t>
            </a:r>
            <a:endParaRPr b="0" i="1" lang="en-US" sz="1800" spc="1" strike="noStrike">
              <a:ln w="158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77" name="">
            <a:hlinkClick r:id="rId6" action="ppaction://hlinksldjump"/>
          </p:cNvPr>
          <p:cNvSpPr/>
          <p:nvPr/>
        </p:nvSpPr>
        <p:spPr>
          <a:xfrm>
            <a:off x="5940360" y="6453360"/>
            <a:ext cx="1420920" cy="288720"/>
          </a:xfrm>
          <a:prstGeom prst="rect">
            <a:avLst/>
          </a:prstGeom>
          <a:gradFill rotWithShape="0">
            <a:gsLst>
              <a:gs pos="0">
                <a:srgbClr val="3c3e5a"/>
              </a:gs>
              <a:gs pos="50000">
                <a:srgbClr val="8488c4">
                  <a:alpha val="63137"/>
                </a:srgbClr>
              </a:gs>
              <a:gs pos="100000">
                <a:srgbClr val="3c3e5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равила игр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7451640" y="6453360"/>
            <a:ext cx="1565280" cy="288720"/>
          </a:xfrm>
          <a:prstGeom prst="rect">
            <a:avLst/>
          </a:prstGeom>
          <a:gradFill rotWithShape="0">
            <a:gsLst>
              <a:gs pos="0">
                <a:srgbClr val="3c3e5a"/>
              </a:gs>
              <a:gs pos="50000">
                <a:srgbClr val="8488c4">
                  <a:alpha val="63137"/>
                </a:srgbClr>
              </a:gs>
              <a:gs pos="100000">
                <a:srgbClr val="3c3e5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Продолжить игр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9" name="" descr=""/>
          <p:cNvPicPr/>
          <p:nvPr/>
        </p:nvPicPr>
        <p:blipFill>
          <a:blip r:embed="rId7"/>
          <a:stretch/>
        </p:blipFill>
        <p:spPr>
          <a:xfrm>
            <a:off x="971640" y="3429000"/>
            <a:ext cx="118584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2" dur="indefinite" restart="never" nodeType="tmRoot">
          <p:childTnLst>
            <p:seq>
              <p:cTn id="1453" dur="indefinite" nodeType="mainSeq">
                <p:childTnLst>
                  <p:par>
                    <p:cTn id="1454" fill="hold">
                      <p:stCondLst>
                        <p:cond delay="0"/>
                      </p:stCondLst>
                      <p:childTnLst>
                        <p:par>
                          <p:cTn id="1455" fill="hold">
                            <p:stCondLst>
                              <p:cond delay="0"/>
                            </p:stCondLst>
                            <p:childTnLst>
                              <p:par>
                                <p:cTn id="145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8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9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0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1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62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3" fill="hold">
                            <p:stCondLst>
                              <p:cond delay="500"/>
                            </p:stCondLst>
                            <p:childTnLst>
                              <p:par>
                                <p:cTn id="1464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66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46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70" dur="500"/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472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4" dur="10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5" fill="hold">
                            <p:stCondLst>
                              <p:cond delay="5000"/>
                            </p:stCondLst>
                            <p:childTnLst>
                              <p:par>
                                <p:cTn id="1476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8" dur="10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9" fill="hold">
                            <p:stCondLst>
                              <p:cond delay="7000"/>
                            </p:stCondLst>
                            <p:childTnLst>
                              <p:par>
                                <p:cTn id="1480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2" dur="10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3" fill="hold">
                            <p:stCondLst>
                              <p:cond delay="9000"/>
                            </p:stCondLst>
                            <p:childTnLst>
                              <p:par>
                                <p:cTn id="1484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6" dur="10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7" fill="hold">
                            <p:stCondLst>
                              <p:cond delay="11000"/>
                            </p:stCondLst>
                            <p:childTnLst>
                              <p:par>
                                <p:cTn id="1488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0" dur="10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1" fill="hold">
                      <p:stCondLst>
                        <p:cond delay="indefinite"/>
                      </p:stCondLst>
                      <p:childTnLst>
                        <p:par>
                          <p:cTn id="1492" fill="hold">
                            <p:stCondLst>
                              <p:cond delay="0"/>
                            </p:stCondLst>
                            <p:childTnLst>
                              <p:par>
                                <p:cTn id="14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5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6" fill="hold">
                            <p:stCondLst>
                              <p:cond delay="500"/>
                            </p:stCondLst>
                            <p:childTnLst>
                              <p:par>
                                <p:cTn id="14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9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583236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ВНИМАНИЕ !  ВОПРО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1332000" y="1989000"/>
            <a:ext cx="6780240" cy="1368720"/>
          </a:xfrm>
          <a:prstGeom prst="rect">
            <a:avLst/>
          </a:prstGeom>
          <a:solidFill>
            <a:srgbClr val="0066ff">
              <a:alpha val="19000"/>
            </a:srgbClr>
          </a:solidFill>
          <a:ln w="5724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Горные породы пропускающие воду называются …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2" name="" descr=""/>
          <p:cNvPicPr/>
          <p:nvPr/>
        </p:nvPicPr>
        <p:blipFill>
          <a:blip r:embed="rId2"/>
          <a:stretch/>
        </p:blipFill>
        <p:spPr>
          <a:xfrm>
            <a:off x="395280" y="404640"/>
            <a:ext cx="1368360" cy="1368720"/>
          </a:xfrm>
          <a:prstGeom prst="rect">
            <a:avLst/>
          </a:prstGeom>
          <a:ln w="0">
            <a:noFill/>
          </a:ln>
        </p:spPr>
      </p:pic>
      <p:sp>
        <p:nvSpPr>
          <p:cNvPr id="583" name="">
            <a:hlinkClick r:id="rId3" action="ppaction://hlinksldjump"/>
          </p:cNvPr>
          <p:cNvSpPr/>
          <p:nvPr/>
        </p:nvSpPr>
        <p:spPr>
          <a:xfrm>
            <a:off x="539640" y="549360"/>
            <a:ext cx="1042920" cy="1042920"/>
          </a:xfrm>
          <a:custGeom>
            <a:avLst/>
            <a:gdLst>
              <a:gd name="textAreaLeft" fmla="*/ 96480 w 1042920"/>
              <a:gd name="textAreaRight" fmla="*/ 946440 w 1042920"/>
              <a:gd name="textAreaTop" fmla="*/ 96480 h 1042920"/>
              <a:gd name="textAreaBottom" fmla="*/ 94644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9595" y="2005"/>
                </a:lnTo>
                <a:lnTo>
                  <a:pt x="2005" y="2005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9595" y="19595"/>
                </a:lnTo>
                <a:lnTo>
                  <a:pt x="19595" y="2005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2005" y="19595"/>
                </a:lnTo>
                <a:lnTo>
                  <a:pt x="19595" y="19595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2005" y="2005"/>
                </a:lnTo>
                <a:lnTo>
                  <a:pt x="2005" y="19595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66ff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 txBox="1"/>
          <p:nvPr/>
        </p:nvSpPr>
        <p:spPr>
          <a:xfrm>
            <a:off x="900000" y="765000"/>
            <a:ext cx="2872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Book Antiqua"/>
              </a:rPr>
              <a:t>8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585" name=""/>
          <p:cNvSpPr/>
          <p:nvPr/>
        </p:nvSpPr>
        <p:spPr>
          <a:xfrm>
            <a:off x="684360" y="5589720"/>
            <a:ext cx="647640" cy="538200"/>
          </a:xfrm>
          <a:custGeom>
            <a:avLst/>
            <a:gdLst>
              <a:gd name="textAreaLeft" fmla="*/ 115200 w 647640"/>
              <a:gd name="textAreaRight" fmla="*/ 532440 w 647640"/>
              <a:gd name="textAreaTop" fmla="*/ 115200 h 538200"/>
              <a:gd name="textAreaBottom" fmla="*/ 42300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1361" y="4629"/>
                </a:lnTo>
                <a:lnTo>
                  <a:pt x="4629" y="4629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1361" y="16971"/>
                </a:lnTo>
                <a:lnTo>
                  <a:pt x="21361" y="4629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4629" y="16971"/>
                </a:lnTo>
                <a:lnTo>
                  <a:pt x="21361" y="16971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4629" y="4629"/>
                </a:lnTo>
                <a:lnTo>
                  <a:pt x="4629" y="1697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66ff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1547640" y="5589720"/>
            <a:ext cx="648000" cy="538200"/>
          </a:xfrm>
          <a:custGeom>
            <a:avLst/>
            <a:gdLst>
              <a:gd name="textAreaLeft" fmla="*/ 115200 w 648000"/>
              <a:gd name="textAreaRight" fmla="*/ 532800 w 648000"/>
              <a:gd name="textAreaTop" fmla="*/ 115200 h 538200"/>
              <a:gd name="textAreaBottom" fmla="*/ 42300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1375" y="4629"/>
                </a:lnTo>
                <a:lnTo>
                  <a:pt x="4629" y="4629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1375" y="16971"/>
                </a:lnTo>
                <a:lnTo>
                  <a:pt x="21375" y="4629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4629" y="16971"/>
                </a:lnTo>
                <a:lnTo>
                  <a:pt x="21375" y="16971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4629" y="4629"/>
                </a:lnTo>
                <a:lnTo>
                  <a:pt x="4629" y="1697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66ff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2411280" y="5589720"/>
            <a:ext cx="648000" cy="538200"/>
          </a:xfrm>
          <a:custGeom>
            <a:avLst/>
            <a:gdLst>
              <a:gd name="textAreaLeft" fmla="*/ 115200 w 648000"/>
              <a:gd name="textAreaRight" fmla="*/ 532800 w 648000"/>
              <a:gd name="textAreaTop" fmla="*/ 115200 h 538200"/>
              <a:gd name="textAreaBottom" fmla="*/ 42300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1375" y="4629"/>
                </a:lnTo>
                <a:lnTo>
                  <a:pt x="4629" y="4629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1375" y="16971"/>
                </a:lnTo>
                <a:lnTo>
                  <a:pt x="21375" y="4629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4629" y="16971"/>
                </a:lnTo>
                <a:lnTo>
                  <a:pt x="21375" y="16971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4629" y="4629"/>
                </a:lnTo>
                <a:lnTo>
                  <a:pt x="4629" y="1697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66ff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3276720" y="5589720"/>
            <a:ext cx="647640" cy="538200"/>
          </a:xfrm>
          <a:custGeom>
            <a:avLst/>
            <a:gdLst>
              <a:gd name="textAreaLeft" fmla="*/ 115200 w 647640"/>
              <a:gd name="textAreaRight" fmla="*/ 532440 w 647640"/>
              <a:gd name="textAreaTop" fmla="*/ 115200 h 538200"/>
              <a:gd name="textAreaBottom" fmla="*/ 42300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1361" y="4629"/>
                </a:lnTo>
                <a:lnTo>
                  <a:pt x="4629" y="4629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1361" y="16971"/>
                </a:lnTo>
                <a:lnTo>
                  <a:pt x="21361" y="4629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4629" y="16971"/>
                </a:lnTo>
                <a:lnTo>
                  <a:pt x="21361" y="16971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4629" y="4629"/>
                </a:lnTo>
                <a:lnTo>
                  <a:pt x="4629" y="1697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66ff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4140360" y="5589720"/>
            <a:ext cx="647640" cy="538200"/>
          </a:xfrm>
          <a:custGeom>
            <a:avLst/>
            <a:gdLst>
              <a:gd name="textAreaLeft" fmla="*/ 115200 w 647640"/>
              <a:gd name="textAreaRight" fmla="*/ 532440 w 647640"/>
              <a:gd name="textAreaTop" fmla="*/ 115200 h 538200"/>
              <a:gd name="textAreaBottom" fmla="*/ 42300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1361" y="4629"/>
                </a:lnTo>
                <a:lnTo>
                  <a:pt x="4629" y="4629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1361" y="16971"/>
                </a:lnTo>
                <a:lnTo>
                  <a:pt x="21361" y="4629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4629" y="16971"/>
                </a:lnTo>
                <a:lnTo>
                  <a:pt x="21361" y="16971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4629" y="4629"/>
                </a:lnTo>
                <a:lnTo>
                  <a:pt x="4629" y="1697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66ff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4572000" y="3716280"/>
            <a:ext cx="4321080" cy="574560"/>
          </a:xfrm>
          <a:prstGeom prst="rect">
            <a:avLst/>
          </a:prstGeom>
          <a:noFill/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33"/>
                </a:solidFill>
                <a:latin typeface="Arial"/>
              </a:rPr>
              <a:t>Правильный 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 rot="10800000">
            <a:off x="4932000" y="4797000"/>
            <a:ext cx="4211640" cy="1295640"/>
          </a:xfrm>
          <a:prstGeom prst="wedgeRectCallout">
            <a:avLst>
              <a:gd name="adj1" fmla="val 1375"/>
              <a:gd name="adj2" fmla="val 85416"/>
            </a:avLst>
          </a:prstGeom>
          <a:noFill/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Водопроницаемы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 txBox="1"/>
          <p:nvPr/>
        </p:nvSpPr>
        <p:spPr>
          <a:xfrm>
            <a:off x="250920" y="189000"/>
            <a:ext cx="1657080" cy="21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58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географ</a:t>
            </a:r>
            <a:endParaRPr b="0" i="1" lang="en-US" sz="1800" spc="1" strike="noStrike">
              <a:ln w="158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93" name=""/>
          <p:cNvSpPr/>
          <p:nvPr/>
        </p:nvSpPr>
        <p:spPr>
          <a:xfrm>
            <a:off x="0" y="6297480"/>
            <a:ext cx="9144000" cy="56052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 txBox="1"/>
          <p:nvPr/>
        </p:nvSpPr>
        <p:spPr>
          <a:xfrm>
            <a:off x="468360" y="6453360"/>
            <a:ext cx="4174920" cy="23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58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гра "географ"</a:t>
            </a:r>
            <a:endParaRPr b="0" i="1" lang="en-US" sz="1800" spc="1" strike="noStrike">
              <a:ln w="158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95" name="">
            <a:hlinkClick r:id="rId6" action="ppaction://hlinksldjump"/>
          </p:cNvPr>
          <p:cNvSpPr/>
          <p:nvPr/>
        </p:nvSpPr>
        <p:spPr>
          <a:xfrm>
            <a:off x="5940360" y="6453360"/>
            <a:ext cx="1420920" cy="288720"/>
          </a:xfrm>
          <a:prstGeom prst="rect">
            <a:avLst/>
          </a:prstGeom>
          <a:gradFill rotWithShape="0">
            <a:gsLst>
              <a:gs pos="0">
                <a:srgbClr val="3c3e5a"/>
              </a:gs>
              <a:gs pos="50000">
                <a:srgbClr val="8488c4">
                  <a:alpha val="63137"/>
                </a:srgbClr>
              </a:gs>
              <a:gs pos="100000">
                <a:srgbClr val="3c3e5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равила игр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7451640" y="6453360"/>
            <a:ext cx="1565280" cy="288720"/>
          </a:xfrm>
          <a:prstGeom prst="rect">
            <a:avLst/>
          </a:prstGeom>
          <a:gradFill rotWithShape="0">
            <a:gsLst>
              <a:gs pos="0">
                <a:srgbClr val="3c3e5a"/>
              </a:gs>
              <a:gs pos="50000">
                <a:srgbClr val="8488c4">
                  <a:alpha val="63137"/>
                </a:srgbClr>
              </a:gs>
              <a:gs pos="100000">
                <a:srgbClr val="3c3e5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Продолжить игр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7" name="" descr=""/>
          <p:cNvPicPr/>
          <p:nvPr/>
        </p:nvPicPr>
        <p:blipFill>
          <a:blip r:embed="rId7"/>
          <a:stretch/>
        </p:blipFill>
        <p:spPr>
          <a:xfrm>
            <a:off x="1258920" y="3573360"/>
            <a:ext cx="1584360" cy="14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0" dur="indefinite" restart="never" nodeType="tmRoot">
          <p:childTnLst>
            <p:seq>
              <p:cTn id="1501" dur="indefinite" nodeType="mainSeq">
                <p:childTnLst>
                  <p:par>
                    <p:cTn id="1502" fill="hold">
                      <p:stCondLst>
                        <p:cond delay="0"/>
                      </p:stCondLst>
                      <p:childTnLst>
                        <p:par>
                          <p:cTn id="1503" fill="hold">
                            <p:stCondLst>
                              <p:cond delay="0"/>
                            </p:stCondLst>
                            <p:childTnLst>
                              <p:par>
                                <p:cTn id="150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6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7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8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9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10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1" fill="hold">
                            <p:stCondLst>
                              <p:cond delay="500"/>
                            </p:stCondLst>
                            <p:childTnLst>
                              <p:par>
                                <p:cTn id="151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14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51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18" dur="500"/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9" fill="hold">
                            <p:stCondLst>
                              <p:cond delay="1500"/>
                            </p:stCondLst>
                            <p:childTnLst>
                              <p:par>
                                <p:cTn id="1520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2" dur="10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3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4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6" dur="10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7" fill="hold">
                            <p:stCondLst>
                              <p:cond delay="7000"/>
                            </p:stCondLst>
                            <p:childTnLst>
                              <p:par>
                                <p:cTn id="1528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0" dur="10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1" fill="hold">
                            <p:stCondLst>
                              <p:cond delay="9000"/>
                            </p:stCondLst>
                            <p:childTnLst>
                              <p:par>
                                <p:cTn id="1532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4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5" fill="hold">
                            <p:stCondLst>
                              <p:cond delay="11000"/>
                            </p:stCondLst>
                            <p:childTnLst>
                              <p:par>
                                <p:cTn id="1536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8" dur="10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9" fill="hold">
                      <p:stCondLst>
                        <p:cond delay="indefinite"/>
                      </p:stCondLst>
                      <p:childTnLst>
                        <p:par>
                          <p:cTn id="1540" fill="hold">
                            <p:stCondLst>
                              <p:cond delay="0"/>
                            </p:stCondLst>
                            <p:childTnLst>
                              <p:par>
                                <p:cTn id="15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3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4" fill="hold">
                            <p:stCondLst>
                              <p:cond delay="500"/>
                            </p:stCondLst>
                            <p:childTnLst>
                              <p:par>
                                <p:cTn id="15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24000" y="260280"/>
            <a:ext cx="1042920" cy="1042920"/>
          </a:xfrm>
          <a:custGeom>
            <a:avLst/>
            <a:gdLst>
              <a:gd name="textAreaLeft" fmla="*/ 96480 w 1042920"/>
              <a:gd name="textAreaRight" fmla="*/ 946440 w 1042920"/>
              <a:gd name="textAreaTop" fmla="*/ 96480 h 1042920"/>
              <a:gd name="textAreaBottom" fmla="*/ 94644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9595" y="2005"/>
                </a:lnTo>
                <a:lnTo>
                  <a:pt x="2005" y="2005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9595" y="19595"/>
                </a:lnTo>
                <a:lnTo>
                  <a:pt x="19595" y="2005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2005" y="19595"/>
                </a:lnTo>
                <a:lnTo>
                  <a:pt x="19595" y="19595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2005" y="2005"/>
                </a:lnTo>
                <a:lnTo>
                  <a:pt x="2005" y="19595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4000" y="2565360"/>
            <a:ext cx="1042920" cy="1042920"/>
          </a:xfrm>
          <a:custGeom>
            <a:avLst/>
            <a:gdLst>
              <a:gd name="textAreaLeft" fmla="*/ 96480 w 1042920"/>
              <a:gd name="textAreaRight" fmla="*/ 946440 w 1042920"/>
              <a:gd name="textAreaTop" fmla="*/ 96480 h 1042920"/>
              <a:gd name="textAreaBottom" fmla="*/ 94644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9595" y="2005"/>
                </a:lnTo>
                <a:lnTo>
                  <a:pt x="2005" y="2005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9595" y="19595"/>
                </a:lnTo>
                <a:lnTo>
                  <a:pt x="19595" y="2005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2005" y="19595"/>
                </a:lnTo>
                <a:lnTo>
                  <a:pt x="19595" y="19595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2005" y="2005"/>
                </a:lnTo>
                <a:lnTo>
                  <a:pt x="2005" y="19595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1413000"/>
            <a:ext cx="1042920" cy="1042920"/>
          </a:xfrm>
          <a:custGeom>
            <a:avLst/>
            <a:gdLst>
              <a:gd name="textAreaLeft" fmla="*/ 96480 w 1042920"/>
              <a:gd name="textAreaRight" fmla="*/ 946440 w 1042920"/>
              <a:gd name="textAreaTop" fmla="*/ 96480 h 1042920"/>
              <a:gd name="textAreaBottom" fmla="*/ 94644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9595" y="2005"/>
                </a:lnTo>
                <a:lnTo>
                  <a:pt x="2005" y="2005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9595" y="19595"/>
                </a:lnTo>
                <a:lnTo>
                  <a:pt x="19595" y="2005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2005" y="19595"/>
                </a:lnTo>
                <a:lnTo>
                  <a:pt x="19595" y="19595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2005" y="2005"/>
                </a:lnTo>
                <a:lnTo>
                  <a:pt x="2005" y="19595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66ff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547640" y="3716280"/>
            <a:ext cx="1043280" cy="1042920"/>
          </a:xfrm>
          <a:custGeom>
            <a:avLst/>
            <a:gdLst>
              <a:gd name="textAreaLeft" fmla="*/ 96480 w 1043280"/>
              <a:gd name="textAreaRight" fmla="*/ 946800 w 1043280"/>
              <a:gd name="textAreaTop" fmla="*/ 96480 h 1042920"/>
              <a:gd name="textAreaBottom" fmla="*/ 94644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19603" y="2005"/>
                </a:lnTo>
                <a:lnTo>
                  <a:pt x="2005" y="2005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19603" y="19595"/>
                </a:lnTo>
                <a:lnTo>
                  <a:pt x="19603" y="2005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2005" y="19595"/>
                </a:lnTo>
                <a:lnTo>
                  <a:pt x="19603" y="19595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2005" y="2005"/>
                </a:lnTo>
                <a:lnTo>
                  <a:pt x="2005" y="19595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771640" y="4869000"/>
            <a:ext cx="1043280" cy="1042920"/>
          </a:xfrm>
          <a:custGeom>
            <a:avLst/>
            <a:gdLst>
              <a:gd name="textAreaLeft" fmla="*/ 96480 w 1043280"/>
              <a:gd name="textAreaRight" fmla="*/ 946800 w 1043280"/>
              <a:gd name="textAreaTop" fmla="*/ 96480 h 1042920"/>
              <a:gd name="textAreaBottom" fmla="*/ 94644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19603" y="2005"/>
                </a:lnTo>
                <a:lnTo>
                  <a:pt x="2005" y="2005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19603" y="19595"/>
                </a:lnTo>
                <a:lnTo>
                  <a:pt x="19603" y="2005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2005" y="19595"/>
                </a:lnTo>
                <a:lnTo>
                  <a:pt x="19603" y="19595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2005" y="2005"/>
                </a:lnTo>
                <a:lnTo>
                  <a:pt x="2005" y="19595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547640" y="1413000"/>
            <a:ext cx="1043280" cy="1042920"/>
          </a:xfrm>
          <a:custGeom>
            <a:avLst/>
            <a:gdLst>
              <a:gd name="textAreaLeft" fmla="*/ 96480 w 1043280"/>
              <a:gd name="textAreaRight" fmla="*/ 946800 w 1043280"/>
              <a:gd name="textAreaTop" fmla="*/ 96480 h 1042920"/>
              <a:gd name="textAreaBottom" fmla="*/ 94644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19603" y="2005"/>
                </a:lnTo>
                <a:lnTo>
                  <a:pt x="2005" y="2005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19603" y="19595"/>
                </a:lnTo>
                <a:lnTo>
                  <a:pt x="19603" y="2005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2005" y="19595"/>
                </a:lnTo>
                <a:lnTo>
                  <a:pt x="19603" y="19595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2005" y="2005"/>
                </a:lnTo>
                <a:lnTo>
                  <a:pt x="2005" y="19595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771640" y="2565360"/>
            <a:ext cx="1043280" cy="1042920"/>
          </a:xfrm>
          <a:custGeom>
            <a:avLst/>
            <a:gdLst>
              <a:gd name="textAreaLeft" fmla="*/ 96480 w 1043280"/>
              <a:gd name="textAreaRight" fmla="*/ 946800 w 1043280"/>
              <a:gd name="textAreaTop" fmla="*/ 96480 h 1042920"/>
              <a:gd name="textAreaBottom" fmla="*/ 94644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19603" y="2005"/>
                </a:lnTo>
                <a:lnTo>
                  <a:pt x="2005" y="2005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19603" y="19595"/>
                </a:lnTo>
                <a:lnTo>
                  <a:pt x="19603" y="2005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2005" y="19595"/>
                </a:lnTo>
                <a:lnTo>
                  <a:pt x="19603" y="19595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2005" y="2005"/>
                </a:lnTo>
                <a:lnTo>
                  <a:pt x="2005" y="19595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995640" y="3716280"/>
            <a:ext cx="1042920" cy="1042920"/>
          </a:xfrm>
          <a:custGeom>
            <a:avLst/>
            <a:gdLst>
              <a:gd name="textAreaLeft" fmla="*/ 96480 w 1042920"/>
              <a:gd name="textAreaRight" fmla="*/ 946440 w 1042920"/>
              <a:gd name="textAreaTop" fmla="*/ 96480 h 1042920"/>
              <a:gd name="textAreaBottom" fmla="*/ 94644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9595" y="2005"/>
                </a:lnTo>
                <a:lnTo>
                  <a:pt x="2005" y="2005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9595" y="19595"/>
                </a:lnTo>
                <a:lnTo>
                  <a:pt x="19595" y="2005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2005" y="19595"/>
                </a:lnTo>
                <a:lnTo>
                  <a:pt x="19595" y="19595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2005" y="2005"/>
                </a:lnTo>
                <a:lnTo>
                  <a:pt x="2005" y="19595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219640" y="4869000"/>
            <a:ext cx="1042920" cy="1042920"/>
          </a:xfrm>
          <a:custGeom>
            <a:avLst/>
            <a:gdLst>
              <a:gd name="textAreaLeft" fmla="*/ 96480 w 1042920"/>
              <a:gd name="textAreaRight" fmla="*/ 946440 w 1042920"/>
              <a:gd name="textAreaTop" fmla="*/ 96480 h 1042920"/>
              <a:gd name="textAreaBottom" fmla="*/ 94644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9595" y="2005"/>
                </a:lnTo>
                <a:lnTo>
                  <a:pt x="2005" y="2005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9595" y="19595"/>
                </a:lnTo>
                <a:lnTo>
                  <a:pt x="19595" y="2005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2005" y="19595"/>
                </a:lnTo>
                <a:lnTo>
                  <a:pt x="19595" y="19595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2005" y="2005"/>
                </a:lnTo>
                <a:lnTo>
                  <a:pt x="2005" y="19595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547640" y="2565360"/>
            <a:ext cx="1043280" cy="1042920"/>
          </a:xfrm>
          <a:custGeom>
            <a:avLst/>
            <a:gdLst>
              <a:gd name="textAreaLeft" fmla="*/ 96480 w 1043280"/>
              <a:gd name="textAreaRight" fmla="*/ 946800 w 1043280"/>
              <a:gd name="textAreaTop" fmla="*/ 96480 h 1042920"/>
              <a:gd name="textAreaBottom" fmla="*/ 94644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19603" y="2005"/>
                </a:lnTo>
                <a:lnTo>
                  <a:pt x="2005" y="2005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19603" y="19595"/>
                </a:lnTo>
                <a:lnTo>
                  <a:pt x="19603" y="2005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2005" y="19595"/>
                </a:lnTo>
                <a:lnTo>
                  <a:pt x="19603" y="19595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2005" y="2005"/>
                </a:lnTo>
                <a:lnTo>
                  <a:pt x="2005" y="19595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66ff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771640" y="3716280"/>
            <a:ext cx="1043280" cy="1042920"/>
          </a:xfrm>
          <a:custGeom>
            <a:avLst/>
            <a:gdLst>
              <a:gd name="textAreaLeft" fmla="*/ 96480 w 1043280"/>
              <a:gd name="textAreaRight" fmla="*/ 946800 w 1043280"/>
              <a:gd name="textAreaTop" fmla="*/ 96480 h 1042920"/>
              <a:gd name="textAreaBottom" fmla="*/ 94644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19603" y="2005"/>
                </a:lnTo>
                <a:lnTo>
                  <a:pt x="2005" y="2005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19603" y="19595"/>
                </a:lnTo>
                <a:lnTo>
                  <a:pt x="19603" y="2005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2005" y="19595"/>
                </a:lnTo>
                <a:lnTo>
                  <a:pt x="19603" y="19595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2005" y="2005"/>
                </a:lnTo>
                <a:lnTo>
                  <a:pt x="2005" y="19595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66ff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995640" y="4869000"/>
            <a:ext cx="1042920" cy="1042920"/>
          </a:xfrm>
          <a:custGeom>
            <a:avLst/>
            <a:gdLst>
              <a:gd name="textAreaLeft" fmla="*/ 96480 w 1042920"/>
              <a:gd name="textAreaRight" fmla="*/ 946440 w 1042920"/>
              <a:gd name="textAreaTop" fmla="*/ 96480 h 1042920"/>
              <a:gd name="textAreaBottom" fmla="*/ 94644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9595" y="2005"/>
                </a:lnTo>
                <a:lnTo>
                  <a:pt x="2005" y="2005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9595" y="19595"/>
                </a:lnTo>
                <a:lnTo>
                  <a:pt x="19595" y="2005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2005" y="19595"/>
                </a:lnTo>
                <a:lnTo>
                  <a:pt x="19595" y="19595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2005" y="2005"/>
                </a:lnTo>
                <a:lnTo>
                  <a:pt x="2005" y="19595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66ff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47640" y="260280"/>
            <a:ext cx="1043280" cy="1042920"/>
          </a:xfrm>
          <a:custGeom>
            <a:avLst/>
            <a:gdLst>
              <a:gd name="textAreaLeft" fmla="*/ 96480 w 1043280"/>
              <a:gd name="textAreaRight" fmla="*/ 946800 w 1043280"/>
              <a:gd name="textAreaTop" fmla="*/ 96480 h 1042920"/>
              <a:gd name="textAreaBottom" fmla="*/ 94644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19603" y="2005"/>
                </a:lnTo>
                <a:lnTo>
                  <a:pt x="2005" y="2005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19603" y="19595"/>
                </a:lnTo>
                <a:lnTo>
                  <a:pt x="19603" y="2005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2005" y="19595"/>
                </a:lnTo>
                <a:lnTo>
                  <a:pt x="19603" y="19595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2005" y="2005"/>
                </a:lnTo>
                <a:lnTo>
                  <a:pt x="2005" y="19595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771640" y="1413000"/>
            <a:ext cx="1043280" cy="1042920"/>
          </a:xfrm>
          <a:custGeom>
            <a:avLst/>
            <a:gdLst>
              <a:gd name="textAreaLeft" fmla="*/ 96480 w 1043280"/>
              <a:gd name="textAreaRight" fmla="*/ 946800 w 1043280"/>
              <a:gd name="textAreaTop" fmla="*/ 96480 h 1042920"/>
              <a:gd name="textAreaBottom" fmla="*/ 94644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19603" y="2005"/>
                </a:lnTo>
                <a:lnTo>
                  <a:pt x="2005" y="2005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19603" y="19595"/>
                </a:lnTo>
                <a:lnTo>
                  <a:pt x="19603" y="2005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2005" y="19595"/>
                </a:lnTo>
                <a:lnTo>
                  <a:pt x="19603" y="19595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2005" y="2005"/>
                </a:lnTo>
                <a:lnTo>
                  <a:pt x="2005" y="19595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95640" y="2565360"/>
            <a:ext cx="1042920" cy="1042920"/>
          </a:xfrm>
          <a:custGeom>
            <a:avLst/>
            <a:gdLst>
              <a:gd name="textAreaLeft" fmla="*/ 96480 w 1042920"/>
              <a:gd name="textAreaRight" fmla="*/ 946440 w 1042920"/>
              <a:gd name="textAreaTop" fmla="*/ 96480 h 1042920"/>
              <a:gd name="textAreaBottom" fmla="*/ 94644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9595" y="2005"/>
                </a:lnTo>
                <a:lnTo>
                  <a:pt x="2005" y="2005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9595" y="19595"/>
                </a:lnTo>
                <a:lnTo>
                  <a:pt x="19595" y="2005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2005" y="19595"/>
                </a:lnTo>
                <a:lnTo>
                  <a:pt x="19595" y="19595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2005" y="2005"/>
                </a:lnTo>
                <a:lnTo>
                  <a:pt x="2005" y="19595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19640" y="3716280"/>
            <a:ext cx="1042920" cy="1042920"/>
          </a:xfrm>
          <a:custGeom>
            <a:avLst/>
            <a:gdLst>
              <a:gd name="textAreaLeft" fmla="*/ 96480 w 1042920"/>
              <a:gd name="textAreaRight" fmla="*/ 946440 w 1042920"/>
              <a:gd name="textAreaTop" fmla="*/ 96480 h 1042920"/>
              <a:gd name="textAreaBottom" fmla="*/ 94644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9595" y="2005"/>
                </a:lnTo>
                <a:lnTo>
                  <a:pt x="2005" y="2005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9595" y="19595"/>
                </a:lnTo>
                <a:lnTo>
                  <a:pt x="19595" y="2005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2005" y="19595"/>
                </a:lnTo>
                <a:lnTo>
                  <a:pt x="19595" y="19595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2005" y="2005"/>
                </a:lnTo>
                <a:lnTo>
                  <a:pt x="2005" y="19595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443640" y="4869000"/>
            <a:ext cx="1042920" cy="1042920"/>
          </a:xfrm>
          <a:custGeom>
            <a:avLst/>
            <a:gdLst>
              <a:gd name="textAreaLeft" fmla="*/ 96480 w 1042920"/>
              <a:gd name="textAreaRight" fmla="*/ 946440 w 1042920"/>
              <a:gd name="textAreaTop" fmla="*/ 96480 h 1042920"/>
              <a:gd name="textAreaBottom" fmla="*/ 94644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9595" y="2005"/>
                </a:lnTo>
                <a:lnTo>
                  <a:pt x="2005" y="2005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9595" y="19595"/>
                </a:lnTo>
                <a:lnTo>
                  <a:pt x="19595" y="2005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2005" y="19595"/>
                </a:lnTo>
                <a:lnTo>
                  <a:pt x="19595" y="19595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2005" y="2005"/>
                </a:lnTo>
                <a:lnTo>
                  <a:pt x="2005" y="19595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771640" y="260280"/>
            <a:ext cx="1043280" cy="1042920"/>
          </a:xfrm>
          <a:custGeom>
            <a:avLst/>
            <a:gdLst>
              <a:gd name="textAreaLeft" fmla="*/ 96480 w 1043280"/>
              <a:gd name="textAreaRight" fmla="*/ 946800 w 1043280"/>
              <a:gd name="textAreaTop" fmla="*/ 96480 h 1042920"/>
              <a:gd name="textAreaBottom" fmla="*/ 94644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19603" y="2005"/>
                </a:lnTo>
                <a:lnTo>
                  <a:pt x="2005" y="2005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19603" y="19595"/>
                </a:lnTo>
                <a:lnTo>
                  <a:pt x="19603" y="2005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2005" y="19595"/>
                </a:lnTo>
                <a:lnTo>
                  <a:pt x="19603" y="19595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2005" y="2005"/>
                </a:lnTo>
                <a:lnTo>
                  <a:pt x="2005" y="19595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95640" y="1413000"/>
            <a:ext cx="1042920" cy="1042920"/>
          </a:xfrm>
          <a:custGeom>
            <a:avLst/>
            <a:gdLst>
              <a:gd name="textAreaLeft" fmla="*/ 96480 w 1042920"/>
              <a:gd name="textAreaRight" fmla="*/ 946440 w 1042920"/>
              <a:gd name="textAreaTop" fmla="*/ 96480 h 1042920"/>
              <a:gd name="textAreaBottom" fmla="*/ 94644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9595" y="2005"/>
                </a:lnTo>
                <a:lnTo>
                  <a:pt x="2005" y="2005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9595" y="19595"/>
                </a:lnTo>
                <a:lnTo>
                  <a:pt x="19595" y="2005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2005" y="19595"/>
                </a:lnTo>
                <a:lnTo>
                  <a:pt x="19595" y="19595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2005" y="2005"/>
                </a:lnTo>
                <a:lnTo>
                  <a:pt x="2005" y="19595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219640" y="2565360"/>
            <a:ext cx="1042920" cy="1042920"/>
          </a:xfrm>
          <a:custGeom>
            <a:avLst/>
            <a:gdLst>
              <a:gd name="textAreaLeft" fmla="*/ 96480 w 1042920"/>
              <a:gd name="textAreaRight" fmla="*/ 946440 w 1042920"/>
              <a:gd name="textAreaTop" fmla="*/ 96480 h 1042920"/>
              <a:gd name="textAreaBottom" fmla="*/ 94644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9595" y="2005"/>
                </a:lnTo>
                <a:lnTo>
                  <a:pt x="2005" y="2005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9595" y="19595"/>
                </a:lnTo>
                <a:lnTo>
                  <a:pt x="19595" y="2005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2005" y="19595"/>
                </a:lnTo>
                <a:lnTo>
                  <a:pt x="19595" y="19595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2005" y="2005"/>
                </a:lnTo>
                <a:lnTo>
                  <a:pt x="2005" y="19595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443640" y="3716280"/>
            <a:ext cx="1042920" cy="1042920"/>
          </a:xfrm>
          <a:custGeom>
            <a:avLst/>
            <a:gdLst>
              <a:gd name="textAreaLeft" fmla="*/ 96480 w 1042920"/>
              <a:gd name="textAreaRight" fmla="*/ 946440 w 1042920"/>
              <a:gd name="textAreaTop" fmla="*/ 96480 h 1042920"/>
              <a:gd name="textAreaBottom" fmla="*/ 94644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9595" y="2005"/>
                </a:lnTo>
                <a:lnTo>
                  <a:pt x="2005" y="2005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9595" y="19595"/>
                </a:lnTo>
                <a:lnTo>
                  <a:pt x="19595" y="2005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2005" y="19595"/>
                </a:lnTo>
                <a:lnTo>
                  <a:pt x="19595" y="19595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2005" y="2005"/>
                </a:lnTo>
                <a:lnTo>
                  <a:pt x="2005" y="19595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667640" y="4869000"/>
            <a:ext cx="1042920" cy="1042920"/>
          </a:xfrm>
          <a:custGeom>
            <a:avLst/>
            <a:gdLst>
              <a:gd name="textAreaLeft" fmla="*/ 96480 w 1042920"/>
              <a:gd name="textAreaRight" fmla="*/ 946440 w 1042920"/>
              <a:gd name="textAreaTop" fmla="*/ 96480 h 1042920"/>
              <a:gd name="textAreaBottom" fmla="*/ 94644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9595" y="2005"/>
                </a:lnTo>
                <a:lnTo>
                  <a:pt x="2005" y="2005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9595" y="19595"/>
                </a:lnTo>
                <a:lnTo>
                  <a:pt x="19595" y="2005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2005" y="19595"/>
                </a:lnTo>
                <a:lnTo>
                  <a:pt x="19595" y="19595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2005" y="2005"/>
                </a:lnTo>
                <a:lnTo>
                  <a:pt x="2005" y="19595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95640" y="260280"/>
            <a:ext cx="1042920" cy="1042920"/>
          </a:xfrm>
          <a:custGeom>
            <a:avLst/>
            <a:gdLst>
              <a:gd name="textAreaLeft" fmla="*/ 96480 w 1042920"/>
              <a:gd name="textAreaRight" fmla="*/ 946440 w 1042920"/>
              <a:gd name="textAreaTop" fmla="*/ 96480 h 1042920"/>
              <a:gd name="textAreaBottom" fmla="*/ 94644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9595" y="2005"/>
                </a:lnTo>
                <a:lnTo>
                  <a:pt x="2005" y="2005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9595" y="19595"/>
                </a:lnTo>
                <a:lnTo>
                  <a:pt x="19595" y="2005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2005" y="19595"/>
                </a:lnTo>
                <a:lnTo>
                  <a:pt x="19595" y="19595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2005" y="2005"/>
                </a:lnTo>
                <a:lnTo>
                  <a:pt x="2005" y="19595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66ff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219640" y="1413000"/>
            <a:ext cx="1042920" cy="1042920"/>
          </a:xfrm>
          <a:custGeom>
            <a:avLst/>
            <a:gdLst>
              <a:gd name="textAreaLeft" fmla="*/ 96480 w 1042920"/>
              <a:gd name="textAreaRight" fmla="*/ 946440 w 1042920"/>
              <a:gd name="textAreaTop" fmla="*/ 96480 h 1042920"/>
              <a:gd name="textAreaBottom" fmla="*/ 94644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9595" y="2005"/>
                </a:lnTo>
                <a:lnTo>
                  <a:pt x="2005" y="2005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9595" y="19595"/>
                </a:lnTo>
                <a:lnTo>
                  <a:pt x="19595" y="2005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2005" y="19595"/>
                </a:lnTo>
                <a:lnTo>
                  <a:pt x="19595" y="19595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2005" y="2005"/>
                </a:lnTo>
                <a:lnTo>
                  <a:pt x="2005" y="19595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66ff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443640" y="2565360"/>
            <a:ext cx="1042920" cy="1042920"/>
          </a:xfrm>
          <a:custGeom>
            <a:avLst/>
            <a:gdLst>
              <a:gd name="textAreaLeft" fmla="*/ 96480 w 1042920"/>
              <a:gd name="textAreaRight" fmla="*/ 946440 w 1042920"/>
              <a:gd name="textAreaTop" fmla="*/ 96480 h 1042920"/>
              <a:gd name="textAreaBottom" fmla="*/ 94644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9595" y="2005"/>
                </a:lnTo>
                <a:lnTo>
                  <a:pt x="2005" y="2005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9595" y="19595"/>
                </a:lnTo>
                <a:lnTo>
                  <a:pt x="19595" y="2005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2005" y="19595"/>
                </a:lnTo>
                <a:lnTo>
                  <a:pt x="19595" y="19595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2005" y="2005"/>
                </a:lnTo>
                <a:lnTo>
                  <a:pt x="2005" y="19595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66ff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667640" y="3716280"/>
            <a:ext cx="1042920" cy="1042920"/>
          </a:xfrm>
          <a:custGeom>
            <a:avLst/>
            <a:gdLst>
              <a:gd name="textAreaLeft" fmla="*/ 96480 w 1042920"/>
              <a:gd name="textAreaRight" fmla="*/ 946440 w 1042920"/>
              <a:gd name="textAreaTop" fmla="*/ 96480 h 1042920"/>
              <a:gd name="textAreaBottom" fmla="*/ 94644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9595" y="2005"/>
                </a:lnTo>
                <a:lnTo>
                  <a:pt x="2005" y="2005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9595" y="19595"/>
                </a:lnTo>
                <a:lnTo>
                  <a:pt x="19595" y="2005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2005" y="19595"/>
                </a:lnTo>
                <a:lnTo>
                  <a:pt x="19595" y="19595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2005" y="2005"/>
                </a:lnTo>
                <a:lnTo>
                  <a:pt x="2005" y="19595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66ff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219640" y="260280"/>
            <a:ext cx="1042920" cy="1042920"/>
          </a:xfrm>
          <a:custGeom>
            <a:avLst/>
            <a:gdLst>
              <a:gd name="textAreaLeft" fmla="*/ 96480 w 1042920"/>
              <a:gd name="textAreaRight" fmla="*/ 946440 w 1042920"/>
              <a:gd name="textAreaTop" fmla="*/ 96480 h 1042920"/>
              <a:gd name="textAreaBottom" fmla="*/ 94644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9595" y="2005"/>
                </a:lnTo>
                <a:lnTo>
                  <a:pt x="2005" y="2005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9595" y="19595"/>
                </a:lnTo>
                <a:lnTo>
                  <a:pt x="19595" y="2005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2005" y="19595"/>
                </a:lnTo>
                <a:lnTo>
                  <a:pt x="19595" y="19595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2005" y="2005"/>
                </a:lnTo>
                <a:lnTo>
                  <a:pt x="2005" y="19595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443640" y="1413000"/>
            <a:ext cx="1042920" cy="1042920"/>
          </a:xfrm>
          <a:custGeom>
            <a:avLst/>
            <a:gdLst>
              <a:gd name="textAreaLeft" fmla="*/ 96480 w 1042920"/>
              <a:gd name="textAreaRight" fmla="*/ 946440 w 1042920"/>
              <a:gd name="textAreaTop" fmla="*/ 96480 h 1042920"/>
              <a:gd name="textAreaBottom" fmla="*/ 94644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9595" y="2005"/>
                </a:lnTo>
                <a:lnTo>
                  <a:pt x="2005" y="2005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9595" y="19595"/>
                </a:lnTo>
                <a:lnTo>
                  <a:pt x="19595" y="2005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2005" y="19595"/>
                </a:lnTo>
                <a:lnTo>
                  <a:pt x="19595" y="19595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2005" y="2005"/>
                </a:lnTo>
                <a:lnTo>
                  <a:pt x="2005" y="19595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667640" y="2565360"/>
            <a:ext cx="1042920" cy="1042920"/>
          </a:xfrm>
          <a:custGeom>
            <a:avLst/>
            <a:gdLst>
              <a:gd name="textAreaLeft" fmla="*/ 96480 w 1042920"/>
              <a:gd name="textAreaRight" fmla="*/ 946440 w 1042920"/>
              <a:gd name="textAreaTop" fmla="*/ 96480 h 1042920"/>
              <a:gd name="textAreaBottom" fmla="*/ 94644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9595" y="2005"/>
                </a:lnTo>
                <a:lnTo>
                  <a:pt x="2005" y="2005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9595" y="19595"/>
                </a:lnTo>
                <a:lnTo>
                  <a:pt x="19595" y="2005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2005" y="19595"/>
                </a:lnTo>
                <a:lnTo>
                  <a:pt x="19595" y="19595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2005" y="2005"/>
                </a:lnTo>
                <a:lnTo>
                  <a:pt x="2005" y="19595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443640" y="260280"/>
            <a:ext cx="1042920" cy="1042920"/>
          </a:xfrm>
          <a:custGeom>
            <a:avLst/>
            <a:gdLst>
              <a:gd name="textAreaLeft" fmla="*/ 96480 w 1042920"/>
              <a:gd name="textAreaRight" fmla="*/ 946440 w 1042920"/>
              <a:gd name="textAreaTop" fmla="*/ 96480 h 1042920"/>
              <a:gd name="textAreaBottom" fmla="*/ 94644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9595" y="2005"/>
                </a:lnTo>
                <a:lnTo>
                  <a:pt x="2005" y="2005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9595" y="19595"/>
                </a:lnTo>
                <a:lnTo>
                  <a:pt x="19595" y="2005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2005" y="19595"/>
                </a:lnTo>
                <a:lnTo>
                  <a:pt x="19595" y="19595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2005" y="2005"/>
                </a:lnTo>
                <a:lnTo>
                  <a:pt x="2005" y="19595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667640" y="1413000"/>
            <a:ext cx="1042920" cy="1042920"/>
          </a:xfrm>
          <a:custGeom>
            <a:avLst/>
            <a:gdLst>
              <a:gd name="textAreaLeft" fmla="*/ 96480 w 1042920"/>
              <a:gd name="textAreaRight" fmla="*/ 946440 w 1042920"/>
              <a:gd name="textAreaTop" fmla="*/ 96480 h 1042920"/>
              <a:gd name="textAreaBottom" fmla="*/ 94644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9595" y="2005"/>
                </a:lnTo>
                <a:lnTo>
                  <a:pt x="2005" y="2005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9595" y="19595"/>
                </a:lnTo>
                <a:lnTo>
                  <a:pt x="19595" y="2005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2005" y="19595"/>
                </a:lnTo>
                <a:lnTo>
                  <a:pt x="19595" y="19595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2005" y="2005"/>
                </a:lnTo>
                <a:lnTo>
                  <a:pt x="2005" y="19595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24000" y="4869000"/>
            <a:ext cx="1042920" cy="1042920"/>
          </a:xfrm>
          <a:custGeom>
            <a:avLst/>
            <a:gdLst>
              <a:gd name="textAreaLeft" fmla="*/ 96480 w 1042920"/>
              <a:gd name="textAreaRight" fmla="*/ 946440 w 1042920"/>
              <a:gd name="textAreaTop" fmla="*/ 96480 h 1042920"/>
              <a:gd name="textAreaBottom" fmla="*/ 94644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9595" y="2005"/>
                </a:lnTo>
                <a:lnTo>
                  <a:pt x="2005" y="2005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9595" y="19595"/>
                </a:lnTo>
                <a:lnTo>
                  <a:pt x="19595" y="2005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2005" y="19595"/>
                </a:lnTo>
                <a:lnTo>
                  <a:pt x="19595" y="19595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2005" y="2005"/>
                </a:lnTo>
                <a:lnTo>
                  <a:pt x="2005" y="19595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667640" y="260280"/>
            <a:ext cx="1042920" cy="1042920"/>
          </a:xfrm>
          <a:custGeom>
            <a:avLst/>
            <a:gdLst>
              <a:gd name="textAreaLeft" fmla="*/ 96480 w 1042920"/>
              <a:gd name="textAreaRight" fmla="*/ 946440 w 1042920"/>
              <a:gd name="textAreaTop" fmla="*/ 96480 h 1042920"/>
              <a:gd name="textAreaBottom" fmla="*/ 94644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9595" y="2005"/>
                </a:lnTo>
                <a:lnTo>
                  <a:pt x="2005" y="2005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9595" y="19595"/>
                </a:lnTo>
                <a:lnTo>
                  <a:pt x="19595" y="2005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2005" y="19595"/>
                </a:lnTo>
                <a:lnTo>
                  <a:pt x="19595" y="19595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2005" y="2005"/>
                </a:lnTo>
                <a:lnTo>
                  <a:pt x="2005" y="19595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24000" y="3716280"/>
            <a:ext cx="1042920" cy="1042920"/>
          </a:xfrm>
          <a:custGeom>
            <a:avLst/>
            <a:gdLst>
              <a:gd name="textAreaLeft" fmla="*/ 96480 w 1042920"/>
              <a:gd name="textAreaRight" fmla="*/ 946440 w 1042920"/>
              <a:gd name="textAreaTop" fmla="*/ 96480 h 1042920"/>
              <a:gd name="textAreaBottom" fmla="*/ 94644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9595" y="2005"/>
                </a:lnTo>
                <a:lnTo>
                  <a:pt x="2005" y="2005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9595" y="19595"/>
                </a:lnTo>
                <a:lnTo>
                  <a:pt x="19595" y="2005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2005" y="19595"/>
                </a:lnTo>
                <a:lnTo>
                  <a:pt x="19595" y="19595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2005" y="2005"/>
                </a:lnTo>
                <a:lnTo>
                  <a:pt x="2005" y="19595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547640" y="4869000"/>
            <a:ext cx="1043280" cy="1042920"/>
          </a:xfrm>
          <a:custGeom>
            <a:avLst/>
            <a:gdLst>
              <a:gd name="textAreaLeft" fmla="*/ 96480 w 1043280"/>
              <a:gd name="textAreaRight" fmla="*/ 946800 w 1043280"/>
              <a:gd name="textAreaTop" fmla="*/ 96480 h 1042920"/>
              <a:gd name="textAreaBottom" fmla="*/ 94644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19603" y="2005"/>
                </a:lnTo>
                <a:lnTo>
                  <a:pt x="2005" y="2005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19603" y="19595"/>
                </a:lnTo>
                <a:lnTo>
                  <a:pt x="19603" y="2005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2005" y="19595"/>
                </a:lnTo>
                <a:lnTo>
                  <a:pt x="19603" y="19595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2005" y="2005"/>
                </a:lnTo>
                <a:lnTo>
                  <a:pt x="2005" y="19595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3132000" y="476280"/>
            <a:ext cx="28764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Book Antiqua"/>
              </a:rPr>
              <a:t>3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684360" y="1628640"/>
            <a:ext cx="2872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Book Antiqua"/>
              </a:rPr>
              <a:t>8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8028000" y="476280"/>
            <a:ext cx="2872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Book Antiqua"/>
              </a:rPr>
              <a:t>7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04000" y="476280"/>
            <a:ext cx="2872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Book Antiqua"/>
              </a:rPr>
              <a:t>6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5580000" y="476280"/>
            <a:ext cx="2872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Book Antiqua"/>
              </a:rPr>
              <a:t>5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356000" y="476280"/>
            <a:ext cx="2872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Book Antiqua"/>
              </a:rPr>
              <a:t>4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684360" y="476280"/>
            <a:ext cx="2872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Book Antiqua"/>
              </a:rPr>
              <a:t>1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908000" y="476280"/>
            <a:ext cx="28764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Book Antiqua"/>
              </a:rPr>
              <a:t>2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17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987640" y="162864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Book Antiqua"/>
              </a:rPr>
              <a:t>10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211640" y="162864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Book Antiqua"/>
              </a:rPr>
              <a:t>11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908000" y="1628640"/>
            <a:ext cx="28764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Book Antiqua"/>
              </a:rPr>
              <a:t>9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23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5435640" y="162864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Book Antiqua"/>
              </a:rPr>
              <a:t>12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2987640" y="278136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26"/>
                  <a:srcRect/>
                  <a:tile tx="0" ty="0" sx="100000" sy="100000" algn="ctr"/>
                </a:blipFill>
                <a:latin typeface="Book Antiqua"/>
              </a:rPr>
              <a:t>17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27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6659640" y="162864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28"/>
                  <a:srcRect/>
                  <a:tile tx="0" ty="0" sx="100000" sy="100000" algn="ctr"/>
                </a:blipFill>
                <a:latin typeface="Book Antiqua"/>
              </a:rPr>
              <a:t>13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29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763640" y="278136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30"/>
                  <a:srcRect/>
                  <a:tile tx="0" ty="0" sx="100000" sy="100000" algn="ctr"/>
                </a:blipFill>
                <a:latin typeface="Book Antiqua"/>
              </a:rPr>
              <a:t>16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31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39640" y="278136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32"/>
                  <a:srcRect/>
                  <a:tile tx="0" ty="0" sx="100000" sy="100000" algn="ctr"/>
                </a:blipFill>
                <a:latin typeface="Book Antiqua"/>
              </a:rPr>
              <a:t>15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33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7885080" y="162864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34"/>
                  <a:srcRect/>
                  <a:tile tx="0" ty="0" sx="100000" sy="100000" algn="ctr"/>
                </a:blipFill>
                <a:latin typeface="Book Antiqua"/>
              </a:rPr>
              <a:t>14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35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211640" y="278136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36"/>
                  <a:srcRect/>
                  <a:tile tx="0" ty="0" sx="100000" sy="100000" algn="ctr"/>
                </a:blipFill>
                <a:latin typeface="Book Antiqua"/>
              </a:rPr>
              <a:t>18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37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6659640" y="278136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38"/>
                  <a:srcRect/>
                  <a:tile tx="0" ty="0" sx="100000" sy="100000" algn="ctr"/>
                </a:blipFill>
                <a:latin typeface="Book Antiqua"/>
              </a:rPr>
              <a:t>20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39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435640" y="278136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40"/>
                  <a:srcRect/>
                  <a:tile tx="0" ty="0" sx="100000" sy="100000" algn="ctr"/>
                </a:blipFill>
                <a:latin typeface="Book Antiqua"/>
              </a:rPr>
              <a:t>19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41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763640" y="393372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42"/>
                  <a:srcRect/>
                  <a:tile tx="0" ty="0" sx="100000" sy="100000" algn="ctr"/>
                </a:blipFill>
                <a:latin typeface="Book Antiqua"/>
              </a:rPr>
              <a:t>23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43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9640" y="393372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44"/>
                  <a:srcRect/>
                  <a:tile tx="0" ty="0" sx="100000" sy="100000" algn="ctr"/>
                </a:blipFill>
                <a:latin typeface="Book Antiqua"/>
              </a:rPr>
              <a:t>22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45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7885080" y="278136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46"/>
                  <a:srcRect/>
                  <a:tile tx="0" ty="0" sx="100000" sy="100000" algn="ctr"/>
                </a:blipFill>
                <a:latin typeface="Book Antiqua"/>
              </a:rPr>
              <a:t>21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47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1763640" y="508464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48"/>
                  <a:srcRect/>
                  <a:tile tx="0" ty="0" sx="100000" sy="100000" algn="ctr"/>
                </a:blipFill>
                <a:latin typeface="Book Antiqua"/>
              </a:rPr>
              <a:t>30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49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539640" y="508464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50"/>
                  <a:srcRect/>
                  <a:tile tx="0" ty="0" sx="100000" sy="100000" algn="ctr"/>
                </a:blipFill>
                <a:latin typeface="Book Antiqua"/>
              </a:rPr>
              <a:t>29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51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7885080" y="393372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52"/>
                  <a:srcRect/>
                  <a:tile tx="0" ty="0" sx="100000" sy="100000" algn="ctr"/>
                </a:blipFill>
                <a:latin typeface="Book Antiqua"/>
              </a:rPr>
              <a:t>28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53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659640" y="393372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54"/>
                  <a:srcRect/>
                  <a:tile tx="0" ty="0" sx="100000" sy="100000" algn="ctr"/>
                </a:blipFill>
                <a:latin typeface="Book Antiqua"/>
              </a:rPr>
              <a:t>27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55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435640" y="393372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56"/>
                  <a:srcRect/>
                  <a:tile tx="0" ty="0" sx="100000" sy="100000" algn="ctr"/>
                </a:blipFill>
                <a:latin typeface="Book Antiqua"/>
              </a:rPr>
              <a:t>26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57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211640" y="393372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58"/>
                  <a:srcRect/>
                  <a:tile tx="0" ty="0" sx="100000" sy="100000" algn="ctr"/>
                </a:blipFill>
                <a:latin typeface="Book Antiqua"/>
              </a:rPr>
              <a:t>25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59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2987640" y="393372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60"/>
                  <a:srcRect/>
                  <a:tile tx="0" ty="0" sx="100000" sy="100000" algn="ctr"/>
                </a:blipFill>
                <a:latin typeface="Book Antiqua"/>
              </a:rPr>
              <a:t>24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61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885080" y="508464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62"/>
                  <a:srcRect/>
                  <a:tile tx="0" ty="0" sx="100000" sy="100000" algn="ctr"/>
                </a:blipFill>
                <a:latin typeface="Book Antiqua"/>
              </a:rPr>
              <a:t>35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63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659640" y="508464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64"/>
                  <a:srcRect/>
                  <a:tile tx="0" ty="0" sx="100000" sy="100000" algn="ctr"/>
                </a:blipFill>
                <a:latin typeface="Book Antiqua"/>
              </a:rPr>
              <a:t>34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65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435640" y="508464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66"/>
                  <a:srcRect/>
                  <a:tile tx="0" ty="0" sx="100000" sy="100000" algn="ctr"/>
                </a:blipFill>
                <a:latin typeface="Book Antiqua"/>
              </a:rPr>
              <a:t>33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67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059280" y="5084640"/>
            <a:ext cx="5760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68"/>
                  <a:srcRect/>
                  <a:tile tx="0" ty="0" sx="100000" sy="100000" algn="ctr"/>
                </a:blipFill>
                <a:latin typeface="Book Antiqua"/>
              </a:rPr>
              <a:t>31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69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211640" y="508464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70"/>
                  <a:srcRect/>
                  <a:tile tx="0" ty="0" sx="100000" sy="100000" algn="ctr"/>
                </a:blipFill>
                <a:latin typeface="Book Antiqua"/>
              </a:rPr>
              <a:t>32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71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6165720"/>
            <a:ext cx="9144000" cy="69228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250920" y="6308640"/>
            <a:ext cx="4897440" cy="38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58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гра "географ"</a:t>
            </a:r>
            <a:endParaRPr b="0" i="1" lang="en-US" sz="1800" spc="1" strike="noStrike">
              <a:ln w="158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8" name="">
            <a:hlinkClick r:id="rId72" action="ppaction://hlinksldjump"/>
          </p:cNvPr>
          <p:cNvSpPr/>
          <p:nvPr/>
        </p:nvSpPr>
        <p:spPr>
          <a:xfrm>
            <a:off x="6588000" y="6381720"/>
            <a:ext cx="1420920" cy="287280"/>
          </a:xfrm>
          <a:prstGeom prst="rect">
            <a:avLst/>
          </a:prstGeom>
          <a:gradFill rotWithShape="0">
            <a:gsLst>
              <a:gs pos="0">
                <a:srgbClr val="3c3e5a"/>
              </a:gs>
              <a:gs pos="50000">
                <a:srgbClr val="8488c4">
                  <a:alpha val="63137"/>
                </a:srgbClr>
              </a:gs>
              <a:gs pos="100000">
                <a:srgbClr val="3c3e5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равила игр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>
            <a:hlinkClick r:id="rId73" action="ppaction://hlinksldjump"/>
          </p:cNvPr>
          <p:cNvSpPr/>
          <p:nvPr/>
        </p:nvSpPr>
        <p:spPr>
          <a:xfrm>
            <a:off x="8244000" y="6381720"/>
            <a:ext cx="701640" cy="287280"/>
          </a:xfrm>
          <a:prstGeom prst="rect">
            <a:avLst/>
          </a:prstGeom>
          <a:gradFill rotWithShape="0">
            <a:gsLst>
              <a:gs pos="0">
                <a:srgbClr val="3c3e5a"/>
              </a:gs>
              <a:gs pos="50000">
                <a:srgbClr val="8488c4">
                  <a:alpha val="63137"/>
                </a:srgbClr>
              </a:gs>
              <a:gs pos="100000">
                <a:srgbClr val="3c3e5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Выхо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restart="whenNotActive" nodeType="interactiveSeq" fill="hold">
                <p:stCondLst>
                  <p:cond evt="onClick">
                    <p:tgtEl>
                      <p:spTgt spid="91"/>
                    </p:tgtEl>
                  </p:cond>
                </p:stCondLst>
                <p:childTnLst>
                  <p:par>
                    <p:cTn id="17" fill="hold">
                      <p:stCondLst>
                        <p:cond evt="onClick">
                          <p:tgtEl>
                            <p:spTgt spid="91"/>
                          </p:tgtEl>
                        </p:cond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" dur="5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92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92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" dur="5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" restart="whenNotActive" nodeType="interactiveSeq" fill="hold">
                <p:stCondLst>
                  <p:cond evt="onClick">
                    <p:tgtEl>
                      <p:spTgt spid="93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" dur="5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" restart="whenNotActive" nodeType="interactiveSeq" fill="hold">
                <p:stCondLst>
                  <p:cond evt="onClick">
                    <p:tgtEl>
                      <p:spTgt spid="94"/>
                    </p:tgtEl>
                  </p:cond>
                </p:stCondLst>
                <p:childTnLst>
                  <p:par>
                    <p:cTn id="41" fill="hold">
                      <p:stCondLst>
                        <p:cond evt="onClick">
                          <p:tgtEl>
                            <p:spTgt spid="94"/>
                          </p:tgtEl>
                        </p:cond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4" dur="5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" restart="whenNotActive" nodeType="interactiveSeq" fill="hold">
                <p:stCondLst>
                  <p:cond evt="onClick">
                    <p:tgtEl>
                      <p:spTgt spid="95"/>
                    </p:tgtEl>
                  </p:cond>
                </p:stCondLst>
                <p:childTnLst>
                  <p:par>
                    <p:cTn id="49" fill="hold">
                      <p:stCondLst>
                        <p:cond evt="onClick">
                          <p:tgtEl>
                            <p:spTgt spid="95"/>
                          </p:tgtEl>
                        </p:cond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2" dur="5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" restart="whenNotActive" nodeType="interactiveSeq" fill="hold">
                <p:stCondLst>
                  <p:cond evt="onClick">
                    <p:tgtEl>
                      <p:spTgt spid="96"/>
                    </p:tgtEl>
                  </p:cond>
                </p:stCondLst>
                <p:childTnLst>
                  <p:par>
                    <p:cTn id="57" fill="hold">
                      <p:stCondLst>
                        <p:cond evt="onClick">
                          <p:tgtEl>
                            <p:spTgt spid="96"/>
                          </p:tgtEl>
                        </p:cond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0" dur="5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6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8" dur="5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" restart="whenNotActive" nodeType="interactiveSeq" fill="hold">
                <p:stCondLst>
                  <p:cond evt="onClick">
                    <p:tgtEl>
                      <p:spTgt spid="98"/>
                    </p:tgtEl>
                  </p:cond>
                </p:stCondLst>
                <p:childTnLst>
                  <p:par>
                    <p:cTn id="73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6" dur="5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0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81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4" dur="5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8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89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2" dur="5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6" restart="whenNotActive" nodeType="interactiveSeq" fill="hold">
                <p:stCondLst>
                  <p:cond evt="onClick">
                    <p:tgtEl>
                      <p:spTgt spid="101"/>
                    </p:tgtEl>
                  </p:cond>
                </p:stCondLst>
                <p:childTnLst>
                  <p:par>
                    <p:cTn id="97" fill="hold">
                      <p:stCondLst>
                        <p:cond evt="onClick">
                          <p:tgtEl>
                            <p:spTgt spid="101"/>
                          </p:tgtEl>
                        </p:cond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0" dur="5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4" restart="whenNotActive" nodeType="interactiveSeq" fill="hold">
                <p:stCondLst>
                  <p:cond evt="onClick">
                    <p:tgtEl>
                      <p:spTgt spid="102"/>
                    </p:tgtEl>
                  </p:cond>
                </p:stCondLst>
                <p:childTnLst>
                  <p:par>
                    <p:cTn id="105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8" dur="5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2" restart="whenNotActive" nodeType="interactiveSeq" fill="hold">
                <p:stCondLst>
                  <p:cond evt="onClick">
                    <p:tgtEl>
                      <p:spTgt spid="103"/>
                    </p:tgtEl>
                  </p:cond>
                </p:stCondLst>
                <p:childTnLst>
                  <p:par>
                    <p:cTn id="113" fill="hold">
                      <p:stCondLst>
                        <p:cond evt="onClick">
                          <p:tgtEl>
                            <p:spTgt spid="103"/>
                          </p:tgtEl>
                        </p:cond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6" dur="5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0" restart="whenNotActive" nodeType="interactiveSeq" fill="hold">
                <p:stCondLst>
                  <p:cond evt="onClick">
                    <p:tgtEl>
                      <p:spTgt spid="104"/>
                    </p:tgtEl>
                  </p:cond>
                </p:stCondLst>
                <p:childTnLst>
                  <p:par>
                    <p:cTn id="121" fill="hold">
                      <p:stCondLst>
                        <p:cond evt="onClick">
                          <p:tgtEl>
                            <p:spTgt spid="104"/>
                          </p:tgtEl>
                        </p:cond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4" dur="5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8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129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2" dur="5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6" restart="whenNotActive" nodeType="interactiveSeq" fill="hold">
                <p:stCondLst>
                  <p:cond evt="onClick">
                    <p:tgtEl>
                      <p:spTgt spid="106"/>
                    </p:tgtEl>
                  </p:cond>
                </p:stCondLst>
                <p:childTnLst>
                  <p:par>
                    <p:cTn id="137" fill="hold">
                      <p:stCondLst>
                        <p:cond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0" dur="5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4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145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8" dur="5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2" restart="whenNotActive" nodeType="interactiveSeq" fill="hold">
                <p:stCondLst>
                  <p:cond evt="onClick">
                    <p:tgtEl>
                      <p:spTgt spid="108"/>
                    </p:tgtEl>
                  </p:cond>
                </p:stCondLst>
                <p:childTnLst>
                  <p:par>
                    <p:cTn id="153" fill="hold">
                      <p:stCondLst>
                        <p:cond evt="onClick">
                          <p:tgtEl>
                            <p:spTgt spid="108"/>
                          </p:tgtEl>
                        </p:cond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6" dur="5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0" restart="whenNotActive" nodeType="interactiveSeq" fill="hold">
                <p:stCondLst>
                  <p:cond evt="onClick">
                    <p:tgtEl>
                      <p:spTgt spid="109"/>
                    </p:tgtEl>
                  </p:cond>
                </p:stCondLst>
                <p:childTnLst>
                  <p:par>
                    <p:cTn id="161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4" dur="5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8" restart="whenNotActive" nodeType="interactiveSeq" fill="hold">
                <p:stCondLst>
                  <p:cond evt="onClick">
                    <p:tgtEl>
                      <p:spTgt spid="110"/>
                    </p:tgtEl>
                  </p:cond>
                </p:stCondLst>
                <p:childTnLst>
                  <p:par>
                    <p:cTn id="169" fill="hold">
                      <p:stCondLst>
                        <p:cond evt="onClick">
                          <p:tgtEl>
                            <p:spTgt spid="110"/>
                          </p:tgtEl>
                        </p:cond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2" dur="5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6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177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0" dur="5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4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185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8" dur="5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2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193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6" dur="5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0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201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4" dur="5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8" restart="whenNotActive" nodeType="interactiveSeq" fill="hold">
                <p:stCondLst>
                  <p:cond evt="onClick">
                    <p:tgtEl>
                      <p:spTgt spid="115"/>
                    </p:tgtEl>
                  </p:cond>
                </p:stCondLst>
                <p:childTnLst>
                  <p:par>
                    <p:cTn id="209" fill="hold">
                      <p:stCondLst>
                        <p:cond evt="onClick">
                          <p:tgtEl>
                            <p:spTgt spid="115"/>
                          </p:tgtEl>
                        </p:cond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2" dur="5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6" restart="whenNotActive" nodeType="interactiveSeq" fill="hold">
                <p:stCondLst>
                  <p:cond evt="onClick">
                    <p:tgtEl>
                      <p:spTgt spid="116"/>
                    </p:tgtEl>
                  </p:cond>
                </p:stCondLst>
                <p:childTnLst>
                  <p:par>
                    <p:cTn id="217" fill="hold">
                      <p:stCondLst>
                        <p:cond evt="onClick">
                          <p:tgtEl>
                            <p:spTgt spid="116"/>
                          </p:tgtEl>
                        </p:cond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0" dur="5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4" restart="whenNotActive" nodeType="interactiveSeq" fill="hold">
                <p:stCondLst>
                  <p:cond evt="onClick">
                    <p:tgtEl>
                      <p:spTgt spid="117"/>
                    </p:tgtEl>
                  </p:cond>
                </p:stCondLst>
                <p:childTnLst>
                  <p:par>
                    <p:cTn id="225" fill="hold">
                      <p:stCondLst>
                        <p:cond evt="onClick">
                          <p:tgtEl>
                            <p:spTgt spid="117"/>
                          </p:tgtEl>
                        </p:cond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8" dur="5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2" restart="whenNotActive" nodeType="interactiveSeq" fill="hold">
                <p:stCondLst>
                  <p:cond evt="onClick">
                    <p:tgtEl>
                      <p:spTgt spid="118"/>
                    </p:tgtEl>
                  </p:cond>
                </p:stCondLst>
                <p:childTnLst>
                  <p:par>
                    <p:cTn id="233" fill="hold">
                      <p:stCondLst>
                        <p:cond evt="onClick">
                          <p:tgtEl>
                            <p:spTgt spid="118"/>
                          </p:tgtEl>
                        </p:cond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6" dur="5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0" restart="whenNotActive" nodeType="interactiveSeq" fill="hold">
                <p:stCondLst>
                  <p:cond evt="onClick">
                    <p:tgtEl>
                      <p:spTgt spid="119"/>
                    </p:tgtEl>
                  </p:cond>
                </p:stCondLst>
                <p:childTnLst>
                  <p:par>
                    <p:cTn id="241" fill="hold">
                      <p:stCondLst>
                        <p:cond evt="onClick">
                          <p:tgtEl>
                            <p:spTgt spid="119"/>
                          </p:tgtEl>
                        </p:cond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4" dur="5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4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8" restart="whenNotActive" nodeType="interactiveSeq" fill="hold">
                <p:stCondLst>
                  <p:cond evt="onClick">
                    <p:tgtEl>
                      <p:spTgt spid="120"/>
                    </p:tgtEl>
                  </p:cond>
                </p:stCondLst>
                <p:childTnLst>
                  <p:par>
                    <p:cTn id="249" fill="hold">
                      <p:stCondLst>
                        <p:cond evt="onClick">
                          <p:tgtEl>
                            <p:spTgt spid="120"/>
                          </p:tgtEl>
                        </p:cond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2" dur="5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5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6" restart="whenNotActive" nodeType="interactiveSeq" fill="hold">
                <p:stCondLst>
                  <p:cond evt="onClick">
                    <p:tgtEl>
                      <p:spTgt spid="121"/>
                    </p:tgtEl>
                  </p:cond>
                </p:stCondLst>
                <p:childTnLst>
                  <p:par>
                    <p:cTn id="257" fill="hold">
                      <p:stCondLst>
                        <p:cond evt="onClick">
                          <p:tgtEl>
                            <p:spTgt spid="121"/>
                          </p:tgtEl>
                        </p:cond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0" dur="5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6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4" restart="whenNotActive" nodeType="interactiveSeq" fill="hold">
                <p:stCondLst>
                  <p:cond evt="onClick">
                    <p:tgtEl>
                      <p:spTgt spid="122"/>
                    </p:tgtEl>
                  </p:cond>
                </p:stCondLst>
                <p:childTnLst>
                  <p:par>
                    <p:cTn id="265" fill="hold">
                      <p:stCondLst>
                        <p:cond evt="onClick">
                          <p:tgtEl>
                            <p:spTgt spid="122"/>
                          </p:tgtEl>
                        </p:cond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8" dur="5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7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2" restart="whenNotActive" nodeType="interactiveSeq" fill="hold">
                <p:stCondLst>
                  <p:cond evt="onClick">
                    <p:tgtEl>
                      <p:spTgt spid="123"/>
                    </p:tgtEl>
                  </p:cond>
                </p:stCondLst>
                <p:childTnLst>
                  <p:par>
                    <p:cTn id="273" fill="hold">
                      <p:stCondLst>
                        <p:cond evt="onClick">
                          <p:tgtEl>
                            <p:spTgt spid="123"/>
                          </p:tgtEl>
                        </p:cond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6" dur="5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7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0" restart="whenNotActive" nodeType="interactiveSeq" fill="hold">
                <p:stCondLst>
                  <p:cond evt="onClick">
                    <p:tgtEl>
                      <p:spTgt spid="124"/>
                    </p:tgtEl>
                  </p:cond>
                </p:stCondLst>
                <p:childTnLst>
                  <p:par>
                    <p:cTn id="281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4" dur="5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8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8" restart="whenNotActive" nodeType="interactiveSeq" fill="hold">
                <p:stCondLst>
                  <p:cond evt="onClick">
                    <p:tgtEl>
                      <p:spTgt spid="125"/>
                    </p:tgtEl>
                  </p:cond>
                </p:stCondLst>
                <p:childTnLst>
                  <p:par>
                    <p:cTn id="289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2" dur="5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9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583236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ВНИМАНИЕ !  ВОПРО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1332000" y="1557000"/>
            <a:ext cx="6780240" cy="1800360"/>
          </a:xfrm>
          <a:prstGeom prst="rect">
            <a:avLst/>
          </a:prstGeom>
          <a:solidFill>
            <a:srgbClr val="0066ff">
              <a:alpha val="19000"/>
            </a:srgbClr>
          </a:solidFill>
          <a:ln w="5724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Водный поток, текущий в выработанном им углублении называется…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0" name="" descr=""/>
          <p:cNvPicPr/>
          <p:nvPr/>
        </p:nvPicPr>
        <p:blipFill>
          <a:blip r:embed="rId2"/>
          <a:stretch/>
        </p:blipFill>
        <p:spPr>
          <a:xfrm>
            <a:off x="395280" y="404640"/>
            <a:ext cx="1368360" cy="1368720"/>
          </a:xfrm>
          <a:prstGeom prst="rect">
            <a:avLst/>
          </a:prstGeom>
          <a:ln w="0">
            <a:noFill/>
          </a:ln>
        </p:spPr>
      </p:pic>
      <p:sp>
        <p:nvSpPr>
          <p:cNvPr id="601" name="">
            <a:hlinkClick r:id="rId3" action="ppaction://hlinksldjump"/>
          </p:cNvPr>
          <p:cNvSpPr/>
          <p:nvPr/>
        </p:nvSpPr>
        <p:spPr>
          <a:xfrm>
            <a:off x="539640" y="549360"/>
            <a:ext cx="1042920" cy="1042920"/>
          </a:xfrm>
          <a:custGeom>
            <a:avLst/>
            <a:gdLst>
              <a:gd name="textAreaLeft" fmla="*/ 96480 w 1042920"/>
              <a:gd name="textAreaRight" fmla="*/ 946440 w 1042920"/>
              <a:gd name="textAreaTop" fmla="*/ 96480 h 1042920"/>
              <a:gd name="textAreaBottom" fmla="*/ 94644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9595" y="2005"/>
                </a:lnTo>
                <a:lnTo>
                  <a:pt x="2005" y="2005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9595" y="19595"/>
                </a:lnTo>
                <a:lnTo>
                  <a:pt x="19595" y="2005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2005" y="19595"/>
                </a:lnTo>
                <a:lnTo>
                  <a:pt x="19595" y="19595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2005" y="2005"/>
                </a:lnTo>
                <a:lnTo>
                  <a:pt x="2005" y="19595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66ff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 txBox="1"/>
          <p:nvPr/>
        </p:nvSpPr>
        <p:spPr>
          <a:xfrm>
            <a:off x="755640" y="76500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Book Antiqua"/>
              </a:rPr>
              <a:t>16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603" name=""/>
          <p:cNvSpPr/>
          <p:nvPr/>
        </p:nvSpPr>
        <p:spPr>
          <a:xfrm>
            <a:off x="684360" y="5589720"/>
            <a:ext cx="647640" cy="538200"/>
          </a:xfrm>
          <a:custGeom>
            <a:avLst/>
            <a:gdLst>
              <a:gd name="textAreaLeft" fmla="*/ 115200 w 647640"/>
              <a:gd name="textAreaRight" fmla="*/ 532440 w 647640"/>
              <a:gd name="textAreaTop" fmla="*/ 115200 h 538200"/>
              <a:gd name="textAreaBottom" fmla="*/ 42300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1361" y="4629"/>
                </a:lnTo>
                <a:lnTo>
                  <a:pt x="4629" y="4629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1361" y="16971"/>
                </a:lnTo>
                <a:lnTo>
                  <a:pt x="21361" y="4629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4629" y="16971"/>
                </a:lnTo>
                <a:lnTo>
                  <a:pt x="21361" y="16971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4629" y="4629"/>
                </a:lnTo>
                <a:lnTo>
                  <a:pt x="4629" y="1697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66ff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1547640" y="5589720"/>
            <a:ext cx="648000" cy="538200"/>
          </a:xfrm>
          <a:custGeom>
            <a:avLst/>
            <a:gdLst>
              <a:gd name="textAreaLeft" fmla="*/ 115200 w 648000"/>
              <a:gd name="textAreaRight" fmla="*/ 532800 w 648000"/>
              <a:gd name="textAreaTop" fmla="*/ 115200 h 538200"/>
              <a:gd name="textAreaBottom" fmla="*/ 42300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1375" y="4629"/>
                </a:lnTo>
                <a:lnTo>
                  <a:pt x="4629" y="4629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1375" y="16971"/>
                </a:lnTo>
                <a:lnTo>
                  <a:pt x="21375" y="4629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4629" y="16971"/>
                </a:lnTo>
                <a:lnTo>
                  <a:pt x="21375" y="16971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4629" y="4629"/>
                </a:lnTo>
                <a:lnTo>
                  <a:pt x="4629" y="1697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66ff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2411280" y="5589720"/>
            <a:ext cx="648000" cy="538200"/>
          </a:xfrm>
          <a:custGeom>
            <a:avLst/>
            <a:gdLst>
              <a:gd name="textAreaLeft" fmla="*/ 115200 w 648000"/>
              <a:gd name="textAreaRight" fmla="*/ 532800 w 648000"/>
              <a:gd name="textAreaTop" fmla="*/ 115200 h 538200"/>
              <a:gd name="textAreaBottom" fmla="*/ 42300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1375" y="4629"/>
                </a:lnTo>
                <a:lnTo>
                  <a:pt x="4629" y="4629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1375" y="16971"/>
                </a:lnTo>
                <a:lnTo>
                  <a:pt x="21375" y="4629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4629" y="16971"/>
                </a:lnTo>
                <a:lnTo>
                  <a:pt x="21375" y="16971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4629" y="4629"/>
                </a:lnTo>
                <a:lnTo>
                  <a:pt x="4629" y="1697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66ff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3276720" y="5589720"/>
            <a:ext cx="647640" cy="538200"/>
          </a:xfrm>
          <a:custGeom>
            <a:avLst/>
            <a:gdLst>
              <a:gd name="textAreaLeft" fmla="*/ 115200 w 647640"/>
              <a:gd name="textAreaRight" fmla="*/ 532440 w 647640"/>
              <a:gd name="textAreaTop" fmla="*/ 115200 h 538200"/>
              <a:gd name="textAreaBottom" fmla="*/ 42300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1361" y="4629"/>
                </a:lnTo>
                <a:lnTo>
                  <a:pt x="4629" y="4629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1361" y="16971"/>
                </a:lnTo>
                <a:lnTo>
                  <a:pt x="21361" y="4629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4629" y="16971"/>
                </a:lnTo>
                <a:lnTo>
                  <a:pt x="21361" y="16971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4629" y="4629"/>
                </a:lnTo>
                <a:lnTo>
                  <a:pt x="4629" y="1697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66ff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4140360" y="5589720"/>
            <a:ext cx="647640" cy="538200"/>
          </a:xfrm>
          <a:custGeom>
            <a:avLst/>
            <a:gdLst>
              <a:gd name="textAreaLeft" fmla="*/ 115200 w 647640"/>
              <a:gd name="textAreaRight" fmla="*/ 532440 w 647640"/>
              <a:gd name="textAreaTop" fmla="*/ 115200 h 538200"/>
              <a:gd name="textAreaBottom" fmla="*/ 42300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1361" y="4629"/>
                </a:lnTo>
                <a:lnTo>
                  <a:pt x="4629" y="4629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1361" y="16971"/>
                </a:lnTo>
                <a:lnTo>
                  <a:pt x="21361" y="4629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4629" y="16971"/>
                </a:lnTo>
                <a:lnTo>
                  <a:pt x="21361" y="16971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4629" y="4629"/>
                </a:lnTo>
                <a:lnTo>
                  <a:pt x="4629" y="1697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66ff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4572000" y="3716280"/>
            <a:ext cx="4321080" cy="574560"/>
          </a:xfrm>
          <a:prstGeom prst="rect">
            <a:avLst/>
          </a:prstGeom>
          <a:noFill/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33"/>
                </a:solidFill>
                <a:latin typeface="Arial"/>
              </a:rPr>
              <a:t>Правильный 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 rot="10800000">
            <a:off x="5076360" y="4797000"/>
            <a:ext cx="3311640" cy="1295640"/>
          </a:xfrm>
          <a:prstGeom prst="wedgeRectCallout">
            <a:avLst>
              <a:gd name="adj1" fmla="val -5277"/>
              <a:gd name="adj2" fmla="val 85416"/>
            </a:avLst>
          </a:prstGeom>
          <a:noFill/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Ре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 txBox="1"/>
          <p:nvPr/>
        </p:nvSpPr>
        <p:spPr>
          <a:xfrm>
            <a:off x="250920" y="189000"/>
            <a:ext cx="1657080" cy="21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58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географ</a:t>
            </a:r>
            <a:endParaRPr b="0" i="1" lang="en-US" sz="1800" spc="1" strike="noStrike">
              <a:ln w="158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11" name=""/>
          <p:cNvSpPr/>
          <p:nvPr/>
        </p:nvSpPr>
        <p:spPr>
          <a:xfrm>
            <a:off x="0" y="6297480"/>
            <a:ext cx="9144000" cy="56052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 txBox="1"/>
          <p:nvPr/>
        </p:nvSpPr>
        <p:spPr>
          <a:xfrm>
            <a:off x="468360" y="6453360"/>
            <a:ext cx="4174920" cy="23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58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гра "географ"</a:t>
            </a:r>
            <a:endParaRPr b="0" i="1" lang="en-US" sz="1800" spc="1" strike="noStrike">
              <a:ln w="158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13" name="">
            <a:hlinkClick r:id="rId6" action="ppaction://hlinksldjump"/>
          </p:cNvPr>
          <p:cNvSpPr/>
          <p:nvPr/>
        </p:nvSpPr>
        <p:spPr>
          <a:xfrm>
            <a:off x="5940360" y="6453360"/>
            <a:ext cx="1420920" cy="288720"/>
          </a:xfrm>
          <a:prstGeom prst="rect">
            <a:avLst/>
          </a:prstGeom>
          <a:gradFill rotWithShape="0">
            <a:gsLst>
              <a:gs pos="0">
                <a:srgbClr val="3c3e5a"/>
              </a:gs>
              <a:gs pos="50000">
                <a:srgbClr val="8488c4">
                  <a:alpha val="63137"/>
                </a:srgbClr>
              </a:gs>
              <a:gs pos="100000">
                <a:srgbClr val="3c3e5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равила игр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7451640" y="6453360"/>
            <a:ext cx="1565280" cy="288720"/>
          </a:xfrm>
          <a:prstGeom prst="rect">
            <a:avLst/>
          </a:prstGeom>
          <a:gradFill rotWithShape="0">
            <a:gsLst>
              <a:gs pos="0">
                <a:srgbClr val="3c3e5a"/>
              </a:gs>
              <a:gs pos="50000">
                <a:srgbClr val="8488c4">
                  <a:alpha val="63137"/>
                </a:srgbClr>
              </a:gs>
              <a:gs pos="100000">
                <a:srgbClr val="3c3e5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Продолжить игр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5" name="" descr=""/>
          <p:cNvPicPr/>
          <p:nvPr/>
        </p:nvPicPr>
        <p:blipFill>
          <a:blip r:embed="rId7"/>
          <a:stretch/>
        </p:blipFill>
        <p:spPr>
          <a:xfrm>
            <a:off x="1187280" y="3573360"/>
            <a:ext cx="158436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8" dur="indefinite" restart="never" nodeType="tmRoot">
          <p:childTnLst>
            <p:seq>
              <p:cTn id="1549" dur="indefinite" nodeType="mainSeq">
                <p:childTnLst>
                  <p:par>
                    <p:cTn id="1550" fill="hold">
                      <p:stCondLst>
                        <p:cond delay="0"/>
                      </p:stCondLst>
                      <p:childTnLst>
                        <p:par>
                          <p:cTn id="1551" fill="hold">
                            <p:stCondLst>
                              <p:cond delay="0"/>
                            </p:stCondLst>
                            <p:childTnLst>
                              <p:par>
                                <p:cTn id="155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4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5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7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58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9" fill="hold">
                            <p:stCondLst>
                              <p:cond delay="500"/>
                            </p:stCondLst>
                            <p:childTnLst>
                              <p:par>
                                <p:cTn id="156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62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3" fill="hold">
                            <p:stCondLst>
                              <p:cond delay="1000"/>
                            </p:stCondLst>
                            <p:childTnLst>
                              <p:par>
                                <p:cTn id="1564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66" dur="500"/>
                                        <p:tgtEl>
                                          <p:spTgt spid="5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7" fill="hold">
                            <p:stCondLst>
                              <p:cond delay="1500"/>
                            </p:stCondLst>
                            <p:childTnLst>
                              <p:par>
                                <p:cTn id="1568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0" dur="10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72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4" dur="1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5" fill="hold">
                            <p:stCondLst>
                              <p:cond delay="7000"/>
                            </p:stCondLst>
                            <p:childTnLst>
                              <p:par>
                                <p:cTn id="1576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8" dur="10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9" fill="hold">
                            <p:stCondLst>
                              <p:cond delay="9000"/>
                            </p:stCondLst>
                            <p:childTnLst>
                              <p:par>
                                <p:cTn id="1580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2" dur="10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3" fill="hold">
                            <p:stCondLst>
                              <p:cond delay="11000"/>
                            </p:stCondLst>
                            <p:childTnLst>
                              <p:par>
                                <p:cTn id="1584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6" dur="10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7" fill="hold">
                      <p:stCondLst>
                        <p:cond delay="indefinite"/>
                      </p:stCondLst>
                      <p:childTnLst>
                        <p:par>
                          <p:cTn id="1588" fill="hold">
                            <p:stCondLst>
                              <p:cond delay="0"/>
                            </p:stCondLst>
                            <p:childTnLst>
                              <p:par>
                                <p:cTn id="15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1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2" fill="hold">
                            <p:stCondLst>
                              <p:cond delay="500"/>
                            </p:stCondLst>
                            <p:childTnLst>
                              <p:par>
                                <p:cTn id="15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5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583236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ВНИМАНИЕ !  ВОПРО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1332000" y="1699920"/>
            <a:ext cx="6780240" cy="1584360"/>
          </a:xfrm>
          <a:prstGeom prst="rect">
            <a:avLst/>
          </a:prstGeom>
          <a:solidFill>
            <a:srgbClr val="0066ff">
              <a:alpha val="19000"/>
            </a:srgbClr>
          </a:solidFill>
          <a:ln w="5724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Главная река со всеми притоками называется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8" name="" descr=""/>
          <p:cNvPicPr/>
          <p:nvPr/>
        </p:nvPicPr>
        <p:blipFill>
          <a:blip r:embed="rId2"/>
          <a:stretch/>
        </p:blipFill>
        <p:spPr>
          <a:xfrm>
            <a:off x="395280" y="404640"/>
            <a:ext cx="1368360" cy="1368720"/>
          </a:xfrm>
          <a:prstGeom prst="rect">
            <a:avLst/>
          </a:prstGeom>
          <a:ln w="0">
            <a:noFill/>
          </a:ln>
        </p:spPr>
      </p:pic>
      <p:sp>
        <p:nvSpPr>
          <p:cNvPr id="619" name="">
            <a:hlinkClick r:id="rId3" action="ppaction://hlinksldjump"/>
          </p:cNvPr>
          <p:cNvSpPr/>
          <p:nvPr/>
        </p:nvSpPr>
        <p:spPr>
          <a:xfrm>
            <a:off x="539640" y="549360"/>
            <a:ext cx="1042920" cy="1042920"/>
          </a:xfrm>
          <a:custGeom>
            <a:avLst/>
            <a:gdLst>
              <a:gd name="textAreaLeft" fmla="*/ 96480 w 1042920"/>
              <a:gd name="textAreaRight" fmla="*/ 946440 w 1042920"/>
              <a:gd name="textAreaTop" fmla="*/ 96480 h 1042920"/>
              <a:gd name="textAreaBottom" fmla="*/ 94644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9595" y="2005"/>
                </a:lnTo>
                <a:lnTo>
                  <a:pt x="2005" y="2005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9595" y="19595"/>
                </a:lnTo>
                <a:lnTo>
                  <a:pt x="19595" y="2005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2005" y="19595"/>
                </a:lnTo>
                <a:lnTo>
                  <a:pt x="19595" y="19595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2005" y="2005"/>
                </a:lnTo>
                <a:lnTo>
                  <a:pt x="2005" y="19595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66ff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 txBox="1"/>
          <p:nvPr/>
        </p:nvSpPr>
        <p:spPr>
          <a:xfrm>
            <a:off x="755640" y="76500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Book Antiqua"/>
              </a:rPr>
              <a:t>20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621" name=""/>
          <p:cNvSpPr/>
          <p:nvPr/>
        </p:nvSpPr>
        <p:spPr>
          <a:xfrm>
            <a:off x="684360" y="5589720"/>
            <a:ext cx="647640" cy="538200"/>
          </a:xfrm>
          <a:custGeom>
            <a:avLst/>
            <a:gdLst>
              <a:gd name="textAreaLeft" fmla="*/ 115200 w 647640"/>
              <a:gd name="textAreaRight" fmla="*/ 532440 w 647640"/>
              <a:gd name="textAreaTop" fmla="*/ 115200 h 538200"/>
              <a:gd name="textAreaBottom" fmla="*/ 42300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1361" y="4629"/>
                </a:lnTo>
                <a:lnTo>
                  <a:pt x="4629" y="4629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1361" y="16971"/>
                </a:lnTo>
                <a:lnTo>
                  <a:pt x="21361" y="4629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4629" y="16971"/>
                </a:lnTo>
                <a:lnTo>
                  <a:pt x="21361" y="16971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4629" y="4629"/>
                </a:lnTo>
                <a:lnTo>
                  <a:pt x="4629" y="1697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66ff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1547640" y="5589720"/>
            <a:ext cx="648000" cy="538200"/>
          </a:xfrm>
          <a:custGeom>
            <a:avLst/>
            <a:gdLst>
              <a:gd name="textAreaLeft" fmla="*/ 115200 w 648000"/>
              <a:gd name="textAreaRight" fmla="*/ 532800 w 648000"/>
              <a:gd name="textAreaTop" fmla="*/ 115200 h 538200"/>
              <a:gd name="textAreaBottom" fmla="*/ 42300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1375" y="4629"/>
                </a:lnTo>
                <a:lnTo>
                  <a:pt x="4629" y="4629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1375" y="16971"/>
                </a:lnTo>
                <a:lnTo>
                  <a:pt x="21375" y="4629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4629" y="16971"/>
                </a:lnTo>
                <a:lnTo>
                  <a:pt x="21375" y="16971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4629" y="4629"/>
                </a:lnTo>
                <a:lnTo>
                  <a:pt x="4629" y="1697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66ff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2411280" y="5589720"/>
            <a:ext cx="648000" cy="538200"/>
          </a:xfrm>
          <a:custGeom>
            <a:avLst/>
            <a:gdLst>
              <a:gd name="textAreaLeft" fmla="*/ 115200 w 648000"/>
              <a:gd name="textAreaRight" fmla="*/ 532800 w 648000"/>
              <a:gd name="textAreaTop" fmla="*/ 115200 h 538200"/>
              <a:gd name="textAreaBottom" fmla="*/ 42300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1375" y="4629"/>
                </a:lnTo>
                <a:lnTo>
                  <a:pt x="4629" y="4629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1375" y="16971"/>
                </a:lnTo>
                <a:lnTo>
                  <a:pt x="21375" y="4629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4629" y="16971"/>
                </a:lnTo>
                <a:lnTo>
                  <a:pt x="21375" y="16971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4629" y="4629"/>
                </a:lnTo>
                <a:lnTo>
                  <a:pt x="4629" y="1697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66ff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3276720" y="5589720"/>
            <a:ext cx="647640" cy="538200"/>
          </a:xfrm>
          <a:custGeom>
            <a:avLst/>
            <a:gdLst>
              <a:gd name="textAreaLeft" fmla="*/ 115200 w 647640"/>
              <a:gd name="textAreaRight" fmla="*/ 532440 w 647640"/>
              <a:gd name="textAreaTop" fmla="*/ 115200 h 538200"/>
              <a:gd name="textAreaBottom" fmla="*/ 42300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1361" y="4629"/>
                </a:lnTo>
                <a:lnTo>
                  <a:pt x="4629" y="4629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1361" y="16971"/>
                </a:lnTo>
                <a:lnTo>
                  <a:pt x="21361" y="4629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4629" y="16971"/>
                </a:lnTo>
                <a:lnTo>
                  <a:pt x="21361" y="16971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4629" y="4629"/>
                </a:lnTo>
                <a:lnTo>
                  <a:pt x="4629" y="1697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66ff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4140360" y="5589720"/>
            <a:ext cx="647640" cy="538200"/>
          </a:xfrm>
          <a:custGeom>
            <a:avLst/>
            <a:gdLst>
              <a:gd name="textAreaLeft" fmla="*/ 115200 w 647640"/>
              <a:gd name="textAreaRight" fmla="*/ 532440 w 647640"/>
              <a:gd name="textAreaTop" fmla="*/ 115200 h 538200"/>
              <a:gd name="textAreaBottom" fmla="*/ 42300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1361" y="4629"/>
                </a:lnTo>
                <a:lnTo>
                  <a:pt x="4629" y="4629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1361" y="16971"/>
                </a:lnTo>
                <a:lnTo>
                  <a:pt x="21361" y="4629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4629" y="16971"/>
                </a:lnTo>
                <a:lnTo>
                  <a:pt x="21361" y="16971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4629" y="4629"/>
                </a:lnTo>
                <a:lnTo>
                  <a:pt x="4629" y="1697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66ff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4572000" y="3716280"/>
            <a:ext cx="4321080" cy="574560"/>
          </a:xfrm>
          <a:prstGeom prst="rect">
            <a:avLst/>
          </a:prstGeom>
          <a:noFill/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33"/>
                </a:solidFill>
                <a:latin typeface="Arial"/>
              </a:rPr>
              <a:t>Правильный 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 rot="10800000">
            <a:off x="5148360" y="4797000"/>
            <a:ext cx="3311280" cy="1295640"/>
          </a:xfrm>
          <a:prstGeom prst="wedgeRectCallout">
            <a:avLst>
              <a:gd name="adj1" fmla="val -5277"/>
              <a:gd name="adj2" fmla="val 85416"/>
            </a:avLst>
          </a:prstGeom>
          <a:noFill/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Речная систем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 txBox="1"/>
          <p:nvPr/>
        </p:nvSpPr>
        <p:spPr>
          <a:xfrm>
            <a:off x="250920" y="189000"/>
            <a:ext cx="1657080" cy="21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58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географ</a:t>
            </a:r>
            <a:endParaRPr b="0" i="1" lang="en-US" sz="1800" spc="1" strike="noStrike">
              <a:ln w="158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29" name=""/>
          <p:cNvSpPr/>
          <p:nvPr/>
        </p:nvSpPr>
        <p:spPr>
          <a:xfrm>
            <a:off x="0" y="6297480"/>
            <a:ext cx="9144000" cy="56052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 txBox="1"/>
          <p:nvPr/>
        </p:nvSpPr>
        <p:spPr>
          <a:xfrm>
            <a:off x="468360" y="6453360"/>
            <a:ext cx="4174920" cy="23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58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гра "географ"</a:t>
            </a:r>
            <a:endParaRPr b="0" i="1" lang="en-US" sz="1800" spc="1" strike="noStrike">
              <a:ln w="158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31" name="">
            <a:hlinkClick r:id="rId6" action="ppaction://hlinksldjump"/>
          </p:cNvPr>
          <p:cNvSpPr/>
          <p:nvPr/>
        </p:nvSpPr>
        <p:spPr>
          <a:xfrm>
            <a:off x="5940360" y="6453360"/>
            <a:ext cx="1420920" cy="288720"/>
          </a:xfrm>
          <a:prstGeom prst="rect">
            <a:avLst/>
          </a:prstGeom>
          <a:gradFill rotWithShape="0">
            <a:gsLst>
              <a:gs pos="0">
                <a:srgbClr val="3c3e5a"/>
              </a:gs>
              <a:gs pos="50000">
                <a:srgbClr val="8488c4">
                  <a:alpha val="63137"/>
                </a:srgbClr>
              </a:gs>
              <a:gs pos="100000">
                <a:srgbClr val="3c3e5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равила игр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7451640" y="6453360"/>
            <a:ext cx="1565280" cy="288720"/>
          </a:xfrm>
          <a:prstGeom prst="rect">
            <a:avLst/>
          </a:prstGeom>
          <a:gradFill rotWithShape="0">
            <a:gsLst>
              <a:gs pos="0">
                <a:srgbClr val="3c3e5a"/>
              </a:gs>
              <a:gs pos="50000">
                <a:srgbClr val="8488c4">
                  <a:alpha val="63137"/>
                </a:srgbClr>
              </a:gs>
              <a:gs pos="100000">
                <a:srgbClr val="3c3e5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Продолжить игр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3" name="" descr=""/>
          <p:cNvPicPr/>
          <p:nvPr/>
        </p:nvPicPr>
        <p:blipFill>
          <a:blip r:embed="rId7"/>
          <a:stretch/>
        </p:blipFill>
        <p:spPr>
          <a:xfrm>
            <a:off x="1332000" y="3645000"/>
            <a:ext cx="149544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6" dur="indefinite" restart="never" nodeType="tmRoot">
          <p:childTnLst>
            <p:seq>
              <p:cTn id="1597" dur="indefinite" nodeType="mainSeq">
                <p:childTnLst>
                  <p:par>
                    <p:cTn id="1598" fill="hold">
                      <p:stCondLst>
                        <p:cond delay="0"/>
                      </p:stCondLst>
                      <p:childTnLst>
                        <p:par>
                          <p:cTn id="1599" fill="hold">
                            <p:stCondLst>
                              <p:cond delay="0"/>
                            </p:stCondLst>
                            <p:childTnLst>
                              <p:par>
                                <p:cTn id="160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2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3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4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5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6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7" fill="hold">
                            <p:stCondLst>
                              <p:cond delay="500"/>
                            </p:stCondLst>
                            <p:childTnLst>
                              <p:par>
                                <p:cTn id="160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10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14" dur="500"/>
                                        <p:tgtEl>
                                          <p:spTgt spid="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5" fill="hold">
                            <p:stCondLst>
                              <p:cond delay="1500"/>
                            </p:stCondLst>
                            <p:childTnLst>
                              <p:par>
                                <p:cTn id="1616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8" dur="10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9" fill="hold">
                            <p:stCondLst>
                              <p:cond delay="5000"/>
                            </p:stCondLst>
                            <p:childTnLst>
                              <p:par>
                                <p:cTn id="1620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2" dur="10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3" fill="hold">
                            <p:stCondLst>
                              <p:cond delay="7000"/>
                            </p:stCondLst>
                            <p:childTnLst>
                              <p:par>
                                <p:cTn id="1624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6" dur="10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7" fill="hold">
                            <p:stCondLst>
                              <p:cond delay="9000"/>
                            </p:stCondLst>
                            <p:childTnLst>
                              <p:par>
                                <p:cTn id="1628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0" dur="10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1" fill="hold">
                            <p:stCondLst>
                              <p:cond delay="11000"/>
                            </p:stCondLst>
                            <p:childTnLst>
                              <p:par>
                                <p:cTn id="1632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4" dur="10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5" fill="hold">
                      <p:stCondLst>
                        <p:cond delay="indefinite"/>
                      </p:stCondLst>
                      <p:childTnLst>
                        <p:par>
                          <p:cTn id="1636" fill="hold">
                            <p:stCondLst>
                              <p:cond delay="0"/>
                            </p:stCondLst>
                            <p:childTnLst>
                              <p:par>
                                <p:cTn id="16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9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0" fill="hold">
                            <p:stCondLst>
                              <p:cond delay="500"/>
                            </p:stCondLst>
                            <p:childTnLst>
                              <p:par>
                                <p:cTn id="16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3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583236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ВНИМАНИЕ !  ВОПРО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1332000" y="1989000"/>
            <a:ext cx="6780240" cy="1368720"/>
          </a:xfrm>
          <a:prstGeom prst="rect">
            <a:avLst/>
          </a:prstGeom>
          <a:solidFill>
            <a:srgbClr val="0066ff">
              <a:alpha val="19000"/>
            </a:srgbClr>
          </a:solidFill>
          <a:ln w="5724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Граница разделяющие соседние речные бассейны называется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6" name="" descr=""/>
          <p:cNvPicPr/>
          <p:nvPr/>
        </p:nvPicPr>
        <p:blipFill>
          <a:blip r:embed="rId2"/>
          <a:stretch/>
        </p:blipFill>
        <p:spPr>
          <a:xfrm>
            <a:off x="395280" y="404640"/>
            <a:ext cx="1368360" cy="1368720"/>
          </a:xfrm>
          <a:prstGeom prst="rect">
            <a:avLst/>
          </a:prstGeom>
          <a:ln w="0">
            <a:noFill/>
          </a:ln>
        </p:spPr>
      </p:pic>
      <p:sp>
        <p:nvSpPr>
          <p:cNvPr id="637" name="">
            <a:hlinkClick r:id="rId3" action="ppaction://hlinksldjump"/>
          </p:cNvPr>
          <p:cNvSpPr/>
          <p:nvPr/>
        </p:nvSpPr>
        <p:spPr>
          <a:xfrm>
            <a:off x="539640" y="549360"/>
            <a:ext cx="1042920" cy="1042920"/>
          </a:xfrm>
          <a:custGeom>
            <a:avLst/>
            <a:gdLst>
              <a:gd name="textAreaLeft" fmla="*/ 96480 w 1042920"/>
              <a:gd name="textAreaRight" fmla="*/ 946440 w 1042920"/>
              <a:gd name="textAreaTop" fmla="*/ 96480 h 1042920"/>
              <a:gd name="textAreaBottom" fmla="*/ 94644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9595" y="2005"/>
                </a:lnTo>
                <a:lnTo>
                  <a:pt x="2005" y="2005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9595" y="19595"/>
                </a:lnTo>
                <a:lnTo>
                  <a:pt x="19595" y="2005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2005" y="19595"/>
                </a:lnTo>
                <a:lnTo>
                  <a:pt x="19595" y="19595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2005" y="2005"/>
                </a:lnTo>
                <a:lnTo>
                  <a:pt x="2005" y="19595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66ff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 txBox="1"/>
          <p:nvPr/>
        </p:nvSpPr>
        <p:spPr>
          <a:xfrm>
            <a:off x="755640" y="76500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Book Antiqua"/>
              </a:rPr>
              <a:t>24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639" name=""/>
          <p:cNvSpPr/>
          <p:nvPr/>
        </p:nvSpPr>
        <p:spPr>
          <a:xfrm>
            <a:off x="684360" y="5589720"/>
            <a:ext cx="647640" cy="538200"/>
          </a:xfrm>
          <a:custGeom>
            <a:avLst/>
            <a:gdLst>
              <a:gd name="textAreaLeft" fmla="*/ 115200 w 647640"/>
              <a:gd name="textAreaRight" fmla="*/ 532440 w 647640"/>
              <a:gd name="textAreaTop" fmla="*/ 115200 h 538200"/>
              <a:gd name="textAreaBottom" fmla="*/ 42300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1361" y="4629"/>
                </a:lnTo>
                <a:lnTo>
                  <a:pt x="4629" y="4629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1361" y="16971"/>
                </a:lnTo>
                <a:lnTo>
                  <a:pt x="21361" y="4629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4629" y="16971"/>
                </a:lnTo>
                <a:lnTo>
                  <a:pt x="21361" y="16971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4629" y="4629"/>
                </a:lnTo>
                <a:lnTo>
                  <a:pt x="4629" y="1697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66ff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1547640" y="5589720"/>
            <a:ext cx="648000" cy="538200"/>
          </a:xfrm>
          <a:custGeom>
            <a:avLst/>
            <a:gdLst>
              <a:gd name="textAreaLeft" fmla="*/ 115200 w 648000"/>
              <a:gd name="textAreaRight" fmla="*/ 532800 w 648000"/>
              <a:gd name="textAreaTop" fmla="*/ 115200 h 538200"/>
              <a:gd name="textAreaBottom" fmla="*/ 42300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1375" y="4629"/>
                </a:lnTo>
                <a:lnTo>
                  <a:pt x="4629" y="4629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1375" y="16971"/>
                </a:lnTo>
                <a:lnTo>
                  <a:pt x="21375" y="4629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4629" y="16971"/>
                </a:lnTo>
                <a:lnTo>
                  <a:pt x="21375" y="16971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4629" y="4629"/>
                </a:lnTo>
                <a:lnTo>
                  <a:pt x="4629" y="1697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66ff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2411280" y="5589720"/>
            <a:ext cx="648000" cy="538200"/>
          </a:xfrm>
          <a:custGeom>
            <a:avLst/>
            <a:gdLst>
              <a:gd name="textAreaLeft" fmla="*/ 115200 w 648000"/>
              <a:gd name="textAreaRight" fmla="*/ 532800 w 648000"/>
              <a:gd name="textAreaTop" fmla="*/ 115200 h 538200"/>
              <a:gd name="textAreaBottom" fmla="*/ 42300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1375" y="4629"/>
                </a:lnTo>
                <a:lnTo>
                  <a:pt x="4629" y="4629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1375" y="16971"/>
                </a:lnTo>
                <a:lnTo>
                  <a:pt x="21375" y="4629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4629" y="16971"/>
                </a:lnTo>
                <a:lnTo>
                  <a:pt x="21375" y="16971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4629" y="4629"/>
                </a:lnTo>
                <a:lnTo>
                  <a:pt x="4629" y="1697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66ff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3276720" y="5589720"/>
            <a:ext cx="647640" cy="538200"/>
          </a:xfrm>
          <a:custGeom>
            <a:avLst/>
            <a:gdLst>
              <a:gd name="textAreaLeft" fmla="*/ 115200 w 647640"/>
              <a:gd name="textAreaRight" fmla="*/ 532440 w 647640"/>
              <a:gd name="textAreaTop" fmla="*/ 115200 h 538200"/>
              <a:gd name="textAreaBottom" fmla="*/ 42300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1361" y="4629"/>
                </a:lnTo>
                <a:lnTo>
                  <a:pt x="4629" y="4629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1361" y="16971"/>
                </a:lnTo>
                <a:lnTo>
                  <a:pt x="21361" y="4629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4629" y="16971"/>
                </a:lnTo>
                <a:lnTo>
                  <a:pt x="21361" y="16971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4629" y="4629"/>
                </a:lnTo>
                <a:lnTo>
                  <a:pt x="4629" y="1697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66ff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4140360" y="5589720"/>
            <a:ext cx="647640" cy="538200"/>
          </a:xfrm>
          <a:custGeom>
            <a:avLst/>
            <a:gdLst>
              <a:gd name="textAreaLeft" fmla="*/ 115200 w 647640"/>
              <a:gd name="textAreaRight" fmla="*/ 532440 w 647640"/>
              <a:gd name="textAreaTop" fmla="*/ 115200 h 538200"/>
              <a:gd name="textAreaBottom" fmla="*/ 42300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1361" y="4629"/>
                </a:lnTo>
                <a:lnTo>
                  <a:pt x="4629" y="4629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1361" y="16971"/>
                </a:lnTo>
                <a:lnTo>
                  <a:pt x="21361" y="4629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4629" y="16971"/>
                </a:lnTo>
                <a:lnTo>
                  <a:pt x="21361" y="16971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4629" y="4629"/>
                </a:lnTo>
                <a:lnTo>
                  <a:pt x="4629" y="1697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66ff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4572000" y="3716280"/>
            <a:ext cx="4321080" cy="574560"/>
          </a:xfrm>
          <a:prstGeom prst="rect">
            <a:avLst/>
          </a:prstGeom>
          <a:noFill/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33"/>
                </a:solidFill>
                <a:latin typeface="Arial"/>
              </a:rPr>
              <a:t>Правильный 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 rot="10800000">
            <a:off x="5148000" y="4797000"/>
            <a:ext cx="3816360" cy="1295640"/>
          </a:xfrm>
          <a:prstGeom prst="wedgeRectCallout">
            <a:avLst>
              <a:gd name="adj1" fmla="val 2037"/>
              <a:gd name="adj2" fmla="val 85416"/>
            </a:avLst>
          </a:prstGeom>
          <a:noFill/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Водоразде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 txBox="1"/>
          <p:nvPr/>
        </p:nvSpPr>
        <p:spPr>
          <a:xfrm>
            <a:off x="250920" y="189000"/>
            <a:ext cx="1657080" cy="21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58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географ</a:t>
            </a:r>
            <a:endParaRPr b="0" i="1" lang="en-US" sz="1800" spc="1" strike="noStrike">
              <a:ln w="158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47" name=""/>
          <p:cNvSpPr/>
          <p:nvPr/>
        </p:nvSpPr>
        <p:spPr>
          <a:xfrm>
            <a:off x="0" y="6297480"/>
            <a:ext cx="9144000" cy="56052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 txBox="1"/>
          <p:nvPr/>
        </p:nvSpPr>
        <p:spPr>
          <a:xfrm>
            <a:off x="468360" y="6453360"/>
            <a:ext cx="4174920" cy="23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58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гра "географ"</a:t>
            </a:r>
            <a:endParaRPr b="0" i="1" lang="en-US" sz="1800" spc="1" strike="noStrike">
              <a:ln w="158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49" name="">
            <a:hlinkClick r:id="rId6" action="ppaction://hlinksldjump"/>
          </p:cNvPr>
          <p:cNvSpPr/>
          <p:nvPr/>
        </p:nvSpPr>
        <p:spPr>
          <a:xfrm>
            <a:off x="5940360" y="6453360"/>
            <a:ext cx="1420920" cy="288720"/>
          </a:xfrm>
          <a:prstGeom prst="rect">
            <a:avLst/>
          </a:prstGeom>
          <a:gradFill rotWithShape="0">
            <a:gsLst>
              <a:gs pos="0">
                <a:srgbClr val="3c3e5a"/>
              </a:gs>
              <a:gs pos="50000">
                <a:srgbClr val="8488c4">
                  <a:alpha val="63137"/>
                </a:srgbClr>
              </a:gs>
              <a:gs pos="100000">
                <a:srgbClr val="3c3e5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равила игр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7451640" y="6453360"/>
            <a:ext cx="1565280" cy="288720"/>
          </a:xfrm>
          <a:prstGeom prst="rect">
            <a:avLst/>
          </a:prstGeom>
          <a:gradFill rotWithShape="0">
            <a:gsLst>
              <a:gs pos="0">
                <a:srgbClr val="3c3e5a"/>
              </a:gs>
              <a:gs pos="50000">
                <a:srgbClr val="8488c4">
                  <a:alpha val="63137"/>
                </a:srgbClr>
              </a:gs>
              <a:gs pos="100000">
                <a:srgbClr val="3c3e5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Продолжить игр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1" name="" descr=""/>
          <p:cNvPicPr/>
          <p:nvPr/>
        </p:nvPicPr>
        <p:blipFill>
          <a:blip r:embed="rId7"/>
          <a:stretch/>
        </p:blipFill>
        <p:spPr>
          <a:xfrm>
            <a:off x="755640" y="3573360"/>
            <a:ext cx="1944720" cy="15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4" dur="indefinite" restart="never" nodeType="tmRoot">
          <p:childTnLst>
            <p:seq>
              <p:cTn id="1645" dur="indefinite" nodeType="mainSeq">
                <p:childTnLst>
                  <p:par>
                    <p:cTn id="1646" fill="hold">
                      <p:stCondLst>
                        <p:cond delay="0"/>
                      </p:stCondLst>
                      <p:childTnLst>
                        <p:par>
                          <p:cTn id="1647" fill="hold">
                            <p:stCondLst>
                              <p:cond delay="0"/>
                            </p:stCondLst>
                            <p:childTnLst>
                              <p:par>
                                <p:cTn id="164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0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1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2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3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54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5" fill="hold">
                            <p:stCondLst>
                              <p:cond delay="500"/>
                            </p:stCondLst>
                            <p:childTnLst>
                              <p:par>
                                <p:cTn id="165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58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9" fill="hold">
                            <p:stCondLst>
                              <p:cond delay="1000"/>
                            </p:stCondLst>
                            <p:childTnLst>
                              <p:par>
                                <p:cTn id="166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62" dur="500"/>
                                        <p:tgtEl>
                                          <p:spTgt spid="6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3" fill="hold">
                            <p:stCondLst>
                              <p:cond delay="1500"/>
                            </p:stCondLst>
                            <p:childTnLst>
                              <p:par>
                                <p:cTn id="1664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6" dur="10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68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0" dur="10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1" fill="hold">
                            <p:stCondLst>
                              <p:cond delay="7000"/>
                            </p:stCondLst>
                            <p:childTnLst>
                              <p:par>
                                <p:cTn id="1672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4" dur="10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5" fill="hold">
                            <p:stCondLst>
                              <p:cond delay="9000"/>
                            </p:stCondLst>
                            <p:childTnLst>
                              <p:par>
                                <p:cTn id="1676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8" dur="10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9" fill="hold">
                            <p:stCondLst>
                              <p:cond delay="11000"/>
                            </p:stCondLst>
                            <p:childTnLst>
                              <p:par>
                                <p:cTn id="1680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2" dur="10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3" fill="hold">
                      <p:stCondLst>
                        <p:cond delay="indefinite"/>
                      </p:stCondLst>
                      <p:childTnLst>
                        <p:par>
                          <p:cTn id="1684" fill="hold">
                            <p:stCondLst>
                              <p:cond delay="0"/>
                            </p:stCondLst>
                            <p:childTnLst>
                              <p:par>
                                <p:cTn id="16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7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8" fill="hold">
                            <p:stCondLst>
                              <p:cond delay="500"/>
                            </p:stCondLst>
                            <p:childTnLst>
                              <p:par>
                                <p:cTn id="16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91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583236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ВНИМАНИЕ !  ВОПРО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1403280" y="1197000"/>
            <a:ext cx="7561440" cy="2160720"/>
          </a:xfrm>
          <a:prstGeom prst="rect">
            <a:avLst/>
          </a:prstGeom>
          <a:solidFill>
            <a:srgbClr val="0066ff">
              <a:alpha val="19000"/>
            </a:srgbClr>
          </a:solidFill>
          <a:ln w="5724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Участок земной поверхности с которого вся вода стекает в одну реку называется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" descr=""/>
          <p:cNvPicPr/>
          <p:nvPr/>
        </p:nvPicPr>
        <p:blipFill>
          <a:blip r:embed="rId2"/>
          <a:stretch/>
        </p:blipFill>
        <p:spPr>
          <a:xfrm>
            <a:off x="395280" y="404640"/>
            <a:ext cx="1368360" cy="1368720"/>
          </a:xfrm>
          <a:prstGeom prst="rect">
            <a:avLst/>
          </a:prstGeom>
          <a:ln w="0">
            <a:noFill/>
          </a:ln>
        </p:spPr>
      </p:pic>
      <p:sp>
        <p:nvSpPr>
          <p:cNvPr id="655" name="">
            <a:hlinkClick r:id="rId3" action="ppaction://hlinksldjump"/>
          </p:cNvPr>
          <p:cNvSpPr/>
          <p:nvPr/>
        </p:nvSpPr>
        <p:spPr>
          <a:xfrm>
            <a:off x="539640" y="549360"/>
            <a:ext cx="1042920" cy="1042920"/>
          </a:xfrm>
          <a:custGeom>
            <a:avLst/>
            <a:gdLst>
              <a:gd name="textAreaLeft" fmla="*/ 96480 w 1042920"/>
              <a:gd name="textAreaRight" fmla="*/ 946440 w 1042920"/>
              <a:gd name="textAreaTop" fmla="*/ 96480 h 1042920"/>
              <a:gd name="textAreaBottom" fmla="*/ 94644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9595" y="2005"/>
                </a:lnTo>
                <a:lnTo>
                  <a:pt x="2005" y="2005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9595" y="19595"/>
                </a:lnTo>
                <a:lnTo>
                  <a:pt x="19595" y="2005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2005" y="19595"/>
                </a:lnTo>
                <a:lnTo>
                  <a:pt x="19595" y="19595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2005" y="2005"/>
                </a:lnTo>
                <a:lnTo>
                  <a:pt x="2005" y="19595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66ff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 txBox="1"/>
          <p:nvPr/>
        </p:nvSpPr>
        <p:spPr>
          <a:xfrm>
            <a:off x="755640" y="76500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Book Antiqua"/>
              </a:rPr>
              <a:t>28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657" name=""/>
          <p:cNvSpPr/>
          <p:nvPr/>
        </p:nvSpPr>
        <p:spPr>
          <a:xfrm>
            <a:off x="684360" y="5589720"/>
            <a:ext cx="647640" cy="538200"/>
          </a:xfrm>
          <a:custGeom>
            <a:avLst/>
            <a:gdLst>
              <a:gd name="textAreaLeft" fmla="*/ 115200 w 647640"/>
              <a:gd name="textAreaRight" fmla="*/ 532440 w 647640"/>
              <a:gd name="textAreaTop" fmla="*/ 115200 h 538200"/>
              <a:gd name="textAreaBottom" fmla="*/ 42300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1361" y="4629"/>
                </a:lnTo>
                <a:lnTo>
                  <a:pt x="4629" y="4629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1361" y="16971"/>
                </a:lnTo>
                <a:lnTo>
                  <a:pt x="21361" y="4629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4629" y="16971"/>
                </a:lnTo>
                <a:lnTo>
                  <a:pt x="21361" y="16971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4629" y="4629"/>
                </a:lnTo>
                <a:lnTo>
                  <a:pt x="4629" y="1697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66ff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1547640" y="5589720"/>
            <a:ext cx="648000" cy="538200"/>
          </a:xfrm>
          <a:custGeom>
            <a:avLst/>
            <a:gdLst>
              <a:gd name="textAreaLeft" fmla="*/ 115200 w 648000"/>
              <a:gd name="textAreaRight" fmla="*/ 532800 w 648000"/>
              <a:gd name="textAreaTop" fmla="*/ 115200 h 538200"/>
              <a:gd name="textAreaBottom" fmla="*/ 42300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1375" y="4629"/>
                </a:lnTo>
                <a:lnTo>
                  <a:pt x="4629" y="4629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1375" y="16971"/>
                </a:lnTo>
                <a:lnTo>
                  <a:pt x="21375" y="4629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4629" y="16971"/>
                </a:lnTo>
                <a:lnTo>
                  <a:pt x="21375" y="16971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4629" y="4629"/>
                </a:lnTo>
                <a:lnTo>
                  <a:pt x="4629" y="1697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66ff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2411280" y="5589720"/>
            <a:ext cx="648000" cy="538200"/>
          </a:xfrm>
          <a:custGeom>
            <a:avLst/>
            <a:gdLst>
              <a:gd name="textAreaLeft" fmla="*/ 115200 w 648000"/>
              <a:gd name="textAreaRight" fmla="*/ 532800 w 648000"/>
              <a:gd name="textAreaTop" fmla="*/ 115200 h 538200"/>
              <a:gd name="textAreaBottom" fmla="*/ 42300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1375" y="4629"/>
                </a:lnTo>
                <a:lnTo>
                  <a:pt x="4629" y="4629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1375" y="16971"/>
                </a:lnTo>
                <a:lnTo>
                  <a:pt x="21375" y="4629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4629" y="16971"/>
                </a:lnTo>
                <a:lnTo>
                  <a:pt x="21375" y="16971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4629" y="4629"/>
                </a:lnTo>
                <a:lnTo>
                  <a:pt x="4629" y="1697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66ff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3276720" y="5589720"/>
            <a:ext cx="647640" cy="538200"/>
          </a:xfrm>
          <a:custGeom>
            <a:avLst/>
            <a:gdLst>
              <a:gd name="textAreaLeft" fmla="*/ 115200 w 647640"/>
              <a:gd name="textAreaRight" fmla="*/ 532440 w 647640"/>
              <a:gd name="textAreaTop" fmla="*/ 115200 h 538200"/>
              <a:gd name="textAreaBottom" fmla="*/ 42300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1361" y="4629"/>
                </a:lnTo>
                <a:lnTo>
                  <a:pt x="4629" y="4629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1361" y="16971"/>
                </a:lnTo>
                <a:lnTo>
                  <a:pt x="21361" y="4629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4629" y="16971"/>
                </a:lnTo>
                <a:lnTo>
                  <a:pt x="21361" y="16971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4629" y="4629"/>
                </a:lnTo>
                <a:lnTo>
                  <a:pt x="4629" y="1697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66ff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4140360" y="5589720"/>
            <a:ext cx="647640" cy="538200"/>
          </a:xfrm>
          <a:custGeom>
            <a:avLst/>
            <a:gdLst>
              <a:gd name="textAreaLeft" fmla="*/ 115200 w 647640"/>
              <a:gd name="textAreaRight" fmla="*/ 532440 w 647640"/>
              <a:gd name="textAreaTop" fmla="*/ 115200 h 538200"/>
              <a:gd name="textAreaBottom" fmla="*/ 42300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1361" y="4629"/>
                </a:lnTo>
                <a:lnTo>
                  <a:pt x="4629" y="4629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1361" y="16971"/>
                </a:lnTo>
                <a:lnTo>
                  <a:pt x="21361" y="4629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4629" y="16971"/>
                </a:lnTo>
                <a:lnTo>
                  <a:pt x="21361" y="16971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4629" y="4629"/>
                </a:lnTo>
                <a:lnTo>
                  <a:pt x="4629" y="1697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66ff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4572000" y="3716280"/>
            <a:ext cx="4321080" cy="574560"/>
          </a:xfrm>
          <a:prstGeom prst="rect">
            <a:avLst/>
          </a:prstGeom>
          <a:noFill/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33"/>
                </a:solidFill>
                <a:latin typeface="Arial"/>
              </a:rPr>
              <a:t>Правильный 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 rot="10800000">
            <a:off x="4859280" y="4797000"/>
            <a:ext cx="4284720" cy="1295640"/>
          </a:xfrm>
          <a:prstGeom prst="wedgeRectCallout">
            <a:avLst>
              <a:gd name="adj1" fmla="val 500"/>
              <a:gd name="adj2" fmla="val 85416"/>
            </a:avLst>
          </a:prstGeom>
          <a:noFill/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Водосборным бассейн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 txBox="1"/>
          <p:nvPr/>
        </p:nvSpPr>
        <p:spPr>
          <a:xfrm>
            <a:off x="250920" y="189000"/>
            <a:ext cx="1657080" cy="21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58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географ</a:t>
            </a:r>
            <a:endParaRPr b="0" i="1" lang="en-US" sz="1800" spc="1" strike="noStrike">
              <a:ln w="158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65" name=""/>
          <p:cNvSpPr/>
          <p:nvPr/>
        </p:nvSpPr>
        <p:spPr>
          <a:xfrm>
            <a:off x="0" y="6297480"/>
            <a:ext cx="9144000" cy="56052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 txBox="1"/>
          <p:nvPr/>
        </p:nvSpPr>
        <p:spPr>
          <a:xfrm>
            <a:off x="468360" y="6453360"/>
            <a:ext cx="4174920" cy="23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58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гра "географ"</a:t>
            </a:r>
            <a:endParaRPr b="0" i="1" lang="en-US" sz="1800" spc="1" strike="noStrike">
              <a:ln w="158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67" name="">
            <a:hlinkClick r:id="rId6" action="ppaction://hlinksldjump"/>
          </p:cNvPr>
          <p:cNvSpPr/>
          <p:nvPr/>
        </p:nvSpPr>
        <p:spPr>
          <a:xfrm>
            <a:off x="5940360" y="6453360"/>
            <a:ext cx="1420920" cy="288720"/>
          </a:xfrm>
          <a:prstGeom prst="rect">
            <a:avLst/>
          </a:prstGeom>
          <a:gradFill rotWithShape="0">
            <a:gsLst>
              <a:gs pos="0">
                <a:srgbClr val="3c3e5a"/>
              </a:gs>
              <a:gs pos="50000">
                <a:srgbClr val="8488c4">
                  <a:alpha val="63137"/>
                </a:srgbClr>
              </a:gs>
              <a:gs pos="100000">
                <a:srgbClr val="3c3e5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равила игр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7451640" y="6453360"/>
            <a:ext cx="1565280" cy="288720"/>
          </a:xfrm>
          <a:prstGeom prst="rect">
            <a:avLst/>
          </a:prstGeom>
          <a:gradFill rotWithShape="0">
            <a:gsLst>
              <a:gs pos="0">
                <a:srgbClr val="3c3e5a"/>
              </a:gs>
              <a:gs pos="50000">
                <a:srgbClr val="8488c4">
                  <a:alpha val="63137"/>
                </a:srgbClr>
              </a:gs>
              <a:gs pos="100000">
                <a:srgbClr val="3c3e5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Продолжить игр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9" name="" descr=""/>
          <p:cNvPicPr/>
          <p:nvPr/>
        </p:nvPicPr>
        <p:blipFill>
          <a:blip r:embed="rId7"/>
          <a:stretch/>
        </p:blipFill>
        <p:spPr>
          <a:xfrm>
            <a:off x="826920" y="3500280"/>
            <a:ext cx="1729080" cy="17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2" dur="indefinite" restart="never" nodeType="tmRoot">
          <p:childTnLst>
            <p:seq>
              <p:cTn id="1693" dur="indefinite" nodeType="mainSeq">
                <p:childTnLst>
                  <p:par>
                    <p:cTn id="1694" fill="hold">
                      <p:stCondLst>
                        <p:cond delay="0"/>
                      </p:stCondLst>
                      <p:childTnLst>
                        <p:par>
                          <p:cTn id="1695" fill="hold">
                            <p:stCondLst>
                              <p:cond delay="0"/>
                            </p:stCondLst>
                            <p:childTnLst>
                              <p:par>
                                <p:cTn id="169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8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9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0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1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02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3" fill="hold">
                            <p:stCondLst>
                              <p:cond delay="500"/>
                            </p:stCondLst>
                            <p:childTnLst>
                              <p:par>
                                <p:cTn id="1704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06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7" fill="hold">
                            <p:stCondLst>
                              <p:cond delay="1000"/>
                            </p:stCondLst>
                            <p:childTnLst>
                              <p:par>
                                <p:cTn id="170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10" dur="500"/>
                                        <p:tgtEl>
                                          <p:spTgt spid="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1" fill="hold">
                            <p:stCondLst>
                              <p:cond delay="1500"/>
                            </p:stCondLst>
                            <p:childTnLst>
                              <p:par>
                                <p:cTn id="1712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4" dur="10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716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8" dur="10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9" fill="hold">
                            <p:stCondLst>
                              <p:cond delay="7000"/>
                            </p:stCondLst>
                            <p:childTnLst>
                              <p:par>
                                <p:cTn id="1720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2" dur="10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3" fill="hold">
                            <p:stCondLst>
                              <p:cond delay="9000"/>
                            </p:stCondLst>
                            <p:childTnLst>
                              <p:par>
                                <p:cTn id="1724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6" dur="10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7" fill="hold">
                            <p:stCondLst>
                              <p:cond delay="11000"/>
                            </p:stCondLst>
                            <p:childTnLst>
                              <p:par>
                                <p:cTn id="1728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0" dur="10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1" fill="hold">
                      <p:stCondLst>
                        <p:cond delay="indefinite"/>
                      </p:stCondLst>
                      <p:childTnLst>
                        <p:par>
                          <p:cTn id="1732" fill="hold">
                            <p:stCondLst>
                              <p:cond delay="0"/>
                            </p:stCondLst>
                            <p:childTnLst>
                              <p:par>
                                <p:cTn id="17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5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6" fill="hold">
                            <p:stCondLst>
                              <p:cond delay="500"/>
                            </p:stCondLst>
                            <p:childTnLst>
                              <p:par>
                                <p:cTn id="17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9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583236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ВНИМАНИЕ !  ВОПРО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1332000" y="1700280"/>
            <a:ext cx="7488000" cy="1657440"/>
          </a:xfrm>
          <a:prstGeom prst="rect">
            <a:avLst/>
          </a:prstGeom>
          <a:solidFill>
            <a:srgbClr val="0066ff">
              <a:alpha val="19000"/>
            </a:srgbClr>
          </a:solidFill>
          <a:ln w="5724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Кратковременный подъём уровня воды в реке называется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2" name="" descr=""/>
          <p:cNvPicPr/>
          <p:nvPr/>
        </p:nvPicPr>
        <p:blipFill>
          <a:blip r:embed="rId2"/>
          <a:stretch/>
        </p:blipFill>
        <p:spPr>
          <a:xfrm>
            <a:off x="395280" y="404640"/>
            <a:ext cx="1368360" cy="1368720"/>
          </a:xfrm>
          <a:prstGeom prst="rect">
            <a:avLst/>
          </a:prstGeom>
          <a:ln w="0">
            <a:noFill/>
          </a:ln>
        </p:spPr>
      </p:pic>
      <p:sp>
        <p:nvSpPr>
          <p:cNvPr id="673" name="">
            <a:hlinkClick r:id="rId3" action="ppaction://hlinksldjump"/>
          </p:cNvPr>
          <p:cNvSpPr/>
          <p:nvPr/>
        </p:nvSpPr>
        <p:spPr>
          <a:xfrm>
            <a:off x="539640" y="549360"/>
            <a:ext cx="1042920" cy="1042920"/>
          </a:xfrm>
          <a:custGeom>
            <a:avLst/>
            <a:gdLst>
              <a:gd name="textAreaLeft" fmla="*/ 96480 w 1042920"/>
              <a:gd name="textAreaRight" fmla="*/ 946440 w 1042920"/>
              <a:gd name="textAreaTop" fmla="*/ 96480 h 1042920"/>
              <a:gd name="textAreaBottom" fmla="*/ 94644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9595" y="2005"/>
                </a:lnTo>
                <a:lnTo>
                  <a:pt x="2005" y="2005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9595" y="19595"/>
                </a:lnTo>
                <a:lnTo>
                  <a:pt x="19595" y="2005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2005" y="19595"/>
                </a:lnTo>
                <a:lnTo>
                  <a:pt x="19595" y="19595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2005" y="2005"/>
                </a:lnTo>
                <a:lnTo>
                  <a:pt x="2005" y="19595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66ff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 txBox="1"/>
          <p:nvPr/>
        </p:nvSpPr>
        <p:spPr>
          <a:xfrm>
            <a:off x="755640" y="76500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Book Antiqua"/>
              </a:rPr>
              <a:t>32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675" name=""/>
          <p:cNvSpPr/>
          <p:nvPr/>
        </p:nvSpPr>
        <p:spPr>
          <a:xfrm>
            <a:off x="684360" y="5589720"/>
            <a:ext cx="647640" cy="538200"/>
          </a:xfrm>
          <a:custGeom>
            <a:avLst/>
            <a:gdLst>
              <a:gd name="textAreaLeft" fmla="*/ 115200 w 647640"/>
              <a:gd name="textAreaRight" fmla="*/ 532440 w 647640"/>
              <a:gd name="textAreaTop" fmla="*/ 115200 h 538200"/>
              <a:gd name="textAreaBottom" fmla="*/ 42300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1361" y="4629"/>
                </a:lnTo>
                <a:lnTo>
                  <a:pt x="4629" y="4629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1361" y="16971"/>
                </a:lnTo>
                <a:lnTo>
                  <a:pt x="21361" y="4629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4629" y="16971"/>
                </a:lnTo>
                <a:lnTo>
                  <a:pt x="21361" y="16971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4629" y="4629"/>
                </a:lnTo>
                <a:lnTo>
                  <a:pt x="4629" y="1697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66ff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1547640" y="5589720"/>
            <a:ext cx="648000" cy="538200"/>
          </a:xfrm>
          <a:custGeom>
            <a:avLst/>
            <a:gdLst>
              <a:gd name="textAreaLeft" fmla="*/ 115200 w 648000"/>
              <a:gd name="textAreaRight" fmla="*/ 532800 w 648000"/>
              <a:gd name="textAreaTop" fmla="*/ 115200 h 538200"/>
              <a:gd name="textAreaBottom" fmla="*/ 42300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1375" y="4629"/>
                </a:lnTo>
                <a:lnTo>
                  <a:pt x="4629" y="4629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1375" y="16971"/>
                </a:lnTo>
                <a:lnTo>
                  <a:pt x="21375" y="4629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4629" y="16971"/>
                </a:lnTo>
                <a:lnTo>
                  <a:pt x="21375" y="16971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4629" y="4629"/>
                </a:lnTo>
                <a:lnTo>
                  <a:pt x="4629" y="1697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66ff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2411280" y="5589720"/>
            <a:ext cx="648000" cy="538200"/>
          </a:xfrm>
          <a:custGeom>
            <a:avLst/>
            <a:gdLst>
              <a:gd name="textAreaLeft" fmla="*/ 115200 w 648000"/>
              <a:gd name="textAreaRight" fmla="*/ 532800 w 648000"/>
              <a:gd name="textAreaTop" fmla="*/ 115200 h 538200"/>
              <a:gd name="textAreaBottom" fmla="*/ 42300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1375" y="4629"/>
                </a:lnTo>
                <a:lnTo>
                  <a:pt x="4629" y="4629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1375" y="16971"/>
                </a:lnTo>
                <a:lnTo>
                  <a:pt x="21375" y="4629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4629" y="16971"/>
                </a:lnTo>
                <a:lnTo>
                  <a:pt x="21375" y="16971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4629" y="4629"/>
                </a:lnTo>
                <a:lnTo>
                  <a:pt x="4629" y="1697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66ff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3276720" y="5589720"/>
            <a:ext cx="647640" cy="538200"/>
          </a:xfrm>
          <a:custGeom>
            <a:avLst/>
            <a:gdLst>
              <a:gd name="textAreaLeft" fmla="*/ 115200 w 647640"/>
              <a:gd name="textAreaRight" fmla="*/ 532440 w 647640"/>
              <a:gd name="textAreaTop" fmla="*/ 115200 h 538200"/>
              <a:gd name="textAreaBottom" fmla="*/ 42300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1361" y="4629"/>
                </a:lnTo>
                <a:lnTo>
                  <a:pt x="4629" y="4629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1361" y="16971"/>
                </a:lnTo>
                <a:lnTo>
                  <a:pt x="21361" y="4629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4629" y="16971"/>
                </a:lnTo>
                <a:lnTo>
                  <a:pt x="21361" y="16971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4629" y="4629"/>
                </a:lnTo>
                <a:lnTo>
                  <a:pt x="4629" y="1697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66ff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4140360" y="5589720"/>
            <a:ext cx="647640" cy="538200"/>
          </a:xfrm>
          <a:custGeom>
            <a:avLst/>
            <a:gdLst>
              <a:gd name="textAreaLeft" fmla="*/ 115200 w 647640"/>
              <a:gd name="textAreaRight" fmla="*/ 532440 w 647640"/>
              <a:gd name="textAreaTop" fmla="*/ 115200 h 538200"/>
              <a:gd name="textAreaBottom" fmla="*/ 42300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1361" y="4629"/>
                </a:lnTo>
                <a:lnTo>
                  <a:pt x="4629" y="4629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1361" y="16971"/>
                </a:lnTo>
                <a:lnTo>
                  <a:pt x="21361" y="4629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4629" y="16971"/>
                </a:lnTo>
                <a:lnTo>
                  <a:pt x="21361" y="16971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4629" y="4629"/>
                </a:lnTo>
                <a:lnTo>
                  <a:pt x="4629" y="1697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66ff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4572000" y="3716280"/>
            <a:ext cx="4321080" cy="574560"/>
          </a:xfrm>
          <a:prstGeom prst="rect">
            <a:avLst/>
          </a:prstGeom>
          <a:noFill/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33"/>
                </a:solidFill>
                <a:latin typeface="Arial"/>
              </a:rPr>
              <a:t>Правильный 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 rot="10800000">
            <a:off x="5148360" y="4797000"/>
            <a:ext cx="3311280" cy="1295640"/>
          </a:xfrm>
          <a:prstGeom prst="wedgeRectCallout">
            <a:avLst>
              <a:gd name="adj1" fmla="val -5277"/>
              <a:gd name="adj2" fmla="val 85416"/>
            </a:avLst>
          </a:prstGeom>
          <a:noFill/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Паводо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 txBox="1"/>
          <p:nvPr/>
        </p:nvSpPr>
        <p:spPr>
          <a:xfrm>
            <a:off x="250920" y="189000"/>
            <a:ext cx="1657080" cy="21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58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географ</a:t>
            </a:r>
            <a:endParaRPr b="0" i="1" lang="en-US" sz="1800" spc="1" strike="noStrike">
              <a:ln w="158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83" name=""/>
          <p:cNvSpPr/>
          <p:nvPr/>
        </p:nvSpPr>
        <p:spPr>
          <a:xfrm>
            <a:off x="0" y="6297480"/>
            <a:ext cx="9144000" cy="56052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 txBox="1"/>
          <p:nvPr/>
        </p:nvSpPr>
        <p:spPr>
          <a:xfrm>
            <a:off x="468360" y="6453360"/>
            <a:ext cx="4174920" cy="23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58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гра "географ"</a:t>
            </a:r>
            <a:endParaRPr b="0" i="1" lang="en-US" sz="1800" spc="1" strike="noStrike">
              <a:ln w="158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85" name="">
            <a:hlinkClick r:id="rId6" action="ppaction://hlinksldjump"/>
          </p:cNvPr>
          <p:cNvSpPr/>
          <p:nvPr/>
        </p:nvSpPr>
        <p:spPr>
          <a:xfrm>
            <a:off x="5940360" y="6453360"/>
            <a:ext cx="1420920" cy="288720"/>
          </a:xfrm>
          <a:prstGeom prst="rect">
            <a:avLst/>
          </a:prstGeom>
          <a:gradFill rotWithShape="0">
            <a:gsLst>
              <a:gs pos="0">
                <a:srgbClr val="3c3e5a"/>
              </a:gs>
              <a:gs pos="50000">
                <a:srgbClr val="8488c4">
                  <a:alpha val="63137"/>
                </a:srgbClr>
              </a:gs>
              <a:gs pos="100000">
                <a:srgbClr val="3c3e5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равила игр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7451640" y="6453360"/>
            <a:ext cx="1565280" cy="288720"/>
          </a:xfrm>
          <a:prstGeom prst="rect">
            <a:avLst/>
          </a:prstGeom>
          <a:gradFill rotWithShape="0">
            <a:gsLst>
              <a:gs pos="0">
                <a:srgbClr val="3c3e5a"/>
              </a:gs>
              <a:gs pos="50000">
                <a:srgbClr val="8488c4">
                  <a:alpha val="63137"/>
                </a:srgbClr>
              </a:gs>
              <a:gs pos="100000">
                <a:srgbClr val="3c3e5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Продолжить игр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7" name="" descr=""/>
          <p:cNvPicPr/>
          <p:nvPr/>
        </p:nvPicPr>
        <p:blipFill>
          <a:blip r:embed="rId7"/>
          <a:stretch/>
        </p:blipFill>
        <p:spPr>
          <a:xfrm>
            <a:off x="539640" y="3500280"/>
            <a:ext cx="1522440" cy="18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0" dur="indefinite" restart="never" nodeType="tmRoot">
          <p:childTnLst>
            <p:seq>
              <p:cTn id="1741" dur="indefinite" nodeType="mainSeq">
                <p:childTnLst>
                  <p:par>
                    <p:cTn id="1742" fill="hold">
                      <p:stCondLst>
                        <p:cond delay="0"/>
                      </p:stCondLst>
                      <p:childTnLst>
                        <p:par>
                          <p:cTn id="1743" fill="hold">
                            <p:stCondLst>
                              <p:cond delay="0"/>
                            </p:stCondLst>
                            <p:childTnLst>
                              <p:par>
                                <p:cTn id="174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6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7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8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9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50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1" fill="hold">
                            <p:stCondLst>
                              <p:cond delay="500"/>
                            </p:stCondLst>
                            <p:childTnLst>
                              <p:par>
                                <p:cTn id="175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54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5" fill="hold">
                            <p:stCondLst>
                              <p:cond delay="1000"/>
                            </p:stCondLst>
                            <p:childTnLst>
                              <p:par>
                                <p:cTn id="175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58" dur="500"/>
                                        <p:tgtEl>
                                          <p:spTgt spid="6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9" fill="hold">
                            <p:stCondLst>
                              <p:cond delay="1500"/>
                            </p:stCondLst>
                            <p:childTnLst>
                              <p:par>
                                <p:cTn id="1760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2" dur="10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3" fill="hold">
                            <p:stCondLst>
                              <p:cond delay="5000"/>
                            </p:stCondLst>
                            <p:childTnLst>
                              <p:par>
                                <p:cTn id="1764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6" dur="10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7" fill="hold">
                            <p:stCondLst>
                              <p:cond delay="7000"/>
                            </p:stCondLst>
                            <p:childTnLst>
                              <p:par>
                                <p:cTn id="1768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0" dur="10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1" fill="hold">
                            <p:stCondLst>
                              <p:cond delay="9000"/>
                            </p:stCondLst>
                            <p:childTnLst>
                              <p:par>
                                <p:cTn id="1772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4" dur="10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5" fill="hold">
                            <p:stCondLst>
                              <p:cond delay="11000"/>
                            </p:stCondLst>
                            <p:childTnLst>
                              <p:par>
                                <p:cTn id="1776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8" dur="10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9" fill="hold">
                      <p:stCondLst>
                        <p:cond delay="indefinite"/>
                      </p:stCondLst>
                      <p:childTnLst>
                        <p:par>
                          <p:cTn id="1780" fill="hold">
                            <p:stCondLst>
                              <p:cond delay="0"/>
                            </p:stCondLst>
                            <p:childTnLst>
                              <p:par>
                                <p:cTn id="17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83" dur="5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4" fill="hold">
                            <p:stCondLst>
                              <p:cond delay="500"/>
                            </p:stCondLst>
                            <p:childTnLst>
                              <p:par>
                                <p:cTn id="17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87" dur="5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"/>
          <p:cNvSpPr/>
          <p:nvPr/>
        </p:nvSpPr>
        <p:spPr>
          <a:xfrm>
            <a:off x="611280" y="476280"/>
            <a:ext cx="1042920" cy="1042920"/>
          </a:xfrm>
          <a:custGeom>
            <a:avLst/>
            <a:gdLst>
              <a:gd name="textAreaLeft" fmla="*/ 96480 w 1042920"/>
              <a:gd name="textAreaRight" fmla="*/ 946440 w 1042920"/>
              <a:gd name="textAreaTop" fmla="*/ 96480 h 1042920"/>
              <a:gd name="textAreaBottom" fmla="*/ 94644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9595" y="2005"/>
                </a:lnTo>
                <a:lnTo>
                  <a:pt x="2005" y="2005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9595" y="19595"/>
                </a:lnTo>
                <a:lnTo>
                  <a:pt x="19595" y="2005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2005" y="19595"/>
                </a:lnTo>
                <a:lnTo>
                  <a:pt x="19595" y="19595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2005" y="2005"/>
                </a:lnTo>
                <a:lnTo>
                  <a:pt x="2005" y="19595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66ff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 txBox="1"/>
          <p:nvPr/>
        </p:nvSpPr>
        <p:spPr>
          <a:xfrm>
            <a:off x="826920" y="692280"/>
            <a:ext cx="57636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Book Antiqua"/>
              </a:rPr>
              <a:t>12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pic>
        <p:nvPicPr>
          <p:cNvPr id="690" name="" descr=""/>
          <p:cNvPicPr/>
          <p:nvPr/>
        </p:nvPicPr>
        <p:blipFill>
          <a:blip r:embed="rId4"/>
          <a:stretch/>
        </p:blipFill>
        <p:spPr>
          <a:xfrm rot="561000">
            <a:off x="6227640" y="2421000"/>
            <a:ext cx="2159280" cy="2158920"/>
          </a:xfrm>
          <a:prstGeom prst="rect">
            <a:avLst/>
          </a:prstGeom>
          <a:ln w="0">
            <a:noFill/>
          </a:ln>
        </p:spPr>
      </p:pic>
      <p:sp>
        <p:nvSpPr>
          <p:cNvPr id="691" name=""/>
          <p:cNvSpPr txBox="1"/>
          <p:nvPr/>
        </p:nvSpPr>
        <p:spPr>
          <a:xfrm rot="20902800">
            <a:off x="1042560" y="3644640"/>
            <a:ext cx="5492880" cy="20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Right">
              <a:avLst>
                <a:gd name="adj" fmla="val 4313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0000"/>
                    </a:gs>
                  </a:gsLst>
                  <a:lin ang="11496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ак жаль! Как жаль!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ff0000"/>
                  </a:gs>
                </a:gsLst>
                <a:lin ang="11496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92" name=""/>
          <p:cNvSpPr txBox="1"/>
          <p:nvPr/>
        </p:nvSpPr>
        <p:spPr>
          <a:xfrm>
            <a:off x="1908000" y="765000"/>
            <a:ext cx="698364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666699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Увы! Количество баллов </a:t>
            </a:r>
            <a:endParaRPr b="1" i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666699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666699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</a:t>
            </a: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666699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уменьшаются в 2 раза! </a:t>
            </a:r>
            <a:endParaRPr b="1" i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666699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693" name="">
            <a:hlinkClick r:id="rId5" action="ppaction://hlinksldjump"/>
          </p:cNvPr>
          <p:cNvSpPr/>
          <p:nvPr/>
        </p:nvSpPr>
        <p:spPr>
          <a:xfrm>
            <a:off x="5003640" y="5229360"/>
            <a:ext cx="3456000" cy="1152360"/>
          </a:xfrm>
          <a:custGeom>
            <a:avLst/>
            <a:gdLst>
              <a:gd name="textAreaLeft" fmla="*/ 604080 w 3456000"/>
              <a:gd name="textAreaRight" fmla="*/ 2851920 w 3456000"/>
              <a:gd name="textAreaTop" fmla="*/ 190440 h 1152360"/>
              <a:gd name="textAreaBottom" fmla="*/ 961920 h 1152360"/>
            </a:gdLst>
            <a:ahLst/>
            <a:rect l="textAreaLeft" t="textAreaTop" r="textAreaRight" b="textAreaBottom"/>
            <a:pathLst>
              <a:path w="21600" h="21600">
                <a:moveTo>
                  <a:pt x="0" y="3569"/>
                </a:moveTo>
                <a:lnTo>
                  <a:pt x="15959" y="3569"/>
                </a:lnTo>
                <a:lnTo>
                  <a:pt x="15959" y="0"/>
                </a:lnTo>
                <a:lnTo>
                  <a:pt x="21600" y="10800"/>
                </a:lnTo>
                <a:lnTo>
                  <a:pt x="15959" y="21600"/>
                </a:lnTo>
                <a:lnTo>
                  <a:pt x="15959" y="18031"/>
                </a:lnTo>
                <a:lnTo>
                  <a:pt x="0" y="18031"/>
                </a:lnTo>
                <a:lnTo>
                  <a:pt x="3777" y="10800"/>
                </a:lnTo>
                <a:lnTo>
                  <a:pt x="0" y="3569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ПЕРЕХОД Х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88" dur="indefinite" restart="never" nodeType="tmRoot">
          <p:childTnLst>
            <p:seq>
              <p:cTn id="1789" dur="indefinite" nodeType="mainSeq">
                <p:childTnLst>
                  <p:par>
                    <p:cTn id="1790" fill="hold">
                      <p:stCondLst>
                        <p:cond delay="0"/>
                      </p:stCondLst>
                      <p:childTnLst>
                        <p:par>
                          <p:cTn id="1791" fill="hold">
                            <p:stCondLst>
                              <p:cond delay="0"/>
                            </p:stCondLst>
                            <p:childTnLst>
                              <p:par>
                                <p:cTn id="179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7" dur="10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2" nodeType="withEffect" fill="hold" presetClass="emph" presetID="1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03" dur="20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804" dur="20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5" fill="hold">
                            <p:stCondLst>
                              <p:cond delay="2000"/>
                            </p:stCondLst>
                            <p:childTnLst>
                              <p:par>
                                <p:cTn id="1806" nodeType="afterEffect" fill="hold" presetClass="entr" presetID="22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08" dur="20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4" name="" descr=""/>
          <p:cNvPicPr/>
          <p:nvPr/>
        </p:nvPicPr>
        <p:blipFill>
          <a:blip r:embed="rId2"/>
          <a:stretch/>
        </p:blipFill>
        <p:spPr>
          <a:xfrm rot="531000">
            <a:off x="6227280" y="2349000"/>
            <a:ext cx="2443320" cy="2443320"/>
          </a:xfrm>
          <a:prstGeom prst="rect">
            <a:avLst/>
          </a:prstGeom>
          <a:ln w="0">
            <a:noFill/>
          </a:ln>
        </p:spPr>
      </p:pic>
      <p:sp>
        <p:nvSpPr>
          <p:cNvPr id="695" name=""/>
          <p:cNvSpPr/>
          <p:nvPr/>
        </p:nvSpPr>
        <p:spPr>
          <a:xfrm>
            <a:off x="611280" y="476280"/>
            <a:ext cx="1042920" cy="1042920"/>
          </a:xfrm>
          <a:custGeom>
            <a:avLst/>
            <a:gdLst>
              <a:gd name="textAreaLeft" fmla="*/ 96480 w 1042920"/>
              <a:gd name="textAreaRight" fmla="*/ 946440 w 1042920"/>
              <a:gd name="textAreaTop" fmla="*/ 96480 h 1042920"/>
              <a:gd name="textAreaBottom" fmla="*/ 94644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9595" y="2005"/>
                </a:lnTo>
                <a:lnTo>
                  <a:pt x="2005" y="2005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9595" y="19595"/>
                </a:lnTo>
                <a:lnTo>
                  <a:pt x="19595" y="2005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2005" y="19595"/>
                </a:lnTo>
                <a:lnTo>
                  <a:pt x="19595" y="19595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2005" y="2005"/>
                </a:lnTo>
                <a:lnTo>
                  <a:pt x="2005" y="19595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66ff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 txBox="1"/>
          <p:nvPr/>
        </p:nvSpPr>
        <p:spPr>
          <a:xfrm>
            <a:off x="826920" y="692280"/>
            <a:ext cx="57636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Book Antiqua"/>
              </a:rPr>
              <a:t>14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697" name=""/>
          <p:cNvSpPr txBox="1"/>
          <p:nvPr/>
        </p:nvSpPr>
        <p:spPr>
          <a:xfrm rot="21106200">
            <a:off x="971280" y="3716280"/>
            <a:ext cx="5692680" cy="20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Right">
              <a:avLst>
                <a:gd name="adj" fmla="val 4313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0000"/>
                    </a:gs>
                  </a:gsLst>
                  <a:lin ang="11292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Ура!!!  Ура!!!   Ура!!!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ff0000"/>
                  </a:gs>
                </a:gsLst>
                <a:lin ang="11292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98" name=""/>
          <p:cNvSpPr txBox="1"/>
          <p:nvPr/>
        </p:nvSpPr>
        <p:spPr>
          <a:xfrm>
            <a:off x="1835280" y="765000"/>
            <a:ext cx="698328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666699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овезло! Заработанные </a:t>
            </a:r>
            <a:endParaRPr b="1" i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666699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666699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баллы удваиваются!</a:t>
            </a:r>
            <a:endParaRPr b="1" i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666699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699" name="">
            <a:hlinkClick r:id="rId5" action="ppaction://hlinksldjump"/>
          </p:cNvPr>
          <p:cNvSpPr/>
          <p:nvPr/>
        </p:nvSpPr>
        <p:spPr>
          <a:xfrm>
            <a:off x="5003640" y="5229360"/>
            <a:ext cx="3456000" cy="1152360"/>
          </a:xfrm>
          <a:custGeom>
            <a:avLst/>
            <a:gdLst>
              <a:gd name="textAreaLeft" fmla="*/ 604080 w 3456000"/>
              <a:gd name="textAreaRight" fmla="*/ 2851920 w 3456000"/>
              <a:gd name="textAreaTop" fmla="*/ 190440 h 1152360"/>
              <a:gd name="textAreaBottom" fmla="*/ 961920 h 1152360"/>
            </a:gdLst>
            <a:ahLst/>
            <a:rect l="textAreaLeft" t="textAreaTop" r="textAreaRight" b="textAreaBottom"/>
            <a:pathLst>
              <a:path w="21600" h="21600">
                <a:moveTo>
                  <a:pt x="0" y="3569"/>
                </a:moveTo>
                <a:lnTo>
                  <a:pt x="15959" y="3569"/>
                </a:lnTo>
                <a:lnTo>
                  <a:pt x="15959" y="0"/>
                </a:lnTo>
                <a:lnTo>
                  <a:pt x="21600" y="10800"/>
                </a:lnTo>
                <a:lnTo>
                  <a:pt x="15959" y="21600"/>
                </a:lnTo>
                <a:lnTo>
                  <a:pt x="15959" y="18031"/>
                </a:lnTo>
                <a:lnTo>
                  <a:pt x="0" y="18031"/>
                </a:lnTo>
                <a:lnTo>
                  <a:pt x="3777" y="10800"/>
                </a:lnTo>
                <a:lnTo>
                  <a:pt x="0" y="3569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ПЕРЕХОД Х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09" dur="indefinite" restart="never" nodeType="tmRoot">
          <p:childTnLst>
            <p:seq>
              <p:cTn id="1810" dur="indefinite" nodeType="mainSeq">
                <p:childTnLst>
                  <p:par>
                    <p:cTn id="1811" fill="hold">
                      <p:stCondLst>
                        <p:cond delay="0"/>
                      </p:stCondLst>
                      <p:childTnLst>
                        <p:par>
                          <p:cTn id="1812" fill="hold">
                            <p:stCondLst>
                              <p:cond delay="0"/>
                            </p:stCondLst>
                            <p:childTnLst>
                              <p:par>
                                <p:cTn id="181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8" dur="10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3" nodeType="withEffect" fill="hold" presetClass="emph" presetID="1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24" dur="20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825" dur="20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6" fill="hold">
                            <p:stCondLst>
                              <p:cond delay="2000"/>
                            </p:stCondLst>
                            <p:childTnLst>
                              <p:par>
                                <p:cTn id="1827" nodeType="afterEffect" fill="hold" presetClass="entr" presetID="22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29" dur="20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"/>
          <p:cNvSpPr/>
          <p:nvPr/>
        </p:nvSpPr>
        <p:spPr>
          <a:xfrm>
            <a:off x="611280" y="476280"/>
            <a:ext cx="1042920" cy="1042920"/>
          </a:xfrm>
          <a:custGeom>
            <a:avLst/>
            <a:gdLst>
              <a:gd name="textAreaLeft" fmla="*/ 96480 w 1042920"/>
              <a:gd name="textAreaRight" fmla="*/ 946440 w 1042920"/>
              <a:gd name="textAreaTop" fmla="*/ 96480 h 1042920"/>
              <a:gd name="textAreaBottom" fmla="*/ 94644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9595" y="2005"/>
                </a:lnTo>
                <a:lnTo>
                  <a:pt x="2005" y="2005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9595" y="19595"/>
                </a:lnTo>
                <a:lnTo>
                  <a:pt x="19595" y="2005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2005" y="19595"/>
                </a:lnTo>
                <a:lnTo>
                  <a:pt x="19595" y="19595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2005" y="2005"/>
                </a:lnTo>
                <a:lnTo>
                  <a:pt x="2005" y="19595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66ff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 txBox="1"/>
          <p:nvPr/>
        </p:nvSpPr>
        <p:spPr>
          <a:xfrm>
            <a:off x="826920" y="692280"/>
            <a:ext cx="57636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Book Antiqua"/>
              </a:rPr>
              <a:t>15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702" name=""/>
          <p:cNvSpPr txBox="1"/>
          <p:nvPr/>
        </p:nvSpPr>
        <p:spPr>
          <a:xfrm rot="21096000">
            <a:off x="1115640" y="3716280"/>
            <a:ext cx="5492880" cy="20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Right">
              <a:avLst>
                <a:gd name="adj" fmla="val 4313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0000"/>
                    </a:gs>
                  </a:gsLst>
                  <a:lin ang="11304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Ура!!!  Ура!!!   Ура!!!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ff0000"/>
                  </a:gs>
                </a:gsLst>
                <a:lin ang="11304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03" name=""/>
          <p:cNvSpPr txBox="1"/>
          <p:nvPr/>
        </p:nvSpPr>
        <p:spPr>
          <a:xfrm>
            <a:off x="1835280" y="765000"/>
            <a:ext cx="698328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666699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овезло! </a:t>
            </a:r>
            <a:endParaRPr b="1" i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666699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666699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</a:t>
            </a: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666699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Дополнительно 10 баллов!</a:t>
            </a:r>
            <a:endParaRPr b="1" i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666699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704" name="" descr=""/>
          <p:cNvPicPr/>
          <p:nvPr/>
        </p:nvPicPr>
        <p:blipFill>
          <a:blip r:embed="rId4"/>
          <a:stretch/>
        </p:blipFill>
        <p:spPr>
          <a:xfrm rot="489000">
            <a:off x="6156000" y="2421000"/>
            <a:ext cx="2516040" cy="2519280"/>
          </a:xfrm>
          <a:prstGeom prst="rect">
            <a:avLst/>
          </a:prstGeom>
          <a:ln w="0">
            <a:noFill/>
          </a:ln>
        </p:spPr>
      </p:pic>
      <p:sp>
        <p:nvSpPr>
          <p:cNvPr id="705" name="">
            <a:hlinkClick r:id="rId5" action="ppaction://hlinksldjump"/>
          </p:cNvPr>
          <p:cNvSpPr/>
          <p:nvPr/>
        </p:nvSpPr>
        <p:spPr>
          <a:xfrm>
            <a:off x="5003640" y="5229360"/>
            <a:ext cx="3456000" cy="1152360"/>
          </a:xfrm>
          <a:custGeom>
            <a:avLst/>
            <a:gdLst>
              <a:gd name="textAreaLeft" fmla="*/ 604080 w 3456000"/>
              <a:gd name="textAreaRight" fmla="*/ 2851920 w 3456000"/>
              <a:gd name="textAreaTop" fmla="*/ 190440 h 1152360"/>
              <a:gd name="textAreaBottom" fmla="*/ 961920 h 1152360"/>
            </a:gdLst>
            <a:ahLst/>
            <a:rect l="textAreaLeft" t="textAreaTop" r="textAreaRight" b="textAreaBottom"/>
            <a:pathLst>
              <a:path w="21600" h="21600">
                <a:moveTo>
                  <a:pt x="0" y="3569"/>
                </a:moveTo>
                <a:lnTo>
                  <a:pt x="15959" y="3569"/>
                </a:lnTo>
                <a:lnTo>
                  <a:pt x="15959" y="0"/>
                </a:lnTo>
                <a:lnTo>
                  <a:pt x="21600" y="10800"/>
                </a:lnTo>
                <a:lnTo>
                  <a:pt x="15959" y="21600"/>
                </a:lnTo>
                <a:lnTo>
                  <a:pt x="15959" y="18031"/>
                </a:lnTo>
                <a:lnTo>
                  <a:pt x="0" y="18031"/>
                </a:lnTo>
                <a:lnTo>
                  <a:pt x="3777" y="10800"/>
                </a:lnTo>
                <a:lnTo>
                  <a:pt x="0" y="3569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ПЕРЕХОД Х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30" dur="indefinite" restart="never" nodeType="tmRoot">
          <p:childTnLst>
            <p:seq>
              <p:cTn id="1831" dur="indefinite" nodeType="mainSeq">
                <p:childTnLst>
                  <p:par>
                    <p:cTn id="1832" fill="hold">
                      <p:stCondLst>
                        <p:cond delay="0"/>
                      </p:stCondLst>
                      <p:childTnLst>
                        <p:par>
                          <p:cTn id="1833" fill="hold">
                            <p:stCondLst>
                              <p:cond delay="0"/>
                            </p:stCondLst>
                            <p:childTnLst>
                              <p:par>
                                <p:cTn id="183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9" dur="10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4" nodeType="withEffect" fill="hold" presetClass="emph" presetID="1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45" dur="20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846" dur="20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7" fill="hold">
                            <p:stCondLst>
                              <p:cond delay="2000"/>
                            </p:stCondLst>
                            <p:childTnLst>
                              <p:par>
                                <p:cTn id="1848" nodeType="afterEffect" fill="hold" presetClass="entr" presetID="22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50" dur="20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"/>
          <p:cNvSpPr/>
          <p:nvPr/>
        </p:nvSpPr>
        <p:spPr>
          <a:xfrm>
            <a:off x="611280" y="476280"/>
            <a:ext cx="1042920" cy="1042920"/>
          </a:xfrm>
          <a:custGeom>
            <a:avLst/>
            <a:gdLst>
              <a:gd name="textAreaLeft" fmla="*/ 96480 w 1042920"/>
              <a:gd name="textAreaRight" fmla="*/ 946440 w 1042920"/>
              <a:gd name="textAreaTop" fmla="*/ 96480 h 1042920"/>
              <a:gd name="textAreaBottom" fmla="*/ 94644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9595" y="2005"/>
                </a:lnTo>
                <a:lnTo>
                  <a:pt x="2005" y="2005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9595" y="19595"/>
                </a:lnTo>
                <a:lnTo>
                  <a:pt x="19595" y="2005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2005" y="19595"/>
                </a:lnTo>
                <a:lnTo>
                  <a:pt x="19595" y="19595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2005" y="2005"/>
                </a:lnTo>
                <a:lnTo>
                  <a:pt x="2005" y="19595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66ff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 txBox="1"/>
          <p:nvPr/>
        </p:nvSpPr>
        <p:spPr>
          <a:xfrm>
            <a:off x="826920" y="692280"/>
            <a:ext cx="57636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Book Antiqua"/>
              </a:rPr>
              <a:t>33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pic>
        <p:nvPicPr>
          <p:cNvPr id="708" name="" descr=""/>
          <p:cNvPicPr/>
          <p:nvPr/>
        </p:nvPicPr>
        <p:blipFill>
          <a:blip r:embed="rId4"/>
          <a:stretch/>
        </p:blipFill>
        <p:spPr>
          <a:xfrm rot="505200">
            <a:off x="6084360" y="2349000"/>
            <a:ext cx="2159280" cy="2159280"/>
          </a:xfrm>
          <a:prstGeom prst="rect">
            <a:avLst/>
          </a:prstGeom>
          <a:ln w="0">
            <a:noFill/>
          </a:ln>
        </p:spPr>
      </p:pic>
      <p:sp>
        <p:nvSpPr>
          <p:cNvPr id="709" name=""/>
          <p:cNvSpPr txBox="1"/>
          <p:nvPr/>
        </p:nvSpPr>
        <p:spPr>
          <a:xfrm rot="20902800">
            <a:off x="1042560" y="3715920"/>
            <a:ext cx="5492880" cy="20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Right">
              <a:avLst>
                <a:gd name="adj" fmla="val 4313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0000"/>
                    </a:gs>
                  </a:gsLst>
                  <a:lin ang="11496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ак жаль! Как жаль!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ff0000"/>
                  </a:gs>
                </a:gsLst>
                <a:lin ang="11496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10" name=""/>
          <p:cNvSpPr txBox="1"/>
          <p:nvPr/>
        </p:nvSpPr>
        <p:spPr>
          <a:xfrm>
            <a:off x="1979640" y="765000"/>
            <a:ext cx="6696000" cy="151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666699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Увы! </a:t>
            </a:r>
            <a:endParaRPr b="1" i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666699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666699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Минус 5 баллов от общего количества!</a:t>
            </a:r>
            <a:endParaRPr b="1" i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666699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711" name="">
            <a:hlinkClick r:id="rId5" action="ppaction://hlinksldjump"/>
          </p:cNvPr>
          <p:cNvSpPr/>
          <p:nvPr/>
        </p:nvSpPr>
        <p:spPr>
          <a:xfrm>
            <a:off x="5003640" y="5229360"/>
            <a:ext cx="3456000" cy="1152360"/>
          </a:xfrm>
          <a:custGeom>
            <a:avLst/>
            <a:gdLst>
              <a:gd name="textAreaLeft" fmla="*/ 604080 w 3456000"/>
              <a:gd name="textAreaRight" fmla="*/ 2851920 w 3456000"/>
              <a:gd name="textAreaTop" fmla="*/ 190440 h 1152360"/>
              <a:gd name="textAreaBottom" fmla="*/ 961920 h 1152360"/>
            </a:gdLst>
            <a:ahLst/>
            <a:rect l="textAreaLeft" t="textAreaTop" r="textAreaRight" b="textAreaBottom"/>
            <a:pathLst>
              <a:path w="21600" h="21600">
                <a:moveTo>
                  <a:pt x="0" y="3569"/>
                </a:moveTo>
                <a:lnTo>
                  <a:pt x="15959" y="3569"/>
                </a:lnTo>
                <a:lnTo>
                  <a:pt x="15959" y="0"/>
                </a:lnTo>
                <a:lnTo>
                  <a:pt x="21600" y="10800"/>
                </a:lnTo>
                <a:lnTo>
                  <a:pt x="15959" y="21600"/>
                </a:lnTo>
                <a:lnTo>
                  <a:pt x="15959" y="18031"/>
                </a:lnTo>
                <a:lnTo>
                  <a:pt x="0" y="18031"/>
                </a:lnTo>
                <a:lnTo>
                  <a:pt x="3777" y="10800"/>
                </a:lnTo>
                <a:lnTo>
                  <a:pt x="0" y="3569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ПЕРЕХОД Х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51" dur="indefinite" restart="never" nodeType="tmRoot">
          <p:childTnLst>
            <p:seq>
              <p:cTn id="1852" dur="indefinite" nodeType="mainSeq">
                <p:childTnLst>
                  <p:par>
                    <p:cTn id="1853" fill="hold">
                      <p:stCondLst>
                        <p:cond delay="0"/>
                      </p:stCondLst>
                      <p:childTnLst>
                        <p:par>
                          <p:cTn id="1854" fill="hold">
                            <p:stCondLst>
                              <p:cond delay="0"/>
                            </p:stCondLst>
                            <p:childTnLst>
                              <p:par>
                                <p:cTn id="185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0" dur="10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5" nodeType="withEffect" fill="hold" presetClass="emph" presetID="1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66" dur="20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867" dur="20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8" fill="hold">
                            <p:stCondLst>
                              <p:cond delay="2000"/>
                            </p:stCondLst>
                            <p:childTnLst>
                              <p:par>
                                <p:cTn id="1869" nodeType="afterEffect" fill="hold" presetClass="entr" presetID="22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71" dur="20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583236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ВНИМАНИЕ !  ВОПРО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32000" y="1989000"/>
            <a:ext cx="6780240" cy="1368720"/>
          </a:xfrm>
          <a:prstGeom prst="rect">
            <a:avLst/>
          </a:prstGeom>
          <a:solidFill>
            <a:srgbClr val="ffff00">
              <a:alpha val="34000"/>
            </a:srgbClr>
          </a:solidFill>
          <a:ln w="57240">
            <a:solidFill>
              <a:srgbClr val="ffff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кажите самый глубокий океан на Земл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395280" y="404640"/>
            <a:ext cx="1368360" cy="1368720"/>
          </a:xfrm>
          <a:prstGeom prst="rect">
            <a:avLst/>
          </a:prstGeom>
          <a:ln w="0">
            <a:noFill/>
          </a:ln>
        </p:spPr>
      </p:pic>
      <p:sp>
        <p:nvSpPr>
          <p:cNvPr id="133" name="">
            <a:hlinkClick r:id="rId3" action="ppaction://hlinksldjump"/>
          </p:cNvPr>
          <p:cNvSpPr/>
          <p:nvPr/>
        </p:nvSpPr>
        <p:spPr>
          <a:xfrm>
            <a:off x="539640" y="549360"/>
            <a:ext cx="1042920" cy="1042920"/>
          </a:xfrm>
          <a:custGeom>
            <a:avLst/>
            <a:gdLst>
              <a:gd name="textAreaLeft" fmla="*/ 96480 w 1042920"/>
              <a:gd name="textAreaRight" fmla="*/ 946440 w 1042920"/>
              <a:gd name="textAreaTop" fmla="*/ 96480 h 1042920"/>
              <a:gd name="textAreaBottom" fmla="*/ 94644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9595" y="2005"/>
                </a:lnTo>
                <a:lnTo>
                  <a:pt x="2005" y="2005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9595" y="19595"/>
                </a:lnTo>
                <a:lnTo>
                  <a:pt x="19595" y="2005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2005" y="19595"/>
                </a:lnTo>
                <a:lnTo>
                  <a:pt x="19595" y="19595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2005" y="2005"/>
                </a:lnTo>
                <a:lnTo>
                  <a:pt x="2005" y="19595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0000" y="765000"/>
            <a:ext cx="2872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Book Antiqua"/>
              </a:rPr>
              <a:t>1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135" name=""/>
          <p:cNvSpPr/>
          <p:nvPr/>
        </p:nvSpPr>
        <p:spPr>
          <a:xfrm>
            <a:off x="684360" y="5589720"/>
            <a:ext cx="647640" cy="538200"/>
          </a:xfrm>
          <a:custGeom>
            <a:avLst/>
            <a:gdLst>
              <a:gd name="textAreaLeft" fmla="*/ 115200 w 647640"/>
              <a:gd name="textAreaRight" fmla="*/ 532440 w 647640"/>
              <a:gd name="textAreaTop" fmla="*/ 115200 h 538200"/>
              <a:gd name="textAreaBottom" fmla="*/ 42300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1361" y="4629"/>
                </a:lnTo>
                <a:lnTo>
                  <a:pt x="4629" y="4629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1361" y="16971"/>
                </a:lnTo>
                <a:lnTo>
                  <a:pt x="21361" y="4629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4629" y="16971"/>
                </a:lnTo>
                <a:lnTo>
                  <a:pt x="21361" y="16971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4629" y="4629"/>
                </a:lnTo>
                <a:lnTo>
                  <a:pt x="4629" y="1697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547640" y="5589720"/>
            <a:ext cx="648000" cy="538200"/>
          </a:xfrm>
          <a:custGeom>
            <a:avLst/>
            <a:gdLst>
              <a:gd name="textAreaLeft" fmla="*/ 115200 w 648000"/>
              <a:gd name="textAreaRight" fmla="*/ 532800 w 648000"/>
              <a:gd name="textAreaTop" fmla="*/ 115200 h 538200"/>
              <a:gd name="textAreaBottom" fmla="*/ 42300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1375" y="4629"/>
                </a:lnTo>
                <a:lnTo>
                  <a:pt x="4629" y="4629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1375" y="16971"/>
                </a:lnTo>
                <a:lnTo>
                  <a:pt x="21375" y="4629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4629" y="16971"/>
                </a:lnTo>
                <a:lnTo>
                  <a:pt x="21375" y="16971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4629" y="4629"/>
                </a:lnTo>
                <a:lnTo>
                  <a:pt x="4629" y="1697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11280" y="5589720"/>
            <a:ext cx="648000" cy="538200"/>
          </a:xfrm>
          <a:custGeom>
            <a:avLst/>
            <a:gdLst>
              <a:gd name="textAreaLeft" fmla="*/ 115200 w 648000"/>
              <a:gd name="textAreaRight" fmla="*/ 532800 w 648000"/>
              <a:gd name="textAreaTop" fmla="*/ 115200 h 538200"/>
              <a:gd name="textAreaBottom" fmla="*/ 42300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1375" y="4629"/>
                </a:lnTo>
                <a:lnTo>
                  <a:pt x="4629" y="4629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1375" y="16971"/>
                </a:lnTo>
                <a:lnTo>
                  <a:pt x="21375" y="4629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4629" y="16971"/>
                </a:lnTo>
                <a:lnTo>
                  <a:pt x="21375" y="16971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4629" y="4629"/>
                </a:lnTo>
                <a:lnTo>
                  <a:pt x="4629" y="1697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276720" y="5589720"/>
            <a:ext cx="647640" cy="538200"/>
          </a:xfrm>
          <a:custGeom>
            <a:avLst/>
            <a:gdLst>
              <a:gd name="textAreaLeft" fmla="*/ 115200 w 647640"/>
              <a:gd name="textAreaRight" fmla="*/ 532440 w 647640"/>
              <a:gd name="textAreaTop" fmla="*/ 115200 h 538200"/>
              <a:gd name="textAreaBottom" fmla="*/ 42300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1361" y="4629"/>
                </a:lnTo>
                <a:lnTo>
                  <a:pt x="4629" y="4629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1361" y="16971"/>
                </a:lnTo>
                <a:lnTo>
                  <a:pt x="21361" y="4629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4629" y="16971"/>
                </a:lnTo>
                <a:lnTo>
                  <a:pt x="21361" y="16971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4629" y="4629"/>
                </a:lnTo>
                <a:lnTo>
                  <a:pt x="4629" y="1697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140360" y="5589720"/>
            <a:ext cx="647640" cy="538200"/>
          </a:xfrm>
          <a:custGeom>
            <a:avLst/>
            <a:gdLst>
              <a:gd name="textAreaLeft" fmla="*/ 115200 w 647640"/>
              <a:gd name="textAreaRight" fmla="*/ 532440 w 647640"/>
              <a:gd name="textAreaTop" fmla="*/ 115200 h 538200"/>
              <a:gd name="textAreaBottom" fmla="*/ 42300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1361" y="4629"/>
                </a:lnTo>
                <a:lnTo>
                  <a:pt x="4629" y="4629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1361" y="16971"/>
                </a:lnTo>
                <a:lnTo>
                  <a:pt x="21361" y="4629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4629" y="16971"/>
                </a:lnTo>
                <a:lnTo>
                  <a:pt x="21361" y="16971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4629" y="4629"/>
                </a:lnTo>
                <a:lnTo>
                  <a:pt x="4629" y="1697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0" y="3716280"/>
            <a:ext cx="4321080" cy="574560"/>
          </a:xfrm>
          <a:prstGeom prst="rect">
            <a:avLst/>
          </a:prstGeom>
          <a:noFill/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33"/>
                </a:solidFill>
                <a:latin typeface="Arial"/>
              </a:rPr>
              <a:t>Правильный 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rot="10800000">
            <a:off x="5148360" y="4797000"/>
            <a:ext cx="3311280" cy="1295640"/>
          </a:xfrm>
          <a:prstGeom prst="wedgeRectCallout">
            <a:avLst>
              <a:gd name="adj1" fmla="val -5277"/>
              <a:gd name="adj2" fmla="val 85416"/>
            </a:avLst>
          </a:prstGeom>
          <a:noFill/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Тих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250920" y="189000"/>
            <a:ext cx="1657080" cy="21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58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географ</a:t>
            </a:r>
            <a:endParaRPr b="0" i="1" lang="en-US" sz="1800" spc="1" strike="noStrike">
              <a:ln w="158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6297480"/>
            <a:ext cx="9144000" cy="56052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68360" y="6453360"/>
            <a:ext cx="4174920" cy="23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58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гра "географ"</a:t>
            </a:r>
            <a:endParaRPr b="0" i="1" lang="en-US" sz="1800" spc="1" strike="noStrike">
              <a:ln w="158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5" name="">
            <a:hlinkClick r:id="rId6" action="ppaction://hlinksldjump"/>
          </p:cNvPr>
          <p:cNvSpPr/>
          <p:nvPr/>
        </p:nvSpPr>
        <p:spPr>
          <a:xfrm>
            <a:off x="5940360" y="6453360"/>
            <a:ext cx="1420920" cy="288720"/>
          </a:xfrm>
          <a:prstGeom prst="rect">
            <a:avLst/>
          </a:prstGeom>
          <a:gradFill rotWithShape="0">
            <a:gsLst>
              <a:gs pos="0">
                <a:srgbClr val="3c3e5a"/>
              </a:gs>
              <a:gs pos="50000">
                <a:srgbClr val="8488c4">
                  <a:alpha val="63137"/>
                </a:srgbClr>
              </a:gs>
              <a:gs pos="100000">
                <a:srgbClr val="3c3e5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равила игр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>
            <a:hlinkClick r:id="rId7" action="ppaction://hlinksldjump"/>
          </p:cNvPr>
          <p:cNvSpPr/>
          <p:nvPr/>
        </p:nvSpPr>
        <p:spPr>
          <a:xfrm>
            <a:off x="7451640" y="6453360"/>
            <a:ext cx="1565280" cy="288720"/>
          </a:xfrm>
          <a:prstGeom prst="rect">
            <a:avLst/>
          </a:prstGeom>
          <a:gradFill rotWithShape="0">
            <a:gsLst>
              <a:gs pos="0">
                <a:srgbClr val="3c3e5a"/>
              </a:gs>
              <a:gs pos="50000">
                <a:srgbClr val="8488c4">
                  <a:alpha val="63137"/>
                </a:srgbClr>
              </a:gs>
              <a:gs pos="100000">
                <a:srgbClr val="3c3e5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Продолжить игр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8"/>
          <a:stretch/>
        </p:blipFill>
        <p:spPr>
          <a:xfrm>
            <a:off x="1042920" y="3645000"/>
            <a:ext cx="136836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0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500"/>
                            </p:stCondLst>
                            <p:childTnLst>
                              <p:par>
                                <p:cTn id="30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1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1000"/>
                            </p:stCondLst>
                            <p:childTnLst>
                              <p:par>
                                <p:cTn id="31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14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1500"/>
                            </p:stCondLst>
                            <p:childTnLst>
                              <p:par>
                                <p:cTn id="316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5000"/>
                            </p:stCondLst>
                            <p:childTnLst>
                              <p:par>
                                <p:cTn id="320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7000"/>
                            </p:stCondLst>
                            <p:childTnLst>
                              <p:par>
                                <p:cTn id="324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9000"/>
                            </p:stCondLst>
                            <p:childTnLst>
                              <p:par>
                                <p:cTn id="328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11000"/>
                            </p:stCondLst>
                            <p:childTnLst>
                              <p:par>
                                <p:cTn id="332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9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500"/>
                            </p:stCondLst>
                            <p:childTnLst>
                              <p:par>
                                <p:cTn id="3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583236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ВНИМАНИЕ !  ВОПРО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332000" y="1989000"/>
            <a:ext cx="6780240" cy="1368720"/>
          </a:xfrm>
          <a:prstGeom prst="rect">
            <a:avLst/>
          </a:prstGeom>
          <a:solidFill>
            <a:srgbClr val="ffff00">
              <a:alpha val="34000"/>
            </a:srgbClr>
          </a:solidFill>
          <a:ln w="57240">
            <a:solidFill>
              <a:srgbClr val="ffff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кажите максимальную глубину Тихого океа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395280" y="404640"/>
            <a:ext cx="1368360" cy="1368720"/>
          </a:xfrm>
          <a:prstGeom prst="rect">
            <a:avLst/>
          </a:prstGeom>
          <a:ln w="0">
            <a:noFill/>
          </a:ln>
        </p:spPr>
      </p:pic>
      <p:sp>
        <p:nvSpPr>
          <p:cNvPr id="151" name="">
            <a:hlinkClick r:id="rId3" action="ppaction://hlinksldjump"/>
          </p:cNvPr>
          <p:cNvSpPr/>
          <p:nvPr/>
        </p:nvSpPr>
        <p:spPr>
          <a:xfrm>
            <a:off x="539640" y="549360"/>
            <a:ext cx="1042920" cy="1042920"/>
          </a:xfrm>
          <a:custGeom>
            <a:avLst/>
            <a:gdLst>
              <a:gd name="textAreaLeft" fmla="*/ 96480 w 1042920"/>
              <a:gd name="textAreaRight" fmla="*/ 946440 w 1042920"/>
              <a:gd name="textAreaTop" fmla="*/ 96480 h 1042920"/>
              <a:gd name="textAreaBottom" fmla="*/ 94644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9595" y="2005"/>
                </a:lnTo>
                <a:lnTo>
                  <a:pt x="2005" y="2005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9595" y="19595"/>
                </a:lnTo>
                <a:lnTo>
                  <a:pt x="19595" y="2005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2005" y="19595"/>
                </a:lnTo>
                <a:lnTo>
                  <a:pt x="19595" y="19595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2005" y="2005"/>
                </a:lnTo>
                <a:lnTo>
                  <a:pt x="2005" y="19595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900000" y="765000"/>
            <a:ext cx="2872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Book Antiqua"/>
              </a:rPr>
              <a:t>5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153" name=""/>
          <p:cNvSpPr/>
          <p:nvPr/>
        </p:nvSpPr>
        <p:spPr>
          <a:xfrm>
            <a:off x="684360" y="5589720"/>
            <a:ext cx="647640" cy="538200"/>
          </a:xfrm>
          <a:custGeom>
            <a:avLst/>
            <a:gdLst>
              <a:gd name="textAreaLeft" fmla="*/ 115200 w 647640"/>
              <a:gd name="textAreaRight" fmla="*/ 532440 w 647640"/>
              <a:gd name="textAreaTop" fmla="*/ 115200 h 538200"/>
              <a:gd name="textAreaBottom" fmla="*/ 42300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1361" y="4629"/>
                </a:lnTo>
                <a:lnTo>
                  <a:pt x="4629" y="4629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1361" y="16971"/>
                </a:lnTo>
                <a:lnTo>
                  <a:pt x="21361" y="4629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4629" y="16971"/>
                </a:lnTo>
                <a:lnTo>
                  <a:pt x="21361" y="16971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4629" y="4629"/>
                </a:lnTo>
                <a:lnTo>
                  <a:pt x="4629" y="1697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547640" y="5589720"/>
            <a:ext cx="648000" cy="538200"/>
          </a:xfrm>
          <a:custGeom>
            <a:avLst/>
            <a:gdLst>
              <a:gd name="textAreaLeft" fmla="*/ 115200 w 648000"/>
              <a:gd name="textAreaRight" fmla="*/ 532800 w 648000"/>
              <a:gd name="textAreaTop" fmla="*/ 115200 h 538200"/>
              <a:gd name="textAreaBottom" fmla="*/ 42300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1375" y="4629"/>
                </a:lnTo>
                <a:lnTo>
                  <a:pt x="4629" y="4629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1375" y="16971"/>
                </a:lnTo>
                <a:lnTo>
                  <a:pt x="21375" y="4629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4629" y="16971"/>
                </a:lnTo>
                <a:lnTo>
                  <a:pt x="21375" y="16971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4629" y="4629"/>
                </a:lnTo>
                <a:lnTo>
                  <a:pt x="4629" y="1697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411280" y="5589720"/>
            <a:ext cx="648000" cy="538200"/>
          </a:xfrm>
          <a:custGeom>
            <a:avLst/>
            <a:gdLst>
              <a:gd name="textAreaLeft" fmla="*/ 115200 w 648000"/>
              <a:gd name="textAreaRight" fmla="*/ 532800 w 648000"/>
              <a:gd name="textAreaTop" fmla="*/ 115200 h 538200"/>
              <a:gd name="textAreaBottom" fmla="*/ 42300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1375" y="4629"/>
                </a:lnTo>
                <a:lnTo>
                  <a:pt x="4629" y="4629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1375" y="16971"/>
                </a:lnTo>
                <a:lnTo>
                  <a:pt x="21375" y="4629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4629" y="16971"/>
                </a:lnTo>
                <a:lnTo>
                  <a:pt x="21375" y="16971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4629" y="4629"/>
                </a:lnTo>
                <a:lnTo>
                  <a:pt x="4629" y="1697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276720" y="5589720"/>
            <a:ext cx="647640" cy="538200"/>
          </a:xfrm>
          <a:custGeom>
            <a:avLst/>
            <a:gdLst>
              <a:gd name="textAreaLeft" fmla="*/ 115200 w 647640"/>
              <a:gd name="textAreaRight" fmla="*/ 532440 w 647640"/>
              <a:gd name="textAreaTop" fmla="*/ 115200 h 538200"/>
              <a:gd name="textAreaBottom" fmla="*/ 42300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1361" y="4629"/>
                </a:lnTo>
                <a:lnTo>
                  <a:pt x="4629" y="4629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1361" y="16971"/>
                </a:lnTo>
                <a:lnTo>
                  <a:pt x="21361" y="4629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4629" y="16971"/>
                </a:lnTo>
                <a:lnTo>
                  <a:pt x="21361" y="16971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4629" y="4629"/>
                </a:lnTo>
                <a:lnTo>
                  <a:pt x="4629" y="1697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140360" y="5589720"/>
            <a:ext cx="647640" cy="538200"/>
          </a:xfrm>
          <a:custGeom>
            <a:avLst/>
            <a:gdLst>
              <a:gd name="textAreaLeft" fmla="*/ 115200 w 647640"/>
              <a:gd name="textAreaRight" fmla="*/ 532440 w 647640"/>
              <a:gd name="textAreaTop" fmla="*/ 115200 h 538200"/>
              <a:gd name="textAreaBottom" fmla="*/ 42300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1361" y="4629"/>
                </a:lnTo>
                <a:lnTo>
                  <a:pt x="4629" y="4629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1361" y="16971"/>
                </a:lnTo>
                <a:lnTo>
                  <a:pt x="21361" y="4629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4629" y="16971"/>
                </a:lnTo>
                <a:lnTo>
                  <a:pt x="21361" y="16971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4629" y="4629"/>
                </a:lnTo>
                <a:lnTo>
                  <a:pt x="4629" y="1697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572000" y="3716280"/>
            <a:ext cx="4321080" cy="574560"/>
          </a:xfrm>
          <a:prstGeom prst="rect">
            <a:avLst/>
          </a:prstGeom>
          <a:noFill/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33"/>
                </a:solidFill>
                <a:latin typeface="Arial"/>
              </a:rPr>
              <a:t>Правильный 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10800000">
            <a:off x="5148360" y="4797000"/>
            <a:ext cx="3311280" cy="1295640"/>
          </a:xfrm>
          <a:prstGeom prst="wedgeRectCallout">
            <a:avLst>
              <a:gd name="adj1" fmla="val -5277"/>
              <a:gd name="adj2" fmla="val 85416"/>
            </a:avLst>
          </a:prstGeom>
          <a:noFill/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11022 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250920" y="189000"/>
            <a:ext cx="1657080" cy="21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58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географ</a:t>
            </a:r>
            <a:endParaRPr b="0" i="1" lang="en-US" sz="1800" spc="1" strike="noStrike">
              <a:ln w="158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6297480"/>
            <a:ext cx="9144000" cy="56052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68360" y="6453360"/>
            <a:ext cx="4174920" cy="23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58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гра "географ"</a:t>
            </a:r>
            <a:endParaRPr b="0" i="1" lang="en-US" sz="1800" spc="1" strike="noStrike">
              <a:ln w="158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3" name="">
            <a:hlinkClick r:id="rId6" action="ppaction://hlinksldjump"/>
          </p:cNvPr>
          <p:cNvSpPr/>
          <p:nvPr/>
        </p:nvSpPr>
        <p:spPr>
          <a:xfrm>
            <a:off x="5940360" y="6453360"/>
            <a:ext cx="1420920" cy="288720"/>
          </a:xfrm>
          <a:prstGeom prst="rect">
            <a:avLst/>
          </a:prstGeom>
          <a:gradFill rotWithShape="0">
            <a:gsLst>
              <a:gs pos="0">
                <a:srgbClr val="3c3e5a"/>
              </a:gs>
              <a:gs pos="50000">
                <a:srgbClr val="8488c4">
                  <a:alpha val="63137"/>
                </a:srgbClr>
              </a:gs>
              <a:gs pos="100000">
                <a:srgbClr val="3c3e5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равила игр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>
            <a:hlinkClick r:id="rId7" action="ppaction://hlinksldjump"/>
          </p:cNvPr>
          <p:cNvSpPr/>
          <p:nvPr/>
        </p:nvSpPr>
        <p:spPr>
          <a:xfrm>
            <a:off x="7451640" y="6453360"/>
            <a:ext cx="1565280" cy="288720"/>
          </a:xfrm>
          <a:prstGeom prst="rect">
            <a:avLst/>
          </a:prstGeom>
          <a:gradFill rotWithShape="0">
            <a:gsLst>
              <a:gs pos="0">
                <a:srgbClr val="3c3e5a"/>
              </a:gs>
              <a:gs pos="50000">
                <a:srgbClr val="8488c4">
                  <a:alpha val="63137"/>
                </a:srgbClr>
              </a:gs>
              <a:gs pos="100000">
                <a:srgbClr val="3c3e5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Продолжить игр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8"/>
          <a:stretch/>
        </p:blipFill>
        <p:spPr>
          <a:xfrm>
            <a:off x="971640" y="3645000"/>
            <a:ext cx="1584360" cy="15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0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500"/>
                            </p:stCondLst>
                            <p:childTnLst>
                              <p:par>
                                <p:cTn id="35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5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1000"/>
                            </p:stCondLst>
                            <p:childTnLst>
                              <p:par>
                                <p:cTn id="36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62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1500"/>
                            </p:stCondLst>
                            <p:childTnLst>
                              <p:par>
                                <p:cTn id="364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5000"/>
                            </p:stCondLst>
                            <p:childTnLst>
                              <p:par>
                                <p:cTn id="368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7000"/>
                            </p:stCondLst>
                            <p:childTnLst>
                              <p:par>
                                <p:cTn id="372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9000"/>
                            </p:stCondLst>
                            <p:childTnLst>
                              <p:par>
                                <p:cTn id="376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11000"/>
                            </p:stCondLst>
                            <p:childTnLst>
                              <p:par>
                                <p:cTn id="380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500"/>
                            </p:stCondLst>
                            <p:childTnLst>
                              <p:par>
                                <p:cTn id="3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583236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ВНИМАНИЕ !  ВОПРО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332000" y="1989000"/>
            <a:ext cx="6780240" cy="1368720"/>
          </a:xfrm>
          <a:prstGeom prst="rect">
            <a:avLst/>
          </a:prstGeom>
          <a:solidFill>
            <a:srgbClr val="ffff00">
              <a:alpha val="34000"/>
            </a:srgbClr>
          </a:solidFill>
          <a:ln w="57240">
            <a:solidFill>
              <a:srgbClr val="ffff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Arial"/>
              </a:rPr>
              <a:t>Какие океаны соединяет Берингов пролив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395280" y="404640"/>
            <a:ext cx="1368360" cy="1368720"/>
          </a:xfrm>
          <a:prstGeom prst="rect">
            <a:avLst/>
          </a:prstGeom>
          <a:ln w="0">
            <a:noFill/>
          </a:ln>
        </p:spPr>
      </p:pic>
      <p:sp>
        <p:nvSpPr>
          <p:cNvPr id="169" name="">
            <a:hlinkClick r:id="rId3" action="ppaction://hlinksldjump"/>
          </p:cNvPr>
          <p:cNvSpPr/>
          <p:nvPr/>
        </p:nvSpPr>
        <p:spPr>
          <a:xfrm>
            <a:off x="539640" y="549360"/>
            <a:ext cx="1042920" cy="1042920"/>
          </a:xfrm>
          <a:custGeom>
            <a:avLst/>
            <a:gdLst>
              <a:gd name="textAreaLeft" fmla="*/ 96480 w 1042920"/>
              <a:gd name="textAreaRight" fmla="*/ 946440 w 1042920"/>
              <a:gd name="textAreaTop" fmla="*/ 96480 h 1042920"/>
              <a:gd name="textAreaBottom" fmla="*/ 94644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9595" y="2005"/>
                </a:lnTo>
                <a:lnTo>
                  <a:pt x="2005" y="2005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9595" y="19595"/>
                </a:lnTo>
                <a:lnTo>
                  <a:pt x="19595" y="2005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2005" y="19595"/>
                </a:lnTo>
                <a:lnTo>
                  <a:pt x="19595" y="19595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2005" y="2005"/>
                </a:lnTo>
                <a:lnTo>
                  <a:pt x="2005" y="19595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900000" y="765000"/>
            <a:ext cx="2872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Book Antiqua"/>
              </a:rPr>
              <a:t>9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589720"/>
            <a:ext cx="647640" cy="538200"/>
          </a:xfrm>
          <a:custGeom>
            <a:avLst/>
            <a:gdLst>
              <a:gd name="textAreaLeft" fmla="*/ 115200 w 647640"/>
              <a:gd name="textAreaRight" fmla="*/ 532440 w 647640"/>
              <a:gd name="textAreaTop" fmla="*/ 115200 h 538200"/>
              <a:gd name="textAreaBottom" fmla="*/ 42300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1361" y="4629"/>
                </a:lnTo>
                <a:lnTo>
                  <a:pt x="4629" y="4629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1361" y="16971"/>
                </a:lnTo>
                <a:lnTo>
                  <a:pt x="21361" y="4629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4629" y="16971"/>
                </a:lnTo>
                <a:lnTo>
                  <a:pt x="21361" y="16971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4629" y="4629"/>
                </a:lnTo>
                <a:lnTo>
                  <a:pt x="4629" y="1697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547640" y="5589720"/>
            <a:ext cx="648000" cy="538200"/>
          </a:xfrm>
          <a:custGeom>
            <a:avLst/>
            <a:gdLst>
              <a:gd name="textAreaLeft" fmla="*/ 115200 w 648000"/>
              <a:gd name="textAreaRight" fmla="*/ 532800 w 648000"/>
              <a:gd name="textAreaTop" fmla="*/ 115200 h 538200"/>
              <a:gd name="textAreaBottom" fmla="*/ 42300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1375" y="4629"/>
                </a:lnTo>
                <a:lnTo>
                  <a:pt x="4629" y="4629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1375" y="16971"/>
                </a:lnTo>
                <a:lnTo>
                  <a:pt x="21375" y="4629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4629" y="16971"/>
                </a:lnTo>
                <a:lnTo>
                  <a:pt x="21375" y="16971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4629" y="4629"/>
                </a:lnTo>
                <a:lnTo>
                  <a:pt x="4629" y="1697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411280" y="5589720"/>
            <a:ext cx="648000" cy="538200"/>
          </a:xfrm>
          <a:custGeom>
            <a:avLst/>
            <a:gdLst>
              <a:gd name="textAreaLeft" fmla="*/ 115200 w 648000"/>
              <a:gd name="textAreaRight" fmla="*/ 532800 w 648000"/>
              <a:gd name="textAreaTop" fmla="*/ 115200 h 538200"/>
              <a:gd name="textAreaBottom" fmla="*/ 42300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1375" y="4629"/>
                </a:lnTo>
                <a:lnTo>
                  <a:pt x="4629" y="4629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1375" y="16971"/>
                </a:lnTo>
                <a:lnTo>
                  <a:pt x="21375" y="4629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4629" y="16971"/>
                </a:lnTo>
                <a:lnTo>
                  <a:pt x="21375" y="16971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4629" y="4629"/>
                </a:lnTo>
                <a:lnTo>
                  <a:pt x="4629" y="1697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276720" y="5589720"/>
            <a:ext cx="647640" cy="538200"/>
          </a:xfrm>
          <a:custGeom>
            <a:avLst/>
            <a:gdLst>
              <a:gd name="textAreaLeft" fmla="*/ 115200 w 647640"/>
              <a:gd name="textAreaRight" fmla="*/ 532440 w 647640"/>
              <a:gd name="textAreaTop" fmla="*/ 115200 h 538200"/>
              <a:gd name="textAreaBottom" fmla="*/ 42300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1361" y="4629"/>
                </a:lnTo>
                <a:lnTo>
                  <a:pt x="4629" y="4629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1361" y="16971"/>
                </a:lnTo>
                <a:lnTo>
                  <a:pt x="21361" y="4629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4629" y="16971"/>
                </a:lnTo>
                <a:lnTo>
                  <a:pt x="21361" y="16971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4629" y="4629"/>
                </a:lnTo>
                <a:lnTo>
                  <a:pt x="4629" y="1697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140360" y="5589720"/>
            <a:ext cx="647640" cy="538200"/>
          </a:xfrm>
          <a:custGeom>
            <a:avLst/>
            <a:gdLst>
              <a:gd name="textAreaLeft" fmla="*/ 115200 w 647640"/>
              <a:gd name="textAreaRight" fmla="*/ 532440 w 647640"/>
              <a:gd name="textAreaTop" fmla="*/ 115200 h 538200"/>
              <a:gd name="textAreaBottom" fmla="*/ 42300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1361" y="4629"/>
                </a:lnTo>
                <a:lnTo>
                  <a:pt x="4629" y="4629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1361" y="16971"/>
                </a:lnTo>
                <a:lnTo>
                  <a:pt x="21361" y="4629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4629" y="16971"/>
                </a:lnTo>
                <a:lnTo>
                  <a:pt x="21361" y="16971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4629" y="4629"/>
                </a:lnTo>
                <a:lnTo>
                  <a:pt x="4629" y="1697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572000" y="3716280"/>
            <a:ext cx="4321080" cy="574560"/>
          </a:xfrm>
          <a:prstGeom prst="rect">
            <a:avLst/>
          </a:prstGeom>
          <a:noFill/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33"/>
                </a:solidFill>
                <a:latin typeface="Arial"/>
              </a:rPr>
              <a:t>Правильный 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rot="10800000">
            <a:off x="5148360" y="4797000"/>
            <a:ext cx="3311280" cy="1295640"/>
          </a:xfrm>
          <a:prstGeom prst="wedgeRectCallout">
            <a:avLst>
              <a:gd name="adj1" fmla="val -5277"/>
              <a:gd name="adj2" fmla="val 85416"/>
            </a:avLst>
          </a:prstGeom>
          <a:noFill/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Тихий и Северный Ледовиты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250920" y="189000"/>
            <a:ext cx="1657080" cy="21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58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географ</a:t>
            </a:r>
            <a:endParaRPr b="0" i="1" lang="en-US" sz="1800" spc="1" strike="noStrike">
              <a:ln w="158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6297480"/>
            <a:ext cx="9144000" cy="56052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68360" y="6453360"/>
            <a:ext cx="4174920" cy="23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58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гра "географ"</a:t>
            </a:r>
            <a:endParaRPr b="0" i="1" lang="en-US" sz="1800" spc="1" strike="noStrike">
              <a:ln w="158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1" name="">
            <a:hlinkClick r:id="rId6" action="ppaction://hlinksldjump"/>
          </p:cNvPr>
          <p:cNvSpPr/>
          <p:nvPr/>
        </p:nvSpPr>
        <p:spPr>
          <a:xfrm>
            <a:off x="5940360" y="6453360"/>
            <a:ext cx="1420920" cy="288720"/>
          </a:xfrm>
          <a:prstGeom prst="rect">
            <a:avLst/>
          </a:prstGeom>
          <a:gradFill rotWithShape="0">
            <a:gsLst>
              <a:gs pos="0">
                <a:srgbClr val="3c3e5a"/>
              </a:gs>
              <a:gs pos="50000">
                <a:srgbClr val="8488c4">
                  <a:alpha val="63137"/>
                </a:srgbClr>
              </a:gs>
              <a:gs pos="100000">
                <a:srgbClr val="3c3e5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равила игр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>
            <a:hlinkClick r:id="rId7" action="ppaction://hlinksldjump"/>
          </p:cNvPr>
          <p:cNvSpPr/>
          <p:nvPr/>
        </p:nvSpPr>
        <p:spPr>
          <a:xfrm>
            <a:off x="7451640" y="6453360"/>
            <a:ext cx="1565280" cy="288720"/>
          </a:xfrm>
          <a:prstGeom prst="rect">
            <a:avLst/>
          </a:prstGeom>
          <a:gradFill rotWithShape="0">
            <a:gsLst>
              <a:gs pos="0">
                <a:srgbClr val="3c3e5a"/>
              </a:gs>
              <a:gs pos="50000">
                <a:srgbClr val="8488c4">
                  <a:alpha val="63137"/>
                </a:srgbClr>
              </a:gs>
              <a:gs pos="100000">
                <a:srgbClr val="3c3e5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Продолжить игр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8"/>
          <a:stretch/>
        </p:blipFill>
        <p:spPr>
          <a:xfrm>
            <a:off x="1042920" y="3573360"/>
            <a:ext cx="1657440" cy="14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0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0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500"/>
                            </p:stCondLst>
                            <p:childTnLst>
                              <p:par>
                                <p:cTn id="404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0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1000"/>
                            </p:stCondLst>
                            <p:childTnLst>
                              <p:par>
                                <p:cTn id="40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10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1500"/>
                            </p:stCondLst>
                            <p:childTnLst>
                              <p:par>
                                <p:cTn id="412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5000"/>
                            </p:stCondLst>
                            <p:childTnLst>
                              <p:par>
                                <p:cTn id="416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7000"/>
                            </p:stCondLst>
                            <p:childTnLst>
                              <p:par>
                                <p:cTn id="420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2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9000"/>
                            </p:stCondLst>
                            <p:childTnLst>
                              <p:par>
                                <p:cTn id="424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11000"/>
                            </p:stCondLst>
                            <p:childTnLst>
                              <p:par>
                                <p:cTn id="428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583236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ВНИМАНИЕ !  ВОПРО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332000" y="1989000"/>
            <a:ext cx="6780240" cy="1368720"/>
          </a:xfrm>
          <a:prstGeom prst="rect">
            <a:avLst/>
          </a:prstGeom>
          <a:solidFill>
            <a:srgbClr val="ffff00">
              <a:alpha val="34000"/>
            </a:srgbClr>
          </a:solidFill>
          <a:ln w="57240">
            <a:solidFill>
              <a:srgbClr val="ffff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К бассейну какого океана относится Белое мор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395280" y="404640"/>
            <a:ext cx="1368360" cy="1368720"/>
          </a:xfrm>
          <a:prstGeom prst="rect">
            <a:avLst/>
          </a:prstGeom>
          <a:ln w="0">
            <a:noFill/>
          </a:ln>
        </p:spPr>
      </p:pic>
      <p:sp>
        <p:nvSpPr>
          <p:cNvPr id="187" name="">
            <a:hlinkClick r:id="rId3" action="ppaction://hlinksldjump"/>
          </p:cNvPr>
          <p:cNvSpPr/>
          <p:nvPr/>
        </p:nvSpPr>
        <p:spPr>
          <a:xfrm>
            <a:off x="539640" y="549360"/>
            <a:ext cx="1042920" cy="1042920"/>
          </a:xfrm>
          <a:custGeom>
            <a:avLst/>
            <a:gdLst>
              <a:gd name="textAreaLeft" fmla="*/ 96480 w 1042920"/>
              <a:gd name="textAreaRight" fmla="*/ 946440 w 1042920"/>
              <a:gd name="textAreaTop" fmla="*/ 96480 h 1042920"/>
              <a:gd name="textAreaBottom" fmla="*/ 94644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9595" y="2005"/>
                </a:lnTo>
                <a:lnTo>
                  <a:pt x="2005" y="2005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9595" y="19595"/>
                </a:lnTo>
                <a:lnTo>
                  <a:pt x="19595" y="2005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2005" y="19595"/>
                </a:lnTo>
                <a:lnTo>
                  <a:pt x="19595" y="19595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2005" y="2005"/>
                </a:lnTo>
                <a:lnTo>
                  <a:pt x="2005" y="19595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755640" y="76500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Book Antiqua"/>
              </a:rPr>
              <a:t>13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189" name=""/>
          <p:cNvSpPr/>
          <p:nvPr/>
        </p:nvSpPr>
        <p:spPr>
          <a:xfrm>
            <a:off x="684360" y="5589720"/>
            <a:ext cx="647640" cy="538200"/>
          </a:xfrm>
          <a:custGeom>
            <a:avLst/>
            <a:gdLst>
              <a:gd name="textAreaLeft" fmla="*/ 115200 w 647640"/>
              <a:gd name="textAreaRight" fmla="*/ 532440 w 647640"/>
              <a:gd name="textAreaTop" fmla="*/ 115200 h 538200"/>
              <a:gd name="textAreaBottom" fmla="*/ 42300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1361" y="4629"/>
                </a:lnTo>
                <a:lnTo>
                  <a:pt x="4629" y="4629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1361" y="16971"/>
                </a:lnTo>
                <a:lnTo>
                  <a:pt x="21361" y="4629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4629" y="16971"/>
                </a:lnTo>
                <a:lnTo>
                  <a:pt x="21361" y="16971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4629" y="4629"/>
                </a:lnTo>
                <a:lnTo>
                  <a:pt x="4629" y="1697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547640" y="5589720"/>
            <a:ext cx="648000" cy="538200"/>
          </a:xfrm>
          <a:custGeom>
            <a:avLst/>
            <a:gdLst>
              <a:gd name="textAreaLeft" fmla="*/ 115200 w 648000"/>
              <a:gd name="textAreaRight" fmla="*/ 532800 w 648000"/>
              <a:gd name="textAreaTop" fmla="*/ 115200 h 538200"/>
              <a:gd name="textAreaBottom" fmla="*/ 42300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1375" y="4629"/>
                </a:lnTo>
                <a:lnTo>
                  <a:pt x="4629" y="4629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1375" y="16971"/>
                </a:lnTo>
                <a:lnTo>
                  <a:pt x="21375" y="4629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4629" y="16971"/>
                </a:lnTo>
                <a:lnTo>
                  <a:pt x="21375" y="16971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4629" y="4629"/>
                </a:lnTo>
                <a:lnTo>
                  <a:pt x="4629" y="1697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411280" y="5589720"/>
            <a:ext cx="648000" cy="538200"/>
          </a:xfrm>
          <a:custGeom>
            <a:avLst/>
            <a:gdLst>
              <a:gd name="textAreaLeft" fmla="*/ 115200 w 648000"/>
              <a:gd name="textAreaRight" fmla="*/ 532800 w 648000"/>
              <a:gd name="textAreaTop" fmla="*/ 115200 h 538200"/>
              <a:gd name="textAreaBottom" fmla="*/ 42300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1375" y="4629"/>
                </a:lnTo>
                <a:lnTo>
                  <a:pt x="4629" y="4629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1375" y="16971"/>
                </a:lnTo>
                <a:lnTo>
                  <a:pt x="21375" y="4629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4629" y="16971"/>
                </a:lnTo>
                <a:lnTo>
                  <a:pt x="21375" y="16971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4629" y="4629"/>
                </a:lnTo>
                <a:lnTo>
                  <a:pt x="4629" y="1697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276720" y="5589720"/>
            <a:ext cx="647640" cy="538200"/>
          </a:xfrm>
          <a:custGeom>
            <a:avLst/>
            <a:gdLst>
              <a:gd name="textAreaLeft" fmla="*/ 115200 w 647640"/>
              <a:gd name="textAreaRight" fmla="*/ 532440 w 647640"/>
              <a:gd name="textAreaTop" fmla="*/ 115200 h 538200"/>
              <a:gd name="textAreaBottom" fmla="*/ 42300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1361" y="4629"/>
                </a:lnTo>
                <a:lnTo>
                  <a:pt x="4629" y="4629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1361" y="16971"/>
                </a:lnTo>
                <a:lnTo>
                  <a:pt x="21361" y="4629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4629" y="16971"/>
                </a:lnTo>
                <a:lnTo>
                  <a:pt x="21361" y="16971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4629" y="4629"/>
                </a:lnTo>
                <a:lnTo>
                  <a:pt x="4629" y="1697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140360" y="5589720"/>
            <a:ext cx="647640" cy="538200"/>
          </a:xfrm>
          <a:custGeom>
            <a:avLst/>
            <a:gdLst>
              <a:gd name="textAreaLeft" fmla="*/ 115200 w 647640"/>
              <a:gd name="textAreaRight" fmla="*/ 532440 w 647640"/>
              <a:gd name="textAreaTop" fmla="*/ 115200 h 538200"/>
              <a:gd name="textAreaBottom" fmla="*/ 42300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1361" y="4629"/>
                </a:lnTo>
                <a:lnTo>
                  <a:pt x="4629" y="4629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1361" y="16971"/>
                </a:lnTo>
                <a:lnTo>
                  <a:pt x="21361" y="4629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4629" y="16971"/>
                </a:lnTo>
                <a:lnTo>
                  <a:pt x="21361" y="16971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4629" y="4629"/>
                </a:lnTo>
                <a:lnTo>
                  <a:pt x="4629" y="1697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572000" y="3716280"/>
            <a:ext cx="4321080" cy="574560"/>
          </a:xfrm>
          <a:prstGeom prst="rect">
            <a:avLst/>
          </a:prstGeom>
          <a:noFill/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33"/>
                </a:solidFill>
                <a:latin typeface="Arial"/>
              </a:rPr>
              <a:t>Правильный 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rot="10800000">
            <a:off x="5148360" y="4797000"/>
            <a:ext cx="3311280" cy="1295640"/>
          </a:xfrm>
          <a:prstGeom prst="wedgeRectCallout">
            <a:avLst>
              <a:gd name="adj1" fmla="val -5277"/>
              <a:gd name="adj2" fmla="val 85416"/>
            </a:avLst>
          </a:prstGeom>
          <a:noFill/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Северного Ледовитог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250920" y="189000"/>
            <a:ext cx="1657080" cy="21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58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географ</a:t>
            </a:r>
            <a:endParaRPr b="0" i="1" lang="en-US" sz="1800" spc="1" strike="noStrike">
              <a:ln w="158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6297480"/>
            <a:ext cx="9144000" cy="56052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68360" y="6453360"/>
            <a:ext cx="4174920" cy="23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58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гра "географ"</a:t>
            </a:r>
            <a:endParaRPr b="0" i="1" lang="en-US" sz="1800" spc="1" strike="noStrike">
              <a:ln w="158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9" name="">
            <a:hlinkClick r:id="rId6" action="ppaction://hlinksldjump"/>
          </p:cNvPr>
          <p:cNvSpPr/>
          <p:nvPr/>
        </p:nvSpPr>
        <p:spPr>
          <a:xfrm>
            <a:off x="5940360" y="6453360"/>
            <a:ext cx="1420920" cy="288720"/>
          </a:xfrm>
          <a:prstGeom prst="rect">
            <a:avLst/>
          </a:prstGeom>
          <a:gradFill rotWithShape="0">
            <a:gsLst>
              <a:gs pos="0">
                <a:srgbClr val="3c3e5a"/>
              </a:gs>
              <a:gs pos="50000">
                <a:srgbClr val="8488c4">
                  <a:alpha val="63137"/>
                </a:srgbClr>
              </a:gs>
              <a:gs pos="100000">
                <a:srgbClr val="3c3e5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равила игр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>
            <a:hlinkClick r:id="rId7" action="ppaction://hlinksldjump"/>
          </p:cNvPr>
          <p:cNvSpPr/>
          <p:nvPr/>
        </p:nvSpPr>
        <p:spPr>
          <a:xfrm>
            <a:off x="7451640" y="6453360"/>
            <a:ext cx="1565280" cy="288720"/>
          </a:xfrm>
          <a:prstGeom prst="rect">
            <a:avLst/>
          </a:prstGeom>
          <a:gradFill rotWithShape="0">
            <a:gsLst>
              <a:gs pos="0">
                <a:srgbClr val="3c3e5a"/>
              </a:gs>
              <a:gs pos="50000">
                <a:srgbClr val="8488c4">
                  <a:alpha val="63137"/>
                </a:srgbClr>
              </a:gs>
              <a:gs pos="100000">
                <a:srgbClr val="3c3e5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Продолжить игр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8"/>
          <a:stretch/>
        </p:blipFill>
        <p:spPr>
          <a:xfrm>
            <a:off x="1042920" y="3716280"/>
            <a:ext cx="2017800" cy="124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fill="hold">
                      <p:stCondLst>
                        <p:cond delay="0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8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500"/>
                            </p:stCondLst>
                            <p:childTnLst>
                              <p:par>
                                <p:cTn id="45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5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1000"/>
                            </p:stCondLst>
                            <p:childTnLst>
                              <p:par>
                                <p:cTn id="45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58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500"/>
                            </p:stCondLst>
                            <p:childTnLst>
                              <p:par>
                                <p:cTn id="460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5000"/>
                            </p:stCondLst>
                            <p:childTnLst>
                              <p:par>
                                <p:cTn id="464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7000"/>
                            </p:stCondLst>
                            <p:childTnLst>
                              <p:par>
                                <p:cTn id="468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9000"/>
                            </p:stCondLst>
                            <p:childTnLst>
                              <p:par>
                                <p:cTn id="472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4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11000"/>
                            </p:stCondLst>
                            <p:childTnLst>
                              <p:par>
                                <p:cTn id="476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8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3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500"/>
                            </p:stCondLst>
                            <p:childTnLst>
                              <p:par>
                                <p:cTn id="4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7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583236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ВНИМАНИЕ !  ВОПРО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258920" y="2060280"/>
            <a:ext cx="6780240" cy="1368360"/>
          </a:xfrm>
          <a:prstGeom prst="rect">
            <a:avLst/>
          </a:prstGeom>
          <a:solidFill>
            <a:srgbClr val="ffff00">
              <a:alpha val="34000"/>
            </a:srgbClr>
          </a:solidFill>
          <a:ln w="57240">
            <a:solidFill>
              <a:srgbClr val="ffff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ополните фразу: «Шельфом называется ……..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395280" y="404640"/>
            <a:ext cx="1368360" cy="1368720"/>
          </a:xfrm>
          <a:prstGeom prst="rect">
            <a:avLst/>
          </a:prstGeom>
          <a:ln w="0">
            <a:noFill/>
          </a:ln>
        </p:spPr>
      </p:pic>
      <p:sp>
        <p:nvSpPr>
          <p:cNvPr id="205" name="">
            <a:hlinkClick r:id="rId3" action="ppaction://hlinksldjump"/>
          </p:cNvPr>
          <p:cNvSpPr/>
          <p:nvPr/>
        </p:nvSpPr>
        <p:spPr>
          <a:xfrm>
            <a:off x="539640" y="549360"/>
            <a:ext cx="1042920" cy="1042920"/>
          </a:xfrm>
          <a:custGeom>
            <a:avLst/>
            <a:gdLst>
              <a:gd name="textAreaLeft" fmla="*/ 96480 w 1042920"/>
              <a:gd name="textAreaRight" fmla="*/ 946440 w 1042920"/>
              <a:gd name="textAreaTop" fmla="*/ 96480 h 1042920"/>
              <a:gd name="textAreaBottom" fmla="*/ 94644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9595" y="2005"/>
                </a:lnTo>
                <a:lnTo>
                  <a:pt x="2005" y="2005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9595" y="19595"/>
                </a:lnTo>
                <a:lnTo>
                  <a:pt x="19595" y="2005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2005" y="19595"/>
                </a:lnTo>
                <a:lnTo>
                  <a:pt x="19595" y="19595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2005" y="2005"/>
                </a:lnTo>
                <a:lnTo>
                  <a:pt x="2005" y="19595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755640" y="76500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Book Antiqua"/>
              </a:rPr>
              <a:t>17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207" name=""/>
          <p:cNvSpPr/>
          <p:nvPr/>
        </p:nvSpPr>
        <p:spPr>
          <a:xfrm>
            <a:off x="684360" y="5589720"/>
            <a:ext cx="647640" cy="538200"/>
          </a:xfrm>
          <a:custGeom>
            <a:avLst/>
            <a:gdLst>
              <a:gd name="textAreaLeft" fmla="*/ 115200 w 647640"/>
              <a:gd name="textAreaRight" fmla="*/ 532440 w 647640"/>
              <a:gd name="textAreaTop" fmla="*/ 115200 h 538200"/>
              <a:gd name="textAreaBottom" fmla="*/ 42300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1361" y="4629"/>
                </a:lnTo>
                <a:lnTo>
                  <a:pt x="4629" y="4629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1361" y="16971"/>
                </a:lnTo>
                <a:lnTo>
                  <a:pt x="21361" y="4629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4629" y="16971"/>
                </a:lnTo>
                <a:lnTo>
                  <a:pt x="21361" y="16971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4629" y="4629"/>
                </a:lnTo>
                <a:lnTo>
                  <a:pt x="4629" y="1697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547640" y="5589720"/>
            <a:ext cx="648000" cy="538200"/>
          </a:xfrm>
          <a:custGeom>
            <a:avLst/>
            <a:gdLst>
              <a:gd name="textAreaLeft" fmla="*/ 115200 w 648000"/>
              <a:gd name="textAreaRight" fmla="*/ 532800 w 648000"/>
              <a:gd name="textAreaTop" fmla="*/ 115200 h 538200"/>
              <a:gd name="textAreaBottom" fmla="*/ 42300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1375" y="4629"/>
                </a:lnTo>
                <a:lnTo>
                  <a:pt x="4629" y="4629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1375" y="16971"/>
                </a:lnTo>
                <a:lnTo>
                  <a:pt x="21375" y="4629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4629" y="16971"/>
                </a:lnTo>
                <a:lnTo>
                  <a:pt x="21375" y="16971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4629" y="4629"/>
                </a:lnTo>
                <a:lnTo>
                  <a:pt x="4629" y="1697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411280" y="5589720"/>
            <a:ext cx="648000" cy="538200"/>
          </a:xfrm>
          <a:custGeom>
            <a:avLst/>
            <a:gdLst>
              <a:gd name="textAreaLeft" fmla="*/ 115200 w 648000"/>
              <a:gd name="textAreaRight" fmla="*/ 532800 w 648000"/>
              <a:gd name="textAreaTop" fmla="*/ 115200 h 538200"/>
              <a:gd name="textAreaBottom" fmla="*/ 42300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1375" y="4629"/>
                </a:lnTo>
                <a:lnTo>
                  <a:pt x="4629" y="4629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1375" y="16971"/>
                </a:lnTo>
                <a:lnTo>
                  <a:pt x="21375" y="4629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4629" y="16971"/>
                </a:lnTo>
                <a:lnTo>
                  <a:pt x="21375" y="16971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4629" y="4629"/>
                </a:lnTo>
                <a:lnTo>
                  <a:pt x="4629" y="1697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276720" y="5589720"/>
            <a:ext cx="647640" cy="538200"/>
          </a:xfrm>
          <a:custGeom>
            <a:avLst/>
            <a:gdLst>
              <a:gd name="textAreaLeft" fmla="*/ 115200 w 647640"/>
              <a:gd name="textAreaRight" fmla="*/ 532440 w 647640"/>
              <a:gd name="textAreaTop" fmla="*/ 115200 h 538200"/>
              <a:gd name="textAreaBottom" fmla="*/ 42300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1361" y="4629"/>
                </a:lnTo>
                <a:lnTo>
                  <a:pt x="4629" y="4629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1361" y="16971"/>
                </a:lnTo>
                <a:lnTo>
                  <a:pt x="21361" y="4629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4629" y="16971"/>
                </a:lnTo>
                <a:lnTo>
                  <a:pt x="21361" y="16971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4629" y="4629"/>
                </a:lnTo>
                <a:lnTo>
                  <a:pt x="4629" y="1697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140360" y="5589720"/>
            <a:ext cx="647640" cy="538200"/>
          </a:xfrm>
          <a:custGeom>
            <a:avLst/>
            <a:gdLst>
              <a:gd name="textAreaLeft" fmla="*/ 115200 w 647640"/>
              <a:gd name="textAreaRight" fmla="*/ 532440 w 647640"/>
              <a:gd name="textAreaTop" fmla="*/ 115200 h 538200"/>
              <a:gd name="textAreaBottom" fmla="*/ 42300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1361" y="4629"/>
                </a:lnTo>
                <a:lnTo>
                  <a:pt x="4629" y="4629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1361" y="16971"/>
                </a:lnTo>
                <a:lnTo>
                  <a:pt x="21361" y="4629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4629" y="16971"/>
                </a:lnTo>
                <a:lnTo>
                  <a:pt x="21361" y="16971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4629" y="4629"/>
                </a:lnTo>
                <a:lnTo>
                  <a:pt x="4629" y="1697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572000" y="3716280"/>
            <a:ext cx="4321080" cy="574560"/>
          </a:xfrm>
          <a:prstGeom prst="rect">
            <a:avLst/>
          </a:prstGeom>
          <a:noFill/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33"/>
                </a:solidFill>
                <a:latin typeface="Arial"/>
              </a:rPr>
              <a:t>Правильный 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rot="10800000">
            <a:off x="5148360" y="4797000"/>
            <a:ext cx="3311280" cy="1295640"/>
          </a:xfrm>
          <a:prstGeom prst="wedgeRectCallout">
            <a:avLst>
              <a:gd name="adj1" fmla="val -5277"/>
              <a:gd name="adj2" fmla="val 85416"/>
            </a:avLst>
          </a:prstGeom>
          <a:noFill/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Материковая отмел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250920" y="189000"/>
            <a:ext cx="1657080" cy="21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58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географ</a:t>
            </a:r>
            <a:endParaRPr b="0" i="1" lang="en-US" sz="1800" spc="1" strike="noStrike">
              <a:ln w="158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5" name=""/>
          <p:cNvSpPr/>
          <p:nvPr/>
        </p:nvSpPr>
        <p:spPr>
          <a:xfrm>
            <a:off x="0" y="6297480"/>
            <a:ext cx="9144000" cy="56052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6453360"/>
            <a:ext cx="4175280" cy="23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58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гра "географ</a:t>
            </a:r>
            <a:endParaRPr b="0" i="1" lang="en-US" sz="1800" spc="1" strike="noStrike">
              <a:ln w="158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7" name="">
            <a:hlinkClick r:id="rId6" action="ppaction://hlinksldjump"/>
          </p:cNvPr>
          <p:cNvSpPr/>
          <p:nvPr/>
        </p:nvSpPr>
        <p:spPr>
          <a:xfrm>
            <a:off x="5940360" y="6453360"/>
            <a:ext cx="1420920" cy="288720"/>
          </a:xfrm>
          <a:prstGeom prst="rect">
            <a:avLst/>
          </a:prstGeom>
          <a:gradFill rotWithShape="0">
            <a:gsLst>
              <a:gs pos="0">
                <a:srgbClr val="3c3e5a"/>
              </a:gs>
              <a:gs pos="50000">
                <a:srgbClr val="8488c4">
                  <a:alpha val="63137"/>
                </a:srgbClr>
              </a:gs>
              <a:gs pos="100000">
                <a:srgbClr val="3c3e5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равила игр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>
            <a:hlinkClick r:id="rId7" action="ppaction://hlinksldjump"/>
          </p:cNvPr>
          <p:cNvSpPr/>
          <p:nvPr/>
        </p:nvSpPr>
        <p:spPr>
          <a:xfrm>
            <a:off x="7451640" y="6453360"/>
            <a:ext cx="1565280" cy="288720"/>
          </a:xfrm>
          <a:prstGeom prst="rect">
            <a:avLst/>
          </a:prstGeom>
          <a:gradFill rotWithShape="0">
            <a:gsLst>
              <a:gs pos="0">
                <a:srgbClr val="3c3e5a"/>
              </a:gs>
              <a:gs pos="50000">
                <a:srgbClr val="8488c4">
                  <a:alpha val="63137"/>
                </a:srgbClr>
              </a:gs>
              <a:gs pos="100000">
                <a:srgbClr val="3c3e5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Продолжить игр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8"/>
          <a:stretch/>
        </p:blipFill>
        <p:spPr>
          <a:xfrm>
            <a:off x="1403280" y="3789360"/>
            <a:ext cx="100008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6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7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8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500"/>
                            </p:stCondLst>
                            <p:childTnLst>
                              <p:par>
                                <p:cTn id="50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02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000"/>
                            </p:stCondLst>
                            <p:childTnLst>
                              <p:par>
                                <p:cTn id="504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06" dur="5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1500"/>
                            </p:stCondLst>
                            <p:childTnLst>
                              <p:par>
                                <p:cTn id="508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5000"/>
                            </p:stCondLst>
                            <p:childTnLst>
                              <p:par>
                                <p:cTn id="512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4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7000"/>
                            </p:stCondLst>
                            <p:childTnLst>
                              <p:par>
                                <p:cTn id="516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9000"/>
                            </p:stCondLst>
                            <p:childTnLst>
                              <p:par>
                                <p:cTn id="520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fill="hold">
                            <p:stCondLst>
                              <p:cond delay="11000"/>
                            </p:stCondLst>
                            <p:childTnLst>
                              <p:par>
                                <p:cTn id="524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6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500"/>
                            </p:stCondLst>
                            <p:childTnLst>
                              <p:par>
                                <p:cTn id="5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5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583236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ВНИМАНИЕ !  ВОПРО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258920" y="1989000"/>
            <a:ext cx="6912000" cy="1368720"/>
          </a:xfrm>
          <a:prstGeom prst="rect">
            <a:avLst/>
          </a:prstGeom>
          <a:solidFill>
            <a:srgbClr val="ffff00">
              <a:alpha val="34000"/>
            </a:srgbClr>
          </a:solidFill>
          <a:ln w="57240">
            <a:solidFill>
              <a:srgbClr val="ffff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акой океан пересекают все меридианы одновременн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2"/>
          <a:stretch/>
        </p:blipFill>
        <p:spPr>
          <a:xfrm>
            <a:off x="395280" y="404640"/>
            <a:ext cx="1368360" cy="1368720"/>
          </a:xfrm>
          <a:prstGeom prst="rect">
            <a:avLst/>
          </a:prstGeom>
          <a:ln w="0">
            <a:noFill/>
          </a:ln>
        </p:spPr>
      </p:pic>
      <p:sp>
        <p:nvSpPr>
          <p:cNvPr id="223" name="">
            <a:hlinkClick r:id="rId3" action="ppaction://hlinksldjump"/>
          </p:cNvPr>
          <p:cNvSpPr/>
          <p:nvPr/>
        </p:nvSpPr>
        <p:spPr>
          <a:xfrm>
            <a:off x="539640" y="549360"/>
            <a:ext cx="1042920" cy="1042920"/>
          </a:xfrm>
          <a:custGeom>
            <a:avLst/>
            <a:gdLst>
              <a:gd name="textAreaLeft" fmla="*/ 96480 w 1042920"/>
              <a:gd name="textAreaRight" fmla="*/ 946440 w 1042920"/>
              <a:gd name="textAreaTop" fmla="*/ 96480 h 1042920"/>
              <a:gd name="textAreaBottom" fmla="*/ 94644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9595" y="2005"/>
                </a:lnTo>
                <a:lnTo>
                  <a:pt x="2005" y="2005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9595" y="19595"/>
                </a:lnTo>
                <a:lnTo>
                  <a:pt x="19595" y="2005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2005" y="19595"/>
                </a:lnTo>
                <a:lnTo>
                  <a:pt x="19595" y="19595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2005" y="2005"/>
                </a:lnTo>
                <a:lnTo>
                  <a:pt x="2005" y="19595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755640" y="76500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Book Antiqua"/>
              </a:rPr>
              <a:t>21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225" name=""/>
          <p:cNvSpPr/>
          <p:nvPr/>
        </p:nvSpPr>
        <p:spPr>
          <a:xfrm>
            <a:off x="684360" y="5589720"/>
            <a:ext cx="647640" cy="538200"/>
          </a:xfrm>
          <a:custGeom>
            <a:avLst/>
            <a:gdLst>
              <a:gd name="textAreaLeft" fmla="*/ 115200 w 647640"/>
              <a:gd name="textAreaRight" fmla="*/ 532440 w 647640"/>
              <a:gd name="textAreaTop" fmla="*/ 115200 h 538200"/>
              <a:gd name="textAreaBottom" fmla="*/ 42300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1361" y="4629"/>
                </a:lnTo>
                <a:lnTo>
                  <a:pt x="4629" y="4629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1361" y="16971"/>
                </a:lnTo>
                <a:lnTo>
                  <a:pt x="21361" y="4629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4629" y="16971"/>
                </a:lnTo>
                <a:lnTo>
                  <a:pt x="21361" y="16971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4629" y="4629"/>
                </a:lnTo>
                <a:lnTo>
                  <a:pt x="4629" y="1697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547640" y="5589720"/>
            <a:ext cx="648000" cy="538200"/>
          </a:xfrm>
          <a:custGeom>
            <a:avLst/>
            <a:gdLst>
              <a:gd name="textAreaLeft" fmla="*/ 115200 w 648000"/>
              <a:gd name="textAreaRight" fmla="*/ 532800 w 648000"/>
              <a:gd name="textAreaTop" fmla="*/ 115200 h 538200"/>
              <a:gd name="textAreaBottom" fmla="*/ 42300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1375" y="4629"/>
                </a:lnTo>
                <a:lnTo>
                  <a:pt x="4629" y="4629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1375" y="16971"/>
                </a:lnTo>
                <a:lnTo>
                  <a:pt x="21375" y="4629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4629" y="16971"/>
                </a:lnTo>
                <a:lnTo>
                  <a:pt x="21375" y="16971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4629" y="4629"/>
                </a:lnTo>
                <a:lnTo>
                  <a:pt x="4629" y="1697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411280" y="5589720"/>
            <a:ext cx="648000" cy="538200"/>
          </a:xfrm>
          <a:custGeom>
            <a:avLst/>
            <a:gdLst>
              <a:gd name="textAreaLeft" fmla="*/ 115200 w 648000"/>
              <a:gd name="textAreaRight" fmla="*/ 532800 w 648000"/>
              <a:gd name="textAreaTop" fmla="*/ 115200 h 538200"/>
              <a:gd name="textAreaBottom" fmla="*/ 42300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1375" y="4629"/>
                </a:lnTo>
                <a:lnTo>
                  <a:pt x="4629" y="4629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1375" y="16971"/>
                </a:lnTo>
                <a:lnTo>
                  <a:pt x="21375" y="4629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4629" y="16971"/>
                </a:lnTo>
                <a:lnTo>
                  <a:pt x="21375" y="16971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4629" y="4629"/>
                </a:lnTo>
                <a:lnTo>
                  <a:pt x="4629" y="1697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276720" y="5589720"/>
            <a:ext cx="647640" cy="538200"/>
          </a:xfrm>
          <a:custGeom>
            <a:avLst/>
            <a:gdLst>
              <a:gd name="textAreaLeft" fmla="*/ 115200 w 647640"/>
              <a:gd name="textAreaRight" fmla="*/ 532440 w 647640"/>
              <a:gd name="textAreaTop" fmla="*/ 115200 h 538200"/>
              <a:gd name="textAreaBottom" fmla="*/ 42300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1361" y="4629"/>
                </a:lnTo>
                <a:lnTo>
                  <a:pt x="4629" y="4629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1361" y="16971"/>
                </a:lnTo>
                <a:lnTo>
                  <a:pt x="21361" y="4629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4629" y="16971"/>
                </a:lnTo>
                <a:lnTo>
                  <a:pt x="21361" y="16971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4629" y="4629"/>
                </a:lnTo>
                <a:lnTo>
                  <a:pt x="4629" y="1697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140360" y="5589720"/>
            <a:ext cx="647640" cy="538200"/>
          </a:xfrm>
          <a:custGeom>
            <a:avLst/>
            <a:gdLst>
              <a:gd name="textAreaLeft" fmla="*/ 115200 w 647640"/>
              <a:gd name="textAreaRight" fmla="*/ 532440 w 647640"/>
              <a:gd name="textAreaTop" fmla="*/ 115200 h 538200"/>
              <a:gd name="textAreaBottom" fmla="*/ 42300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1361" y="4629"/>
                </a:lnTo>
                <a:lnTo>
                  <a:pt x="4629" y="4629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1361" y="16971"/>
                </a:lnTo>
                <a:lnTo>
                  <a:pt x="21361" y="4629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4629" y="16971"/>
                </a:lnTo>
                <a:lnTo>
                  <a:pt x="21361" y="16971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4629" y="4629"/>
                </a:lnTo>
                <a:lnTo>
                  <a:pt x="4629" y="1697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572000" y="3716280"/>
            <a:ext cx="4321080" cy="574560"/>
          </a:xfrm>
          <a:prstGeom prst="rect">
            <a:avLst/>
          </a:prstGeom>
          <a:noFill/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33"/>
                </a:solidFill>
                <a:latin typeface="Arial"/>
              </a:rPr>
              <a:t>Правильный 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0800000">
            <a:off x="5076360" y="4797000"/>
            <a:ext cx="3527640" cy="1295640"/>
          </a:xfrm>
          <a:prstGeom prst="wedgeRectCallout">
            <a:avLst>
              <a:gd name="adj1" fmla="val -3962"/>
              <a:gd name="adj2" fmla="val 85416"/>
            </a:avLst>
          </a:prstGeom>
          <a:noFill/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Северный Ледовиты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250920" y="189000"/>
            <a:ext cx="1657080" cy="21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58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географ</a:t>
            </a:r>
            <a:endParaRPr b="0" i="1" lang="en-US" sz="1800" spc="1" strike="noStrike">
              <a:ln w="158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3" name=""/>
          <p:cNvSpPr/>
          <p:nvPr/>
        </p:nvSpPr>
        <p:spPr>
          <a:xfrm>
            <a:off x="0" y="6297480"/>
            <a:ext cx="9144000" cy="56052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68360" y="6453360"/>
            <a:ext cx="4174920" cy="23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58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гра "географ"</a:t>
            </a:r>
            <a:endParaRPr b="0" i="1" lang="en-US" sz="1800" spc="1" strike="noStrike">
              <a:ln w="158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5" name="">
            <a:hlinkClick r:id="rId6" action="ppaction://hlinksldjump"/>
          </p:cNvPr>
          <p:cNvSpPr/>
          <p:nvPr/>
        </p:nvSpPr>
        <p:spPr>
          <a:xfrm>
            <a:off x="5940360" y="6453360"/>
            <a:ext cx="1420920" cy="288720"/>
          </a:xfrm>
          <a:prstGeom prst="rect">
            <a:avLst/>
          </a:prstGeom>
          <a:gradFill rotWithShape="0">
            <a:gsLst>
              <a:gs pos="0">
                <a:srgbClr val="3c3e5a"/>
              </a:gs>
              <a:gs pos="50000">
                <a:srgbClr val="8488c4">
                  <a:alpha val="63137"/>
                </a:srgbClr>
              </a:gs>
              <a:gs pos="100000">
                <a:srgbClr val="3c3e5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равила игр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>
            <a:hlinkClick r:id="rId7" action="ppaction://hlinksldjump"/>
          </p:cNvPr>
          <p:cNvSpPr/>
          <p:nvPr/>
        </p:nvSpPr>
        <p:spPr>
          <a:xfrm>
            <a:off x="7451640" y="6453360"/>
            <a:ext cx="1565280" cy="288720"/>
          </a:xfrm>
          <a:prstGeom prst="rect">
            <a:avLst/>
          </a:prstGeom>
          <a:gradFill rotWithShape="0">
            <a:gsLst>
              <a:gs pos="0">
                <a:srgbClr val="3c3e5a"/>
              </a:gs>
              <a:gs pos="50000">
                <a:srgbClr val="8488c4">
                  <a:alpha val="63137"/>
                </a:srgbClr>
              </a:gs>
              <a:gs pos="100000">
                <a:srgbClr val="3c3e5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Продолжить игр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8"/>
          <a:stretch/>
        </p:blipFill>
        <p:spPr>
          <a:xfrm>
            <a:off x="1042920" y="3645000"/>
            <a:ext cx="151308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0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4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5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6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500"/>
                            </p:stCondLst>
                            <p:childTnLst>
                              <p:par>
                                <p:cTn id="54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50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1000"/>
                            </p:stCondLst>
                            <p:childTnLst>
                              <p:par>
                                <p:cTn id="55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54" dur="5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fill="hold">
                            <p:stCondLst>
                              <p:cond delay="1500"/>
                            </p:stCondLst>
                            <p:childTnLst>
                              <p:par>
                                <p:cTn id="556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8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fill="hold">
                            <p:stCondLst>
                              <p:cond delay="5000"/>
                            </p:stCondLst>
                            <p:childTnLst>
                              <p:par>
                                <p:cTn id="560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2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7000"/>
                            </p:stCondLst>
                            <p:childTnLst>
                              <p:par>
                                <p:cTn id="564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9000"/>
                            </p:stCondLst>
                            <p:childTnLst>
                              <p:par>
                                <p:cTn id="568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0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fill="hold">
                            <p:stCondLst>
                              <p:cond delay="11000"/>
                            </p:stCondLst>
                            <p:childTnLst>
                              <p:par>
                                <p:cTn id="572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9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fill="hold">
                            <p:stCondLst>
                              <p:cond delay="500"/>
                            </p:stCondLst>
                            <p:childTnLst>
                              <p:par>
                                <p:cTn id="5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3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4:29:15Z</dcterms:created>
  <dc:creator>Ольга</dc:creator>
  <dc:description/>
  <dc:language>en-US</dc:language>
  <cp:lastModifiedBy>Пользователь</cp:lastModifiedBy>
  <dcterms:modified xsi:type="dcterms:W3CDTF">2009-01-29T13:55:35Z</dcterms:modified>
  <cp:revision>105</cp:revision>
  <dc:subject/>
  <dc:title>Слайд 1</dc:title>
</cp:coreProperties>
</file>