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gif" ContentType="image/gif"/>
  <Override PartName="/ppt/media/image26.gif" ContentType="image/gif"/>
  <Override PartName="/ppt/media/image23.gif" ContentType="image/gif"/>
  <Override PartName="/ppt/media/image20.gif" ContentType="image/gif"/>
  <Override PartName="/ppt/media/image5.gif" ContentType="image/gif"/>
  <Override PartName="/ppt/media/image28.gif" ContentType="image/gif"/>
  <Override PartName="/ppt/media/image30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3.jpeg" ContentType="image/jpeg"/>
  <Override PartName="/ppt/media/drumroll.wav" ContentType="audio/x-wav"/>
  <Override PartName="/ppt/media/image12.gif" ContentType="image/gif"/>
  <Override PartName="/ppt/media/image7.wmf" ContentType="image/x-wmf"/>
  <Override PartName="/ppt/media/image29.jpeg" ContentType="image/jpeg"/>
  <Override PartName="/ppt/media/image8.jpeg" ContentType="image/jpeg"/>
  <Override PartName="/ppt/media/image25.gif" ContentType="image/gif"/>
  <Override PartName="/ppt/media/wind.wav" ContentType="audio/x-wav"/>
  <Override PartName="/ppt/media/image13.gif" ContentType="image/gif"/>
  <Override PartName="/ppt/media/breeze.wav" ContentType="audio/x-wav"/>
  <Override PartName="/ppt/media/image4.png" ContentType="image/png"/>
  <Override PartName="/ppt/media/image24.gif" ContentType="image/gif"/>
  <Override PartName="/ppt/media/image9.jpeg" ContentType="image/jpeg"/>
  <Override PartName="/ppt/media/image2.png" ContentType="image/png"/>
  <Override PartName="/ppt/media/image22.gif" ContentType="image/gif"/>
  <Override PartName="/ppt/media/image1.png" ContentType="image/png"/>
  <Override PartName="/ppt/media/image19.gif" ContentType="image/gif"/>
  <Override PartName="/ppt/media/image21.gif" ContentType="image/gif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6CBE-E61B-4894-AF3A-3663E842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996C-2BE6-47CB-98C7-68ECBDA7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4E8B-FFEC-4E51-863C-79A86976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7326-15F2-4376-B8D1-1D06A7ED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108A-4850-4D6E-AB93-A9939526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263B-C2A6-4418-B239-5741EFEB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F2E0-D22E-43D6-823E-70B3BB27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3E1B-BC6E-4A7F-9114-C4DAD087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1C8F-CE6C-4596-8323-EAE896ED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22E6-0E3B-458C-A9E6-DD7DE872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B047-4FA2-4CFC-B522-EA42EEE7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076C-DC86-422F-A185-BFB86F5E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31B9-103A-4E7D-A5A2-69F8E09C2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image" Target="../media/image6.gif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image" Target="../media/image14.gif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image" Target="../media/image5.gif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image" Target="../media/image15.gif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image" Target="../media/image5.gif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image" Target="../media/image16.gif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image" Target="../media/image5.gif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image" Target="../media/image17.gif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image" Target="../media/image5.gif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image" Target="../media/image17.gif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7.wmf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image" Target="../media/image5.gif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image" Target="../media/image18.gif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image" Target="../media/image5.gif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image" Target="../media/image19.gif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image" Target="../media/image17.gif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image" Target="../media/image20.gif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image" Target="../media/image21.gif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image" Target="../media/image22.gif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image" Target="../media/image21.gif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image" Target="../media/image23.gif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9.jpeg"/><Relationship Id="rId24" Type="http://schemas.openxmlformats.org/officeDocument/2006/relationships/image" Target="../media/image9.jpeg"/><Relationship Id="rId25" Type="http://schemas.openxmlformats.org/officeDocument/2006/relationships/image" Target="../media/image9.jpeg"/><Relationship Id="rId26" Type="http://schemas.openxmlformats.org/officeDocument/2006/relationships/image" Target="../media/image9.jpeg"/><Relationship Id="rId27" Type="http://schemas.openxmlformats.org/officeDocument/2006/relationships/image" Target="../media/image9.jpeg"/><Relationship Id="rId28" Type="http://schemas.openxmlformats.org/officeDocument/2006/relationships/image" Target="../media/image9.jpeg"/><Relationship Id="rId29" Type="http://schemas.openxmlformats.org/officeDocument/2006/relationships/image" Target="../media/image9.jpeg"/><Relationship Id="rId30" Type="http://schemas.openxmlformats.org/officeDocument/2006/relationships/image" Target="../media/image9.jpeg"/><Relationship Id="rId31" Type="http://schemas.openxmlformats.org/officeDocument/2006/relationships/image" Target="../media/image9.jpeg"/><Relationship Id="rId32" Type="http://schemas.openxmlformats.org/officeDocument/2006/relationships/image" Target="../media/image9.jpeg"/><Relationship Id="rId33" Type="http://schemas.openxmlformats.org/officeDocument/2006/relationships/image" Target="../media/image9.jpeg"/><Relationship Id="rId34" Type="http://schemas.openxmlformats.org/officeDocument/2006/relationships/image" Target="../media/image9.jpeg"/><Relationship Id="rId35" Type="http://schemas.openxmlformats.org/officeDocument/2006/relationships/image" Target="../media/image9.jpeg"/><Relationship Id="rId36" Type="http://schemas.openxmlformats.org/officeDocument/2006/relationships/image" Target="../media/image9.jpeg"/><Relationship Id="rId37" Type="http://schemas.openxmlformats.org/officeDocument/2006/relationships/image" Target="../media/image9.jpeg"/><Relationship Id="rId38" Type="http://schemas.openxmlformats.org/officeDocument/2006/relationships/image" Target="../media/image9.jpeg"/><Relationship Id="rId39" Type="http://schemas.openxmlformats.org/officeDocument/2006/relationships/image" Target="../media/image9.jpeg"/><Relationship Id="rId40" Type="http://schemas.openxmlformats.org/officeDocument/2006/relationships/image" Target="../media/image9.jpeg"/><Relationship Id="rId41" Type="http://schemas.openxmlformats.org/officeDocument/2006/relationships/image" Target="../media/image9.jpeg"/><Relationship Id="rId42" Type="http://schemas.openxmlformats.org/officeDocument/2006/relationships/image" Target="../media/image9.jpeg"/><Relationship Id="rId43" Type="http://schemas.openxmlformats.org/officeDocument/2006/relationships/image" Target="../media/image9.jpeg"/><Relationship Id="rId44" Type="http://schemas.openxmlformats.org/officeDocument/2006/relationships/image" Target="../media/image9.jpeg"/><Relationship Id="rId45" Type="http://schemas.openxmlformats.org/officeDocument/2006/relationships/image" Target="../media/image9.jpeg"/><Relationship Id="rId46" Type="http://schemas.openxmlformats.org/officeDocument/2006/relationships/image" Target="../media/image9.jpeg"/><Relationship Id="rId47" Type="http://schemas.openxmlformats.org/officeDocument/2006/relationships/image" Target="../media/image9.jpeg"/><Relationship Id="rId48" Type="http://schemas.openxmlformats.org/officeDocument/2006/relationships/image" Target="../media/image9.jpeg"/><Relationship Id="rId49" Type="http://schemas.openxmlformats.org/officeDocument/2006/relationships/image" Target="../media/image9.jpeg"/><Relationship Id="rId50" Type="http://schemas.openxmlformats.org/officeDocument/2006/relationships/image" Target="../media/image9.jpeg"/><Relationship Id="rId51" Type="http://schemas.openxmlformats.org/officeDocument/2006/relationships/image" Target="../media/image9.jpeg"/><Relationship Id="rId52" Type="http://schemas.openxmlformats.org/officeDocument/2006/relationships/image" Target="../media/image9.jpeg"/><Relationship Id="rId53" Type="http://schemas.openxmlformats.org/officeDocument/2006/relationships/image" Target="../media/image9.jpeg"/><Relationship Id="rId54" Type="http://schemas.openxmlformats.org/officeDocument/2006/relationships/image" Target="../media/image9.jpeg"/><Relationship Id="rId55" Type="http://schemas.openxmlformats.org/officeDocument/2006/relationships/image" Target="../media/image9.jpeg"/><Relationship Id="rId56" Type="http://schemas.openxmlformats.org/officeDocument/2006/relationships/image" Target="../media/image9.jpeg"/><Relationship Id="rId57" Type="http://schemas.openxmlformats.org/officeDocument/2006/relationships/image" Target="../media/image9.jpeg"/><Relationship Id="rId58" Type="http://schemas.openxmlformats.org/officeDocument/2006/relationships/image" Target="../media/image9.jpeg"/><Relationship Id="rId59" Type="http://schemas.openxmlformats.org/officeDocument/2006/relationships/image" Target="../media/image9.jpeg"/><Relationship Id="rId60" Type="http://schemas.openxmlformats.org/officeDocument/2006/relationships/image" Target="../media/image9.jpeg"/><Relationship Id="rId61" Type="http://schemas.openxmlformats.org/officeDocument/2006/relationships/image" Target="../media/image9.jpeg"/><Relationship Id="rId62" Type="http://schemas.openxmlformats.org/officeDocument/2006/relationships/image" Target="../media/image9.jpeg"/><Relationship Id="rId63" Type="http://schemas.openxmlformats.org/officeDocument/2006/relationships/image" Target="../media/image9.jpeg"/><Relationship Id="rId64" Type="http://schemas.openxmlformats.org/officeDocument/2006/relationships/image" Target="../media/image9.jpeg"/><Relationship Id="rId65" Type="http://schemas.openxmlformats.org/officeDocument/2006/relationships/image" Target="../media/image9.jpeg"/><Relationship Id="rId66" Type="http://schemas.openxmlformats.org/officeDocument/2006/relationships/image" Target="../media/image9.jpeg"/><Relationship Id="rId67" Type="http://schemas.openxmlformats.org/officeDocument/2006/relationships/image" Target="../media/image9.jpeg"/><Relationship Id="rId68" Type="http://schemas.openxmlformats.org/officeDocument/2006/relationships/image" Target="../media/image9.jpeg"/><Relationship Id="rId69" Type="http://schemas.openxmlformats.org/officeDocument/2006/relationships/image" Target="../media/image9.jpeg"/><Relationship Id="rId70" Type="http://schemas.openxmlformats.org/officeDocument/2006/relationships/image" Target="../media/image9.jpeg"/><Relationship Id="rId71" Type="http://schemas.openxmlformats.org/officeDocument/2006/relationships/image" Target="../media/image9.jpeg"/><Relationship Id="rId72" Type="http://schemas.openxmlformats.org/officeDocument/2006/relationships/slide" Target="slide2.xml"/><Relationship Id="rId73" Type="http://schemas.openxmlformats.org/officeDocument/2006/relationships/slide" Target=""/><Relationship Id="rId7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image" Target="../media/image24.gif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image" Target="../media/image22.gif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image" Target="../media/image25.gif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image" Target="../media/image26.gif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image" Target="../media/image27.gif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28.gif"/><Relationship Id="rId5" Type="http://schemas.openxmlformats.org/officeDocument/2006/relationships/slide" Target="slide3.xml"/><Relationship Id="rId6" Type="http://schemas.openxmlformats.org/officeDocument/2006/relationships/image" Target="../media/image29.jpeg"/><Relationship Id="rId7" Type="http://schemas.openxmlformats.org/officeDocument/2006/relationships/audio" Target="../media/wind.wav"/><Relationship Id="rId8" Type="http://schemas.openxmlformats.org/officeDocument/2006/relationships/audio" Target="../media/breeze.wav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gif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" Target="slide3.xml"/><Relationship Id="rId6" Type="http://schemas.openxmlformats.org/officeDocument/2006/relationships/image" Target="../media/image29.jpeg"/><Relationship Id="rId7" Type="http://schemas.openxmlformats.org/officeDocument/2006/relationships/audio" Target="../media/wind.wav"/><Relationship Id="rId8" Type="http://schemas.openxmlformats.org/officeDocument/2006/relationships/audio" Target="../media/breeze.wav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30.gif"/><Relationship Id="rId5" Type="http://schemas.openxmlformats.org/officeDocument/2006/relationships/slide" Target="slide3.xml"/><Relationship Id="rId6" Type="http://schemas.openxmlformats.org/officeDocument/2006/relationships/image" Target="../media/image29.jpeg"/><Relationship Id="rId7" Type="http://schemas.openxmlformats.org/officeDocument/2006/relationships/audio" Target="../media/wind.wav"/><Relationship Id="rId8" Type="http://schemas.openxmlformats.org/officeDocument/2006/relationships/audio" Target="../media/breeze.wav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28.gif"/><Relationship Id="rId5" Type="http://schemas.openxmlformats.org/officeDocument/2006/relationships/slide" Target="slide3.xml"/><Relationship Id="rId6" Type="http://schemas.openxmlformats.org/officeDocument/2006/relationships/image" Target="../media/image29.jpeg"/><Relationship Id="rId7" Type="http://schemas.openxmlformats.org/officeDocument/2006/relationships/audio" Target="../media/wind.wav"/><Relationship Id="rId8" Type="http://schemas.openxmlformats.org/officeDocument/2006/relationships/audio" Target="../media/breez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image" Target="../media/image6.gif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image" Target="../media/image11.gif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image" Target="../media/image5.gif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image" Target="../media/image12.gif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image" Target="../media/image13.gif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image" Target="../media/image5.gif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4437000"/>
            <a:ext cx="532800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5640" y="1341360"/>
            <a:ext cx="799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географическая игр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68360" y="3068640"/>
            <a:ext cx="43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еограф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24720" y="6381720"/>
            <a:ext cx="1420920" cy="28728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1908000" y="4437000"/>
            <a:ext cx="1095480" cy="97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6012000" y="4508640"/>
            <a:ext cx="1095120" cy="971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4067280" y="4581360"/>
            <a:ext cx="1152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Какой океан самый мелкий на Зем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41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755640" y="765000"/>
            <a:ext cx="64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43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0800000">
            <a:off x="5148000" y="4797000"/>
            <a:ext cx="3600360" cy="1295640"/>
          </a:xfrm>
          <a:prstGeom prst="wedgeRectCallout">
            <a:avLst>
              <a:gd name="adj1" fmla="val -83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еверный Ледовит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rId7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8"/>
          <a:stretch/>
        </p:blipFill>
        <p:spPr>
          <a:xfrm>
            <a:off x="1403280" y="3716280"/>
            <a:ext cx="151308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0"/>
                            </p:stCondLst>
                            <p:childTnLst>
                              <p:par>
                                <p:cTn id="60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7000"/>
                            </p:stCondLst>
                            <p:childTnLst>
                              <p:par>
                                <p:cTn id="61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900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К бассейну какого океана относится Красное мор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61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Индий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ке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7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8"/>
          <a:stretch/>
        </p:blipFill>
        <p:spPr>
          <a:xfrm>
            <a:off x="1258920" y="3716280"/>
            <a:ext cx="8668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0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50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0"/>
                            </p:stCondLst>
                            <p:childTnLst>
                              <p:par>
                                <p:cTn id="6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700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9000"/>
                            </p:stCondLst>
                            <p:childTnLst>
                              <p:par>
                                <p:cTn id="66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748800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Средняя солёность вод Мирового океана составляет….(промилл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77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79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35 промил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7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8"/>
          <a:stretch/>
        </p:blipFill>
        <p:spPr>
          <a:xfrm>
            <a:off x="1692360" y="3860640"/>
            <a:ext cx="10951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0"/>
                            </p:stCondLst>
                            <p:childTnLst>
                              <p:par>
                                <p:cTn id="70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7000"/>
                            </p:stCondLst>
                            <p:childTnLst>
                              <p:par>
                                <p:cTn id="70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900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32000" y="1700280"/>
            <a:ext cx="6780240" cy="16574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какое море впадают реки Амударья и Сырдарь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95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Аральское м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7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7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8"/>
          <a:stretch/>
        </p:blipFill>
        <p:spPr>
          <a:xfrm>
            <a:off x="0" y="2997360"/>
            <a:ext cx="14763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5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0"/>
                            </p:stCondLst>
                            <p:childTnLst>
                              <p:par>
                                <p:cTn id="75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7000"/>
                            </p:stCondLst>
                            <p:childTnLst>
                              <p:par>
                                <p:cTn id="7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9000"/>
                            </p:stCondLst>
                            <p:childTnLst>
                              <p:par>
                                <p:cTn id="7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32000" y="1484280"/>
            <a:ext cx="6780240" cy="18734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ка Волга протекает по …..(равнин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13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7164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10800000">
            <a:off x="5003640" y="4797000"/>
            <a:ext cx="3889440" cy="1368360"/>
          </a:xfrm>
          <a:prstGeom prst="wedgeRectCallout">
            <a:avLst>
              <a:gd name="adj1" fmla="val -819"/>
              <a:gd name="adj2" fmla="val 83523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осточно-Европей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5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rId7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8"/>
          <a:stretch/>
        </p:blipFill>
        <p:spPr>
          <a:xfrm>
            <a:off x="1403280" y="4005360"/>
            <a:ext cx="109548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5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70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90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99640" y="1700280"/>
            <a:ext cx="7704360" cy="16574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амый ледяной остров на Земле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31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33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0800000">
            <a:off x="5148360" y="4797000"/>
            <a:ext cx="3311280" cy="1368360"/>
          </a:xfrm>
          <a:prstGeom prst="wedgeRectCallout">
            <a:avLst>
              <a:gd name="adj1" fmla="val -5277"/>
              <a:gd name="adj2" fmla="val 83523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о. Гренлан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3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rId7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8"/>
          <a:stretch/>
        </p:blipFill>
        <p:spPr>
          <a:xfrm>
            <a:off x="1042920" y="3789360"/>
            <a:ext cx="15336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000"/>
                            </p:stCondLst>
                            <p:childTnLst>
                              <p:par>
                                <p:cTn id="84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0"/>
                            </p:stCondLst>
                            <p:childTnLst>
                              <p:par>
                                <p:cTn id="8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7000"/>
                            </p:stCondLst>
                            <p:childTnLst>
                              <p:par>
                                <p:cTn id="85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9000"/>
                            </p:stCondLst>
                            <p:childTnLst>
                              <p:par>
                                <p:cTn id="8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63272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зеро из которого не вытекает ни одна река называется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49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10800000">
            <a:off x="5076720" y="4797000"/>
            <a:ext cx="3456000" cy="1295640"/>
          </a:xfrm>
          <a:prstGeom prst="wedgeRectCallout">
            <a:avLst>
              <a:gd name="adj1" fmla="val -7143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Бессточ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971640" y="3860640"/>
            <a:ext cx="10951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0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500"/>
                            </p:stCondLst>
                            <p:childTnLst>
                              <p:par>
                                <p:cTn id="89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000"/>
                            </p:stCondLst>
                            <p:childTnLst>
                              <p:par>
                                <p:cTn id="89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7000"/>
                            </p:stCondLst>
                            <p:childTnLst>
                              <p:par>
                                <p:cTn id="9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9000"/>
                            </p:stCondLst>
                            <p:childTnLst>
                              <p:par>
                                <p:cTn id="90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90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92000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кажите пролив разделяющий Евразию и Афр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67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69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10800000">
            <a:off x="5148000" y="4797000"/>
            <a:ext cx="3816360" cy="1295640"/>
          </a:xfrm>
          <a:prstGeom prst="wedgeRectCallout">
            <a:avLst>
              <a:gd name="adj1" fmla="val 203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Гибралтарский пр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9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7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8"/>
          <a:stretch/>
        </p:blipFill>
        <p:spPr>
          <a:xfrm>
            <a:off x="1547640" y="38606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8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500"/>
                            </p:stCondLst>
                            <p:childTnLst>
                              <p:par>
                                <p:cTn id="94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7000"/>
                            </p:stCondLst>
                            <p:childTnLst>
                              <p:par>
                                <p:cTn id="9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9000"/>
                            </p:stCondLst>
                            <p:childTnLst>
                              <p:par>
                                <p:cTn id="95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 бассейну какого океана относится Карибское мо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85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87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0800000">
            <a:off x="5076360" y="4797000"/>
            <a:ext cx="3816360" cy="1295640"/>
          </a:xfrm>
          <a:prstGeom prst="wedgeRectCallout">
            <a:avLst>
              <a:gd name="adj1" fmla="val 78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Атлантиче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оке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7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rId7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8"/>
          <a:stretch/>
        </p:blipFill>
        <p:spPr>
          <a:xfrm>
            <a:off x="1332000" y="3716280"/>
            <a:ext cx="10951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0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6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9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7000"/>
                            </p:stCondLst>
                            <p:childTnLst>
                              <p:par>
                                <p:cTn id="99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0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06436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ки Дунай и Днепр впадают в … (мор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03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05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0800000">
            <a:off x="5148000" y="4797000"/>
            <a:ext cx="3995640" cy="1295640"/>
          </a:xfrm>
          <a:prstGeom prst="wedgeRectCallout">
            <a:avLst>
              <a:gd name="adj1" fmla="val 4189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Чёрное м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5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>
            <a:hlinkClick r:id="rId7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8"/>
          <a:stretch/>
        </p:blipFill>
        <p:spPr>
          <a:xfrm>
            <a:off x="1332000" y="393372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0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4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0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5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00"/>
                            </p:stCondLst>
                            <p:childTnLst>
                              <p:par>
                                <p:cTn id="10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916360" y="404640"/>
            <a:ext cx="3384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Правила игр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6588000" y="6381720"/>
            <a:ext cx="1420920" cy="28728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а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81520" y="1773360"/>
            <a:ext cx="52624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Выбери ячейку с номером и щёлкни по ней мыш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Прочитай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Время на обдумывание – 5 секун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После звукового сигнала дай уст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84360" y="836640"/>
            <a:ext cx="4176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географ"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9280" y="2276640"/>
            <a:ext cx="3492360" cy="2520720"/>
            <a:chOff x="179280" y="2276640"/>
            <a:chExt cx="3492360" cy="2520720"/>
          </a:xfrm>
        </p:grpSpPr>
        <p:pic>
          <p:nvPicPr>
            <p:cNvPr id="53" name="" descr=""/>
            <p:cNvPicPr/>
            <p:nvPr/>
          </p:nvPicPr>
          <p:blipFill>
            <a:blip r:embed="rId7"/>
            <a:stretch/>
          </p:blipFill>
          <p:spPr>
            <a:xfrm>
              <a:off x="358560" y="2421000"/>
              <a:ext cx="3162240" cy="22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79280" y="2276640"/>
              <a:ext cx="3492360" cy="25207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>
            <a:hlinkClick r:id="rId8" action="ppaction://hlinksldjump"/>
          </p:cNvPr>
          <p:cNvSpPr/>
          <p:nvPr/>
        </p:nvSpPr>
        <p:spPr>
          <a:xfrm>
            <a:off x="8244000" y="6381720"/>
            <a:ext cx="701640" cy="28728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Вых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58920" y="1989000"/>
            <a:ext cx="678024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есок относится к водо…. горным пород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21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23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0" y="3573360"/>
            <a:ext cx="4321080" cy="71748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10800000">
            <a:off x="4859280" y="4653000"/>
            <a:ext cx="4284720" cy="1440000"/>
          </a:xfrm>
          <a:prstGeom prst="wedgeRectCallout">
            <a:avLst>
              <a:gd name="adj1" fmla="val 388"/>
              <a:gd name="adj2" fmla="val 7160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одопроницаем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3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7"/>
          <a:stretch/>
        </p:blipFill>
        <p:spPr>
          <a:xfrm>
            <a:off x="1403280" y="3860640"/>
            <a:ext cx="109548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0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2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331640" y="1989000"/>
            <a:ext cx="7272360" cy="1368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Какие две реки дали нача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р.Аму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39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41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10800000">
            <a:off x="5148000" y="4797000"/>
            <a:ext cx="3816360" cy="1295640"/>
          </a:xfrm>
          <a:prstGeom prst="wedgeRectCallout">
            <a:avLst>
              <a:gd name="adj1" fmla="val 203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р.Шилка и р.Аргу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1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7"/>
          <a:stretch/>
        </p:blipFill>
        <p:spPr>
          <a:xfrm>
            <a:off x="900000" y="3716280"/>
            <a:ext cx="187164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1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0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4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1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9500"/>
                            </p:stCondLst>
                            <p:childTnLst>
                              <p:par>
                                <p:cTn id="11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5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6780240" cy="172908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Правым притоком р.Лена является …(рек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57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59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10800000">
            <a:off x="5003640" y="4797360"/>
            <a:ext cx="3889440" cy="1152720"/>
          </a:xfrm>
          <a:prstGeom prst="wedgeRectCallout">
            <a:avLst>
              <a:gd name="adj1" fmla="val -861"/>
              <a:gd name="adj2" fmla="val 89805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Алд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9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7"/>
          <a:stretch/>
        </p:blipFill>
        <p:spPr>
          <a:xfrm>
            <a:off x="1476360" y="4005360"/>
            <a:ext cx="109548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1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2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9000"/>
                            </p:stCondLst>
                            <p:childTnLst>
                              <p:par>
                                <p:cTn id="119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500"/>
                            </p:stCondLst>
                            <p:childTnLst>
                              <p:par>
                                <p:cTn id="1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7488000" cy="1368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Река Ангара является …. (правым или левым) притоком р.Енис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75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77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Прав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7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7"/>
          <a:stretch/>
        </p:blipFill>
        <p:spPr>
          <a:xfrm>
            <a:off x="1332000" y="3645000"/>
            <a:ext cx="158436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0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"/>
                            </p:stCondLst>
                            <p:childTnLst>
                              <p:par>
                                <p:cTn id="1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58560" y="1989000"/>
            <a:ext cx="7488360" cy="1368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Главной причиной возникновения течений в океанах являет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93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95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10800000">
            <a:off x="4932000" y="4797000"/>
            <a:ext cx="4211640" cy="1295640"/>
          </a:xfrm>
          <a:prstGeom prst="wedgeRectCallout">
            <a:avLst>
              <a:gd name="adj1" fmla="val 133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остоянные вет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5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7"/>
          <a:stretch/>
        </p:blipFill>
        <p:spPr>
          <a:xfrm>
            <a:off x="1547640" y="40766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0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500"/>
                            </p:stCondLst>
                            <p:childTnLst>
                              <p:par>
                                <p:cTn id="127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8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9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500"/>
                            </p:stCondLst>
                            <p:childTnLst>
                              <p:par>
                                <p:cTn id="1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7632720" cy="1368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Углубление, по которому воды реки текут постоянно, называе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11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13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Рус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3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7"/>
          <a:stretch/>
        </p:blipFill>
        <p:spPr>
          <a:xfrm>
            <a:off x="1116000" y="4076640"/>
            <a:ext cx="14288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0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500"/>
                            </p:stCondLst>
                            <p:childTnLst>
                              <p:par>
                                <p:cTn id="13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6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9000"/>
                            </p:stCondLst>
                            <p:childTnLst>
                              <p:par>
                                <p:cTn id="134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500"/>
                            </p:stCondLst>
                            <p:childTnLst>
                              <p:par>
                                <p:cTn id="1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416720" cy="172908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Часть океана или моря, глубоко вдающиеся в сушу называется 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29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31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rot="10800000">
            <a:off x="4932000" y="4797360"/>
            <a:ext cx="4032360" cy="1440000"/>
          </a:xfrm>
          <a:prstGeom prst="wedgeRectCallout">
            <a:avLst>
              <a:gd name="adj1" fmla="val -828"/>
              <a:gd name="adj2" fmla="val 81861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Залив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1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7"/>
          <a:stretch/>
        </p:blipFill>
        <p:spPr>
          <a:xfrm>
            <a:off x="755640" y="3357720"/>
            <a:ext cx="12304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0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500"/>
                            </p:stCondLst>
                            <p:childTnLst>
                              <p:par>
                                <p:cTn id="136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4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7000"/>
                            </p:stCondLst>
                            <p:childTnLst>
                              <p:par>
                                <p:cTn id="138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9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32000" y="1484280"/>
            <a:ext cx="7632720" cy="187344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Узкое водное пространство, ограниченное с двух сторон берегами материков или островов называетс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47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49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10800000">
            <a:off x="5003280" y="4797000"/>
            <a:ext cx="3745080" cy="1295640"/>
          </a:xfrm>
          <a:prstGeom prst="wedgeRectCallout">
            <a:avLst>
              <a:gd name="adj1" fmla="val -2736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Проли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9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7"/>
          <a:stretch/>
        </p:blipFill>
        <p:spPr>
          <a:xfrm>
            <a:off x="755640" y="3716280"/>
            <a:ext cx="1360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4" dur="indefinite" restart="never" nodeType="tmRoot">
          <p:childTnLst>
            <p:seq>
              <p:cTn id="1405" dur="indefinite" nodeType="mainSeq">
                <p:childTnLst>
                  <p:par>
                    <p:cTn id="1406" fill="hold">
                      <p:stCondLst>
                        <p:cond delay="0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500"/>
                            </p:stCondLst>
                            <p:childTnLst>
                              <p:par>
                                <p:cTn id="14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2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4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8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4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331640" y="1484280"/>
            <a:ext cx="7561080" cy="187344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Перемещение воды в океане или море в горизонтальном направлении называется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65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67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Те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7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7"/>
          <a:stretch/>
        </p:blipFill>
        <p:spPr>
          <a:xfrm>
            <a:off x="971640" y="3429000"/>
            <a:ext cx="11858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2" dur="indefinite" restart="never" nodeType="tmRoot">
          <p:childTnLst>
            <p:seq>
              <p:cTn id="1453" dur="indefinite" nodeType="mainSeq">
                <p:childTnLst>
                  <p:par>
                    <p:cTn id="1454" fill="hold">
                      <p:stCondLst>
                        <p:cond delay="0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500"/>
                            </p:stCondLst>
                            <p:childTnLst>
                              <p:par>
                                <p:cTn id="14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6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0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7000"/>
                            </p:stCondLst>
                            <p:childTnLst>
                              <p:par>
                                <p:cTn id="148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2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48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8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500"/>
                            </p:stCondLst>
                            <p:childTnLst>
                              <p:par>
                                <p:cTn id="1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Горные породы пропускающие воду называются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83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85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rot="10800000">
            <a:off x="4932000" y="4797000"/>
            <a:ext cx="4211640" cy="1295640"/>
          </a:xfrm>
          <a:prstGeom prst="wedgeRectCallout">
            <a:avLst>
              <a:gd name="adj1" fmla="val 1375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Водопроницаем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5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7"/>
          <a:stretch/>
        </p:blipFill>
        <p:spPr>
          <a:xfrm>
            <a:off x="1258920" y="3573360"/>
            <a:ext cx="15843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0" dur="indefinite" restart="never" nodeType="tmRoot">
          <p:childTnLst>
            <p:seq>
              <p:cTn id="1501" dur="indefinite" nodeType="mainSeq">
                <p:childTnLst>
                  <p:par>
                    <p:cTn id="1502" fill="hold">
                      <p:stCondLst>
                        <p:cond delay="0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8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9000"/>
                            </p:stCondLst>
                            <p:childTnLst>
                              <p:par>
                                <p:cTn id="153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3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500"/>
                            </p:stCondLst>
                            <p:childTnLst>
                              <p:par>
                                <p:cTn id="1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26028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41300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7640" y="3716280"/>
            <a:ext cx="1043280" cy="1042920"/>
          </a:xfrm>
          <a:custGeom>
            <a:avLst/>
            <a:gdLst>
              <a:gd name="textAreaLeft" fmla="*/ 96480 w 1043280"/>
              <a:gd name="textAreaRight" fmla="*/ 946800 w 104328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19603" y="2005"/>
                </a:lnTo>
                <a:lnTo>
                  <a:pt x="2005" y="2005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19603" y="19595"/>
                </a:lnTo>
                <a:lnTo>
                  <a:pt x="19603" y="2005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603" y="19595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4869000"/>
            <a:ext cx="1043280" cy="1042920"/>
          </a:xfrm>
          <a:custGeom>
            <a:avLst/>
            <a:gdLst>
              <a:gd name="textAreaLeft" fmla="*/ 96480 w 1043280"/>
              <a:gd name="textAreaRight" fmla="*/ 946800 w 104328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19603" y="2005"/>
                </a:lnTo>
                <a:lnTo>
                  <a:pt x="2005" y="2005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19603" y="19595"/>
                </a:lnTo>
                <a:lnTo>
                  <a:pt x="19603" y="2005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603" y="19595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7640" y="1413000"/>
            <a:ext cx="1043280" cy="1042920"/>
          </a:xfrm>
          <a:custGeom>
            <a:avLst/>
            <a:gdLst>
              <a:gd name="textAreaLeft" fmla="*/ 96480 w 1043280"/>
              <a:gd name="textAreaRight" fmla="*/ 946800 w 104328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19603" y="2005"/>
                </a:lnTo>
                <a:lnTo>
                  <a:pt x="2005" y="2005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19603" y="19595"/>
                </a:lnTo>
                <a:lnTo>
                  <a:pt x="19603" y="2005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603" y="19595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2565360"/>
            <a:ext cx="1043280" cy="1042920"/>
          </a:xfrm>
          <a:custGeom>
            <a:avLst/>
            <a:gdLst>
              <a:gd name="textAreaLeft" fmla="*/ 96480 w 1043280"/>
              <a:gd name="textAreaRight" fmla="*/ 946800 w 104328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19603" y="2005"/>
                </a:lnTo>
                <a:lnTo>
                  <a:pt x="2005" y="2005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19603" y="19595"/>
                </a:lnTo>
                <a:lnTo>
                  <a:pt x="19603" y="2005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603" y="19595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95640" y="371628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19640" y="486900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2565360"/>
            <a:ext cx="1043280" cy="1042920"/>
          </a:xfrm>
          <a:custGeom>
            <a:avLst/>
            <a:gdLst>
              <a:gd name="textAreaLeft" fmla="*/ 96480 w 1043280"/>
              <a:gd name="textAreaRight" fmla="*/ 946800 w 104328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19603" y="2005"/>
                </a:lnTo>
                <a:lnTo>
                  <a:pt x="2005" y="2005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19603" y="19595"/>
                </a:lnTo>
                <a:lnTo>
                  <a:pt x="19603" y="2005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603" y="19595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3716280"/>
            <a:ext cx="1043280" cy="1042920"/>
          </a:xfrm>
          <a:custGeom>
            <a:avLst/>
            <a:gdLst>
              <a:gd name="textAreaLeft" fmla="*/ 96480 w 1043280"/>
              <a:gd name="textAreaRight" fmla="*/ 946800 w 104328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19603" y="2005"/>
                </a:lnTo>
                <a:lnTo>
                  <a:pt x="2005" y="2005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19603" y="19595"/>
                </a:lnTo>
                <a:lnTo>
                  <a:pt x="19603" y="2005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603" y="19595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95640" y="486900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47640" y="260280"/>
            <a:ext cx="1043280" cy="1042920"/>
          </a:xfrm>
          <a:custGeom>
            <a:avLst/>
            <a:gdLst>
              <a:gd name="textAreaLeft" fmla="*/ 96480 w 1043280"/>
              <a:gd name="textAreaRight" fmla="*/ 946800 w 104328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19603" y="2005"/>
                </a:lnTo>
                <a:lnTo>
                  <a:pt x="2005" y="2005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19603" y="19595"/>
                </a:lnTo>
                <a:lnTo>
                  <a:pt x="19603" y="2005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603" y="19595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71640" y="1413000"/>
            <a:ext cx="1043280" cy="1042920"/>
          </a:xfrm>
          <a:custGeom>
            <a:avLst/>
            <a:gdLst>
              <a:gd name="textAreaLeft" fmla="*/ 96480 w 1043280"/>
              <a:gd name="textAreaRight" fmla="*/ 946800 w 104328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19603" y="2005"/>
                </a:lnTo>
                <a:lnTo>
                  <a:pt x="2005" y="2005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19603" y="19595"/>
                </a:lnTo>
                <a:lnTo>
                  <a:pt x="19603" y="2005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603" y="19595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95640" y="2565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19640" y="371628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43640" y="486900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71640" y="260280"/>
            <a:ext cx="1043280" cy="1042920"/>
          </a:xfrm>
          <a:custGeom>
            <a:avLst/>
            <a:gdLst>
              <a:gd name="textAreaLeft" fmla="*/ 96480 w 1043280"/>
              <a:gd name="textAreaRight" fmla="*/ 946800 w 104328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19603" y="2005"/>
                </a:lnTo>
                <a:lnTo>
                  <a:pt x="2005" y="2005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19603" y="19595"/>
                </a:lnTo>
                <a:lnTo>
                  <a:pt x="19603" y="2005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603" y="19595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141300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19640" y="2565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371628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67640" y="486900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95640" y="26028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141300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43640" y="2565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67640" y="371628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19640" y="26028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43640" y="141300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2565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43640" y="26028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67640" y="141300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486900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67640" y="26028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371628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47640" y="4869000"/>
            <a:ext cx="1043280" cy="1042920"/>
          </a:xfrm>
          <a:custGeom>
            <a:avLst/>
            <a:gdLst>
              <a:gd name="textAreaLeft" fmla="*/ 96480 w 1043280"/>
              <a:gd name="textAreaRight" fmla="*/ 946800 w 104328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19603" y="2005"/>
                </a:lnTo>
                <a:lnTo>
                  <a:pt x="2005" y="2005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19603" y="19595"/>
                </a:lnTo>
                <a:lnTo>
                  <a:pt x="19603" y="2005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603" y="19595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132000" y="47628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4360" y="162864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028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Book Antiqua"/>
              </a:rPr>
              <a:t>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04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Book Antiqua"/>
              </a:rPr>
              <a:t>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580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Book Antiqua"/>
              </a:rPr>
              <a:t>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356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Book Antiqua"/>
              </a:rPr>
              <a:t>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436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Book Antiqua"/>
              </a:rPr>
              <a:t>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908000" y="47628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Book Antiqua"/>
              </a:rPr>
              <a:t>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987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Book Antiqua"/>
              </a:rPr>
              <a:t>1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11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Book Antiqua"/>
              </a:rPr>
              <a:t>1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908000" y="162864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Book Antiqua"/>
              </a:rPr>
              <a:t>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35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Book Antiqua"/>
              </a:rPr>
              <a:t>1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987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6"/>
                  <a:srcRect/>
                  <a:tile tx="0" ty="0" sx="100000" sy="100000" algn="ctr"/>
                </a:blipFill>
                <a:latin typeface="Book Antiqua"/>
              </a:rPr>
              <a:t>1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7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659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8"/>
                  <a:srcRect/>
                  <a:tile tx="0" ty="0" sx="100000" sy="100000" algn="ctr"/>
                </a:blipFill>
                <a:latin typeface="Book Antiqua"/>
              </a:rPr>
              <a:t>1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9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763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0"/>
                  <a:srcRect/>
                  <a:tile tx="0" ty="0" sx="100000" sy="100000" algn="ctr"/>
                </a:blipFill>
                <a:latin typeface="Book Antiqua"/>
              </a:rPr>
              <a:t>1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1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2"/>
                  <a:srcRect/>
                  <a:tile tx="0" ty="0" sx="100000" sy="100000" algn="ctr"/>
                </a:blipFill>
                <a:latin typeface="Book Antiqua"/>
              </a:rPr>
              <a:t>1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88508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4"/>
                  <a:srcRect/>
                  <a:tile tx="0" ty="0" sx="100000" sy="100000" algn="ctr"/>
                </a:blipFill>
                <a:latin typeface="Book Antiqua"/>
              </a:rPr>
              <a:t>1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211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6"/>
                  <a:srcRect/>
                  <a:tile tx="0" ty="0" sx="100000" sy="100000" algn="ctr"/>
                </a:blipFill>
                <a:latin typeface="Book Antiqua"/>
              </a:rPr>
              <a:t>1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7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659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8"/>
                  <a:srcRect/>
                  <a:tile tx="0" ty="0" sx="100000" sy="100000" algn="ctr"/>
                </a:blipFill>
                <a:latin typeface="Book Antiqua"/>
              </a:rPr>
              <a:t>2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9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435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0"/>
                  <a:srcRect/>
                  <a:tile tx="0" ty="0" sx="100000" sy="100000" algn="ctr"/>
                </a:blipFill>
                <a:latin typeface="Book Antiqua"/>
              </a:rPr>
              <a:t>1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1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763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2"/>
                  <a:srcRect/>
                  <a:tile tx="0" ty="0" sx="100000" sy="100000" algn="ctr"/>
                </a:blipFill>
                <a:latin typeface="Book Antiqua"/>
              </a:rPr>
              <a:t>2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9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4"/>
                  <a:srcRect/>
                  <a:tile tx="0" ty="0" sx="100000" sy="100000" algn="ctr"/>
                </a:blipFill>
                <a:latin typeface="Book Antiqua"/>
              </a:rPr>
              <a:t>2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88508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6"/>
                  <a:srcRect/>
                  <a:tile tx="0" ty="0" sx="100000" sy="100000" algn="ctr"/>
                </a:blipFill>
                <a:latin typeface="Book Antiqua"/>
              </a:rPr>
              <a:t>2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7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63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8"/>
                  <a:srcRect/>
                  <a:tile tx="0" ty="0" sx="100000" sy="100000" algn="ctr"/>
                </a:blipFill>
                <a:latin typeface="Book Antiqua"/>
              </a:rPr>
              <a:t>3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9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9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0"/>
                  <a:srcRect/>
                  <a:tile tx="0" ty="0" sx="100000" sy="100000" algn="ctr"/>
                </a:blipFill>
                <a:latin typeface="Book Antiqua"/>
              </a:rPr>
              <a:t>2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1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88508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2"/>
                  <a:srcRect/>
                  <a:tile tx="0" ty="0" sx="100000" sy="100000" algn="ctr"/>
                </a:blipFill>
                <a:latin typeface="Book Antiqua"/>
              </a:rPr>
              <a:t>2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659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4"/>
                  <a:srcRect/>
                  <a:tile tx="0" ty="0" sx="100000" sy="100000" algn="ctr"/>
                </a:blipFill>
                <a:latin typeface="Book Antiqua"/>
              </a:rPr>
              <a:t>2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435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6"/>
                  <a:srcRect/>
                  <a:tile tx="0" ty="0" sx="100000" sy="100000" algn="ctr"/>
                </a:blipFill>
                <a:latin typeface="Book Antiqua"/>
              </a:rPr>
              <a:t>2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7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11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8"/>
                  <a:srcRect/>
                  <a:tile tx="0" ty="0" sx="100000" sy="100000" algn="ctr"/>
                </a:blipFill>
                <a:latin typeface="Book Antiqua"/>
              </a:rPr>
              <a:t>2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9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987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0"/>
                  <a:srcRect/>
                  <a:tile tx="0" ty="0" sx="100000" sy="100000" algn="ctr"/>
                </a:blipFill>
                <a:latin typeface="Book Antiqua"/>
              </a:rPr>
              <a:t>2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1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88508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2"/>
                  <a:srcRect/>
                  <a:tile tx="0" ty="0" sx="100000" sy="100000" algn="ctr"/>
                </a:blipFill>
                <a:latin typeface="Book Antiqua"/>
              </a:rPr>
              <a:t>3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659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4"/>
                  <a:srcRect/>
                  <a:tile tx="0" ty="0" sx="100000" sy="100000" algn="ctr"/>
                </a:blipFill>
                <a:latin typeface="Book Antiqua"/>
              </a:rPr>
              <a:t>3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435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6"/>
                  <a:srcRect/>
                  <a:tile tx="0" ty="0" sx="100000" sy="100000" algn="ctr"/>
                </a:blipFill>
                <a:latin typeface="Book Antiqua"/>
              </a:rPr>
              <a:t>3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7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59280" y="5084640"/>
            <a:ext cx="57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8"/>
                  <a:srcRect/>
                  <a:tile tx="0" ty="0" sx="100000" sy="100000" algn="ctr"/>
                </a:blipFill>
                <a:latin typeface="Book Antiqua"/>
              </a:rPr>
              <a:t>3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9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211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0"/>
                  <a:srcRect/>
                  <a:tile tx="0" ty="0" sx="100000" sy="100000" algn="ctr"/>
                </a:blipFill>
                <a:latin typeface="Book Antiqua"/>
              </a:rPr>
              <a:t>3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1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6308640"/>
            <a:ext cx="4897440" cy="3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>
            <a:hlinkClick r:id="rId72" action="ppaction://hlinksldjump"/>
          </p:cNvPr>
          <p:cNvSpPr/>
          <p:nvPr/>
        </p:nvSpPr>
        <p:spPr>
          <a:xfrm>
            <a:off x="6588000" y="6381720"/>
            <a:ext cx="1420920" cy="28728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73" action="ppaction://hlinksldjump"/>
          </p:cNvPr>
          <p:cNvSpPr/>
          <p:nvPr/>
        </p:nvSpPr>
        <p:spPr>
          <a:xfrm>
            <a:off x="8244000" y="6381720"/>
            <a:ext cx="701640" cy="28728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Вых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332000" y="1557000"/>
            <a:ext cx="6780240" cy="180036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Водный поток, текущий в выработанном им углублении называется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01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03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rot="10800000">
            <a:off x="5076360" y="4797000"/>
            <a:ext cx="3311640" cy="1295640"/>
          </a:xfrm>
          <a:prstGeom prst="wedgeRectCallout">
            <a:avLst>
              <a:gd name="adj1" fmla="val -527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Р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3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7"/>
          <a:stretch/>
        </p:blipFill>
        <p:spPr>
          <a:xfrm>
            <a:off x="1187280" y="3573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500"/>
                            </p:stCondLst>
                            <p:childTnLst>
                              <p:par>
                                <p:cTn id="15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6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66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4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9000"/>
                            </p:stCondLst>
                            <p:childTnLst>
                              <p:par>
                                <p:cTn id="158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2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8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500"/>
                            </p:stCondLst>
                            <p:childTnLst>
                              <p:par>
                                <p:cTn id="1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332000" y="1699920"/>
            <a:ext cx="6780240" cy="158436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Главная река со всеми притоками называется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19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21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Речная сис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9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1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7"/>
          <a:stretch/>
        </p:blipFill>
        <p:spPr>
          <a:xfrm>
            <a:off x="1332000" y="3645000"/>
            <a:ext cx="14954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6" dur="indefinite" restart="never" nodeType="tmRoot">
          <p:childTnLst>
            <p:seq>
              <p:cTn id="1597" dur="indefinite" nodeType="mainSeq">
                <p:childTnLst>
                  <p:par>
                    <p:cTn id="1598" fill="hold">
                      <p:stCondLst>
                        <p:cond delay="0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500"/>
                            </p:stCondLst>
                            <p:childTnLst>
                              <p:par>
                                <p:cTn id="16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4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7000"/>
                            </p:stCondLst>
                            <p:childTnLst>
                              <p:par>
                                <p:cTn id="16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0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3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500"/>
                            </p:stCondLst>
                            <p:childTnLst>
                              <p:par>
                                <p:cTn id="1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Граница разделяющие соседние речные бассейны называетс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37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39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rot="10800000">
            <a:off x="5148000" y="4797000"/>
            <a:ext cx="3816360" cy="1295640"/>
          </a:xfrm>
          <a:prstGeom prst="wedgeRectCallout">
            <a:avLst>
              <a:gd name="adj1" fmla="val 203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одораз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9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7"/>
          <a:stretch/>
        </p:blipFill>
        <p:spPr>
          <a:xfrm>
            <a:off x="755640" y="3573360"/>
            <a:ext cx="194472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4" dur="indefinite" restart="never" nodeType="tmRoot">
          <p:childTnLst>
            <p:seq>
              <p:cTn id="1645" dur="indefinite" nodeType="mainSeq">
                <p:childTnLst>
                  <p:par>
                    <p:cTn id="1646" fill="hold">
                      <p:stCondLst>
                        <p:cond delay="0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500"/>
                            </p:stCondLst>
                            <p:childTnLst>
                              <p:par>
                                <p:cTn id="16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62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6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0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4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8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2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500"/>
                            </p:stCondLst>
                            <p:childTnLst>
                              <p:par>
                                <p:cTn id="16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403280" y="1197000"/>
            <a:ext cx="7561440" cy="21607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Участок земной поверхности с которого вся вода стекает в одну реку называется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55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57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10800000">
            <a:off x="4859280" y="4797000"/>
            <a:ext cx="4284720" cy="1295640"/>
          </a:xfrm>
          <a:prstGeom prst="wedgeRectCallout">
            <a:avLst>
              <a:gd name="adj1" fmla="val 500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Водосборным бассей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7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7"/>
          <a:stretch/>
        </p:blipFill>
        <p:spPr>
          <a:xfrm>
            <a:off x="826920" y="3500280"/>
            <a:ext cx="17290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2" dur="indefinite" restart="never" nodeType="tmRoot">
          <p:childTnLst>
            <p:seq>
              <p:cTn id="1693" dur="indefinite" nodeType="mainSeq">
                <p:childTnLst>
                  <p:par>
                    <p:cTn id="1694" fill="hold">
                      <p:stCondLst>
                        <p:cond delay="0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500"/>
                            </p:stCondLst>
                            <p:childTnLst>
                              <p:par>
                                <p:cTn id="17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0" dur="5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4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8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2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2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9000"/>
                            </p:stCondLst>
                            <p:childTnLst>
                              <p:par>
                                <p:cTn id="17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6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2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0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500"/>
                            </p:stCondLst>
                            <p:childTnLst>
                              <p:par>
                                <p:cTn id="17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332000" y="1700280"/>
            <a:ext cx="7488000" cy="165744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Кратковременный подъём уровня воды в реке называется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73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75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Павод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5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7"/>
          <a:stretch/>
        </p:blipFill>
        <p:spPr>
          <a:xfrm>
            <a:off x="539640" y="3500280"/>
            <a:ext cx="15224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0" dur="indefinite" restart="never" nodeType="tmRoot">
          <p:childTnLst>
            <p:seq>
              <p:cTn id="1741" dur="indefinite" nodeType="mainSeq">
                <p:childTnLst>
                  <p:par>
                    <p:cTn id="1742" fill="hold">
                      <p:stCondLst>
                        <p:cond delay="0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fill="hold">
                            <p:stCondLst>
                              <p:cond delay="500"/>
                            </p:stCondLst>
                            <p:childTnLst>
                              <p:par>
                                <p:cTn id="17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8" dur="5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6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7000"/>
                            </p:stCondLst>
                            <p:childTnLst>
                              <p:par>
                                <p:cTn id="176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0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9000"/>
                            </p:stCondLst>
                            <p:childTnLst>
                              <p:par>
                                <p:cTn id="177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4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8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4" fill="hold">
                            <p:stCondLst>
                              <p:cond delay="500"/>
                            </p:stCondLst>
                            <p:childTnLst>
                              <p:par>
                                <p:cTn id="17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1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4"/>
          <a:stretch/>
        </p:blipFill>
        <p:spPr>
          <a:xfrm rot="561000">
            <a:off x="6227640" y="2421000"/>
            <a:ext cx="2159280" cy="215892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 txBox="1"/>
          <p:nvPr/>
        </p:nvSpPr>
        <p:spPr>
          <a:xfrm rot="20902800">
            <a:off x="1042560" y="3644640"/>
            <a:ext cx="54928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3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11496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жаль! Как жал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11496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1908000" y="765000"/>
            <a:ext cx="6983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вы! Количество баллов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меньшаются в 2 раза!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93" name="">
            <a:hlinkClick r:id="rId5" action="ppaction://hlinksldjump"/>
          </p:cNvPr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8" dur="indefinite" restart="never" nodeType="tmRoot">
          <p:childTnLst>
            <p:seq>
              <p:cTn id="1789" dur="indefinite" nodeType="mainSeq">
                <p:childTnLst>
                  <p:par>
                    <p:cTn id="1790" fill="hold">
                      <p:stCondLst>
                        <p:cond delay="0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3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04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6" nodeType="after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8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 rot="531000">
            <a:off x="6227280" y="2349000"/>
            <a:ext cx="2443320" cy="244332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ook Antiqua"/>
              </a:rPr>
              <a:t>1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97" name=""/>
          <p:cNvSpPr txBox="1"/>
          <p:nvPr/>
        </p:nvSpPr>
        <p:spPr>
          <a:xfrm rot="21106200">
            <a:off x="971280" y="3716280"/>
            <a:ext cx="56926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3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11292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а!!!  Ура!!!   Ура!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11292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1835280" y="765000"/>
            <a:ext cx="698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везло! Заработанные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аллы удваиваются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99" name="">
            <a:hlinkClick r:id="rId5" action="ppaction://hlinksldjump"/>
          </p:cNvPr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9" dur="indefinite" restart="never" nodeType="tmRoot">
          <p:childTnLst>
            <p:seq>
              <p:cTn id="1810" dur="indefinite" nodeType="mainSeq">
                <p:childTnLst>
                  <p:par>
                    <p:cTn id="1811" fill="hold">
                      <p:stCondLst>
                        <p:cond delay="0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4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25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7" nodeType="after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9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1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02" name=""/>
          <p:cNvSpPr txBox="1"/>
          <p:nvPr/>
        </p:nvSpPr>
        <p:spPr>
          <a:xfrm rot="21096000">
            <a:off x="1115640" y="3716280"/>
            <a:ext cx="54928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3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11304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а!!!  Ура!!!   Ура!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11304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835280" y="765000"/>
            <a:ext cx="698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везло!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полнительно 10 баллов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4"/>
          <a:stretch/>
        </p:blipFill>
        <p:spPr>
          <a:xfrm rot="489000">
            <a:off x="6156000" y="2421000"/>
            <a:ext cx="2516040" cy="2519280"/>
          </a:xfrm>
          <a:prstGeom prst="rect">
            <a:avLst/>
          </a:prstGeom>
          <a:ln w="0">
            <a:noFill/>
          </a:ln>
        </p:spPr>
      </p:pic>
      <p:sp>
        <p:nvSpPr>
          <p:cNvPr id="705" name="">
            <a:hlinkClick r:id="rId5" action="ppaction://hlinksldjump"/>
          </p:cNvPr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0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5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6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8" nodeType="after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0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3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4"/>
          <a:stretch/>
        </p:blipFill>
        <p:spPr>
          <a:xfrm rot="505200">
            <a:off x="6084360" y="2349000"/>
            <a:ext cx="2159280" cy="215928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 txBox="1"/>
          <p:nvPr/>
        </p:nvSpPr>
        <p:spPr>
          <a:xfrm rot="20902800">
            <a:off x="1042560" y="3715920"/>
            <a:ext cx="54928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3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11496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жаль! Как жал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11496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1979640" y="765000"/>
            <a:ext cx="6696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вы!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инус 5 баллов от общего количества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11" name="">
            <a:hlinkClick r:id="rId5" action="ppaction://hlinksldjump"/>
          </p:cNvPr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1" dur="indefinite" restart="never" nodeType="tmRoot">
          <p:childTnLst>
            <p:seq>
              <p:cTn id="1852" dur="indefinite" nodeType="mainSeq">
                <p:childTnLst>
                  <p:par>
                    <p:cTn id="1853" fill="hold">
                      <p:stCondLst>
                        <p:cond delay="0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6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67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9" nodeType="after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1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ажите самый глубокий океан на Зем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33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Тих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7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1042920" y="364500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9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ажите максимальную глубину Тихого оке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11022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7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971640" y="3645000"/>
            <a:ext cx="15843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9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Какие океаны соединяет Берингов проли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Тихий и Северный Ледовит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7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1042920" y="3573360"/>
            <a:ext cx="165744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7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9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К бассейну какого океана относится Белое мо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еверного Ледовит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7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1042920" y="3716280"/>
            <a:ext cx="201780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7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90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58920" y="2060280"/>
            <a:ext cx="6780240" cy="136836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полните фразу: «Шельфом называется …….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Материковая отм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6453360"/>
            <a:ext cx="417528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7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1403280" y="3789360"/>
            <a:ext cx="1000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70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90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58920" y="1989000"/>
            <a:ext cx="691200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й океан пересекают все меридианы одновремен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23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25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0800000">
            <a:off x="5076360" y="4797000"/>
            <a:ext cx="3527640" cy="1295640"/>
          </a:xfrm>
          <a:prstGeom prst="wedgeRectCallout">
            <a:avLst>
              <a:gd name="adj1" fmla="val -3962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Северный Ледовит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rId7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8"/>
          <a:stretch/>
        </p:blipFill>
        <p:spPr>
          <a:xfrm>
            <a:off x="1042920" y="3645000"/>
            <a:ext cx="15130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5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7000"/>
                            </p:stCondLst>
                            <p:childTnLst>
                              <p:par>
                                <p:cTn id="56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900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4:29:15Z</dcterms:created>
  <dc:creator>Ольга</dc:creator>
  <dc:description/>
  <dc:language>en-US</dc:language>
  <cp:lastModifiedBy>Пользователь</cp:lastModifiedBy>
  <dcterms:modified xsi:type="dcterms:W3CDTF">2009-01-29T13:55:35Z</dcterms:modified>
  <cp:revision>105</cp:revision>
  <dc:subject/>
  <dc:title>Слайд 1</dc:title>
</cp:coreProperties>
</file>