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39E-16AA-4E80-908C-87210A79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9D0-C4F4-42BA-80B1-49F9DF4B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D0B-8C89-4915-8076-71AAE2D7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EB9-FA4D-491C-985F-4618DABA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41C-F038-4B49-94AF-588D4AF2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281-E059-4B0C-B1FF-1EF1A455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C42-82C0-48BB-9D16-5FED7665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0DD-041B-48BA-B1E7-EB115E19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9A8-1E2D-40A3-82A1-C91578CC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6D2-A7E9-472B-8476-C63CEED8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E26-8E68-4EC7-A1BA-AA043C58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FFF-D248-4DD6-86BD-23139721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D117-37DC-4E3E-A4C8-993DD1EE2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ovved.ru/images/NEWS/1.01.15/0_79877_9d77e2cc_XL.pn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1" descr=""/>
          <p:cNvPicPr/>
          <p:nvPr/>
        </p:nvPicPr>
        <p:blipFill>
          <a:blip r:embed="rId2"/>
          <a:stretch/>
        </p:blipFill>
        <p:spPr>
          <a:xfrm>
            <a:off x="2340000" y="260280"/>
            <a:ext cx="4753080" cy="144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00" y="5013000"/>
            <a:ext cx="4248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ыполнила: Лютая Виктор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оспитанница: МБДОУ «Детский сад №2»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: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латких Татьяна Валерьев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5" descr="ээээээээээээээээээээээээээ.jpg"/>
          <p:cNvPicPr/>
          <p:nvPr/>
        </p:nvPicPr>
        <p:blipFill>
          <a:blip r:embed="rId3"/>
          <a:stretch/>
        </p:blipFill>
        <p:spPr>
          <a:xfrm>
            <a:off x="1871640" y="1628640"/>
            <a:ext cx="7272360" cy="32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7643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о на нашей планете есть и такие уголки, где рвутся бомбы, погибают люди . И мы, продолжая дело дедов и прадедов, не должны допустить мировую военную катастрофу; не напрасно проливали кровь, защищая мир солдаты Второй мировой войны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 мерцающим звёздам ведя корабли, —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 погибших помните!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стречайте трепетную весну, люди Земли!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бейте войну, прокляните войну,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юди Земли!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Р. Рождественски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ад нами небо голубое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ам жизнь счастливая дан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И мы обязаны с тобою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Запомнить эти имена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494172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сем Спасибо за внимание!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26560" y="836280"/>
            <a:ext cx="7859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нтернет-ресурс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чный огонь -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novved.ru/images/NEWS/1.01.15/0_79877_9d77e2cc_XL.p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тка лавра 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nachalo4ka.ru/wp-content/uploads/2015/02/army-19.p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ты 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mou-school-5.ucoz.ru/vov/0_81b58_5e7e0a01_XL.p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н 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myinternetforum.com/tribarn3/nph-proxy.cgi/010110A/http/www.photoshop-master.ru/lessons/les879/1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Великая Отечественная война закончилась почти 70 лет назад, мои сверстники не слышали рева самолетов и свиста пуль, не видели зарева пожарищ и взрывов бомб, не знали ужасов войны. Мы живем мирно и счастливо: учимся и работаем, радуемся и грустим, мечтаем и дружим… Но бывают минуты, когда с особой остротой понимаешь, что всей нашей жизнью мы обязаны тем, кто сражался за наше светлое будущее. И, чем дальше уходят от нас годы войны, тем больше нам хочется узнать о тех, кто дал нам мир, кто не щадил своей жизни в боях за наше счастье и свобод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60280"/>
            <a:ext cx="8075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О войне моё поколение знает только из книг, кинофильмов, спектаклей. Но главное – рассказы ветеранов, они, как живой родник, «питают» нашу благодарную память. В каждой семье есть своя маленькая история войны, и мы должны как можно больше узнать о подвиге наших дедов и прадедов – славных защитников Родины! Нашу семью тоже не обошла такая маленькая истори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Я хочу рассказать о своём прадедуш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4360" y="260280"/>
            <a:ext cx="40399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Моего прадеда звали Лютый Иван Вакулович. Он родился 4 октября 1924 года в селе  Тургеневка Калачинского района.                       Когда началась война, деду было 18 лет, он был призван в ноябре 1942 года, Присягу принял в февра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Текст 2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88764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Мой прадед воевал под командованием маршала                     Г.К. Жукова                на 1-о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елорусском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фронте.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Мой прадед был артиллерис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9" descr="Библиотека изображений &quot;РИА Новости&quot;"/>
          <p:cNvPicPr/>
          <p:nvPr/>
        </p:nvPicPr>
        <p:blipFill>
          <a:blip r:embed="rId2"/>
          <a:stretch/>
        </p:blipFill>
        <p:spPr>
          <a:xfrm>
            <a:off x="4284720" y="333360"/>
            <a:ext cx="4390920" cy="324000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7" descr="Победная весна. День за днем. - Вторая Мировая Война - Официальный форум игры World of Tanks - Страница 2"/>
          <p:cNvPicPr/>
          <p:nvPr/>
        </p:nvPicPr>
        <p:blipFill>
          <a:blip r:embed="rId3"/>
          <a:stretch/>
        </p:blipFill>
        <p:spPr>
          <a:xfrm>
            <a:off x="4284720" y="3141720"/>
            <a:ext cx="4464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а годы службы прадед был ранен и лежал в госпитале, после выписки его отправили во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украинский фронт. За годы своей службы он подбил два немецких танка которые назывались             «Тигр» и «Пантера».                              И был награждён медалью «За доблесть и отвагу в Великой Отечественной вой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7" descr="С наступающим Днём Великой Победы! :: Форумы :: StreamZone - торрент трекер"/>
          <p:cNvPicPr/>
          <p:nvPr/>
        </p:nvPicPr>
        <p:blipFill>
          <a:blip r:embed="rId2"/>
          <a:stretch/>
        </p:blipFill>
        <p:spPr>
          <a:xfrm>
            <a:off x="4427640" y="907920"/>
            <a:ext cx="396072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беду мой прадед встретил в Чехословакии. За заслуги перед Отечеством  в 1945 году был награждён Орденом Отечественной войны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тепени за храбрость, стойкость и мужество, проявленные в борьбе с немецко - фашистскими захватчиками.  А послевоенное время и другими юбилейными орденами и медал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Апрель &quot; 2013 &quot; Инвестиционные монеты"/>
          <p:cNvPicPr/>
          <p:nvPr/>
        </p:nvPicPr>
        <p:blipFill>
          <a:blip r:embed="rId2"/>
          <a:stretch/>
        </p:blipFill>
        <p:spPr>
          <a:xfrm>
            <a:off x="4572000" y="692280"/>
            <a:ext cx="3745080" cy="2950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95640" y="3789360"/>
            <a:ext cx="3529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Встреча ветеранов Великой Отечественной  Вой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48836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Медали моего праде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66247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21:17:59Z</dcterms:created>
  <dc:creator>Лен29</dc:creator>
  <dc:description/>
  <dc:language>en-US</dc:language>
  <cp:lastModifiedBy>Саня</cp:lastModifiedBy>
  <dcterms:modified xsi:type="dcterms:W3CDTF">2018-04-01T12:30:52Z</dcterms:modified>
  <cp:revision>17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0b0000000000010292010207f7000400038000</vt:lpwstr>
  </property>
</Properties>
</file>