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CF62-B297-4464-9FF9-6998BE82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D5BA-3FED-4BD7-BF69-04EE2429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CEA1-A13A-4512-9E0A-F8DD79F0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A507-6834-4E86-8431-78D153AC7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CB29-44C9-456D-87F9-8283821C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8FA5-C809-46CC-A212-712FA6F2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2CC6-6ECA-4156-ACCE-A58CA9FE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4030-6E8E-48A3-893C-142C03A8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59A4-78B1-42D6-87A1-1E177FD6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6BDD-A564-47E4-95D2-D9B57A7F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0E8A-39D8-4B11-8681-85373454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2647-734D-4529-9B6C-AEC973F3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6B25-7930-43C4-872E-39103E98BD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ovved.ru/images/NEWS/1.01.15/0_79877_9d77e2cc_XL.png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11" descr=""/>
          <p:cNvPicPr/>
          <p:nvPr/>
        </p:nvPicPr>
        <p:blipFill>
          <a:blip r:embed="rId2"/>
          <a:stretch/>
        </p:blipFill>
        <p:spPr>
          <a:xfrm>
            <a:off x="2340000" y="260280"/>
            <a:ext cx="4753080" cy="144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00" y="5013000"/>
            <a:ext cx="4248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ыполнила: Лютая Виктор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оспитанница: МБДОУ «Детский сад №2»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уководитель: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Глатких Татьяна Валерьевн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Содержимое 5" descr="ээээээээээээээээээээээээээ.jpg"/>
          <p:cNvPicPr/>
          <p:nvPr/>
        </p:nvPicPr>
        <p:blipFill>
          <a:blip r:embed="rId3"/>
          <a:stretch/>
        </p:blipFill>
        <p:spPr>
          <a:xfrm>
            <a:off x="1871640" y="1628640"/>
            <a:ext cx="7272360" cy="326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10920" y="620280"/>
            <a:ext cx="76438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о на нашей планете есть и такие уголки, где рвутся бомбы, погибают люди . И мы, продолжая дело дедов и прадедов, не должны допустить мировую военную катастрофу; не напрасно проливали кровь, защищая мир солдаты Второй мировой войны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 мерцающим звёздам ведя корабли, —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 погибших помните!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стречайте трепетную весну, люди Земли!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Убейте войну, прокляните войну,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люди Земли!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Р. Рождественский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Над нами небо голубое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Нам жизнь счастливая дана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И мы обязаны с тобою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Запомнить эти имена.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2411280" y="4941720"/>
            <a:ext cx="457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Всем Спасибо за внимание!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826560" y="836280"/>
            <a:ext cx="7859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Интернет-ресурс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ечный огонь -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novved.ru/images/NEWS/1.01.15/0_79877_9d77e2cc_XL.p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етка лавра -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nachalo4ka.ru/wp-content/uploads/2015/02/army-19.p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аты -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mou-school-5.ucoz.ru/vov/0_81b58_5e7e0a01_XL.p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н -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myinternetforum.com/tribarn3/nph-proxy.cgi/010110A/http/www.photoshop-master.ru/lessons/les879/1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95280" y="333000"/>
            <a:ext cx="8291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Великая Отечественная война закончилась почти 70 лет назад, мои сверстники не слышали рева самолетов и свиста пуль, не видели зарева пожарищ и взрывов бомб, не знали ужасов войны. Мы живем мирно и счастливо: учимся и работаем, радуемся и грустим, мечтаем и дружим… Но бывают минуты, когда с особой остротой понимаешь, что всей нашей жизнью мы обязаны тем, кто сражался за наше светлое будущее. И, чем дальше уходят от нас годы войны, тем больше нам хочется узнать о тех, кто дал нам мир, кто не щадил своей жизни в боях за наше счастье и свобод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260280"/>
            <a:ext cx="8075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О войне моё поколение знает только из книг, кинофильмов, спектаклей. Но главное – рассказы ветеранов, они, как живой родник, «питают» нашу благодарную память. В каждой семье есть своя маленькая история войны, и мы должны как можно больше узнать о подвиге наших дедов и прадедов – славных защитников Родины! Нашу семью тоже не обошла такая маленькая история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Я хочу рассказать о своём прадедуш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4360" y="260280"/>
            <a:ext cx="403992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Моего прадеда звали Лютый Иван Вакулович. Он родился 4 октября 1924 года в селе  Тургеневка Калачинского района.                       Когда началась война, деду было 18 лет, он был призван в ноябре 1942 года, Присягу принял в февра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Текст 2" descr=""/>
          <p:cNvPicPr/>
          <p:nvPr/>
        </p:nvPicPr>
        <p:blipFill>
          <a:blip r:embed="rId2"/>
          <a:stretch/>
        </p:blipFill>
        <p:spPr>
          <a:xfrm>
            <a:off x="4788000" y="907920"/>
            <a:ext cx="388764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40384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Мой прадед воевал под командованием маршала                     Г.К. Жукова                на 1-ом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Белорусском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фронте.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Мой прадед был артиллерист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9" descr="Библиотека изображений &quot;РИА Новости&quot;"/>
          <p:cNvPicPr/>
          <p:nvPr/>
        </p:nvPicPr>
        <p:blipFill>
          <a:blip r:embed="rId2"/>
          <a:stretch/>
        </p:blipFill>
        <p:spPr>
          <a:xfrm>
            <a:off x="4284720" y="333360"/>
            <a:ext cx="4390920" cy="3240000"/>
          </a:xfrm>
          <a:prstGeom prst="rect">
            <a:avLst/>
          </a:prstGeom>
          <a:ln w="0">
            <a:noFill/>
          </a:ln>
        </p:spPr>
      </p:pic>
      <p:pic>
        <p:nvPicPr>
          <p:cNvPr id="50" name="Содержимое 7" descr="Победная весна. День за днем. - Вторая Мировая Война - Официальный форум игры World of Tanks - Страница 2"/>
          <p:cNvPicPr/>
          <p:nvPr/>
        </p:nvPicPr>
        <p:blipFill>
          <a:blip r:embed="rId3"/>
          <a:stretch/>
        </p:blipFill>
        <p:spPr>
          <a:xfrm>
            <a:off x="4284720" y="3141720"/>
            <a:ext cx="44640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За годы службы прадед был ранен и лежал в госпитале, после выписки его отправили во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украинский фронт. За годы своей службы он подбил два немецких танка которые назывались             «Тигр» и «Пантера».                              И был награждён медалью «За доблесть и отвагу в Великой Отечественной войн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7" descr="С наступающим Днём Великой Победы! :: Форумы :: StreamZone - торрент трекер"/>
          <p:cNvPicPr/>
          <p:nvPr/>
        </p:nvPicPr>
        <p:blipFill>
          <a:blip r:embed="rId2"/>
          <a:stretch/>
        </p:blipFill>
        <p:spPr>
          <a:xfrm>
            <a:off x="4427640" y="907920"/>
            <a:ext cx="3960720" cy="43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беду мой прадед встретил в Чехословакии. За заслуги перед Отечеством  в 1945 году был награждён Орденом Отечественной войны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степени за храбрость, стойкость и мужество, проявленные в борьбе с немецко - фашистскими захватчиками.  А послевоенное время и другими юбилейными орденами и медаля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6" descr="Апрель &quot; 2013 &quot; Инвестиционные монеты"/>
          <p:cNvPicPr/>
          <p:nvPr/>
        </p:nvPicPr>
        <p:blipFill>
          <a:blip r:embed="rId2"/>
          <a:stretch/>
        </p:blipFill>
        <p:spPr>
          <a:xfrm>
            <a:off x="4572000" y="692280"/>
            <a:ext cx="3745080" cy="2950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995640" y="3789360"/>
            <a:ext cx="352908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Встреча ветеранов Великой Отечественной  Войн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00000" y="1484280"/>
            <a:ext cx="748836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Медали моего праде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332000" y="1268280"/>
            <a:ext cx="6624720" cy="46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9T21:17:59Z</dcterms:created>
  <dc:creator>Лен29</dc:creator>
  <dc:description/>
  <dc:language>en-US</dc:language>
  <cp:lastModifiedBy>Саня</cp:lastModifiedBy>
  <dcterms:modified xsi:type="dcterms:W3CDTF">2018-04-01T12:30:52Z</dcterms:modified>
  <cp:revision>17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c0b0000000000010292010207f7000400038000</vt:lpwstr>
  </property>
</Properties>
</file>