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2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3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33C-04F0-4958-AF8E-73FED8E4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CD0-9A9D-42EB-8641-D9091405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CB0-C64F-4859-B1FC-42EB2B33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4A5-DBD7-407A-B3A9-7D0347F6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51F-0F05-483B-B7F8-DA8CBF91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BC3-B7D6-45C5-A7B6-721596DC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083-7884-45CC-92CC-9B7D31FB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FDC-D689-4310-8F8F-EC205B49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83E-3033-441E-95A8-CD05B579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51A-4AE9-4131-8AB1-B0F946C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84D-E60A-403B-86FB-EA0D32C2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511-648E-4092-8831-98E3F1C5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3E62-A179-4A88-A5E8-C27295E0EA0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8C4C-9240-4827-A77F-D1449C04FB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14760"/>
            <a:ext cx="87868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детский сад комбинированного вида №16 «Тополе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стер-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Использование мини-роботов 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ee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ot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» в процессе логопедической коррекционной деятельности с детьми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www.toycommunity.com.au/productimages/EDX-392654.jpg"/>
          <p:cNvPicPr/>
          <p:nvPr/>
        </p:nvPicPr>
        <p:blipFill>
          <a:blip r:embed="rId2"/>
          <a:stretch/>
        </p:blipFill>
        <p:spPr>
          <a:xfrm>
            <a:off x="1116000" y="3357720"/>
            <a:ext cx="3238560" cy="3238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589360" y="523080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-логопед:  Лыт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ан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DAEC-5EE7-42FC-B28E-76AD74C49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повернуть, то мы нажимаем стрелочку «направо» или «налево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ОБЯЗАТЕЛЬНО СТРЕЛОЧКУ «ВПЕРЕ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F:\Мастер класс\IMG-20190316-WA0016.jpg"/>
          <p:cNvPicPr/>
          <p:nvPr/>
        </p:nvPicPr>
        <p:blipFill>
          <a:blip r:embed="rId2"/>
          <a:stretch/>
        </p:blipFill>
        <p:spPr>
          <a:xfrm>
            <a:off x="857160" y="1714680"/>
            <a:ext cx="270036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Picture 3" descr="F:\Мастер класс\IMG-20190316-WA0016.jpg"/>
          <p:cNvPicPr/>
          <p:nvPr/>
        </p:nvPicPr>
        <p:blipFill>
          <a:blip r:embed="rId3"/>
          <a:stretch/>
        </p:blipFill>
        <p:spPr>
          <a:xfrm>
            <a:off x="5643720" y="1785960"/>
            <a:ext cx="270036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Picture 4" descr="F:\Мастер класс\IMG-20190316-WA0018.jpg"/>
          <p:cNvPicPr/>
          <p:nvPr/>
        </p:nvPicPr>
        <p:blipFill>
          <a:blip r:embed="rId4"/>
          <a:stretch/>
        </p:blipFill>
        <p:spPr>
          <a:xfrm>
            <a:off x="3357720" y="3857760"/>
            <a:ext cx="2700360" cy="24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C1D2-9BB3-4EFD-829B-277DD8DF9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вдруг Пчелка захочет задержаться на клеточке для этого есть кнопка «пауза» ( || ), продолжительность которой 1 секу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857680" y="1785960"/>
            <a:ext cx="3600360" cy="42148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985-E4BF-4A3A-A580-7EB8838D28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отправить нашу Пчелку в путешествие нажимаем «Go» - стар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F:\Мастер класс\IMG-20190316-WA0012.jpg"/>
          <p:cNvPicPr/>
          <p:nvPr/>
        </p:nvPicPr>
        <p:blipFill>
          <a:blip r:embed="rId2"/>
          <a:stretch/>
        </p:blipFill>
        <p:spPr>
          <a:xfrm>
            <a:off x="2643120" y="1714680"/>
            <a:ext cx="4392720" cy="360036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1472-F8F0-45DF-AA2D-9BF404EB5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5C01-F1E6-4710-BED4-792CEF0D3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500040" y="28908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гда Пчелка приедет куда нужно, мы должны нажать на кнопку «очистить»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Мастер класс\IMG-20190316-WA0013.jpg"/>
          <p:cNvPicPr/>
          <p:nvPr/>
        </p:nvPicPr>
        <p:blipFill>
          <a:blip r:embed="rId2"/>
          <a:stretch/>
        </p:blipFill>
        <p:spPr>
          <a:xfrm>
            <a:off x="2786040" y="1643040"/>
            <a:ext cx="3600360" cy="3871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428760" y="5715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иначе наша пчелка запомн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и старую программу, и н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Домик» – Уле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торый представляет собой  станцию с отдельными ячейками для подключения к ней программируемых роботов, для их зарядки от с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https://quarryvillelibrary.org/wp-content/uploads/sites/8/2016/05/bee-bots-768x511.jpg"/>
          <p:cNvPicPr/>
          <p:nvPr/>
        </p:nvPicPr>
        <p:blipFill>
          <a:blip r:embed="rId2"/>
          <a:stretch/>
        </p:blipFill>
        <p:spPr>
          <a:xfrm>
            <a:off x="928800" y="1990800"/>
            <a:ext cx="7315200" cy="4867200"/>
          </a:xfrm>
          <a:prstGeom prst="rect">
            <a:avLst/>
          </a:prstGeom>
          <a:ln w="0">
            <a:noFill/>
          </a:ln>
        </p:spPr>
      </p:pic>
      <p:sp>
        <p:nvSpPr>
          <p:cNvPr id="14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D28D-264C-4644-93A5-8A3E8431C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324000" y="615960"/>
            <a:ext cx="723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toycommunity.com.au/productimages/EDX-392654.jpg"/>
          <p:cNvPicPr/>
          <p:nvPr/>
        </p:nvPicPr>
        <p:blipFill>
          <a:blip r:embed="rId2"/>
          <a:stretch/>
        </p:blipFill>
        <p:spPr>
          <a:xfrm>
            <a:off x="6227640" y="4437000"/>
            <a:ext cx="2298960" cy="2297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500040" y="18651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468360" y="333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ель мастер-кла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оказать возможности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 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педической коррекционной деятельности с детьми старшего дошкольного возраста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посредством использования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ини-роботов Bee-bot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251240" y="44280"/>
            <a:ext cx="641520" cy="3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68360" y="220500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Демонстрация мастерства использования мини-роботов в  логопедической коррекционной деятельности с детьми старш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оздание условий для применения новых знаний (практическая работа по программированию мини-робо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Рефлексия получен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2DC6-B7DA-440B-8F76-3BD6356B1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900000" y="357120"/>
            <a:ext cx="78868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ини-робот Bee-Bot</a:t>
            </a:r>
            <a:r>
              <a:rPr b="0" lang="ru-RU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 - это программируемый робот, предназначенный для использования детьми от 3 до 7 л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 помощью данного устройства дети могут с легкостью изучать программирование, задавая мини-роботу план действий и разрабатывая для него различные задания (приключени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http://www.toycommunity.com.au/productimages/EDX-392654.jpg"/>
          <p:cNvPicPr/>
          <p:nvPr/>
        </p:nvPicPr>
        <p:blipFill>
          <a:blip r:embed="rId2"/>
          <a:stretch/>
        </p:blipFill>
        <p:spPr>
          <a:xfrm>
            <a:off x="4788000" y="2997360"/>
            <a:ext cx="3671640" cy="367164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8D20-E6FE-409F-916B-8CE8A30F24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естиугольник 15"/>
          <p:cNvSpPr/>
          <p:nvPr/>
        </p:nvSpPr>
        <p:spPr>
          <a:xfrm>
            <a:off x="2124000" y="765000"/>
            <a:ext cx="2664000" cy="2291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словар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Шестиугольник 16"/>
          <p:cNvSpPr/>
          <p:nvPr/>
        </p:nvSpPr>
        <p:spPr>
          <a:xfrm>
            <a:off x="2050920" y="3141720"/>
            <a:ext cx="2737080" cy="22906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пространственной ориент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естиугольник 17"/>
          <p:cNvSpPr/>
          <p:nvPr/>
        </p:nvSpPr>
        <p:spPr>
          <a:xfrm>
            <a:off x="4284720" y="1989000"/>
            <a:ext cx="2663640" cy="22910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мелкой мото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естиугольник 18"/>
          <p:cNvSpPr/>
          <p:nvPr/>
        </p:nvSpPr>
        <p:spPr>
          <a:xfrm>
            <a:off x="6480000" y="765000"/>
            <a:ext cx="2664000" cy="2291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умения работать 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естиугольник 19"/>
          <p:cNvSpPr/>
          <p:nvPr/>
        </p:nvSpPr>
        <p:spPr>
          <a:xfrm>
            <a:off x="0" y="1844640"/>
            <a:ext cx="2627280" cy="22924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естиугольник 20"/>
          <p:cNvSpPr/>
          <p:nvPr/>
        </p:nvSpPr>
        <p:spPr>
          <a:xfrm>
            <a:off x="4284720" y="4365720"/>
            <a:ext cx="2663640" cy="2290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мения с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естиугольник 21"/>
          <p:cNvSpPr/>
          <p:nvPr/>
        </p:nvSpPr>
        <p:spPr>
          <a:xfrm>
            <a:off x="6480000" y="3141720"/>
            <a:ext cx="2988000" cy="22906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коммуникативных навык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Шестиугольник 23"/>
          <p:cNvSpPr/>
          <p:nvPr/>
        </p:nvSpPr>
        <p:spPr>
          <a:xfrm>
            <a:off x="4284720" y="-387360"/>
            <a:ext cx="2663640" cy="22924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умения составлять алгорит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http://www.toycommunity.com.au/productimages/EDX-392654.jpg"/>
          <p:cNvPicPr/>
          <p:nvPr/>
        </p:nvPicPr>
        <p:blipFill>
          <a:blip r:embed="rId2"/>
          <a:stretch/>
        </p:blipFill>
        <p:spPr>
          <a:xfrm>
            <a:off x="7740720" y="2492280"/>
            <a:ext cx="1573200" cy="157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www.toycommunity.com.au/productimages/EDX-392654.jpg"/>
          <p:cNvPicPr/>
          <p:nvPr/>
        </p:nvPicPr>
        <p:blipFill>
          <a:blip r:embed="rId3"/>
          <a:stretch/>
        </p:blipFill>
        <p:spPr>
          <a:xfrm>
            <a:off x="4067280" y="1268280"/>
            <a:ext cx="1501560" cy="15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toycommunity.com.au/productimages/EDX-392654.jpg"/>
          <p:cNvPicPr/>
          <p:nvPr/>
        </p:nvPicPr>
        <p:blipFill>
          <a:blip r:embed="rId4"/>
          <a:stretch/>
        </p:blipFill>
        <p:spPr>
          <a:xfrm>
            <a:off x="1116000" y="692280"/>
            <a:ext cx="1573200" cy="157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2.bp.blogspot.com/-d-zTmQ5tcVA/Vmpe6XVwt9I/AAAAAAAAGVo/Xr6uPVvyYjs/s1600/image.jpeg"/>
          <p:cNvPicPr/>
          <p:nvPr/>
        </p:nvPicPr>
        <p:blipFill>
          <a:blip r:embed="rId5"/>
          <a:stretch/>
        </p:blipFill>
        <p:spPr>
          <a:xfrm rot="21323400">
            <a:off x="320760" y="4615920"/>
            <a:ext cx="2752560" cy="1832040"/>
          </a:xfrm>
          <a:prstGeom prst="rect">
            <a:avLst/>
          </a:prstGeom>
          <a:ln w="0">
            <a:noFill/>
          </a:ln>
        </p:spPr>
      </p:pic>
      <p:sp>
        <p:nvSpPr>
          <p:cNvPr id="73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6465-8A0E-4507-8688-E1818A40A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0006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коврик для активизации 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ртикуляционного аппа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2714400" cy="371016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9645-D472-4BF5-A518-3778202B60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4143240" y="100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коврики для развития фонематического слуха и навыков звукового ана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3571920" y="2428920"/>
            <a:ext cx="285264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000840" y="4357800"/>
            <a:ext cx="280980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коврики для автоматизации звука (изолированного, в словах, в связной реч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112920" cy="21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5214960" y="4214880"/>
            <a:ext cx="294804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1285920" y="1785960"/>
            <a:ext cx="2573280" cy="351936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D931-2862-445F-A2DD-9E4A4FD38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ковр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714240" y="2000160"/>
            <a:ext cx="3843360" cy="2879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357120" y="857160"/>
            <a:ext cx="478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развития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мматического строя ре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5929200" y="2428920"/>
            <a:ext cx="30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развития связной ре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4929120" y="3571920"/>
            <a:ext cx="3870360" cy="28796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2"/>
          <p:cNvSpPr/>
          <p:nvPr/>
        </p:nvSpPr>
        <p:spPr>
          <a:xfrm>
            <a:off x="4857840" y="5715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ЮШК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БУ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http://www.toycommunity.com.au/productimages/EDX-392654.jpg"/>
          <p:cNvPicPr/>
          <p:nvPr/>
        </p:nvPicPr>
        <p:blipFill>
          <a:blip r:embed="rId4"/>
          <a:stretch/>
        </p:blipFill>
        <p:spPr>
          <a:xfrm flipH="1" rot="20482800">
            <a:off x="688320" y="1974960"/>
            <a:ext cx="879480" cy="879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www.toycommunity.com.au/productimages/EDX-392654.jpg"/>
          <p:cNvPicPr/>
          <p:nvPr/>
        </p:nvPicPr>
        <p:blipFill>
          <a:blip r:embed="rId5"/>
          <a:stretch/>
        </p:blipFill>
        <p:spPr>
          <a:xfrm rot="1116600">
            <a:off x="6978600" y="5406840"/>
            <a:ext cx="903240" cy="90324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00F0-FB6A-4A70-8C57-654EA5E4A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071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ключить на брюшке переключатель «Power: Off/On» 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Sound: Off/On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F:\Мастер класс\IMG-20190316-WA0008.jpg"/>
          <p:cNvPicPr/>
          <p:nvPr/>
        </p:nvPicPr>
        <p:blipFill>
          <a:blip r:embed="rId2"/>
          <a:stretch/>
        </p:blipFill>
        <p:spPr>
          <a:xfrm>
            <a:off x="285840" y="2714760"/>
            <a:ext cx="4500360" cy="281304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498C-6385-4539-886D-2C9197527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40120" y="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ила-была пчелка и звали ее Полосатик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https://meet-and-code.org/ru/ru/event-downloads/22/"/>
          <p:cNvPicPr/>
          <p:nvPr/>
        </p:nvPicPr>
        <p:blipFill>
          <a:blip r:embed="rId3"/>
          <a:stretch/>
        </p:blipFill>
        <p:spPr>
          <a:xfrm>
            <a:off x="664380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9"/>
          <p:cNvSpPr/>
          <p:nvPr/>
        </p:nvSpPr>
        <p:spPr>
          <a:xfrm>
            <a:off x="5186160" y="150012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егда начин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 команды «очистить» (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F:\Мастер класс\IMG-20190316-WA0013.jpg"/>
          <p:cNvPicPr/>
          <p:nvPr/>
        </p:nvPicPr>
        <p:blipFill>
          <a:blip r:embed="rId4"/>
          <a:stretch/>
        </p:blipFill>
        <p:spPr>
          <a:xfrm>
            <a:off x="5500800" y="2571840"/>
            <a:ext cx="2814480" cy="3752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на клеточка – это один шаг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стрелочка вперед или наза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F:\Мастер класс\IMG-20190316-WA0015.jpg"/>
          <p:cNvPicPr/>
          <p:nvPr/>
        </p:nvPicPr>
        <p:blipFill>
          <a:blip r:embed="rId2"/>
          <a:stretch/>
        </p:blipFill>
        <p:spPr>
          <a:xfrm>
            <a:off x="642960" y="1571760"/>
            <a:ext cx="3767040" cy="324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Мастер класс\IMG-20190316-WA0017.jpg"/>
          <p:cNvPicPr/>
          <p:nvPr/>
        </p:nvPicPr>
        <p:blipFill>
          <a:blip r:embed="rId3"/>
          <a:stretch/>
        </p:blipFill>
        <p:spPr>
          <a:xfrm>
            <a:off x="4929120" y="2857680"/>
            <a:ext cx="376704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7476-82A4-4706-AFD6-43D4388C49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1T17:43:03Z</dcterms:created>
  <dc:creator>Пользователь</dc:creator>
  <dc:description/>
  <dc:language>en-US</dc:language>
  <cp:lastModifiedBy>Пользователь</cp:lastModifiedBy>
  <dcterms:modified xsi:type="dcterms:W3CDTF">2022-11-25T17:24:57Z</dcterms:modified>
  <cp:revision>45</cp:revision>
  <dc:subject/>
  <dc:title>Слайд 1</dc:title>
</cp:coreProperties>
</file>