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3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244-4D18-4B09-89E7-601E60CC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179-53BF-460B-BB88-5531E55D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B51-F224-48A4-A751-897E2B9C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CC3-A906-4A75-A94B-63B9C500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E23-71E8-4868-AA81-55CBC73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877-2878-46D7-B3B4-7D728DA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8D8-F20E-48DE-9431-0BBFC62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0E0-095E-42BE-B784-C984E5C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996-A2D7-4379-A1FE-F6AE0FB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998-4924-4918-B315-10E7E2C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D12-2252-452F-AC50-21AA548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3CF-4BFA-4069-9FC5-B97364E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A949-717F-40D0-B588-BB43D36F26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DA0-FE13-4274-81BC-370C90F48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14760"/>
            <a:ext cx="87868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детский сад комбинированного вида №16 «Тополе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Использование мини-роботов 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ee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ot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» в процессе логопедической коррекционной деятельности с детьми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1116000" y="3357720"/>
            <a:ext cx="3238560" cy="3238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589360" y="52308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-логопед:  Лыт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ан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9C39-33E3-4C47-B8B9-79B473676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повернуть, то мы нажимаем стрелочку «направо» или «налев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ОБЯЗАТЕЛЬНО СТРЕЛОЧКУ «ВПЕРЕД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F:\Мастер класс\IMG-20190316-WA0016.jpg"/>
          <p:cNvPicPr/>
          <p:nvPr/>
        </p:nvPicPr>
        <p:blipFill>
          <a:blip r:embed="rId2"/>
          <a:stretch/>
        </p:blipFill>
        <p:spPr>
          <a:xfrm>
            <a:off x="857160" y="1714680"/>
            <a:ext cx="27003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Picture 3" descr="F:\Мастер класс\IMG-20190316-WA0016.jpg"/>
          <p:cNvPicPr/>
          <p:nvPr/>
        </p:nvPicPr>
        <p:blipFill>
          <a:blip r:embed="rId3"/>
          <a:stretch/>
        </p:blipFill>
        <p:spPr>
          <a:xfrm>
            <a:off x="5643720" y="1785960"/>
            <a:ext cx="270036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4" descr="F:\Мастер класс\IMG-20190316-WA0018.jpg"/>
          <p:cNvPicPr/>
          <p:nvPr/>
        </p:nvPicPr>
        <p:blipFill>
          <a:blip r:embed="rId4"/>
          <a:stretch/>
        </p:blipFill>
        <p:spPr>
          <a:xfrm>
            <a:off x="3357720" y="3857760"/>
            <a:ext cx="2700360" cy="24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D53-A5BF-4848-86B5-BA0B55381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вдруг Пчелка захочет задержаться на клеточке для этого есть кнопка «пауза» ( || ), продолжительность которой 1 секу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3600360" cy="42148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666E-2E03-4F8B-B981-F48207B46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отправить нашу Пчелку в путешествие нажимаем «Go» - стар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F:\Мастер класс\IMG-20190316-WA0012.jpg"/>
          <p:cNvPicPr/>
          <p:nvPr/>
        </p:nvPicPr>
        <p:blipFill>
          <a:blip r:embed="rId2"/>
          <a:stretch/>
        </p:blipFill>
        <p:spPr>
          <a:xfrm>
            <a:off x="2643120" y="171468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6AA-7FF2-42B1-9270-2B3E7CAE1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4EB-3571-4419-9E12-4499C2889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500040" y="2890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гда Пчелка приедет куда нужно, мы должны нажать на кнопку «очистить»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Мастер класс\IMG-20190316-WA0013.jpg"/>
          <p:cNvPicPr/>
          <p:nvPr/>
        </p:nvPicPr>
        <p:blipFill>
          <a:blip r:embed="rId2"/>
          <a:stretch/>
        </p:blipFill>
        <p:spPr>
          <a:xfrm>
            <a:off x="2786040" y="1643040"/>
            <a:ext cx="3600360" cy="3871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428760" y="5715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иначе наша пчелка запом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и старую программу, и н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Домик» – Уле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торый представляет собой  станцию с отдельными ячейками для подключения к ней программируемых роботов, для их зарядки от с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https://quarryvillelibrary.org/wp-content/uploads/sites/8/2016/05/bee-bots-768x511.jpg"/>
          <p:cNvPicPr/>
          <p:nvPr/>
        </p:nvPicPr>
        <p:blipFill>
          <a:blip r:embed="rId2"/>
          <a:stretch/>
        </p:blipFill>
        <p:spPr>
          <a:xfrm>
            <a:off x="928800" y="1990800"/>
            <a:ext cx="7315200" cy="4867200"/>
          </a:xfrm>
          <a:prstGeom prst="rect">
            <a:avLst/>
          </a:prstGeom>
          <a:ln w="0">
            <a:noFill/>
          </a:ln>
        </p:spPr>
      </p:pic>
      <p:sp>
        <p:nvSpPr>
          <p:cNvPr id="14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AA7-41DA-4345-8ECE-574971B96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24000" y="615960"/>
            <a:ext cx="723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6227640" y="4437000"/>
            <a:ext cx="2298960" cy="229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500040" y="18651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468360" y="333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ь мастер-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казать возможности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педической коррекционной деятельности с детьми старшего дошкольного возраста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средством использования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ини-роботов Bee-bot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251240" y="44280"/>
            <a:ext cx="6415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68360" y="220500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Демонстрация мастерства использования мини-роботов в  логопедической коррекционной деятельности с детьми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оздание условий для применения новых знаний (практическая работа по программированию мини-робо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Рефлексия получ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019-17BB-466B-B0B9-8D2B8E7AE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900000" y="357120"/>
            <a:ext cx="78868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ини-робот Bee-Bot</a:t>
            </a:r>
            <a:r>
              <a:rPr b="0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 - это программируемый робот, предназначенный для использования детьми от 3 до 7 л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помощью данного устройства дети могут с легкостью изучать программирование, задавая мини-роботу план действий и разрабатывая для него различные задания (приключен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4788000" y="2997360"/>
            <a:ext cx="3671640" cy="36716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9D11-6905-4BC6-8FB9-27D343B59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15"/>
          <p:cNvSpPr/>
          <p:nvPr/>
        </p:nvSpPr>
        <p:spPr>
          <a:xfrm>
            <a:off x="2124000" y="765000"/>
            <a:ext cx="2664000" cy="2291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16"/>
          <p:cNvSpPr/>
          <p:nvPr/>
        </p:nvSpPr>
        <p:spPr>
          <a:xfrm>
            <a:off x="2050920" y="3141720"/>
            <a:ext cx="2737080" cy="22906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пространственной ориент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17"/>
          <p:cNvSpPr/>
          <p:nvPr/>
        </p:nvSpPr>
        <p:spPr>
          <a:xfrm>
            <a:off x="4284720" y="1989000"/>
            <a:ext cx="2663640" cy="22910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мелкой мото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18"/>
          <p:cNvSpPr/>
          <p:nvPr/>
        </p:nvSpPr>
        <p:spPr>
          <a:xfrm>
            <a:off x="6480000" y="765000"/>
            <a:ext cx="2664000" cy="2291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умения работать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19"/>
          <p:cNvSpPr/>
          <p:nvPr/>
        </p:nvSpPr>
        <p:spPr>
          <a:xfrm>
            <a:off x="0" y="1844640"/>
            <a:ext cx="2627280" cy="22924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20"/>
          <p:cNvSpPr/>
          <p:nvPr/>
        </p:nvSpPr>
        <p:spPr>
          <a:xfrm>
            <a:off x="4284720" y="4365720"/>
            <a:ext cx="2663640" cy="2290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ения 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21"/>
          <p:cNvSpPr/>
          <p:nvPr/>
        </p:nvSpPr>
        <p:spPr>
          <a:xfrm>
            <a:off x="6480000" y="3141720"/>
            <a:ext cx="2988000" cy="22906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коммуникативных навы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23"/>
          <p:cNvSpPr/>
          <p:nvPr/>
        </p:nvSpPr>
        <p:spPr>
          <a:xfrm>
            <a:off x="4284720" y="-387360"/>
            <a:ext cx="2663640" cy="22924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9fc8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е умения составлять алгорит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www.toycommunity.com.au/productimages/EDX-392654.jpg"/>
          <p:cNvPicPr/>
          <p:nvPr/>
        </p:nvPicPr>
        <p:blipFill>
          <a:blip r:embed="rId2"/>
          <a:stretch/>
        </p:blipFill>
        <p:spPr>
          <a:xfrm>
            <a:off x="7740720" y="249228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toycommunity.com.au/productimages/EDX-392654.jpg"/>
          <p:cNvPicPr/>
          <p:nvPr/>
        </p:nvPicPr>
        <p:blipFill>
          <a:blip r:embed="rId3"/>
          <a:stretch/>
        </p:blipFill>
        <p:spPr>
          <a:xfrm>
            <a:off x="4067280" y="1268280"/>
            <a:ext cx="1501560" cy="15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toycommunity.com.au/productimages/EDX-392654.jpg"/>
          <p:cNvPicPr/>
          <p:nvPr/>
        </p:nvPicPr>
        <p:blipFill>
          <a:blip r:embed="rId4"/>
          <a:stretch/>
        </p:blipFill>
        <p:spPr>
          <a:xfrm>
            <a:off x="1116000" y="69228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2.bp.blogspot.com/-d-zTmQ5tcVA/Vmpe6XVwt9I/AAAAAAAAGVo/Xr6uPVvyYjs/s1600/image.jpeg"/>
          <p:cNvPicPr/>
          <p:nvPr/>
        </p:nvPicPr>
        <p:blipFill>
          <a:blip r:embed="rId5"/>
          <a:stretch/>
        </p:blipFill>
        <p:spPr>
          <a:xfrm rot="21323400">
            <a:off x="320760" y="4615920"/>
            <a:ext cx="2752560" cy="183204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AA2-C1C2-438D-BE44-F0DFF4423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0006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 для активизации 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тикуляционного ап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2714400" cy="371016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C40-27A0-40EA-ABDF-098CEB1FC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4143240" y="1000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 для развития фонематического слуха и навыков звукового 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3571920" y="2428920"/>
            <a:ext cx="28526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000840" y="4357800"/>
            <a:ext cx="28098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 для автоматизации звука (изолированного, в словах, в связной реч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11292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5214960" y="4214880"/>
            <a:ext cx="294804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1285920" y="1785960"/>
            <a:ext cx="2573280" cy="351936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B4E-8EA6-4714-BDF0-F13DB0115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ков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714240" y="2000160"/>
            <a:ext cx="3843360" cy="2879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357120" y="85716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развития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мматического строя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5929200" y="242892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развития связной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929120" y="3571920"/>
            <a:ext cx="3870360" cy="2879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/>
          <p:cNvSpPr/>
          <p:nvPr/>
        </p:nvSpPr>
        <p:spPr>
          <a:xfrm>
            <a:off x="4857840" y="5715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ЮШК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БУ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http://www.toycommunity.com.au/productimages/EDX-392654.jpg"/>
          <p:cNvPicPr/>
          <p:nvPr/>
        </p:nvPicPr>
        <p:blipFill>
          <a:blip r:embed="rId4"/>
          <a:stretch/>
        </p:blipFill>
        <p:spPr>
          <a:xfrm flipH="1" rot="20482800">
            <a:off x="688320" y="1974960"/>
            <a:ext cx="879480" cy="87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toycommunity.com.au/productimages/EDX-392654.jpg"/>
          <p:cNvPicPr/>
          <p:nvPr/>
        </p:nvPicPr>
        <p:blipFill>
          <a:blip r:embed="rId5"/>
          <a:stretch/>
        </p:blipFill>
        <p:spPr>
          <a:xfrm rot="1116600">
            <a:off x="6978600" y="5406840"/>
            <a:ext cx="903240" cy="90324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2F08-D6AC-4BF5-88F6-C5007B23E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ключить на брюшке переключатель «Power: Off/On» 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Sound: Off/On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Мастер класс\IMG-20190316-WA0008.jpg"/>
          <p:cNvPicPr/>
          <p:nvPr/>
        </p:nvPicPr>
        <p:blipFill>
          <a:blip r:embed="rId2"/>
          <a:stretch/>
        </p:blipFill>
        <p:spPr>
          <a:xfrm>
            <a:off x="285840" y="2714760"/>
            <a:ext cx="4500360" cy="281304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BAE-890B-46DA-ACD8-5B3B33980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40120" y="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ила-была пчелка и звали ее Полосатик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s://meet-and-code.org/ru/ru/event-downloads/22/"/>
          <p:cNvPicPr/>
          <p:nvPr/>
        </p:nvPicPr>
        <p:blipFill>
          <a:blip r:embed="rId3"/>
          <a:stretch/>
        </p:blipFill>
        <p:spPr>
          <a:xfrm>
            <a:off x="664380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9"/>
          <p:cNvSpPr/>
          <p:nvPr/>
        </p:nvSpPr>
        <p:spPr>
          <a:xfrm>
            <a:off x="5186160" y="150012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гда начина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команды «очистить» 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F:\Мастер класс\IMG-20190316-WA0013.jpg"/>
          <p:cNvPicPr/>
          <p:nvPr/>
        </p:nvPicPr>
        <p:blipFill>
          <a:blip r:embed="rId4"/>
          <a:stretch/>
        </p:blipFill>
        <p:spPr>
          <a:xfrm>
            <a:off x="5500800" y="2571840"/>
            <a:ext cx="2814480" cy="3752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ttps://pp.userapi.com/c847017/v847017809/6bf87/6KIAUA48p9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500040" y="573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а клеточка – это один шаг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трелочка вперед или наза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:\Мастер класс\IMG-20190316-WA0015.jpg"/>
          <p:cNvPicPr/>
          <p:nvPr/>
        </p:nvPicPr>
        <p:blipFill>
          <a:blip r:embed="rId2"/>
          <a:stretch/>
        </p:blipFill>
        <p:spPr>
          <a:xfrm>
            <a:off x="642960" y="1571760"/>
            <a:ext cx="3767040" cy="32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Мастер класс\IMG-20190316-WA0017.jpg"/>
          <p:cNvPicPr/>
          <p:nvPr/>
        </p:nvPicPr>
        <p:blipFill>
          <a:blip r:embed="rId3"/>
          <a:stretch/>
        </p:blipFill>
        <p:spPr>
          <a:xfrm>
            <a:off x="4929120" y="2857680"/>
            <a:ext cx="376704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FA10-D199-495B-BB78-3DC340ACD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1T17:43:03Z</dcterms:created>
  <dc:creator>Пользователь</dc:creator>
  <dc:description/>
  <dc:language>en-US</dc:language>
  <cp:lastModifiedBy>Пользователь</cp:lastModifiedBy>
  <dcterms:modified xsi:type="dcterms:W3CDTF">2022-11-25T17:24:57Z</dcterms:modified>
  <cp:revision>45</cp:revision>
  <dc:subject/>
  <dc:title>Слайд 1</dc:title>
</cp:coreProperties>
</file>