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wind.wav" ContentType="audio/x-wav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3F4-3300-43C7-8C51-072B39F3F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C9C9-00D6-4602-BEF9-B3E7DD27FB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A39D-5164-4324-8C45-1128F2735F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DA87-42C1-443D-95AC-7241DB6D7F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F34-DB6D-43C0-988C-748D5C53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C4A-9394-4A2D-A582-56304824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1BB-9CAE-420D-8A90-879D19DB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F1-DFFF-4D3E-8994-E31704BF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50A3-1196-4E78-B943-70A5D0F3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54B5-5C90-49BA-94AB-356F5D99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B262-9238-495C-825C-B3EA5E5E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AD0-4ADA-4D2D-BCC5-116E7FE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C86E-377C-4717-BFAD-2FCE4A2B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06A7-FD2E-445C-9639-523C043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FC5-6265-4B8F-BAD0-4EAC80D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2AC-E051-4065-97F6-FBCEA9E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B2CD-B61E-4657-BF6E-E72D1E8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631A-B84A-458E-9584-583BE73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47B6-1790-46B7-B1BC-6CA4BB35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505-E270-4327-9F03-B04F92EB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C20-14D6-4539-B40D-CF763161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E437-51EC-4732-B75A-2778D42B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8679-036A-45FA-80ED-ABA6DAB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B8AC-58AD-4CA3-BF07-F8A7E40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295B-CC24-44B0-9B1B-8F615942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ACAE-DB11-4328-8AFF-C33AC07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765-76CA-4A19-9D15-192EC21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EC0C-5260-4BAB-9E10-83CBB52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582F-D88D-4604-B795-F18E630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4F0B-0607-4167-A4A5-51F75A4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CA9D-81E7-41D8-BB3A-C39B96D7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4AD2-C533-4565-A0FB-344D1134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3943-2C37-405E-8A62-2F78F9F5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7431-44D1-4466-86A2-B6A4C7B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E173-BB83-49F3-948D-0E3E2F82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A294-8A03-4C0C-A773-E5CCE500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9F1C-451D-4063-98D6-4E38AB1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7CF-6AD4-471C-9098-3F220D5F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A10E-790C-4C76-A66A-C0B16CD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32CB-18A0-4D4A-B55B-C2E27B5B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318A-217C-4EE6-9791-893AAD10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B850-522C-4F48-B3D3-89648AA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CD29-B525-4457-B747-4DA8142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4475-0CBB-4956-9355-C007513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CB59-048B-4661-B597-4A81678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266E-B073-4AA3-A737-3C363C90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7890-C471-43CD-8114-18D68F92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055-382A-466B-9179-4B801BF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552-9DDB-4A10-BAD7-09C25AA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305-ED47-4ADD-A840-A5CC83E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F4-162C-47E6-8292-D1EC94C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6E4-7EE8-4A94-9849-B0A27E76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43F-4A06-47D3-B1B2-CA8A1536B3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B56-1BAE-43A6-98B5-A725F4C5A3A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96F-6B5C-4F4E-836A-9D1DD5978F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860-35A4-41DE-8E98-8B4798E692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studopedia.ru/18_229_ochki-kak-opticheskiy-instrument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89040" y="-10266480"/>
            <a:ext cx="7772400" cy="12479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240" y="981000"/>
            <a:ext cx="7086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Тема  открытого урока теоретического обуч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«Назначение, классификация, устройство  и принцип работы центробежного насоса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подаватель: 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Шестак Лариса Николае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928800" y="6429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 центробежных нас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http://vodakanazer.ru/wp-content/uploads/2016/08/2-30.jpg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http://recn.ru/images/recn/2014/11/56.jpg"/>
          <p:cNvPicPr/>
          <p:nvPr/>
        </p:nvPicPr>
        <p:blipFill>
          <a:blip r:embed="rId1"/>
          <a:stretch/>
        </p:blipFill>
        <p:spPr>
          <a:xfrm>
            <a:off x="1214280" y="857160"/>
            <a:ext cx="7286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http://moyaskvazhina.ru/wp-content/uploads/2014/11/Ustrojstvo-nasosa.jpg"/>
          <p:cNvPicPr/>
          <p:nvPr/>
        </p:nvPicPr>
        <p:blipFill>
          <a:blip r:embed="rId1"/>
          <a:stretch/>
        </p:blipFill>
        <p:spPr>
          <a:xfrm>
            <a:off x="28584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179280" y="594720"/>
            <a:ext cx="8785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нцип работы центробежных насо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yriad"/>
                <a:ea typeface="Times New Roman"/>
              </a:rPr>
              <a:t>Принцип действия центробежных насосов целиком построен на законах физики. Работа происходит при возникновении центробежной силы, появление которой обусловлено действием лопастей колеса на жидкость.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http://remstrdom.ru/foto/kakoy-nasos-luchshe-dlya-kolodtsa-kak-podobrat-luchshiy-variant-10.jpg"/>
          <p:cNvPicPr/>
          <p:nvPr/>
        </p:nvPicPr>
        <p:blipFill>
          <a:blip r:embed="rId1"/>
          <a:stretch/>
        </p:blipFill>
        <p:spPr>
          <a:xfrm>
            <a:off x="642960" y="285840"/>
            <a:ext cx="7786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857160" y="1275840"/>
            <a:ext cx="785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центробежных нас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 надежности, высокой производительности и большом разнообразии моделей для реализации задач различного уровня сл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ки центробежных нас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аются преимущественно в выходе из строя в том случае, если пропускаемый материал слишком загрязнен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468360" y="128304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целью повышения надежности водоснабжения устройств котельной обычно используется не менее двух параллельно соединенных насосов с одинаковыми характеристиками, из которых один насос является рабочим, а второй резервны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«Правил устройства и безопасной эксплуатации паровых и водогрейных котлов» к питательным устройст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500040" y="357120"/>
            <a:ext cx="82152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 всасывающем патрубк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встроен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льт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не позволяющий мусору и взвесям попадать в насосный корпу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задви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 напорном трубопрово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танавливается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тный клапан и  задви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обеспечивая сразу несколько функций – это и сам запуск процесса, и его приостановка, и кроме того контролирующая функция за мощностью напора, который создается за счет работы центробежного нас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642960" y="1410120"/>
            <a:ext cx="814392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inherit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Манометр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в данном случае измеряет напор жидкости, созданный центробежным насосом. Его расположение находит свое место на насосном напорном патрубке и за задвиж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inherit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Обратный клапан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, который защищает центробежный насос </a:t>
            </a:r>
            <a:r>
              <a:rPr b="1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от ударов гидравлики.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Расположение обратного  клапана на напорном патрубке за задвижкой для обеспечения защиты нас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http://ok-t.ru/studopediaru/baza2/2986177064912.files/image147.jpg"/>
          <p:cNvPicPr/>
          <p:nvPr/>
        </p:nvPicPr>
        <p:blipFill>
          <a:blip r:embed="rId1"/>
          <a:stretch/>
        </p:blipFill>
        <p:spPr>
          <a:xfrm>
            <a:off x="357120" y="1989000"/>
            <a:ext cx="8358120" cy="4608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684360" y="247320"/>
            <a:ext cx="81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ная устан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насос; 2 – электродвигатель; 3 – фундамент; 4 – пружинный амортизатор; 5 – гибкая вставка; 6 - переходный патрубок; 7 – обратный клапан; 8 – задвижка; 9 – манометр; 10 – байпасный трубопро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3" descr=""/>
          <p:cNvPicPr/>
          <p:nvPr/>
        </p:nvPicPr>
        <p:blipFill>
          <a:blip r:embed="rId1"/>
          <a:stretch/>
        </p:blipFill>
        <p:spPr>
          <a:xfrm>
            <a:off x="901800" y="304920"/>
            <a:ext cx="7632720" cy="2114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Образовательная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: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зучить назначение,  устройство и принцип работы центробежного насо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Развивающая: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Развивать способность сравнивать и анализировать; формировать и развивать познавательный интерес к предмету, к самостоятель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onstantia"/>
              </a:rPr>
              <a:t>Воспитательная: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Воспитать умение работать самостоятельно, в группах и в коллективах, выявить и показать чёткую связь предмета «Устройство и эксплуатация котельных установок»  с другими предметами,   прививать обучающимся любовь к профессии, развивать самостоятельность и исполнительность; формировать ответственность за порученное дел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500040" y="91332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сосы работают одновременно, то давление воды за насосами остается прежним, а подача воды увеличивается и становится равной сумме подач каждого из нас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ирование подачи насосов производится задвижками, установленными на напорных участках трубопроводов, а при наличии обводной линии (байпаса) перепуском части воды из напорного трубопровода во всасывающий трубопровод.</a:t>
            </a:r>
            <a:r>
              <a:rPr b="0" lang="ru-RU" sz="2800" spc="-1" strike="noStrike">
                <a:solidFill>
                  <a:srgbClr val="000000"/>
                </a:solidFill>
                <a:latin typeface="inherit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7200" y="2066760"/>
            <a:ext cx="83088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ид ур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Урок  демонстрационн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Материально- техническое оснащение урок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омпьютер, плакаты, видео фильм «Устройство и принцип работы  центробежного насос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4996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Насос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шина для создания потока жидкой  среды и повышения давления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струкции насосов встречающиеся в котельных: центробежные (лопастные), поршневые (плунжерные), струйные, шестеренчатые (винтовые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ыми характеристиками насосов явля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одача (объем воды, подаваемый насосом в единицу времени) в 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 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/ 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пор (разность давлений после насоса и до него) в м вод.ст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опустимая температура воды на входе в насос, при которой вода в насосе не вскипает, в 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 flipH="1">
            <a:off x="467640" y="551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Arial"/>
              </a:rPr>
              <a:t>Центробежный  консольный насос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4" descr="http://tetnsk.ru/wp-content/uploads/2016/11/42526_img-800x800.jpg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8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500040" y="317520"/>
            <a:ext cx="8309160" cy="858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avr32.ru/uploads/posts/2018-01/1515870316_n1.jpg"/>
          <p:cNvPicPr/>
          <p:nvPr/>
        </p:nvPicPr>
        <p:blipFill>
          <a:blip r:embed="rId2"/>
          <a:stretch/>
        </p:blipFill>
        <p:spPr>
          <a:xfrm>
            <a:off x="500040" y="1071720"/>
            <a:ext cx="8072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http://ok-t.ru/studopediaru/baza2/2986177064912.files/image149.jpg"/>
          <p:cNvPicPr/>
          <p:nvPr/>
        </p:nvPicPr>
        <p:blipFill>
          <a:blip r:embed="rId1"/>
          <a:stretch/>
        </p:blipFill>
        <p:spPr>
          <a:xfrm>
            <a:off x="611280" y="1643040"/>
            <a:ext cx="8103960" cy="5214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611280" y="-936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ы консо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крышка корпуса; 2 – корпус; 3 – уплотняющее кольц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– рабочее колесо; 5 – сальниковая набивка; 6 – защитная втулка; 7 – крышка сальника; 8 – вал; 9 – шарикоподшипник; 10 – электродвиг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642960" y="1278360"/>
            <a:ext cx="792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центробежных насосов в котельных широко используются одноступенчатые 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  <a:hlinkClick r:id="rId1"/>
              </a:rPr>
              <a:t>консо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осы типа К (КМ), одноступенчатые насосы с двухсторонним всасыванием типа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ольные насосы предназначены для перекачивания чистой неагрессивной воды с температурой до 85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в количестве от 5 до 350 м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 этом создаваемый ими напор составляет 20 – 80 м вод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826920" y="92520"/>
            <a:ext cx="777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ка консольного насоса обозначается тремя циф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например, К 50 – 32 – 1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ервая циф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ет диаметр всасывающего патрубка в м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торая циф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ывает на диаметр нагнетательного патрубка в м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реть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на диаметр рабочего колеса, 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23:54:30Z</dcterms:created>
  <dc:creator>Roy</dc:creator>
  <dc:description/>
  <dc:language>en-US</dc:language>
  <cp:lastModifiedBy>Евгений Евгений</cp:lastModifiedBy>
  <dcterms:modified xsi:type="dcterms:W3CDTF">2022-11-25T09:45:19Z</dcterms:modified>
  <cp:revision>102</cp:revision>
  <dc:subject/>
  <dc:title>ФКП образовательное учреждение № 324 г. Уссурийск         ФКП образовательное учреждение № 324 г. Уссурийск   Урок теоретического  обучения            </dc:title>
</cp:coreProperties>
</file>