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wind.wav" ContentType="audio/x-wav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D335-EB17-4395-9918-657079B244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5F58-A453-492A-A337-C2AF821378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6784-092F-4F22-A44C-310B81FBB1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9B62-CC8E-4970-B4C8-E2EE6A009A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A7E-12B6-42B1-9C61-76FE5757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9C4-2470-4B1E-8BA2-8383D89A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438-EAF3-40EC-8482-EF54217C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B98-D3A7-4581-8E9F-499DDC80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8CA3-D5D9-472E-8237-D23FA8CC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254A-4577-4535-A9A8-658B38F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8FFA-1CB2-4B4A-8A50-ABA46E9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E991-0534-4353-9A64-BA46D29D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70A-3A1C-4401-A542-CA1E8D49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AD36-C4A2-4284-B922-E5D0B76A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379-9EDB-42B6-A24B-F70C375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150-B4A8-4A84-A1CD-4B8AC7EF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A1BF-ACD2-4FA8-877F-F89B3A7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7B55-8BFA-46B2-BE12-D43ECBA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B3F3-AD73-422F-BEBE-E3D22C32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6308-6AC2-4995-A555-A931F2E2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0073-52E4-4ADD-8053-6C5C4914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5789-90F9-4EF6-AFEE-AEA25ED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236A-BF75-438B-ABA5-DE1AEA80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8DEC-68EE-46E6-83D1-3C0BD821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4A59-C0E5-48D7-A9E6-9B05FDF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9064-0624-4CB6-B9A2-B94CB92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639-E28D-4216-BC8B-A2B5B5F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FB47-80B9-4A23-A261-12726EF5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786F-AC5C-4D4C-ABBC-3CD5954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3EF0-6219-4A75-B8DB-8038C5D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70C4-49D8-4767-97CC-EF5113B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6C6C-4B0F-42EE-9B62-3A18BFB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6C61-72E5-4CB1-A2F5-9D5E979B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4B2A-6EBB-4351-81E9-27BF6D88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0D61-D749-4486-89A8-29E396D6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CBC6-85CB-4903-8142-A1084230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DB41-8A84-45CB-9709-171975F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4BC-B1AE-4CB6-8C9B-B2ACBCDB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FF18-D1CA-4844-A4DC-295FA3A2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2C44-74B7-4EF4-9B82-321FDA36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538B-475B-43D4-BDEF-BCEBD318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97FE-92E9-4170-BE26-FEFC300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1B19-9DF1-4EA1-8E13-EC3E677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90C9-55EE-498E-9D4B-DA74CB8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BA5F-E055-440F-AE0A-A11E0810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F566-3A6B-442C-AFB6-ACB644AC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B812-410B-4112-9263-749ABA19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BBB-EB1E-417A-BA75-B113ECD7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5EF-A937-4EAA-94A4-E311E945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C17-C746-4D6F-B3CC-71520BC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FC7-AF11-4E4B-B839-3E1D866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2CD-85F0-41D0-B446-1ADE56D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ADB5-9758-4446-84C3-944E13FB54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0FCE-FAC8-49FC-8750-2717AA9FF7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B3B7-4B37-4ED6-8E8D-C3EAE6EEDAC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BB0-274F-4B4F-B8E7-25CE8DFD6C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studopedia.ru/18_229_ochki-kak-opticheskiy-instrument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9040" y="-10266480"/>
            <a:ext cx="7772400" cy="12479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240" y="981000"/>
            <a:ext cx="7086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Тема  открытого урока теоретического обуч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«Назначение, классификация, устройство  и принцип работы центробежного насоса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подаватель: 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Шестак Лариса Николае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928800" y="6429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 центробежных нас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http://vodakanazer.ru/wp-content/uploads/2016/08/2-30.jpg"/>
          <p:cNvPicPr/>
          <p:nvPr/>
        </p:nvPicPr>
        <p:blipFill>
          <a:blip r:embed="rId1"/>
          <a:stretch/>
        </p:blipFill>
        <p:spPr>
          <a:xfrm>
            <a:off x="785880" y="1285920"/>
            <a:ext cx="7858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http://recn.ru/images/recn/2014/11/56.jpg"/>
          <p:cNvPicPr/>
          <p:nvPr/>
        </p:nvPicPr>
        <p:blipFill>
          <a:blip r:embed="rId1"/>
          <a:stretch/>
        </p:blipFill>
        <p:spPr>
          <a:xfrm>
            <a:off x="1214280" y="857160"/>
            <a:ext cx="7286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http://moyaskvazhina.ru/wp-content/uploads/2014/11/Ustrojstvo-nasosa.jpg"/>
          <p:cNvPicPr/>
          <p:nvPr/>
        </p:nvPicPr>
        <p:blipFill>
          <a:blip r:embed="rId1"/>
          <a:stretch/>
        </p:blipFill>
        <p:spPr>
          <a:xfrm>
            <a:off x="28584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179280" y="594720"/>
            <a:ext cx="8785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нцип работы центробежных насо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yriad"/>
                <a:ea typeface="Times New Roman"/>
              </a:rPr>
              <a:t>Принцип действия центробежных насосов целиком построен на законах физики. Работа происходит при возникновении центробежной силы, появление которой обусловлено действием лопастей колеса на жидкость.</a:t>
            </a: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http://remstrdom.ru/foto/kakoy-nasos-luchshe-dlya-kolodtsa-kak-podobrat-luchshiy-variant-10.jpg"/>
          <p:cNvPicPr/>
          <p:nvPr/>
        </p:nvPicPr>
        <p:blipFill>
          <a:blip r:embed="rId1"/>
          <a:stretch/>
        </p:blipFill>
        <p:spPr>
          <a:xfrm>
            <a:off x="642960" y="285840"/>
            <a:ext cx="7786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857160" y="1275840"/>
            <a:ext cx="7858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имущества центробежных нас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 надежности, высокой производительности и большом разнообразии моделей для реализации задач различного уровня сл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статки центробежных нас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аются преимущественно в выходе из строя в том случае, если пропускаемый материал слишком загрязнен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468360" y="128304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целью повышения надежности водоснабжения устройств котельной обычно используется не менее двух параллельно соединенных насосов с одинаковыми характеристиками, из которых один насос является рабочим, а второй резервны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«Правил устройства и безопасной эксплуатации паровых и водогрейных котлов» к питательным устройст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500040" y="357120"/>
            <a:ext cx="82152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 всасывающем патрубк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встроен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льт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не позволяющий мусору и взвесям попадать в насосный корпу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задви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 напорном трубопрово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танавливается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тный клапан и  задви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обеспечивая сразу несколько функций – это и сам запуск процесса, и его приостановка, и кроме того контролирующая функция за мощностью напора, который создается за счет работы центробежного нас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642960" y="1410120"/>
            <a:ext cx="814392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inherit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Манометр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 в данном случае измеряет напор жидкости, созданный центробежным насосом. Его расположение находит свое место на насосном напорном патрубке и за задвиж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inherit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Обратный клапан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, который защищает центробежный насос </a:t>
            </a:r>
            <a:r>
              <a:rPr b="1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от ударов гидравлики.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 Расположение обратного  клапана на напорном патрубке за задвижкой для обеспечения защиты нас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http://ok-t.ru/studopediaru/baza2/2986177064912.files/image147.jpg"/>
          <p:cNvPicPr/>
          <p:nvPr/>
        </p:nvPicPr>
        <p:blipFill>
          <a:blip r:embed="rId1"/>
          <a:stretch/>
        </p:blipFill>
        <p:spPr>
          <a:xfrm>
            <a:off x="357120" y="1989000"/>
            <a:ext cx="8358120" cy="4608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684360" y="247320"/>
            <a:ext cx="810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осная устан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насос; 2 – электродвигатель; 3 – фундамент; 4 – пружинный амортизатор; 5 – гибкая вставка; 6 - переходный патрубок; 7 – обратный клапан; 8 – задвижка; 9 – манометр; 10 – байпасный трубопро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3" descr=""/>
          <p:cNvPicPr/>
          <p:nvPr/>
        </p:nvPicPr>
        <p:blipFill>
          <a:blip r:embed="rId1"/>
          <a:stretch/>
        </p:blipFill>
        <p:spPr>
          <a:xfrm>
            <a:off x="901800" y="304920"/>
            <a:ext cx="7632720" cy="2114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Образовательная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: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зучить назначение,  устройство и принцип работы центробежного насо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Развивающая: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Развивать способность сравнивать и анализировать; формировать и развивать познавательный интерес к предмету, к самостоятель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Воспитательная: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Воспитать умение работать самостоятельно, в группах и в коллективах, выявить и показать чёткую связь предмета «Устройство и эксплуатация котельных установок»  с другими предметами,   прививать обучающимся любовь к профессии, развивать самостоятельность и исполнительность; формировать ответственность за порученное дел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500040" y="91332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сосы работают одновременно, то давление воды за насосами остается прежним, а подача воды увеличивается и становится равной сумме подач каждого из нас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ирование подачи насосов производится задвижками, установленными на напорных участках трубопроводов, а при наличии обводной линии (байпаса) перепуском части воды из напорного трубопровода во всасывающий трубопровод.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7200" y="2066760"/>
            <a:ext cx="83088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ид ур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Урок  демонстрационн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Материально- техническое оснащение урок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омпьютер, плакаты, видео фильм «Устройство и принцип работы  центробежного насос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4996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Насос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шина для создания потока жидкой  среды и повышения давления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струкции насосов встречающиеся в котельных: центробежные (лопастные), поршневые (плунжерные), струйные, шестеренчатые (винтовы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ыми характеристиками насосов явля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одача (объем воды, подаваемый насосом в единицу времени) в 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 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/ 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апор (разность давлений после насоса и до него) в м вод.ст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опустимая температура воды на входе в насос, при которой вода в насосе не вскипает, в 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2"/>
          <p:cNvSpPr/>
          <p:nvPr/>
        </p:nvSpPr>
        <p:spPr>
          <a:xfrm flipH="1">
            <a:off x="467640" y="551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Arial"/>
              </a:rPr>
              <a:t>Центробежный  консольный насос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4" descr="http://tetnsk.ru/wp-content/uploads/2016/11/42526_img-800x800.jpg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8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500040" y="317520"/>
            <a:ext cx="8309160" cy="858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avr32.ru/uploads/posts/2018-01/1515870316_n1.jpg"/>
          <p:cNvPicPr/>
          <p:nvPr/>
        </p:nvPicPr>
        <p:blipFill>
          <a:blip r:embed="rId2"/>
          <a:stretch/>
        </p:blipFill>
        <p:spPr>
          <a:xfrm>
            <a:off x="500040" y="1071720"/>
            <a:ext cx="8072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http://ok-t.ru/studopediaru/baza2/2986177064912.files/image149.jpg"/>
          <p:cNvPicPr/>
          <p:nvPr/>
        </p:nvPicPr>
        <p:blipFill>
          <a:blip r:embed="rId1"/>
          <a:stretch/>
        </p:blipFill>
        <p:spPr>
          <a:xfrm>
            <a:off x="611280" y="1643040"/>
            <a:ext cx="8103960" cy="5214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611280" y="-936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осы консо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крышка корпуса; 2 – корпус; 3 – уплотняющее кольц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– рабочее колесо; 5 – сальниковая набивка; 6 – защитная втулка; 7 – крышка сальника; 8 – вал; 9 – шарикоподшипник; 10 – электродвиг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642960" y="1278360"/>
            <a:ext cx="792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центробежных насосов в котельных широко используются одноступенчатые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1"/>
              </a:rPr>
              <a:t>консоль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осы типа К (КМ), одноступенчатые насосы с двухсторонним всасыванием типа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ольные насосы предназначены для перекачивания чистой неагрессивной воды с температурой до 85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в количестве от 5 до 350 м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и этом создаваемый ими напор составляет 20 – 80 м вод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826920" y="92520"/>
            <a:ext cx="777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ка консольного насоса обозначается тремя циф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например, К 50 – 32 – 1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ервая циф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ает диаметр всасывающего патрубка в м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торая циф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ывает на диаметр нагнетательного патрубка в м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треть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на диаметр рабочего колеса,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23:54:30Z</dcterms:created>
  <dc:creator>Roy</dc:creator>
  <dc:description/>
  <dc:language>en-US</dc:language>
  <cp:lastModifiedBy>Евгений Евгений</cp:lastModifiedBy>
  <dcterms:modified xsi:type="dcterms:W3CDTF">2022-11-25T09:45:19Z</dcterms:modified>
  <cp:revision>102</cp:revision>
  <dc:subject/>
  <dc:title>ФКП образовательное учреждение № 324 г. Уссурийск         ФКП образовательное учреждение № 324 г. Уссурийск   Урок теоретического  обучения            </dc:title>
</cp:coreProperties>
</file>