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25.png" ContentType="image/png"/>
  <Override PartName="/ppt/media/image18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6.png" ContentType="image/png"/>
  <Override PartName="/ppt/media/image34.jpeg" ContentType="image/jpeg"/>
  <Override PartName="/ppt/media/image7.png" ContentType="image/png"/>
  <Override PartName="/ppt/media/image4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15A-63E1-4B7C-A7BF-E6BABB1E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2B1-2E17-4208-878B-B6311128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72C-AB57-48AF-A74B-4A04E1C6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FFC-43DE-46CD-8AA4-EB875F29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7220-0E6F-4B1C-B1E5-F21923AE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E20E-188C-43A6-87AE-F569068E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0C5D-A571-4579-AF90-A9EA65EF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DADD-8AF5-4B56-A46F-78542239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9787-722E-4F23-9982-D2BB437E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A7AA-9849-4BA1-85FE-1BE98230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78DB-31F8-47DE-9A29-8733CCD4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686-5DF9-47E6-892E-0283FA2F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C345-3E45-4179-92E6-5401D10C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A162-2B04-4D17-9F61-D9E07232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D530-BBF9-4CD6-AEA9-37FABB3C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13B5-5377-4961-B959-D61A25C1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B994-2FE5-4353-8D31-0AC08698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E71-6CF2-4763-8C70-189BF47E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DA4-45FB-4F14-A398-E4B5761A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FAD-6A5B-4632-84EC-34CC7140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D80-9784-4830-BDCB-72A2BE84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B16-6528-4FD9-B7CF-0327B2EA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A59-D434-4836-9255-02A47405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72E-544E-42CF-A25F-2B130817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5AAB-A1FF-4EC5-AAD4-8E67B3E05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F8DD-1E49-44CD-94B7-30DE1CB0A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7800" y="55627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оспитатель: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арымбаева А.С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3640" y="260280"/>
            <a:ext cx="8420040" cy="18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Arial"/>
              </a:rPr>
              <a:t>Семь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Arial"/>
              </a:rPr>
              <a:t>и семейные ценности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семья.jpg"/>
          <p:cNvPicPr/>
          <p:nvPr/>
        </p:nvPicPr>
        <p:blipFill>
          <a:blip r:embed="rId1"/>
          <a:stretch/>
        </p:blipFill>
        <p:spPr>
          <a:xfrm>
            <a:off x="4952880" y="2084400"/>
            <a:ext cx="3848400" cy="2611440"/>
          </a:xfrm>
          <a:prstGeom prst="rect">
            <a:avLst/>
          </a:prstGeom>
          <a:ln w="38160">
            <a:solidFill>
              <a:srgbClr val="0033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2" descr="http://psyxologiya.ru/wp-content/uploads/2012/01/utolit-zhazhdu-kipuchej-zhizni.jpg"/>
          <p:cNvPicPr/>
          <p:nvPr/>
        </p:nvPicPr>
        <p:blipFill>
          <a:blip r:embed="rId2"/>
          <a:stretch/>
        </p:blipFill>
        <p:spPr>
          <a:xfrm>
            <a:off x="990720" y="3657600"/>
            <a:ext cx="3833640" cy="264960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128520" y="225360"/>
            <a:ext cx="8863200" cy="1542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723920" y="167652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является 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что оно органич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ливается со вс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жизнедеятель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039"/>
          <p:cNvPicPr/>
          <p:nvPr/>
        </p:nvPicPr>
        <p:blipFill>
          <a:blip r:embed="rId2"/>
          <a:stretch/>
        </p:blipFill>
        <p:spPr>
          <a:xfrm>
            <a:off x="609480" y="1371600"/>
            <a:ext cx="3500640" cy="51436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1085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ребенок включае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во все жизнен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важные</a:t>
            </a: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 вид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деятельности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интеллектуальную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познавательную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трудовую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общественную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игровую,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творческую и другие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bebek9"/>
          <p:cNvPicPr/>
          <p:nvPr/>
        </p:nvPicPr>
        <p:blipFill>
          <a:blip r:embed="rId2"/>
          <a:stretch/>
        </p:blipFill>
        <p:spPr>
          <a:xfrm>
            <a:off x="4419720" y="914400"/>
            <a:ext cx="4205160" cy="46576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817560" y="384120"/>
            <a:ext cx="8021520" cy="120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066320" y="2133360"/>
            <a:ext cx="4496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ребенок получ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зы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б окружаю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  в дальнейш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и саму культуру.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gcal_93_4"/>
          <p:cNvPicPr/>
          <p:nvPr/>
        </p:nvPicPr>
        <p:blipFill>
          <a:blip r:embed="rId2"/>
          <a:stretch/>
        </p:blipFill>
        <p:spPr>
          <a:xfrm>
            <a:off x="5257800" y="533520"/>
            <a:ext cx="3571920" cy="47862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79200" y="414360"/>
            <a:ext cx="8912520" cy="1206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143000" y="121896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клады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едст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реб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 добре и з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 порядоч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б уважитель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тно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 материаль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и духовным ценнос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5111640" y="38088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5333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Если семья ведет здоровый образ жизни, то и ребенок учится бережно относится к своему здоровью и здоровью окруж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1371629575_semejnoe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79200" y="414360"/>
            <a:ext cx="8912520" cy="1206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295280" y="17524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то ме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го р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 становления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foto 11"/>
          <p:cNvPicPr/>
          <p:nvPr/>
        </p:nvPicPr>
        <p:blipFill>
          <a:blip r:embed="rId2"/>
          <a:stretch/>
        </p:blipFill>
        <p:spPr>
          <a:xfrm>
            <a:off x="1219320" y="3733920"/>
            <a:ext cx="3643200" cy="29289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40" name="Picture 7" descr="tumblr_kw5477MIqn1qaac67o1_500"/>
          <p:cNvPicPr/>
          <p:nvPr/>
        </p:nvPicPr>
        <p:blipFill>
          <a:blip r:embed="rId3"/>
          <a:stretch/>
        </p:blipFill>
        <p:spPr>
          <a:xfrm>
            <a:off x="5486400" y="1600200"/>
            <a:ext cx="3368520" cy="5057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6480" y="231840"/>
            <a:ext cx="8875440" cy="1084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83808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это определенный морально-психологический климат, это школа отношений с людьми.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42644"/>
          <p:cNvPicPr/>
          <p:nvPr/>
        </p:nvPicPr>
        <p:blipFill>
          <a:blip r:embed="rId2"/>
          <a:stretch/>
        </p:blipFill>
        <p:spPr>
          <a:xfrm>
            <a:off x="1066680" y="2362320"/>
            <a:ext cx="5011920" cy="40798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79200" y="414360"/>
            <a:ext cx="8912520" cy="120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066680" y="1752480"/>
            <a:ext cx="426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 близкими людь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н пережи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чувства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дружбы, дол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тветствен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правед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fdeti714"/>
          <p:cNvPicPr/>
          <p:nvPr/>
        </p:nvPicPr>
        <p:blipFill>
          <a:blip r:embed="rId2"/>
          <a:stretch/>
        </p:blipFill>
        <p:spPr>
          <a:xfrm>
            <a:off x="5148360" y="1197000"/>
            <a:ext cx="3301920" cy="50799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845560" cy="1450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ервостеп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иобретают функ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вязанные с общен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заимопомощь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эмоциональ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тношениями супру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родителей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mir-svadbi.ru/wp-content/uploads/2012/02/semeynyiy-dosug2.jpg"/>
          <p:cNvPicPr/>
          <p:nvPr/>
        </p:nvPicPr>
        <p:blipFill>
          <a:blip r:embed="rId2"/>
          <a:stretch/>
        </p:blipFill>
        <p:spPr>
          <a:xfrm>
            <a:off x="5097600" y="1714680"/>
            <a:ext cx="3689280" cy="37303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845560" cy="1450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356000" y="129528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1.Создание условий для всестороннего развития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2.Эмоциональная поддержка престарелых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3.Воспитание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 подрост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снованное на люб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 дове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http://a.passion.ru/sh/0705h_2.jpg"/>
          <p:cNvPicPr/>
          <p:nvPr/>
        </p:nvPicPr>
        <p:blipFill>
          <a:blip r:embed="rId2"/>
          <a:stretch/>
        </p:blipFill>
        <p:spPr>
          <a:xfrm>
            <a:off x="304920" y="2209680"/>
            <a:ext cx="4024080" cy="31435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201600" y="500040"/>
            <a:ext cx="8717040" cy="1212840"/>
          </a:xfrm>
          <a:prstGeom prst="rect">
            <a:avLst/>
          </a:prstGeom>
          <a:ln w="0">
            <a:noFill/>
          </a:ln>
        </p:spPr>
      </p:pic>
      <p:pic>
        <p:nvPicPr>
          <p:cNvPr id="103" name="il_fi" descr="http://medpravda.com/wp-content/uploads/2012/07/family-dom.jpg"/>
          <p:cNvPicPr/>
          <p:nvPr/>
        </p:nvPicPr>
        <p:blipFill>
          <a:blip r:embed="rId2"/>
          <a:stretch/>
        </p:blipFill>
        <p:spPr>
          <a:xfrm>
            <a:off x="3657600" y="1676520"/>
            <a:ext cx="5334120" cy="45100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04" name="Прямоугольник 4"/>
          <p:cNvSpPr/>
          <p:nvPr/>
        </p:nvSpPr>
        <p:spPr>
          <a:xfrm>
            <a:off x="304920" y="1828800"/>
            <a:ext cx="320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уппа людей, состоящая из родителей, детей, внуков и близких родственников, живущих вме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лагополучная семья - это группа родственников, дружная и сплоченная общими интересами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11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трудовой коллекти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моральная опор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высшие челове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привязанности (любовь, дружба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пространство для отдых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школа доброт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многообразная система отношений с родителям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братьями, сестрами, родными и знакомым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мораль и вкус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манеры и привычк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мировоззрение и убежден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характер и идеалы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Franklin Gothic Medium"/>
              </a:rPr>
              <a:t>Основы всего этого закладываются в семь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http://www.chel-15.ru/uploads/58iulja.jpg"/>
          <p:cNvPicPr/>
          <p:nvPr/>
        </p:nvPicPr>
        <p:blipFill>
          <a:blip r:embed="rId2"/>
          <a:stretch/>
        </p:blipFill>
        <p:spPr>
          <a:xfrm>
            <a:off x="5257800" y="380880"/>
            <a:ext cx="2967120" cy="21574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1085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емья – это то, что мы делим на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сем понемножку: и слёзы, и см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емья – это то, что с тобою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усть мчатся секунды, недели, г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о стены родные, отчий твой дом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ердце навеки останется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845560" cy="1450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066680" y="1571760"/>
            <a:ext cx="7434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«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Малая социальная группа, основанная на любви, брачном союзе и родственных отношениях; объединенная общностью быта и ведением хозяйства, правовыми и нравственными отношениями, рождением и воспитанием детей</a:t>
            </a: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1116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685800" y="1219320"/>
            <a:ext cx="769608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а протяжении всей истории человечества в одиночестве было невозможно не только нормальное существование человека,  но даже его физическое выж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886776000e64d399c1a944f3970ec3073cb2bcbe7"/>
          <p:cNvPicPr/>
          <p:nvPr/>
        </p:nvPicPr>
        <p:blipFill>
          <a:blip r:embed="rId2"/>
          <a:stretch/>
        </p:blipFill>
        <p:spPr>
          <a:xfrm>
            <a:off x="3124080" y="3200400"/>
            <a:ext cx="5229360" cy="32670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240" y="762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 в сегодняшнем цивилизованном мире, люди все равно стремятся держаться вместе, уживаться друг с другом, несмотря на связанные с этим труд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Человека без сем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рудно считать впол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частли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bebek7"/>
          <p:cNvPicPr/>
          <p:nvPr/>
        </p:nvPicPr>
        <p:blipFill>
          <a:blip r:embed="rId1"/>
          <a:stretch/>
        </p:blipFill>
        <p:spPr>
          <a:xfrm>
            <a:off x="5410080" y="3200400"/>
            <a:ext cx="3500640" cy="2928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158760" y="-208080"/>
            <a:ext cx="868680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cs5376.vkontakte.ru/u2329952/145447371/y_29cb47be.jpg"/>
          <p:cNvPicPr/>
          <p:nvPr/>
        </p:nvPicPr>
        <p:blipFill>
          <a:blip r:embed="rId2"/>
          <a:stretch/>
        </p:blipFill>
        <p:spPr>
          <a:xfrm>
            <a:off x="4859280" y="2133720"/>
            <a:ext cx="3000600" cy="428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7" name="Picture 4" descr="07_07_42"/>
          <p:cNvPicPr/>
          <p:nvPr/>
        </p:nvPicPr>
        <p:blipFill>
          <a:blip r:embed="rId3"/>
          <a:stretch/>
        </p:blipFill>
        <p:spPr>
          <a:xfrm>
            <a:off x="611280" y="1484280"/>
            <a:ext cx="3162240" cy="428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9120240" cy="1450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воспитатель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хозяйственно-бытов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экономичес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социально-статус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репродуктив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духовное общ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психотерапевтичес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досугов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http://www.chel-15.ru/uploads/121093019804095.jpg"/>
          <p:cNvPicPr/>
          <p:nvPr/>
        </p:nvPicPr>
        <p:blipFill>
          <a:blip r:embed="rId2"/>
          <a:stretch/>
        </p:blipFill>
        <p:spPr>
          <a:xfrm>
            <a:off x="457200" y="2133720"/>
            <a:ext cx="3571920" cy="3214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845560" cy="1450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«многомерность» жизни сем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широта и многогранность влия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словия, которые создаются членами семьи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Если они созданы осмысленно и   целенаправленно, то могут стать основой всестороннего развития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пора</dc:creator>
  <dc:description/>
  <dc:language>en-US</dc:language>
  <cp:lastModifiedBy>;)</cp:lastModifiedBy>
  <dcterms:modified xsi:type="dcterms:W3CDTF">2022-11-25T03:13:3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