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18AC-8777-4F59-B4C3-804696DA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82F2-C9E0-4995-856E-AF974B2D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08FD-CBA6-4D77-A42C-B90B4DF32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0990-EEFE-4A58-8B76-DCBF2B85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7D73-1049-4341-9A26-F99F88D1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D868-0E9B-4C41-A950-8C9C1BFF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DAA5-EAFB-4F2F-995E-1D32EC67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5BA4-6D0F-4FD0-A0B7-6327E35E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633A-F927-4493-A699-F83B9192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25BE-F641-4050-831F-72B2BF3F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E275-6966-40DF-90CE-4D59EFA4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FFD6-9AF6-4702-A965-23A614B9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769B-4D29-4613-B2DA-ADF90C43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E9FD-B65E-4279-837B-ABE42BE1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C54E-0A1B-4C1C-96B5-C3E9E7AE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7563-DD05-4472-84DB-8C847719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E13E-19F0-4871-B972-17FCB690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0C8BD-378F-473A-9A75-B2471742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8D284-9DA9-4805-B64F-1527FE29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5A616-6F6E-4233-B084-CB63E583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5FB02-DA2C-4DC5-98AD-95403E12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E1729-7B61-4D21-94D4-D9679C30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F897-F160-4EB7-8C40-26D9CF08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2294C-6787-4DF3-B45A-E0015C35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5BF22-B326-4AA8-B8AA-AC57D2E5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C43A9-BCA6-4DA1-A14B-3C4599C5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6A34F-1502-466B-B5A5-46BFE84A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B89C3-B2CC-41A3-80A4-871B3535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3B297-941E-4BCE-884E-7BD2A75D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B2D4A-4E8B-4098-BA8C-C0A64D00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181EE-016B-45E4-816D-EF0FDA28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B2A5B-BA7C-4AB8-9733-0AF21349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833F8-EBE2-4A82-A4F3-2C80D14D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9066-5703-4DBF-B87A-1D456AB0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2C9C8-C604-4F59-9B6A-E716E2BF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42F0A-7A39-41C3-8D93-58167E34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D80F6-4736-4A67-BF2E-0CD73058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3073C-3184-4172-891E-98A622FF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C45EB-4B11-47D0-979D-3F5E2918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0A4E5-2CCB-4285-8D51-010E9A1F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F3541-983B-4D2E-9D46-ECB3FC56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5318B-0184-4EB7-8F45-BCEBBB0F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84A4B-611C-4516-80F4-A5F866C1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57B97-35CB-48AF-A7DB-3C7E71B1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6BB8-CA04-4E44-AE9C-BD255097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1D19B-A403-4271-9DFE-7405C850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F7B0D-0A43-4A9A-AD8A-E4E1E5B7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8C332-97B5-4993-9159-C1AC9FAD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28462-2A05-431B-B753-CFAED789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07AF9-CD9C-4307-88D4-C278464F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65F01-22A7-4866-BF9F-BA3CC98E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11AC1-A440-4BDF-ABD5-DC601C65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5B8B5-F179-498D-8008-18CBA89C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C14AD-B54B-4F3D-A9B3-1C9AE654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448FB-2CE2-4BAE-8709-31DD1707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0520-12C3-4F71-9940-DDAA06FB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2CE60-CFFF-4A27-882F-3DB121CC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E74B-331B-48E5-A4D2-0A61A306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26DC-6CF6-4A6E-B705-4EF0FBA2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1994-0BC8-4E28-AE10-D1C00A43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090D8-1613-4EE6-92FD-2AB733497E18}" type="slidenum">
              <a:rPr b="0" lang="en-US" sz="12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120"/>
            <a:ext cx="10674720" cy="5350320"/>
            <a:chOff x="752040" y="744120"/>
            <a:chExt cx="10674720" cy="535032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520"/>
              <a:ext cx="327492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126"/>
                  </a:lnTo>
                  <a:lnTo>
                    <a:pt x="8761" y="912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3760"/>
              <a:ext cx="3275640" cy="4408920"/>
            </a:xfrm>
            <a:custGeom>
              <a:avLst/>
              <a:gdLst/>
              <a:ahLst/>
              <a:rect l="l" t="t" r="r" b="b"/>
              <a:pathLst>
                <a:path w="10002" h="10000">
                  <a:moveTo>
                    <a:pt x="8763" y="0"/>
                  </a:moveTo>
                  <a:lnTo>
                    <a:pt x="10002" y="0"/>
                  </a:lnTo>
                  <a:lnTo>
                    <a:pt x="10002" y="10000"/>
                  </a:lnTo>
                  <a:lnTo>
                    <a:pt x="2" y="10000"/>
                  </a:lnTo>
                  <a:cubicBezTo>
                    <a:pt x="-2" y="9698"/>
                    <a:pt x="4" y="9427"/>
                    <a:pt x="0" y="9125"/>
                  </a:cubicBezTo>
                  <a:lnTo>
                    <a:pt x="8763" y="9128"/>
                  </a:lnTo>
                  <a:lnTo>
                    <a:pt x="8763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21A4BC-A33A-470C-AC58-CA81B574D0EC}" type="slidenum">
              <a:rPr b="0" lang="en-US" sz="12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ede3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efede3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efede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efede3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281419-B520-49A9-908D-2ED3F43F26FC}" type="slidenum">
              <a:rPr b="0" lang="en-US" sz="1200" spc="-1" strike="noStrike">
                <a:solidFill>
                  <a:srgbClr val="efede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F582D-BF4F-4C80-B3EF-54C1E35E9D98}" type="slidenum">
              <a:rPr b="0" lang="en-US" sz="12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840B6B-0BF3-413E-9F14-81E3C7C85426}" type="slidenum">
              <a:rPr b="0" lang="en-US" sz="12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28280" y="63360"/>
            <a:ext cx="1146348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Проверочная работа №2 по теме «Количество теплоты. Удельная теплоёмкость»</a:t>
            </a:r>
            <a:br>
              <a:rPr sz="3200"/>
            </a:br>
            <a:r>
              <a:rPr b="0" i="1" lang="ru-RU" sz="2200" spc="-1" strike="noStrike">
                <a:solidFill>
                  <a:srgbClr val="000000"/>
                </a:solidFill>
                <a:latin typeface="Franklin Gothic Book"/>
              </a:rPr>
              <a:t>В каждом вопросе выбрать один правильный вариант</a:t>
            </a:r>
            <a:endParaRPr b="0" lang="en-US" sz="2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28280" y="1414080"/>
            <a:ext cx="541980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Franklin Gothic Book"/>
              </a:rPr>
              <a:t>В-1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Franklin Gothic Book"/>
              </a:rPr>
              <a:t>1. Что такое количество теплоты?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b0e"/>
                </a:solidFill>
                <a:latin typeface="Franklin Gothic Book"/>
              </a:rPr>
              <a:t>1) Количество внутренней энергии, которое необходимо для нагревания вещества на 1 °С.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b0e"/>
                </a:solidFill>
                <a:latin typeface="Franklin Gothic Book"/>
              </a:rPr>
              <a:t>2) Часть внутренней энергии, которую тело получает или теряет при теплопередаче.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b0e"/>
                </a:solidFill>
                <a:latin typeface="Franklin Gothic Book"/>
              </a:rPr>
              <a:t>3) Количество внутренней энергии, необходимое для нагревания вещества массой 1 кг на 1 °С.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b0e"/>
                </a:solidFill>
                <a:latin typeface="Franklin Gothic Book"/>
              </a:rPr>
              <a:t>4) Часть внутренней энергии, которую получает тело при совершении над ним работы.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460920" y="1347480"/>
            <a:ext cx="56307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Franklin Gothic Book"/>
              </a:rPr>
              <a:t>В-2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1. Что называют удельной теплоемкостью?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b0e"/>
                </a:solidFill>
                <a:latin typeface="Franklin Gothic Book"/>
              </a:rPr>
              <a:t>1) Количество теплоты, необходимое для нагревания вещества массой 1 кг на 1 °С.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b0e"/>
                </a:solidFill>
                <a:latin typeface="Franklin Gothic Book"/>
              </a:rPr>
              <a:t>2) Количество внутренней энергии, которую получает тело при совершении работы.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b0e"/>
                </a:solidFill>
                <a:latin typeface="Franklin Gothic Book"/>
              </a:rPr>
              <a:t>3) Количество теплоты, которое необходимо для нагревания вещества на 1 °С.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b0e"/>
                </a:solidFill>
                <a:latin typeface="Franklin Gothic Book"/>
              </a:rPr>
              <a:t>4) Количество внутренней энергии, которое отдает или получает тело при теплопередаче.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7" name="Прямая соединительная линия 5"/>
          <p:cNvSpPr/>
          <p:nvPr/>
        </p:nvSpPr>
        <p:spPr>
          <a:xfrm>
            <a:off x="6294600" y="1219320"/>
            <a:ext cx="0" cy="5638680"/>
          </a:xfrm>
          <a:prstGeom prst="line">
            <a:avLst/>
          </a:prstGeom>
          <a:ln w="76320">
            <a:solidFill>
              <a:srgbClr val="8c8d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1" descr=""/>
          <p:cNvPicPr/>
          <p:nvPr/>
        </p:nvPicPr>
        <p:blipFill>
          <a:blip r:embed="rId1"/>
          <a:stretch/>
        </p:blipFill>
        <p:spPr>
          <a:xfrm>
            <a:off x="1392120" y="503280"/>
            <a:ext cx="9869760" cy="2160720"/>
          </a:xfrm>
          <a:prstGeom prst="rect">
            <a:avLst/>
          </a:prstGeom>
          <a:ln w="0">
            <a:noFill/>
          </a:ln>
        </p:spPr>
      </p:pic>
      <p:sp>
        <p:nvSpPr>
          <p:cNvPr id="242" name="TextBox 2"/>
          <p:cNvSpPr/>
          <p:nvPr/>
        </p:nvSpPr>
        <p:spPr>
          <a:xfrm>
            <a:off x="716040" y="198360"/>
            <a:ext cx="5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TextBox 4"/>
          <p:cNvSpPr/>
          <p:nvPr/>
        </p:nvSpPr>
        <p:spPr>
          <a:xfrm>
            <a:off x="8759880" y="229392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твет: 9,2 МДж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4" name="Рисунок 5" descr=""/>
          <p:cNvPicPr/>
          <p:nvPr/>
        </p:nvPicPr>
        <p:blipFill>
          <a:blip r:embed="rId2"/>
          <a:stretch/>
        </p:blipFill>
        <p:spPr>
          <a:xfrm>
            <a:off x="1411200" y="3030480"/>
            <a:ext cx="9871200" cy="3051360"/>
          </a:xfrm>
          <a:prstGeom prst="rect">
            <a:avLst/>
          </a:prstGeom>
          <a:ln w="0">
            <a:noFill/>
          </a:ln>
        </p:spPr>
      </p:pic>
      <p:sp>
        <p:nvSpPr>
          <p:cNvPr id="245" name="TextBox 6"/>
          <p:cNvSpPr/>
          <p:nvPr/>
        </p:nvSpPr>
        <p:spPr>
          <a:xfrm>
            <a:off x="716040" y="2844720"/>
            <a:ext cx="5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TextBox 8"/>
          <p:cNvSpPr/>
          <p:nvPr/>
        </p:nvSpPr>
        <p:spPr>
          <a:xfrm>
            <a:off x="8361360" y="5711760"/>
            <a:ext cx="29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твет: 50 г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2"/>
          <p:cNvSpPr/>
          <p:nvPr/>
        </p:nvSpPr>
        <p:spPr>
          <a:xfrm>
            <a:off x="1271520" y="231840"/>
            <a:ext cx="10137960" cy="39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§ 10 учить, конспект по вопросам к параграфу.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полнить упр. 9 на с. 31 учебника.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28280" y="102960"/>
            <a:ext cx="114634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Проверочная работа №2 по теме «Количество теплоты. Удельная теплоёмкость»</a:t>
            </a:r>
            <a:br>
              <a:rPr sz="3200"/>
            </a:b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28280" y="1219320"/>
            <a:ext cx="541980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Franklin Gothic Book"/>
              </a:rPr>
              <a:t>В-1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2. Запишите единицы измерения удельной теплоемкости тела</a:t>
            </a:r>
            <a:r>
              <a:rPr b="1" lang="ru-RU" sz="2000" spc="-1" strike="noStrike">
                <a:solidFill>
                  <a:srgbClr val="002060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440400" y="1231560"/>
            <a:ext cx="56325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Franklin Gothic Book"/>
              </a:rPr>
              <a:t>В-2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2. Запишите единицы измерения количества теплоты.</a:t>
            </a: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1" name="Прямая соединительная линия 5"/>
          <p:cNvSpPr/>
          <p:nvPr/>
        </p:nvSpPr>
        <p:spPr>
          <a:xfrm>
            <a:off x="6294600" y="1219320"/>
            <a:ext cx="0" cy="5379840"/>
          </a:xfrm>
          <a:prstGeom prst="line">
            <a:avLst/>
          </a:prstGeom>
          <a:ln w="76320">
            <a:solidFill>
              <a:srgbClr val="8c8d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28280" y="102960"/>
            <a:ext cx="114634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Проверочная работа №2 по теме «Количество теплоты. Удельная теплоёмкость»</a:t>
            </a:r>
            <a:br>
              <a:rPr sz="3200"/>
            </a:br>
            <a:r>
              <a:rPr b="0" i="1" lang="ru-RU" sz="2200" spc="-1" strike="noStrike">
                <a:solidFill>
                  <a:srgbClr val="000000"/>
                </a:solidFill>
                <a:latin typeface="Franklin Gothic Book"/>
              </a:rPr>
              <a:t>В каждом вопросе выбрать один правильный вариант.</a:t>
            </a:r>
            <a:endParaRPr b="0" lang="en-US" sz="2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28280" y="1364760"/>
            <a:ext cx="541980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Franklin Gothic Book"/>
              </a:rPr>
              <a:t>В-1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3. Четыре жидкости одинаковой массы получили одинаковое количество теплоты. Какая из них нагреется на меньшее число градусов?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b0e"/>
                </a:solidFill>
                <a:latin typeface="Franklin Gothic Book"/>
              </a:rPr>
              <a:t>1) вода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b0e"/>
                </a:solidFill>
                <a:latin typeface="Franklin Gothic Book"/>
              </a:rPr>
              <a:t>2) керосин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b0e"/>
                </a:solidFill>
                <a:latin typeface="Franklin Gothic Book"/>
              </a:rPr>
              <a:t>3) спирт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b0e"/>
                </a:solidFill>
                <a:latin typeface="Franklin Gothic Book"/>
              </a:rPr>
              <a:t>4) растительное масло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440400" y="1344240"/>
            <a:ext cx="56325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Franklin Gothic Book"/>
              </a:rPr>
              <a:t>В-2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3. Четыре шарика одинаковой массы нагрели до одинаковой температуры. Какому шарику для этого потребовалось больше энергии?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b0e"/>
                </a:solidFill>
                <a:latin typeface="Franklin Gothic Book"/>
              </a:rPr>
              <a:t>1) медному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b0e"/>
                </a:solidFill>
                <a:latin typeface="Franklin Gothic Book"/>
              </a:rPr>
              <a:t>2) оловянному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b0e"/>
                </a:solidFill>
                <a:latin typeface="Franklin Gothic Book"/>
              </a:rPr>
              <a:t>3) алюминиевому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b0e"/>
                </a:solidFill>
                <a:latin typeface="Franklin Gothic Book"/>
              </a:rPr>
              <a:t>4) стальному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5" name="Прямая соединительная линия 5"/>
          <p:cNvSpPr/>
          <p:nvPr/>
        </p:nvSpPr>
        <p:spPr>
          <a:xfrm>
            <a:off x="6321600" y="1365120"/>
            <a:ext cx="0" cy="5380200"/>
          </a:xfrm>
          <a:prstGeom prst="line">
            <a:avLst/>
          </a:prstGeom>
          <a:ln w="76320">
            <a:solidFill>
              <a:srgbClr val="8c8d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28280" y="102960"/>
            <a:ext cx="114634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Проверочная работа №2 по теме «Количество теплоты. Удельная теплоёмкость»</a:t>
            </a:r>
            <a:br>
              <a:rPr sz="3200"/>
            </a:b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728280" y="1219320"/>
            <a:ext cx="541980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Franklin Gothic Book"/>
              </a:rPr>
              <a:t>В-1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4. Какое количество теплоты потребуется д ля нагревания цинка массой 50 г на 25 °С?</a:t>
            </a: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5. При охлаждении медного прута на 25 °С выделилось 200 Дж энергии. Какова масса медного прута?</a:t>
            </a: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427800" y="1219320"/>
            <a:ext cx="563256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Franklin Gothic Book"/>
              </a:rPr>
              <a:t>В-2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4. Какое количество теплоты потребуется для нагревания 10 г меди на 15 °С?</a:t>
            </a: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5. На сколько градусов изменилась температура цинка массой 20 г, если при его охлаждении выделилось 200 Дж энергии?</a:t>
            </a: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9" name="Прямая соединительная линия 5"/>
          <p:cNvSpPr/>
          <p:nvPr/>
        </p:nvSpPr>
        <p:spPr>
          <a:xfrm>
            <a:off x="6308640" y="1087560"/>
            <a:ext cx="0" cy="5763960"/>
          </a:xfrm>
          <a:prstGeom prst="line">
            <a:avLst/>
          </a:prstGeom>
          <a:ln w="76320">
            <a:solidFill>
              <a:srgbClr val="8c8d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14480" y="1788840"/>
            <a:ext cx="8361360" cy="20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НЕРГИЯ ТОПЛИВА. УДЕЛЬНАЯ ТЕПЛОТА СГОРАНИЯ.</a:t>
            </a:r>
            <a:endParaRPr b="0" lang="en-US" sz="4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914480" y="701280"/>
            <a:ext cx="683280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91b0e"/>
                </a:solidFill>
                <a:latin typeface="Franklin Gothic Book"/>
              </a:rPr>
              <a:t>Тема урока:</a:t>
            </a:r>
            <a:endParaRPr b="0" lang="en-US" sz="23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2"/>
          <p:cNvSpPr/>
          <p:nvPr/>
        </p:nvSpPr>
        <p:spPr>
          <a:xfrm>
            <a:off x="711360" y="103320"/>
            <a:ext cx="635148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Горение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— </a:t>
            </a:r>
            <a:r>
              <a:rPr b="1" i="1" lang="ru-RU" sz="2800" spc="-1" strike="noStrike">
                <a:solidFill>
                  <a:srgbClr val="002060"/>
                </a:solidFill>
                <a:latin typeface="Franklin Gothic Book"/>
              </a:rPr>
              <a:t>окислительно-восстановительный процесс.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В одних случаях он идет с выделением тепла, а в других — с поглощением энергии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Энергия при горении вещества выделяется тогда, когда суммарная кинетическая энергия молекул после горения выше, чем у молекул до начала процесса горения. В этом случае говорят, что такое вещество называют </a:t>
            </a:r>
            <a:r>
              <a:rPr b="1" i="1" lang="ru-RU" sz="2400" spc="-1" strike="noStrike">
                <a:solidFill>
                  <a:srgbClr val="002060"/>
                </a:solidFill>
                <a:latin typeface="Franklin Gothic Book"/>
              </a:rPr>
              <a:t>топливом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. К наиболее распространенным видам топлива можно отнести </a:t>
            </a:r>
            <a:r>
              <a:rPr b="0" lang="ru-RU" sz="2400" spc="-1" strike="noStrike">
                <a:solidFill>
                  <a:srgbClr val="002060"/>
                </a:solidFill>
                <a:latin typeface="Franklin Gothic Book"/>
              </a:rPr>
              <a:t>нефть, природный газ, каменный уголь, торф, древесину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и другие вещества. Все эти вещества содержат атомы углерода. Именно эти атомы в соединении с кислородом образуют углекислый газ: </a:t>
            </a:r>
            <a:r>
              <a:rPr b="0" lang="ru-RU" sz="2400" spc="-1" strike="noStrike">
                <a:solidFill>
                  <a:srgbClr val="002060"/>
                </a:solidFill>
                <a:latin typeface="Franklin Gothic Book"/>
              </a:rPr>
              <a:t>С + O2 = СO2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3" name="Рисунок 4" descr=""/>
          <p:cNvPicPr/>
          <p:nvPr/>
        </p:nvPicPr>
        <p:blipFill>
          <a:blip r:embed="rId1"/>
          <a:stretch/>
        </p:blipFill>
        <p:spPr>
          <a:xfrm>
            <a:off x="6999120" y="103320"/>
            <a:ext cx="51930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2"/>
          <p:cNvSpPr/>
          <p:nvPr/>
        </p:nvSpPr>
        <p:spPr>
          <a:xfrm>
            <a:off x="795240" y="222120"/>
            <a:ext cx="1086660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Franklin Gothic Book"/>
              </a:rPr>
              <a:t>Количество теплоты</a:t>
            </a: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, которое выделяется при полном сгорании топлива массой </a:t>
            </a:r>
            <a:r>
              <a:rPr b="0" lang="ru-RU" sz="3600" spc="-1" strike="noStrike">
                <a:solidFill>
                  <a:srgbClr val="002060"/>
                </a:solidFill>
                <a:latin typeface="Franklin Gothic Book"/>
              </a:rPr>
              <a:t>1 кг</a:t>
            </a: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, называется </a:t>
            </a:r>
            <a:r>
              <a:rPr b="1" i="1" lang="ru-RU" sz="3600" spc="-1" strike="noStrike">
                <a:solidFill>
                  <a:srgbClr val="ff0000"/>
                </a:solidFill>
                <a:latin typeface="Franklin Gothic Book"/>
              </a:rPr>
              <a:t>удельной теплотой сгорания топлива.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Удельную теплоту сгорания топлива обозначают буквой </a:t>
            </a: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и измеряют в </a:t>
            </a: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Дж/кг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755640" y="3382920"/>
            <a:ext cx="10680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Например, для нефти q = 4,4 ∙ 10^7 Дж/кг, для торфа q = 1,4 ∙ 10^7 Дж/кг.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q — табличная величина (</a:t>
            </a:r>
            <a:r>
              <a:rPr b="0" lang="ru-RU" sz="4000" spc="-1" strike="noStrike">
                <a:solidFill>
                  <a:srgbClr val="002060"/>
                </a:solidFill>
                <a:latin typeface="Franklin Gothic Book"/>
              </a:rPr>
              <a:t>учебник, с. 31, таблица 2 “Удельная теплота сгорания некоторых видов топлива</a:t>
            </a: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”).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2"/>
          <p:cNvSpPr/>
          <p:nvPr/>
        </p:nvSpPr>
        <p:spPr>
          <a:xfrm>
            <a:off x="808200" y="173160"/>
            <a:ext cx="1121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Для определения количества теплоты, выделившегося при сгорании топлива, нужно удельную теплоту сгорания умножить на массу топлива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3710160" y="1697040"/>
            <a:ext cx="609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Franklin Gothic Book"/>
              </a:rPr>
              <a:t>Q = q ∙ m</a:t>
            </a:r>
            <a:endParaRPr b="0" lang="en-US" sz="9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2"/>
          <p:cNvSpPr/>
          <p:nvPr/>
        </p:nvSpPr>
        <p:spPr>
          <a:xfrm>
            <a:off x="768240" y="988920"/>
            <a:ext cx="1101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1. Определите количество теплоты, выделившееся при сгорании 200 г бензина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4240080" y="119160"/>
            <a:ext cx="536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Решение задач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768240" y="2778120"/>
            <a:ext cx="1101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2. При сгорании спирта выделилось 1,35 ∙ 10^6 Дж тепла. Чему равна масса сгоревшего спирта?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30T07:25:35Z</dcterms:created>
  <dc:creator>Владимир Мельников</dc:creator>
  <dc:description/>
  <dc:language>en-US</dc:language>
  <cp:lastModifiedBy>Владимир Мельников</cp:lastModifiedBy>
  <dcterms:modified xsi:type="dcterms:W3CDTF">2022-11-26T16:27:51Z</dcterms:modified>
  <cp:revision>8</cp:revision>
  <dc:subject/>
  <dc:title>Проверочная работа №2 по теме «Количество теплоты. Удельная теплоёмкость» В каждом вопросе выбрать один правильный вариант или записать ответ словом (словосочетанием).</dc:title>
</cp:coreProperties>
</file>