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C7F-B3C6-4913-9845-E002752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604-1CDB-4B09-A730-257DC30A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D33-FCEA-4CBF-8903-1E952A5B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E4F-B319-4171-90CC-5FE99F00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BAA-583D-4843-990A-C4BF65D6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9B7-D88B-4ACD-98FE-F5F2BEC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7CF-A5C1-40CE-9CD5-CCB2F09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923-C17B-4064-B1F3-0C59C962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838-B26A-474D-AFD6-63599B5D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504E-52D8-45DC-8F60-26BBA95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A20-82AB-416B-B4A3-445610C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244-1386-4F17-925B-C0DF1D44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515-00B5-45DA-89B7-82CD59B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AAEA-05EB-4526-9DC9-33F0799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E0BF-8315-4B1A-B3CC-7A4FA0F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9587-269A-4ADD-8E3F-341DE538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EBAA-C182-4958-9C5B-F9AC2091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355D-49D5-41D2-A178-C6182E54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D313-6B2A-4AF8-A675-B806C153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B522-18D4-46E1-AC0E-5826B2C3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9517-3F1C-45BA-A424-9D2DF86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D4A2-5244-444A-B041-8CB5D396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B9D-0F81-43C3-A830-CC12B18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9F39-2C92-4574-9836-8276546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89C2-B482-4F61-B87D-92F0159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509D-B9C4-4D47-8397-FC542CB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F4D6-940B-47D7-ACAB-A532CBA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591D-2521-45BD-A7B3-D0A0B83C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E928-B2BE-4B60-802F-BF6F5D8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7D02-4280-4EB5-995F-23D0EAEA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E58C-5684-4C0E-A4D7-8F9B21CD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E4B0-AA41-49BF-AB29-64DF4F2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96AE1-7F0A-48F7-A209-6E15F41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385-11C7-42E6-8354-50A964C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C211-B1C4-4B36-A8EF-9034D879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06E5-5F28-4595-B0DD-93E5F668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A1FA-0F4B-47E6-A858-7768EE3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B7A9-D03A-4CA5-AC38-7C11657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E5D0-084B-4476-A4A5-F1B917F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3109-D091-4176-B3D1-2D61A8E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C5A2-EEE1-4794-86EC-3F26154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7016-32AF-4CAA-B829-E454DC1F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C574-D018-4DBB-B0D7-CF283CCE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FDAA-4EA8-4817-A23C-AF6E194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B75-D42E-465E-ACF4-4E52D19E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E731-6621-4ADC-9690-B83EFF78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E5CDF-0FF9-4284-93FB-C5AD870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F4AC2-1764-4762-8188-8D02DD3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B904-930C-46C7-BB79-964A713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D54B-4A74-4A03-A2A8-4416D64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DBAC-207A-4697-BD82-9A4936A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A254-AD89-4917-80FF-14E2DB7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088C-2AF1-4273-95DD-B33ABB6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7678-14FD-4E90-AEA7-BA7FFB9D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CD66-51A9-40AF-819E-BC2D70E2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715-AE33-4F1C-8917-484820E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B18F-51F0-403E-92D4-987F0C0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C52-9298-4BE1-9CB6-48959B9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8CE-1D8E-4293-9E0B-FCFEB73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2E1-1E94-4351-9567-900401CA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2B444-B8DC-495A-8DFE-4DF986C4A3B9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70119-F64B-4432-BFCD-B41AA4997A1D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93A1D-AFD9-4E83-ADB5-839519B791E5}" type="slidenum">
              <a:rPr b="0" lang="en-US" sz="12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94F6-18C3-4D95-9D17-572A7E4E75ED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4879C-D436-40F2-8E11-6393656CF33D}" type="slidenum">
              <a:rPr b="0" lang="en-US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8280" y="63360"/>
            <a:ext cx="114634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В каждом вопросе выбрать один правильный вариант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28280" y="1414080"/>
            <a:ext cx="5419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1. Что такое количество теплоты?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1) Количество внутренней энергии, которое необходимо для нагревания вещества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2) Часть внутренней энергии, которую тело получает или теряет при теплопередаче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3) Количество внутренней энергии, необходимое для нагревания вещества массой 1 кг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4) Часть внутренней энергии, которую получает тело при совершении над ним работ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460920" y="1347480"/>
            <a:ext cx="56307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1. Что называют удельной теплоемкостью?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1) Количество теплоты, необходимое для нагревания вещества массой 1 кг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2) Количество внутренней энергии, которую получает тело при совершении работы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3) Количество теплоты, которое необходимо для нагревания вещества на 1 °С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4) Количество внутренней энергии, которое отдает или получает тело при теплопередаче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>
            <a:off x="6294600" y="1219320"/>
            <a:ext cx="0" cy="563868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1392120" y="503280"/>
            <a:ext cx="9869760" cy="21607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716040" y="19836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8759880" y="229392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твет: 9,2 МДж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Рисунок 5" descr=""/>
          <p:cNvPicPr/>
          <p:nvPr/>
        </p:nvPicPr>
        <p:blipFill>
          <a:blip r:embed="rId2"/>
          <a:stretch/>
        </p:blipFill>
        <p:spPr>
          <a:xfrm>
            <a:off x="1411200" y="3030480"/>
            <a:ext cx="9871200" cy="30513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"/>
          <p:cNvSpPr/>
          <p:nvPr/>
        </p:nvSpPr>
        <p:spPr>
          <a:xfrm>
            <a:off x="716040" y="284472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8361360" y="5711760"/>
            <a:ext cx="29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твет: 50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2"/>
          <p:cNvSpPr/>
          <p:nvPr/>
        </p:nvSpPr>
        <p:spPr>
          <a:xfrm>
            <a:off x="1271520" y="231840"/>
            <a:ext cx="10137960" cy="39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10 учить, конспект по вопросам к параграфу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упр. 9 на с. 31 учебника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28280" y="1219320"/>
            <a:ext cx="54198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2. Запишите единицы измерения удельной теплоемкости тела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40400" y="1231560"/>
            <a:ext cx="56325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2. Запишите единицы измерения количества теплоты.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6294600" y="1219320"/>
            <a:ext cx="0" cy="537984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r>
              <a:rPr b="0" i="1" lang="ru-RU" sz="2200" spc="-1" strike="noStrike">
                <a:solidFill>
                  <a:srgbClr val="000000"/>
                </a:solidFill>
                <a:latin typeface="Franklin Gothic Book"/>
              </a:rPr>
              <a:t>В каждом вопросе выбрать один правильный вариант.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28280" y="1364760"/>
            <a:ext cx="5419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3. Четыре жидкости одинаковой массы получили одинаковое количество теплоты. Какая из них нагреется на меньшее число градусов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1) вода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2) керосин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3) спирт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4) растительное масло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40400" y="1344240"/>
            <a:ext cx="56325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3. Четыре шарика одинаковой массы нагрели до одинаковой температуры. Какому шарику для этого потребовалось больше энергии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1) мед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2) оловян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3) алюминиев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4) стальному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5" name="Прямая соединительная линия 5"/>
          <p:cNvSpPr/>
          <p:nvPr/>
        </p:nvSpPr>
        <p:spPr>
          <a:xfrm>
            <a:off x="6321600" y="1365120"/>
            <a:ext cx="0" cy="538020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02960"/>
            <a:ext cx="11463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Проверочная работа №2 по теме «Количество теплоты. Удельная теплоёмкость»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8280" y="1219320"/>
            <a:ext cx="54198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1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4. Какое количество теплоты потребуется д ля нагревания цинка массой 50 г на 25 °С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5. При охлаждении медного прута на 25 °С выделилось 200 Дж энергии. Какова масса медного прута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427800" y="1219320"/>
            <a:ext cx="56325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Franklin Gothic Book"/>
              </a:rPr>
              <a:t>В-2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4. Какое количество теплоты потребуется для нагревания 10 г меди на 15 °С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5. На сколько градусов изменилась температура цинка массой 20 г, если при его охлаждении выделилось 200 Дж энергии?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Прямая соединительная линия 5"/>
          <p:cNvSpPr/>
          <p:nvPr/>
        </p:nvSpPr>
        <p:spPr>
          <a:xfrm>
            <a:off x="6308640" y="1087560"/>
            <a:ext cx="0" cy="5763960"/>
          </a:xfrm>
          <a:prstGeom prst="line">
            <a:avLst/>
          </a:prstGeom>
          <a:ln w="76320">
            <a:solidFill>
              <a:srgbClr val="8c8d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Я ТОПЛИВА. УДЕЛЬНАЯ ТЕПЛОТА СГОРАНИЯ.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914480" y="701280"/>
            <a:ext cx="68328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91b0e"/>
                </a:solidFill>
                <a:latin typeface="Franklin Gothic Book"/>
              </a:rPr>
              <a:t>Тема урока: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711360" y="103320"/>
            <a:ext cx="63514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Гор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— </a:t>
            </a:r>
            <a:r>
              <a:rPr b="1" i="1" lang="ru-RU" sz="2800" spc="-1" strike="noStrike">
                <a:solidFill>
                  <a:srgbClr val="002060"/>
                </a:solidFill>
                <a:latin typeface="Franklin Gothic Book"/>
              </a:rPr>
              <a:t>окислительно-восстановительный процесс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 одних случаях он идет с выделением тепла, а в других — с поглощением энерги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нергия при горении вещества выделяется тогда, когда суммарная кинетическая энергия молекул после горения выше, чем у молекул до начала процесса горения. В этом случае говорят, что такое вещество называют </a:t>
            </a: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топливом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К наиболее распространенным видам топлива можно отнести </a:t>
            </a:r>
            <a:r>
              <a:rPr b="0" lang="ru-RU" sz="2400" spc="-1" strike="noStrike">
                <a:solidFill>
                  <a:srgbClr val="002060"/>
                </a:solidFill>
                <a:latin typeface="Franklin Gothic Book"/>
              </a:rPr>
              <a:t>нефть, природный газ, каменный уголь, торф, древесину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и другие вещества. Все эти вещества содержат атомы углерода. Именно эти атомы в соединении с кислородом образуют углекислый газ: </a:t>
            </a:r>
            <a:r>
              <a:rPr b="0" lang="ru-RU" sz="2400" spc="-1" strike="noStrike">
                <a:solidFill>
                  <a:srgbClr val="002060"/>
                </a:solidFill>
                <a:latin typeface="Franklin Gothic Book"/>
              </a:rPr>
              <a:t>С + O2 = СO2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3" name="Рисунок 4" descr=""/>
          <p:cNvPicPr/>
          <p:nvPr/>
        </p:nvPicPr>
        <p:blipFill>
          <a:blip r:embed="rId1"/>
          <a:stretch/>
        </p:blipFill>
        <p:spPr>
          <a:xfrm>
            <a:off x="6999120" y="103320"/>
            <a:ext cx="51930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795240" y="222120"/>
            <a:ext cx="10866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Количество теплоты</a:t>
            </a: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, которое выделяется при полном сгорании топлива массой </a:t>
            </a:r>
            <a:r>
              <a:rPr b="0" lang="ru-RU" sz="3600" spc="-1" strike="noStrike">
                <a:solidFill>
                  <a:srgbClr val="002060"/>
                </a:solidFill>
                <a:latin typeface="Franklin Gothic Book"/>
              </a:rPr>
              <a:t>1 кг</a:t>
            </a: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удельной теплотой сгорания топлива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дельную теплоту сгорания топлива обозначают буквой </a:t>
            </a: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измеряют в </a:t>
            </a: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Дж/кг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755640" y="3382920"/>
            <a:ext cx="1068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Например, для нефти q = 4,4 ∙ 10^7 Дж/кг, для торфа q = 1,4 ∙ 10^7 Дж/кг.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q — табличная величина (</a:t>
            </a:r>
            <a:r>
              <a:rPr b="0" lang="ru-RU" sz="4000" spc="-1" strike="noStrike">
                <a:solidFill>
                  <a:srgbClr val="002060"/>
                </a:solidFill>
                <a:latin typeface="Franklin Gothic Book"/>
              </a:rPr>
              <a:t>учебник, с. 31, таблица 2 “Удельная теплота сгорания некоторых видов топлива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”)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808200" y="173160"/>
            <a:ext cx="11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Для определения количества теплоты, выделившегося при сгорании топлива, нужно удельную теплоту сгорания умножить на массу топли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710160" y="169704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Franklin Gothic Book"/>
              </a:rPr>
              <a:t>Q = q ∙ m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768240" y="988920"/>
            <a:ext cx="110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1. Определите количество теплоты, выделившееся при сгорании 200 г бензин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240080" y="119160"/>
            <a:ext cx="53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768240" y="2778120"/>
            <a:ext cx="1101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2. При сгорании спирта выделилось 1,35 ∙ 10^6 Дж тепла. Чему равна масса сгоревшего спирта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0T07:25:35Z</dcterms:created>
  <dc:creator>Владимир Мельников</dc:creator>
  <dc:description/>
  <dc:language>en-US</dc:language>
  <cp:lastModifiedBy>Владимир Мельников</cp:lastModifiedBy>
  <dcterms:modified xsi:type="dcterms:W3CDTF">2022-11-26T16:27:51Z</dcterms:modified>
  <cp:revision>8</cp:revision>
  <dc:subject/>
  <dc:title>Проверочная работа №2 по теме «Количество теплоты. Удельная теплоёмкость» В каждом вопросе выбрать один правильный вариант или записать ответ словом (словосочетанием).</dc:title>
</cp:coreProperties>
</file>