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0BD-F0D1-4D6D-B19B-013CF29F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8AA-38A5-4AB2-89F5-37A10005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5AD-EC21-4521-AD6C-37A236A4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8D8-6C85-4DF1-A212-390462B6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EAA-F89C-4A58-9255-4A9C1B7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983-180F-4911-98EC-CCC346D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BEF-CB1B-4159-A852-75FEDB4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E23-5C98-4C6A-A75C-A32CFC0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A8C-0E60-4A16-93A3-281E8DC0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914-62B0-4D54-A85D-C47ED5C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849-393A-4EB4-A857-1E227BD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22D-474C-4059-9488-AFA4DA9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C2C-55F3-4251-BAB6-C11FA6309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На нашей планете от края до кр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Природа повсюду тебя окруж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Тела ее массу загадок та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з атомов разных веществ состо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Лед, облака и капли рос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Они состоят из обычной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Горы, песок и друзы крист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Они состоят из простых минера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Растения тоже загадку хран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Хотите узнать, из чего состоя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х корень и листья, плоды, се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Раскроют нам тайну состава спол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9568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ические ве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Минеральные соли составляют 1 – 1,5% от массы клет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Соли натрия и калия обеспечивают проявление раздражим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Используются в синтезе органических вещест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Участвуют в обмене вещест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D:\Мои документы\Наглядность к уроку\биология - практикум\ученые и разные картинки\t_0441.jpg"/>
          <p:cNvPicPr/>
          <p:nvPr/>
        </p:nvPicPr>
        <p:blipFill>
          <a:blip r:embed="rId1"/>
          <a:stretch/>
        </p:blipFill>
        <p:spPr>
          <a:xfrm>
            <a:off x="380880" y="3049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slide_6.jpg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РГАНИЧЕСКИЕ  ВЕЩЕСТВА -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вещества,  состоящие  из  углерода,  водорода,  кислорода и азота. Эти вещества содержатся  или  производятся живыми организ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Мои документы\Наглядность к уроку\уроки КМ 10\химический состав клетки\четвертичная структура белка.jpg"/>
          <p:cNvPicPr/>
          <p:nvPr/>
        </p:nvPicPr>
        <p:blipFill>
          <a:blip r:embed="rId1"/>
          <a:stretch/>
        </p:blipFill>
        <p:spPr>
          <a:xfrm>
            <a:off x="380880" y="1371600"/>
            <a:ext cx="40388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№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обнаружение углевод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5834" t="41388" r="0" b="24142"/>
          <a:stretch/>
        </p:blipFill>
        <p:spPr>
          <a:xfrm>
            <a:off x="4876920" y="3352680"/>
            <a:ext cx="3504960" cy="221004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3" descr="IMG.jpg"/>
          <p:cNvPicPr/>
          <p:nvPr/>
        </p:nvPicPr>
        <p:blipFill>
          <a:blip r:embed="rId2"/>
          <a:srcRect l="0" t="43528" r="69517" b="0"/>
          <a:stretch/>
        </p:blipFill>
        <p:spPr>
          <a:xfrm>
            <a:off x="685800" y="1752480"/>
            <a:ext cx="2901960" cy="223704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6"/>
          <p:cNvCxnSpPr/>
          <p:nvPr/>
        </p:nvCxnSpPr>
        <p:spPr>
          <a:xfrm>
            <a:off x="3732840" y="2742840"/>
            <a:ext cx="991080" cy="152460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9" name="Рисунок 5" descr="0016-016-Kak-obnaruzhit-uglevody.jpg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№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обнаружение углевод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5834" t="41388" r="0" b="24142"/>
          <a:stretch/>
        </p:blipFill>
        <p:spPr>
          <a:xfrm>
            <a:off x="4876920" y="3352680"/>
            <a:ext cx="3504960" cy="221004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IMG.jpg"/>
          <p:cNvPicPr/>
          <p:nvPr/>
        </p:nvPicPr>
        <p:blipFill>
          <a:blip r:embed="rId2"/>
          <a:srcRect l="0" t="43528" r="69517" b="0"/>
          <a:stretch/>
        </p:blipFill>
        <p:spPr>
          <a:xfrm>
            <a:off x="685800" y="1752480"/>
            <a:ext cx="2901960" cy="223704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6"/>
          <p:cNvCxnSpPr/>
          <p:nvPr/>
        </p:nvCxnSpPr>
        <p:spPr>
          <a:xfrm>
            <a:off x="3732840" y="2742840"/>
            <a:ext cx="991080" cy="152460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какой целью выращиваются данные раст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7367581ab144bce9588cf25cf9484ed7_250x200.jpg"/>
          <p:cNvPicPr/>
          <p:nvPr/>
        </p:nvPicPr>
        <p:blipFill>
          <a:blip r:embed="rId1"/>
          <a:stretch/>
        </p:blipFill>
        <p:spPr>
          <a:xfrm>
            <a:off x="755640" y="1413000"/>
            <a:ext cx="3960720" cy="460836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5" descr="images.jpg"/>
          <p:cNvPicPr/>
          <p:nvPr/>
        </p:nvPicPr>
        <p:blipFill>
          <a:blip r:embed="rId2"/>
          <a:stretch/>
        </p:blipFill>
        <p:spPr>
          <a:xfrm>
            <a:off x="4932360" y="141300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, богатые углевод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Terminal Velocity\Desktop\биология 5\1. Биология - наука о живой природе\Урок 6. Химический состав клетки\углеводы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имент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аружение белков у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0017-017-Kak-obnaruzhit-belki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имент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аружение белков у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е вещество, оставшееся в марлевом мешочке после промывания муки. Какое оно? Почему это вещество назвали клейкови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ейковина-это бе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 состав живого организма входит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image019.png"/>
          <p:cNvPicPr/>
          <p:nvPr/>
        </p:nvPicPr>
        <p:blipFill>
          <a:blip r:embed="rId1"/>
          <a:stretch/>
        </p:blipFill>
        <p:spPr>
          <a:xfrm>
            <a:off x="2438280" y="5486400"/>
            <a:ext cx="38862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бе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ительный материал» для кле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 протекания химических реакций (фермен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Мои документы\Наглядность к уроку\открытая биология\общая биология\химический состав клеток\молочный белок казеин.jpg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Химический состав клет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slide_15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следование №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4" descr="11.png"/>
          <p:cNvPicPr/>
          <p:nvPr/>
        </p:nvPicPr>
        <p:blipFill>
          <a:blip r:embed="rId1"/>
          <a:stretch/>
        </p:blipFill>
        <p:spPr>
          <a:xfrm>
            <a:off x="611280" y="1628640"/>
            <a:ext cx="3744720" cy="432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видим  на бумаг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: в составе живых организмов есть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33520" y="4343400"/>
            <a:ext cx="2895480" cy="160020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4" descr="237.jpg"/>
          <p:cNvPicPr/>
          <p:nvPr/>
        </p:nvPicPr>
        <p:blipFill>
          <a:blip r:embed="rId1"/>
          <a:stretch/>
        </p:blipFill>
        <p:spPr>
          <a:xfrm>
            <a:off x="571680" y="1143000"/>
            <a:ext cx="369540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D:\Мои документы\Наглядность к уроку\открытая биология\общая биология\химический состав клеток\олеиновая кислота оливкового масла.jpg"/>
          <p:cNvPicPr/>
          <p:nvPr/>
        </p:nvPicPr>
        <p:blipFill>
          <a:blip r:embed="rId2"/>
          <a:stretch/>
        </p:blipFill>
        <p:spPr>
          <a:xfrm>
            <a:off x="4572000" y="1143000"/>
            <a:ext cx="3657600" cy="27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im1-tub-ru.yandex.net/i?id=d8045d7e8457dde7a32b307f44f4a10a-36-144&amp;n=21"/>
          <p:cNvPicPr/>
          <p:nvPr/>
        </p:nvPicPr>
        <p:blipFill>
          <a:blip r:embed="rId4"/>
          <a:stretch/>
        </p:blipFill>
        <p:spPr>
          <a:xfrm>
            <a:off x="500040" y="4143240"/>
            <a:ext cx="4214880" cy="2714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160020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ичные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ие ве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– тверд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вотные) и жидк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ительные мас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ной источник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Мои документы\Наглядность к уроку\открытая биология\общая биология\химический состав клеток\олеиновая кислота оливкового масла.jpg"/>
          <p:cNvPicPr/>
          <p:nvPr/>
        </p:nvPicPr>
        <p:blipFill>
          <a:blip r:embed="rId1"/>
          <a:stretch/>
        </p:blipFill>
        <p:spPr>
          <a:xfrm>
            <a:off x="457200" y="45720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Мои документы\Наглядность к уроку\открытая биология\общая биология\химический состав клеток\стеарин (свечи).jpg"/>
          <p:cNvPicPr/>
          <p:nvPr/>
        </p:nvPicPr>
        <p:blipFill>
          <a:blip r:embed="rId2"/>
          <a:stretch/>
        </p:blipFill>
        <p:spPr>
          <a:xfrm>
            <a:off x="457200" y="335268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, богатые жир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Terminal Velocity\Desktop\биология 5\1. Биология - наука о живой природе\Урок 6. Химический состав клетки\жиры.jpg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Bickham Script Two"/>
              </a:rPr>
              <a:t>Письмо Незнай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762120"/>
            <a:ext cx="89154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начал изучать очень интересную науку о живых организмах - географию. Сегодня я узнал, что оказывается все организмы имеют в своем составе сложные вещества. Они бывают неорганическими и органическими. Органические вещества можно встретить повсюду. Сахар, который добавляют в конфеты, добывают прямо из недр Земли, в шахтах. Соль добывают рядом с сахарными шахтами, в соляных копях. Раз соль входит в состав живого организма -это органическое вещество! Вода – тоже органическое вещество, вот я ел виноград сегодня, он сочный оттого, что в составе его вода. Я убедился, что вода – вещество органическое. Я думаю, что я хорошо уже изучил географию, пора мне приступать к изучению химии, я сделаю много открытий и прославлюсь как величайший учены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на выбо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ите этикетки продуктов питания растительного происхождения и найдите информацию о содержании белков, жиров и углеводов. Выясните, какие продукты наиболее богаты этими веществами. Результаты исследования запишите в тетра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ресурсы Интернета или дополнительную литературу, проведите исследование и сделайте краткое сообщение о том, какие растения используют люди в разных странах для производства сахара, кроме сахарного тростника и сахарной свекл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Что является объектом нашего исследова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Цель: изучить химический состав раст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: 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1. экспериментально выяснить химический состав растений;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entury"/>
              </a:rPr>
              <a:t>2. выявить роль растительных веществ в организме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Terminal Velocity\Desktop\биология 5\1. Биология - наука о живой природе\Урок 6. Химический состав клетки\вещества клетки.jpg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сам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 в клетке, 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 средн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8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Мои документы\Наглядность к уроку\открытая биология\общая биология\химический состав клеток\вода - источник жизни на Земле.jpg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растворитель, химические реакции протекают в водной сре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участвует в химических реакциях в клет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т клетке объем, упруг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поступление веществ в клетку и удаление ненужных вещест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еремещению веществ  по организ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Мои документы\Наглядность к уроку\обои на рабочий стол\природа\0023.jpg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slide_4.jpg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8:33:46Z</dcterms:created>
  <dc:creator>Terminal Velocity</dc:creator>
  <dc:description/>
  <dc:language>en-US</dc:language>
  <cp:lastModifiedBy>Admin</cp:lastModifiedBy>
  <dcterms:modified xsi:type="dcterms:W3CDTF">2017-11-21T15:11:22Z</dcterms:modified>
  <cp:revision>42</cp:revision>
  <dc:subject/>
  <dc:title>Химический состав клетки 5 класс</dc:title>
</cp:coreProperties>
</file>