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00E7-F1C8-4EDF-A787-468DDD0E8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52AE-DF75-4E1D-9283-B38FA582E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E028-15A3-4594-A8E5-D027761F7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D846-A9FF-42F5-A5C7-2155B8A0F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9E02-5EF8-4733-BFE6-8FE7EAA0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8E45-9646-4AE7-A63E-03F827CA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028A-AF26-4EFF-B179-015434F7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899B-4B01-4106-8C12-E0B1C332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0B63-0A50-4658-9800-49116A6C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5E7D-FC99-406C-BE86-CF777173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DD12-F4FA-4F41-B420-AF6FF32D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A22D-6374-4535-BD24-6396F926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F5D0-B435-4A99-9851-9B549C3938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mic Sans MS"/>
              </a:rPr>
              <a:t>На нашей планете от края до кр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mic Sans MS"/>
              </a:rPr>
              <a:t>Природа повсюду тебя окружа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mic Sans MS"/>
              </a:rPr>
              <a:t>Тела ее массу загадок тая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mic Sans MS"/>
              </a:rPr>
              <a:t>Из атомов разных веществ состоя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mic Sans MS"/>
              </a:rPr>
              <a:t>Лед, облака и капли росы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mic Sans MS"/>
              </a:rPr>
              <a:t>Они состоят из обычной в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mic Sans MS"/>
              </a:rPr>
              <a:t>Горы, песок и друзы кристалл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mic Sans MS"/>
              </a:rPr>
              <a:t>Они состоят из простых минерал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mic Sans MS"/>
              </a:rPr>
              <a:t>Растения тоже загадку храня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mic Sans MS"/>
              </a:rPr>
              <a:t>Хотите узнать, из чего состоят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mic Sans MS"/>
              </a:rPr>
              <a:t>Их корень и листья, плоды, сем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mic Sans MS"/>
              </a:rPr>
              <a:t>Раскроют нам тайну состава сполн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95680" y="27432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рганические веще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723920" y="16765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mbria Math"/>
                <a:ea typeface="Cambria Math"/>
              </a:rPr>
              <a:t>Минеральные соли составляют 1 – 1,5% от массы клетк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mbria Math"/>
                <a:ea typeface="Cambria Math"/>
              </a:rPr>
              <a:t>Соли натрия и калия обеспечивают проявление раздражимост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mbria Math"/>
                <a:ea typeface="Cambria Math"/>
              </a:rPr>
              <a:t>Используются в синтезе органических вещест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mbria Math"/>
                <a:ea typeface="Cambria Math"/>
              </a:rPr>
              <a:t>Участвуют в обмене вещест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D:\Мои документы\Наглядность к уроку\биология - практикум\ученые и разные картинки\t_0441.jpg"/>
          <p:cNvPicPr/>
          <p:nvPr/>
        </p:nvPicPr>
        <p:blipFill>
          <a:blip r:embed="rId1"/>
          <a:stretch/>
        </p:blipFill>
        <p:spPr>
          <a:xfrm>
            <a:off x="380880" y="304920"/>
            <a:ext cx="4038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5" descr="slide_6.jpg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ческие веще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ОРГАНИЧЕСКИЕ  ВЕЩЕСТВА -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вещества,  состоящие  из  углерода,  водорода,  кислорода и азота. Эти вещества содержатся  или  производятся живыми организм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D:\Мои документы\Наглядность к уроку\уроки КМ 10\химический состав клетки\четвертичная структура белка.jpg"/>
          <p:cNvPicPr/>
          <p:nvPr/>
        </p:nvPicPr>
        <p:blipFill>
          <a:blip r:embed="rId1"/>
          <a:stretch/>
        </p:blipFill>
        <p:spPr>
          <a:xfrm>
            <a:off x="380880" y="1371600"/>
            <a:ext cx="403884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 №3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обнаружение углеводов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rcRect l="5834" t="41388" r="0" b="24142"/>
          <a:stretch/>
        </p:blipFill>
        <p:spPr>
          <a:xfrm>
            <a:off x="4876920" y="3352680"/>
            <a:ext cx="3504960" cy="2210040"/>
          </a:xfrm>
          <a:prstGeom prst="rect">
            <a:avLst/>
          </a:prstGeom>
          <a:ln w="0">
            <a:noFill/>
          </a:ln>
        </p:spPr>
      </p:pic>
      <p:pic>
        <p:nvPicPr>
          <p:cNvPr id="67" name="Содержимое 3" descr="IMG.jpg"/>
          <p:cNvPicPr/>
          <p:nvPr/>
        </p:nvPicPr>
        <p:blipFill>
          <a:blip r:embed="rId2"/>
          <a:srcRect l="0" t="43528" r="69517" b="0"/>
          <a:stretch/>
        </p:blipFill>
        <p:spPr>
          <a:xfrm>
            <a:off x="685800" y="1752480"/>
            <a:ext cx="2901960" cy="2237040"/>
          </a:xfrm>
          <a:prstGeom prst="rect">
            <a:avLst/>
          </a:prstGeom>
          <a:ln w="0">
            <a:noFill/>
          </a:ln>
        </p:spPr>
      </p:pic>
      <p:cxnSp>
        <p:nvCxnSpPr>
          <p:cNvPr id="68" name="Прямая со стрелкой 6"/>
          <p:cNvCxnSpPr/>
          <p:nvPr/>
        </p:nvCxnSpPr>
        <p:spPr>
          <a:xfrm>
            <a:off x="3732840" y="2742840"/>
            <a:ext cx="991080" cy="1524600"/>
          </a:xfrm>
          <a:prstGeom prst="straightConnector1">
            <a:avLst/>
          </a:prstGeom>
          <a:ln cap="rnd" w="2844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9" name="Рисунок 5" descr="0016-016-Kak-obnaruzhit-uglevody.jpg"/>
          <p:cNvPicPr/>
          <p:nvPr/>
        </p:nvPicPr>
        <p:blipFill>
          <a:blip r:embed="rId3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 №3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обнаружение углеводов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rcRect l="5834" t="41388" r="0" b="24142"/>
          <a:stretch/>
        </p:blipFill>
        <p:spPr>
          <a:xfrm>
            <a:off x="4876920" y="3352680"/>
            <a:ext cx="3504960" cy="2210040"/>
          </a:xfrm>
          <a:prstGeom prst="rect">
            <a:avLst/>
          </a:prstGeom>
          <a:ln w="0">
            <a:noFill/>
          </a:ln>
        </p:spPr>
      </p:pic>
      <p:pic>
        <p:nvPicPr>
          <p:cNvPr id="72" name="Содержимое 3" descr="IMG.jpg"/>
          <p:cNvPicPr/>
          <p:nvPr/>
        </p:nvPicPr>
        <p:blipFill>
          <a:blip r:embed="rId2"/>
          <a:srcRect l="0" t="43528" r="69517" b="0"/>
          <a:stretch/>
        </p:blipFill>
        <p:spPr>
          <a:xfrm>
            <a:off x="685800" y="1752480"/>
            <a:ext cx="2901960" cy="2237040"/>
          </a:xfrm>
          <a:prstGeom prst="rect">
            <a:avLst/>
          </a:prstGeom>
          <a:ln w="0">
            <a:noFill/>
          </a:ln>
        </p:spPr>
      </p:pic>
      <p:cxnSp>
        <p:nvCxnSpPr>
          <p:cNvPr id="73" name="Прямая со стрелкой 6"/>
          <p:cNvCxnSpPr/>
          <p:nvPr/>
        </p:nvCxnSpPr>
        <p:spPr>
          <a:xfrm>
            <a:off x="3732840" y="2742840"/>
            <a:ext cx="991080" cy="1524600"/>
          </a:xfrm>
          <a:prstGeom prst="straightConnector1">
            <a:avLst/>
          </a:prstGeom>
          <a:ln cap="rnd" w="284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 какой целью выращиваются данные растен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Содержимое 4" descr="7367581ab144bce9588cf25cf9484ed7_250x200.jpg"/>
          <p:cNvPicPr/>
          <p:nvPr/>
        </p:nvPicPr>
        <p:blipFill>
          <a:blip r:embed="rId1"/>
          <a:stretch/>
        </p:blipFill>
        <p:spPr>
          <a:xfrm>
            <a:off x="755640" y="1413000"/>
            <a:ext cx="3960720" cy="4608360"/>
          </a:xfrm>
          <a:prstGeom prst="rect">
            <a:avLst/>
          </a:prstGeom>
          <a:ln w="0">
            <a:noFill/>
          </a:ln>
        </p:spPr>
      </p:pic>
      <p:pic>
        <p:nvPicPr>
          <p:cNvPr id="76" name="Содержимое 5" descr="images.jpg"/>
          <p:cNvPicPr/>
          <p:nvPr/>
        </p:nvPicPr>
        <p:blipFill>
          <a:blip r:embed="rId2"/>
          <a:stretch/>
        </p:blipFill>
        <p:spPr>
          <a:xfrm>
            <a:off x="4932360" y="1413000"/>
            <a:ext cx="388764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ы, богатые углевод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C:\Users\Terminal Velocity\Desktop\биология 5\1. Биология - наука о живой природе\Урок 6. Химический состав клетки\углеводы.jpg"/>
          <p:cNvPicPr/>
          <p:nvPr/>
        </p:nvPicPr>
        <p:blipFill>
          <a:blip r:embed="rId1"/>
          <a:stretch/>
        </p:blipFill>
        <p:spPr>
          <a:xfrm>
            <a:off x="380880" y="1219320"/>
            <a:ext cx="83822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ксперимент 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наружение белков у раст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2" descr="0017-017-Kak-obnaruzhit-belki.jpg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ксперимент 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наружение белков у раст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е вещество, оставшееся в марлевом мешочке после промывания муки. Какое оно? Почему это вещество назвали клейковин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лейковина-это бел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 в состав живого организма входит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2" descr="image019.png"/>
          <p:cNvPicPr/>
          <p:nvPr/>
        </p:nvPicPr>
        <p:blipFill>
          <a:blip r:embed="rId1"/>
          <a:stretch/>
        </p:blipFill>
        <p:spPr>
          <a:xfrm>
            <a:off x="2438280" y="5486400"/>
            <a:ext cx="388620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бел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троительный материал» для клет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корение протекания химических реакций (ферменты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D:\Мои документы\Наглядность к уроку\открытая биология\общая биология\химический состав клеток\молочный белок казеин.jpg"/>
          <p:cNvPicPr/>
          <p:nvPr/>
        </p:nvPicPr>
        <p:blipFill>
          <a:blip r:embed="rId1"/>
          <a:stretch/>
        </p:blipFill>
        <p:spPr>
          <a:xfrm>
            <a:off x="457200" y="1523880"/>
            <a:ext cx="3962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Химический состав клетк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Содержимое 6" descr="slide_15.jpg"/>
          <p:cNvPicPr/>
          <p:nvPr/>
        </p:nvPicPr>
        <p:blipFill>
          <a:blip r:embed="rId1"/>
          <a:stretch/>
        </p:blipFill>
        <p:spPr>
          <a:xfrm>
            <a:off x="152280" y="228600"/>
            <a:ext cx="8839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следование №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Содержимое 4" descr="11.png"/>
          <p:cNvPicPr/>
          <p:nvPr/>
        </p:nvPicPr>
        <p:blipFill>
          <a:blip r:embed="rId1"/>
          <a:stretch/>
        </p:blipFill>
        <p:spPr>
          <a:xfrm>
            <a:off x="611280" y="1628640"/>
            <a:ext cx="3744720" cy="4321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видим  на бумаг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вод: в составе живых организмов есть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4"/>
          <p:cNvSpPr/>
          <p:nvPr/>
        </p:nvSpPr>
        <p:spPr>
          <a:xfrm>
            <a:off x="533520" y="4343400"/>
            <a:ext cx="2895480" cy="1600200"/>
          </a:xfrm>
          <a:prstGeom prst="rect">
            <a:avLst/>
          </a:prstGeom>
          <a:solidFill>
            <a:srgbClr val="ffffff"/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Содержимое 4" descr="237.jpg"/>
          <p:cNvPicPr/>
          <p:nvPr/>
        </p:nvPicPr>
        <p:blipFill>
          <a:blip r:embed="rId1"/>
          <a:stretch/>
        </p:blipFill>
        <p:spPr>
          <a:xfrm>
            <a:off x="571680" y="1143000"/>
            <a:ext cx="3695400" cy="2857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D:\Мои документы\Наглядность к уроку\открытая биология\общая биология\химический состав клеток\олеиновая кислота оливкового масла.jpg"/>
          <p:cNvPicPr/>
          <p:nvPr/>
        </p:nvPicPr>
        <p:blipFill>
          <a:blip r:embed="rId2"/>
          <a:stretch/>
        </p:blipFill>
        <p:spPr>
          <a:xfrm>
            <a:off x="4572000" y="1143000"/>
            <a:ext cx="3657600" cy="2700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3"/>
          <a:stretch/>
        </p:blipFill>
        <p:spPr>
          <a:xfrm>
            <a:off x="4876920" y="3962520"/>
            <a:ext cx="3786120" cy="2714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http://im1-tub-ru.yandex.net/i?id=d8045d7e8457dde7a32b307f44f4a10a-36-144&amp;n=21"/>
          <p:cNvPicPr/>
          <p:nvPr/>
        </p:nvPicPr>
        <p:blipFill>
          <a:blip r:embed="rId4"/>
          <a:stretch/>
        </p:blipFill>
        <p:spPr>
          <a:xfrm>
            <a:off x="500040" y="4143240"/>
            <a:ext cx="4214880" cy="2714760"/>
          </a:xfrm>
          <a:prstGeom prst="rect">
            <a:avLst/>
          </a:prstGeom>
          <a:ln w="0">
            <a:noFill/>
          </a:ln>
        </p:spPr>
      </p:pic>
      <p:sp>
        <p:nvSpPr>
          <p:cNvPr id="96" name="TextBox 5"/>
          <p:cNvSpPr/>
          <p:nvPr/>
        </p:nvSpPr>
        <p:spPr>
          <a:xfrm>
            <a:off x="1600200" y="3049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личные раст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62160" y="27432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ческие веще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ы – тверд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животные) и жидк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астительные масл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асной источник энерг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 в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D:\Мои документы\Наглядность к уроку\открытая биология\общая биология\химический состав клеток\олеиновая кислота оливкового масла.jpg"/>
          <p:cNvPicPr/>
          <p:nvPr/>
        </p:nvPicPr>
        <p:blipFill>
          <a:blip r:embed="rId1"/>
          <a:stretch/>
        </p:blipFill>
        <p:spPr>
          <a:xfrm>
            <a:off x="457200" y="457200"/>
            <a:ext cx="3657600" cy="2895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D:\Мои документы\Наглядность к уроку\открытая биология\общая биология\химический состав клеток\стеарин (свечи).jpg"/>
          <p:cNvPicPr/>
          <p:nvPr/>
        </p:nvPicPr>
        <p:blipFill>
          <a:blip r:embed="rId2"/>
          <a:stretch/>
        </p:blipFill>
        <p:spPr>
          <a:xfrm>
            <a:off x="457200" y="3352680"/>
            <a:ext cx="36576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ы, богатые жир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C:\Users\Terminal Velocity\Desktop\биология 5\1. Биология - наука о живой природе\Урок 6. Химический состав клетки\жиры.jpg"/>
          <p:cNvPicPr/>
          <p:nvPr/>
        </p:nvPicPr>
        <p:blipFill>
          <a:blip r:embed="rId1"/>
          <a:stretch/>
        </p:blipFill>
        <p:spPr>
          <a:xfrm>
            <a:off x="457200" y="1295280"/>
            <a:ext cx="83059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Bickham Script Two"/>
              </a:rPr>
              <a:t>Письмо Незнайк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-360" y="762120"/>
            <a:ext cx="89154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начал изучать очень интересную науку о живых организмах - географию. Сегодня я узнал, что оказывается все организмы имеют в своем составе сложные вещества. Они бывают неорганическими и органическими. Органические вещества можно встретить повсюду. Сахар, который добавляют в конфеты, добывают прямо из недр Земли, в шахтах. Соль добывают рядом с сахарными шахтами, в соляных копях. Раз соль входит в состав живого организма -это органическое вещество! Вода – тоже органическое вещество, вот я ел виноград сегодня, он сочный оттого, что в составе его вода. Я убедился, что вода – вещество органическое. Я думаю, что я хорошо уже изучил географию, пора мне приступать к изучению химии, я сделаю много открытий и прославлюсь как величайший ученый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омашнее задани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ворческое задание на выбор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учите этикетки продуктов питания растительного происхождения и найдите информацию о содержании белков, жиров и углеводов. Выясните, какие продукты наиболее богаты этими веществами. Результаты исследования запишите в тетрад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ьзуя ресурсы Интернета или дополнительную литературу, проведите исследование и сделайте краткое сообщение о том, какие растения используют люди в разных странах для производства сахара, кроме сахарного тростника и сахарной свекл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Что является объектом нашего исследовани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Цель: изучить химический состав раст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дачи:  </a:t>
            </a: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Cambria"/>
              </a:rPr>
              <a:t>1. экспериментально выяснить химический состав растений;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Century"/>
              </a:rPr>
              <a:t>2. выявить роль растительных веществ в организме;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Users\Terminal Velocity\Desktop\биология 5\1. Биология - наука о живой природе\Урок 6. Химический состав клетки\вещества клетки.jpg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рганические веще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– сам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енн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ество в клетке, е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 средн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яет 80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D:\Мои документы\Наглядность к уроку\открытая биология\общая биология\химический состав клеток\вода - источник жизни на Земле.jpg"/>
          <p:cNvPicPr/>
          <p:nvPr/>
        </p:nvPicPr>
        <p:blipFill>
          <a:blip r:embed="rId1"/>
          <a:stretch/>
        </p:blipFill>
        <p:spPr>
          <a:xfrm>
            <a:off x="609480" y="1523880"/>
            <a:ext cx="38102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в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– растворитель, химические реакции протекают в водной сред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участвует в химических реакциях в клетк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ает клетке объем, упругос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вает поступление веществ в клетку и удаление ненужных вещест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ует перемещению веществ  по организм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D:\Мои документы\Наглядность к уроку\обои на рабочий стол\природа\0023.jpg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 1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5" descr="slide_4.jpg"/>
          <p:cNvPicPr/>
          <p:nvPr/>
        </p:nvPicPr>
        <p:blipFill>
          <a:blip r:embed="rId1"/>
          <a:stretch/>
        </p:blipFill>
        <p:spPr>
          <a:xfrm>
            <a:off x="457200" y="1447920"/>
            <a:ext cx="8077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08:33:46Z</dcterms:created>
  <dc:creator>Terminal Velocity</dc:creator>
  <dc:description/>
  <dc:language>en-US</dc:language>
  <cp:lastModifiedBy>Admin</cp:lastModifiedBy>
  <dcterms:modified xsi:type="dcterms:W3CDTF">2017-11-21T15:11:22Z</dcterms:modified>
  <cp:revision>42</cp:revision>
  <dc:subject/>
  <dc:title>Химический состав клетки 5 класс</dc:title>
</cp:coreProperties>
</file>