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A26-394C-4881-85A6-63DD5058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1DE-8C1E-4886-A1F3-86D5088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25B-100D-4E09-B1A0-9192F3D1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457-4C71-47C8-ADBE-D2EA40E7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1E6D-90A4-4BCF-9F93-811FCCBB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9798-0F28-4C14-ABC8-8913C2A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6A7-2613-4922-B754-1C9407ED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3B3-C485-4B04-9279-B27C520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618F-E878-472B-ABE7-35C62315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58BA-AFFD-4AD2-B4C0-920C9972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95C1-CB53-4BC4-B944-86AF364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F98-8543-4B5B-A0D8-80824EA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FF3-EBFC-4A25-88B8-A9C6E5C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C2B6-4D61-45CF-A540-00D78C0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553-DB0C-4342-ADC6-DB71AEF0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2199-BF0B-432E-8E8E-A012B1FF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D51-CF92-4B72-989A-F1085E42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7D7-FDF7-405B-9516-37C26F6D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966-C07F-49CA-A16B-74A2E4B9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C4A-4224-4AD1-9066-15C6BE8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46C-A8C0-4E97-96E9-524770D4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5E2-C6DF-4EB7-BEE3-49BB7CE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296-0966-474D-A25A-E955C4AE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E82-9945-45A1-833F-6FE08EB8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b0e757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594E-B44A-427D-84A7-814E804A75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2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b0e757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9102-8420-4106-9E36-ADAB18135E0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е «Правил Устройства и безопасной эксплуатации паровых и водогрейных котлов» к манометрам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443700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фессия «Машинист (кочегар) котельной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подаватель   Шестак Лариса Николае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1"/>
          <a:srcRect l="53292" t="0" r="-53284" b="0"/>
          <a:stretch/>
        </p:blipFill>
        <p:spPr>
          <a:xfrm>
            <a:off x="250920" y="765000"/>
            <a:ext cx="8893080" cy="525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0" y="260280"/>
            <a:ext cx="4248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еред каждым манометром должен быть установлен трехходовой кран или другое аналогичное устройство для продувки, проверки, и отключения манометра. Этим устройством может служить сифонная трубка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ЛОМБА ИЛИ КЛЕЙМ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16720" y="198108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аждом манометре должна стоять быть пломба или клейм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G:\Manometr с клеймом.jpg"/>
          <p:cNvPicPr/>
          <p:nvPr/>
        </p:nvPicPr>
        <p:blipFill>
          <a:blip r:embed="rId1"/>
          <a:stretch/>
        </p:blipFill>
        <p:spPr>
          <a:xfrm>
            <a:off x="179280" y="1700280"/>
            <a:ext cx="61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062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ВЕРКА МАНОМЕТРО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5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шинист (кочегар) котельной должен производить проверку не реже одного раза в смену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тственное лицо проверяет не реже одного раза в 6 месяцев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остехнадзор проверку манометров с их опломбированием (клеймением) производят не реже одного раза в 12 месяце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8280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роизводят проверку с помощью трехходового крана, постановкой стрелки на нуль, выполняют в следующем порядке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поминается показания манометра в рабочем положени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дленным поворотом пробки трехходового крана влево на четверть оборота манометр отключается от котла и соединяется (сообщается) с атмосферой; при этом стрелка должна быстро, но плавно вернуться к нулю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МАШИНИСТ (КОЧЕГАР) КОТЕЛЬНО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005360"/>
            <a:ext cx="87138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изводит проверку с помощью трехходового крана, постановкой стрелки на нуль, выполняют в следующем порядк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Запоминается показания манометра в рабочем положении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2" descr="G:\Рис.18-Трехходовой-кран-манометра.jpg"/>
          <p:cNvPicPr/>
          <p:nvPr/>
        </p:nvPicPr>
        <p:blipFill>
          <a:blip r:embed="rId1"/>
          <a:srcRect l="0" t="0" r="0" b="23518"/>
          <a:stretch/>
        </p:blipFill>
        <p:spPr>
          <a:xfrm>
            <a:off x="492120" y="1414440"/>
            <a:ext cx="83152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воротом пробки трехходового крана вправо на четверть оборота манометр снова соединяется с котлом; при этом стрелка должна быстро и плавно вернуться в прежнее положение; это будет означать, что манометр работает исправно; точность же его показаний может быть подтверждена только показаниями контрольного манометр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МАШИНИСТ (КОЧЕГАР) КОТЕЛЬНО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435280" y="1412640"/>
            <a:ext cx="33843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14089" t="0" r="14089" b="0"/>
          <a:stretch/>
        </p:blipFill>
        <p:spPr>
          <a:xfrm>
            <a:off x="179280" y="1592280"/>
            <a:ext cx="5213520" cy="48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563" t="-3732" r="71016" b="283"/>
          <a:stretch/>
        </p:blipFill>
        <p:spPr>
          <a:xfrm>
            <a:off x="5724360" y="1463760"/>
            <a:ext cx="2849760" cy="2541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29226" t="8094" r="43054" b="0"/>
          <a:stretch/>
        </p:blipFill>
        <p:spPr>
          <a:xfrm>
            <a:off x="5724360" y="4040280"/>
            <a:ext cx="28497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ОТВЕТСТВЕННОЕ ЛИЦО ИЛИ РОСТЕХНАДЗОР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43280" y="1628640"/>
            <a:ext cx="439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изводит проверку показаний рабочего манометра с помощью  контрольного,  которые должны иметь одинаковую шкалу и класс точности. Результаты проверки заносят в журнал контрольных проверо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2" descr="G:\картинкаРис.19-Проверка-рабочего-манометра-контрольным-221x300.jpg"/>
          <p:cNvPicPr/>
          <p:nvPr/>
        </p:nvPicPr>
        <p:blipFill>
          <a:blip r:embed="rId1"/>
          <a:srcRect l="-239" t="-227" r="257" b="36332"/>
          <a:stretch/>
        </p:blipFill>
        <p:spPr>
          <a:xfrm>
            <a:off x="179280" y="1916280"/>
            <a:ext cx="4273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ЗАПРЕЩАЕТСЯ ЭКСПЛУАТАЦИЯ МАНОМЕТРО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сутствие пломбы или клейма  с отметкой о  проведении ежегодной госпроверк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рочен срок госпроверки (на пломбе или клейме указывается месяц и год проверки)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-45576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стек срок периодической проверки (1раз в 6 мес.), проводимой на предприятии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000" y="620280"/>
            <a:ext cx="78483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трелка манометра при его включении не возвращается к нулевому показанию шкалы на величину, превышающую половину допустимой погрешности для данного манометра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збито стекло или имеются другие механические повреждения, которые могут отразиться на правильности его показаний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8036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f0"/>
                </a:solidFill>
                <a:uFillTx/>
                <a:latin typeface="Times New Roman"/>
              </a:rPr>
              <a:t>Тема программы: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онтрольно-измерительные приборы и автоматика безопасности в котельной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050"/>
                </a:solidFill>
                <a:uFillTx/>
                <a:latin typeface="Times New Roman"/>
              </a:rPr>
              <a:t>Тема урока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бования «Правил Устройства и безопасной эксплуатации паровых и водогрейных котлов» к манометрам и термометра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БОРЫ ДЛЯ ИЗМЕРЕНИЯ ТЕМПЕРАТУРЫ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8000" y="1699920"/>
            <a:ext cx="8928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водогрейных котлов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ля измерения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мпературы  воды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станавливают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ометры при входе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оды в котел и на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ходе из него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выходе воды из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тла термометр должен быть расположен между котлом и запорным органо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2" descr="G:\d182d0b5d180dтермометр.jpg"/>
          <p:cNvPicPr/>
          <p:nvPr/>
        </p:nvPicPr>
        <p:blipFill>
          <a:blip r:embed="rId1"/>
          <a:stretch/>
        </p:blipFill>
        <p:spPr>
          <a:xfrm>
            <a:off x="324000" y="1773360"/>
            <a:ext cx="4319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63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 наличии в котельной двух и более котлов термометры, кроме того, размещают на общих  подающем и обратном трубопроводах. В этом случае установка термометра на обратном трубопроводе каждого котла не обязательна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питательных трубопроводах паровых котлов устанавливают термометры для измерения температуры питательной вод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УСТАНОВКА ТЕРМОМЕТР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484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ометр должен быть установлен так, чтобы его показания были отчетливо видны обслуживающему персоналу, при этом шкала его должна быть расположена вертикально или с наклоном вперед до 30 градусов для улучшения видимости показаний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ста, где установлены термометры должны быть хорошо освеще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СПАСИБО 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ЗА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Times New Roman"/>
              </a:rPr>
              <a:t>ВНИМАНИЕ!</a:t>
            </a:r>
            <a:r>
              <a:rPr b="0" lang="ru-RU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Обобщить и углубить знания обучающихся по теме: Контрольно-измерительные приборы и автоматика безопасности в котельно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Вывести требования «Правил Устройства и безопасной эксплуатации паровых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водогрейных котлов» к манометрам и термометра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788000" y="457200"/>
            <a:ext cx="4356000" cy="63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ля наблюдения за давлением на котле, пароперегревателе, водяном экономайзере, паропроводах, питательных трубопроводах служат манометры, класс точности которых должен быть не ниже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,5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- при  рабочем давлении д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2,5 МПа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5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при рабочем давлении бол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,5 и до 14 МПа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,0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при рабочем давлении бол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 МП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5292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ЛАСС ТОЧНОСТИ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42920" y="1125360"/>
            <a:ext cx="4645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ШКАЛА МАНОМЕТР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1341360"/>
            <a:ext cx="34574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Шкала установленного манометра должна быть такой, чтобы при разрешенном рабочем давлении стрелка манометра находилась во второй трети шкалы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http://stroyday.ru/wp-content/uploads/2015/04/%D0%9C%D0%B0%D0%BD%D0%BE%D0%BC%D0%B5%D1%82%D1%80.jpg"/>
          <p:cNvPicPr/>
          <p:nvPr/>
        </p:nvPicPr>
        <p:blipFill>
          <a:blip r:embed="rId1"/>
          <a:stretch/>
        </p:blipFill>
        <p:spPr>
          <a:xfrm>
            <a:off x="108000" y="1413000"/>
            <a:ext cx="532764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08000" y="981000"/>
            <a:ext cx="81360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шкале манометра должна быт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несена красная черта по делению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ответствующему разрешенном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абочему давлению в котл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замен красной черты может бы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креплена к корпусу манометр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утем пайки металлическа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ластинка,  окрашенная в красны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цвет  и плотно  прилегающая к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еклу маномет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тегорически запрещаетс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носить красную  черту непосредственно на стекло  маномет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5" descr="G:\с красной риской.jpg"/>
          <p:cNvPicPr/>
          <p:nvPr/>
        </p:nvPicPr>
        <p:blipFill>
          <a:blip r:embed="rId1"/>
          <a:stretch/>
        </p:blipFill>
        <p:spPr>
          <a:xfrm>
            <a:off x="5508720" y="1413000"/>
            <a:ext cx="3635280" cy="43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РАСНАЯ ЧЕРТ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УСТАНОВКА МАНОМЕТР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7280" y="1916280"/>
            <a:ext cx="6840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нометр должен быть установлен так, чтобы его показания были отчетливо видны обслуживающему персоналу, при этом шкала его должна быть расположена вертикально или с наклоном вперед до 30 градусов для улучшения видимости показа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G:\манометр на трубопроводе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580000" y="333360"/>
            <a:ext cx="356400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Диаметр манометров зависит от высоты трубопровод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G:\диаметры манометров.jpg"/>
          <p:cNvPicPr/>
          <p:nvPr/>
        </p:nvPicPr>
        <p:blipFill>
          <a:blip r:embed="rId1"/>
          <a:stretch/>
        </p:blipFill>
        <p:spPr>
          <a:xfrm>
            <a:off x="108000" y="189000"/>
            <a:ext cx="5472000" cy="3168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3644640"/>
            <a:ext cx="892800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 2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 уровня площадки наблюдения за манометром, должен быть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00м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 2-3 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. –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60 мм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 3-5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не мен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50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м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 установке манометра на высот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ее  5 м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олжен быть установлен сниженный манометр в качестве дублирующего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и должны быть хорошо освещены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4:00:48Z</dcterms:created>
  <dc:creator>Дмитрий</dc:creator>
  <dc:description/>
  <dc:language>en-US</dc:language>
  <cp:lastModifiedBy>Учетная запись Майкрософт</cp:lastModifiedBy>
  <dcterms:modified xsi:type="dcterms:W3CDTF">2022-11-26T07:14:55Z</dcterms:modified>
  <cp:revision>59</cp:revision>
  <dc:subject/>
  <dc:title>Манометры</dc:title>
</cp:coreProperties>
</file>