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0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A00A-A4E5-4A81-9E87-D09A0B54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04CB-83AB-40CB-992A-CDFB9EAB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A56B-DD7B-40E1-BC83-E3E4FD81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37D9-F15A-41C2-8E6B-DE066F51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F598-C8D5-4A21-8780-B6F6A7403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8C64-B973-44FA-AEDB-3BB2618C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589E-44FE-4FF8-8F5E-3FFA3E41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0402-8C0F-4EC1-944F-B06B21FC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8E1D-CA2C-44EE-A92F-61381124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EB86-BE0D-4CCC-B7F5-E63013E4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F0FA-9564-415A-8BC1-000BA7A4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03B-6D41-40A0-879E-477A323D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A097-FA14-461C-ABA1-32A4D76C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F535-A4E9-4603-A7FE-C8161C71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B2B2-D60C-4C3B-A7C4-8A665C11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C067-E866-447B-BFD2-F5E1BFD8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B9AC-477B-4BC0-AA26-0A14E42D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C8DA-A129-4D57-9CC0-11F93C17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9603-A70D-4AF3-B0B1-59685022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A19C-967B-4A9F-909B-D2A94D4A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96EB-7C4D-4BEC-8219-23D6DC74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4C9-7A11-465D-9F4E-BC8A1768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B882-0164-48AB-AD5B-0A4F122E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BDDA-302E-408E-9AF1-5E791A65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2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b0e757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82B5-43F2-4F8B-AA63-973FD5037AA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2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b0e757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3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5192-1897-46A7-825C-4492886A60DD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Требование «Правил Устройства и безопасной эксплуатации паровых и водогрейных котлов» к манометрам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5280" y="4437000"/>
            <a:ext cx="8424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офессия «Машинист (кочегар) котельной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еподаватель   Шестак Лариса Николаевн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0" descr=""/>
          <p:cNvPicPr/>
          <p:nvPr/>
        </p:nvPicPr>
        <p:blipFill>
          <a:blip r:embed="rId1"/>
          <a:srcRect l="53292" t="0" r="-53284" b="0"/>
          <a:stretch/>
        </p:blipFill>
        <p:spPr>
          <a:xfrm>
            <a:off x="250920" y="765000"/>
            <a:ext cx="8893080" cy="5256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572000" y="260280"/>
            <a:ext cx="4248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еред каждым манометром должен быть установлен трехходовой кран или другое аналогичное устройство для продувки, проверки, и отключения манометра. Этим устройством может служить сифонная трубка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ПЛОМБА ИЛИ КЛЕЙМО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16720" y="1981080"/>
            <a:ext cx="244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а каждом манометре должна стоять быть пломба или клейм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3" descr="G:\Manometr с клеймом.jpg"/>
          <p:cNvPicPr/>
          <p:nvPr/>
        </p:nvPicPr>
        <p:blipFill>
          <a:blip r:embed="rId1"/>
          <a:stretch/>
        </p:blipFill>
        <p:spPr>
          <a:xfrm>
            <a:off x="179280" y="1700280"/>
            <a:ext cx="6193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0629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ПРОВЕРКА МАНОМЕТРОВ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5582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Машинист (кочегар) котельной должен производить проверку не реже одного раза в смену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тветственное лицо проверяет не реже одного раза в 6 месяцев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Ростехнадзор проверку манометров с их опломбированием (клеймением) производят не реже одного раза в 12 месяцев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68000" y="476280"/>
            <a:ext cx="8280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Производят проверку с помощью трехходового крана, постановкой стрелки на нуль, выполняют в следующем порядке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Запоминается показания манометра в рабочем положении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Медленным поворотом пробки трехходового крана влево на четверть оборота манометр отключается от котла и соединяется (сообщается) с атмосферой; при этом стрелка должна быстро, но плавно вернуться к нулю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47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МАШИНИСТ (КОЧЕГАР) КОТЕЛЬНОЙ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4005360"/>
            <a:ext cx="8713800" cy="24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роизводит проверку с помощью трехходового крана, постановкой стрелки на нуль, выполняют в следующем порядке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Запоминается показания манометра в рабочем положении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2" descr="G:\Рис.18-Трехходовой-кран-манометра.jpg"/>
          <p:cNvPicPr/>
          <p:nvPr/>
        </p:nvPicPr>
        <p:blipFill>
          <a:blip r:embed="rId1"/>
          <a:srcRect l="0" t="0" r="0" b="23518"/>
          <a:stretch/>
        </p:blipFill>
        <p:spPr>
          <a:xfrm>
            <a:off x="492120" y="1414440"/>
            <a:ext cx="8315280" cy="22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83516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оворотом пробки трехходового крана вправо на четверть оборота манометр снова соединяется с котлом; при этом стрелка должна быстро и плавно вернуться в прежнее положение; это будет означать, что манометр работает исправно; точность же его показаний может быть подтверждена только показаниями контрольного манометра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МАШИНИСТ (КОЧЕГАР) КОТЕЛЬНОЙ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435280" y="1412640"/>
            <a:ext cx="338436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rcRect l="14089" t="0" r="14089" b="0"/>
          <a:stretch/>
        </p:blipFill>
        <p:spPr>
          <a:xfrm>
            <a:off x="179280" y="1592280"/>
            <a:ext cx="5213520" cy="4824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rcRect l="563" t="-3732" r="71016" b="283"/>
          <a:stretch/>
        </p:blipFill>
        <p:spPr>
          <a:xfrm>
            <a:off x="5724360" y="1463760"/>
            <a:ext cx="2849760" cy="2541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3"/>
          <a:srcRect l="29226" t="8094" r="43054" b="0"/>
          <a:stretch/>
        </p:blipFill>
        <p:spPr>
          <a:xfrm>
            <a:off x="5724360" y="4040280"/>
            <a:ext cx="284976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ОТВЕТСТВЕННОЕ ЛИЦО ИЛИ РОСТЕХНАДЗОР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643280" y="1628640"/>
            <a:ext cx="4392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оизводит проверку показаний рабочего манометра с помощью  контрольного,  которые должны иметь одинаковую шкалу и класс точности. Результаты проверки заносят в журнал контрольных проверок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Picture 2" descr="G:\картинкаРис.19-Проверка-рабочего-манометра-контрольным-221x300.jpg"/>
          <p:cNvPicPr/>
          <p:nvPr/>
        </p:nvPicPr>
        <p:blipFill>
          <a:blip r:embed="rId1"/>
          <a:srcRect l="-239" t="-227" r="257" b="36332"/>
          <a:stretch/>
        </p:blipFill>
        <p:spPr>
          <a:xfrm>
            <a:off x="179280" y="1916280"/>
            <a:ext cx="42735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ЗАПРЕЩАЕТСЯ ЭКСПЛУАТАЦИЯ МАНОМЕТРОВ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95280" y="242064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5760" indent="-45576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тсутствие пломбы или клейма  с отметкой о  проведении ежегодной госпроверки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5760" indent="-45576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осрочен срок госпроверки (на пломбе или клейме указывается месяц и год проверки)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5760" indent="-45576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Истек срок периодической проверки (1раз в 6 мес.), проводимой на предприятии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4000" y="620280"/>
            <a:ext cx="784836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трелка манометра при его включении не возвращается к нулевому показанию шкалы на величину, превышающую половину допустимой погрешности для данного манометра;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Разбито стекло или имеются другие механические повреждения, которые могут отразиться на правильности его показаний.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28240"/>
            <a:ext cx="8280360" cy="28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0f0"/>
                </a:solidFill>
                <a:uFillTx/>
                <a:latin typeface="Times New Roman"/>
              </a:rPr>
              <a:t>Тема программы: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Контрольно-измерительные приборы и автоматика безопасности в котельной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3213000"/>
            <a:ext cx="8424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050"/>
                </a:solidFill>
                <a:uFillTx/>
                <a:latin typeface="Times New Roman"/>
              </a:rPr>
              <a:t>Тема урока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Times New Roman"/>
              </a:rPr>
              <a:t>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ребования «Правил Устройства и безопасной эксплуатации паровых и водогрейных котлов» к манометрам и термометрам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ПРИБОРЫ ДЛЯ ИЗМЕРЕНИЯ ТЕМПЕРАТУРЫ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8000" y="1699920"/>
            <a:ext cx="8928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                                     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 водогрейных котлов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                               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для измерения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                                      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температуры  воды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                                 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станавливают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                                     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термометры при входе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                                     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оды в котел и на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                                   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ыходе из него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а выходе воды из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котла термометр должен быть расположен между котлом и запорным органом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Picture 2" descr="G:\d182d0b5d180dтермометр.jpg"/>
          <p:cNvPicPr/>
          <p:nvPr/>
        </p:nvPicPr>
        <p:blipFill>
          <a:blip r:embed="rId1"/>
          <a:stretch/>
        </p:blipFill>
        <p:spPr>
          <a:xfrm>
            <a:off x="324000" y="1773360"/>
            <a:ext cx="43192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4360" y="475920"/>
            <a:ext cx="7632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и наличии в котельной двух и более котлов термометры, кроме того, размещают на общих  подающем и обратном трубопроводах. В этом случае установка термометра на обратном трубопроводе каждого котла не обязательна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а питательных трубопроводах паровых котлов устанавливают термометры для измерения температуры питательной воды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42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УСТАНОВКА ТЕРМОМЕТРА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1484280"/>
            <a:ext cx="8353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Термометр должен быть установлен так, чтобы его показания были отчетливо видны обслуживающему персоналу, при этом шкала его должна быть расположена вертикально или с наклоном вперед до 30 градусов для улучшения видимости показаний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Места, где установлены термометры должны быть хорошо освещены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b0f0"/>
                </a:solidFill>
                <a:latin typeface="Times New Roman"/>
              </a:rPr>
              <a:t>СПАСИБО 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b0f0"/>
                </a:solidFill>
                <a:latin typeface="Times New Roman"/>
              </a:rPr>
              <a:t>ЗА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b0f0"/>
                </a:solidFill>
                <a:latin typeface="Times New Roman"/>
              </a:rPr>
              <a:t>ВНИМАНИЕ!</a:t>
            </a:r>
            <a:r>
              <a:rPr b="0" lang="ru-RU" sz="8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</a:rPr>
              <a:t>Цель урока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62828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Обобщить и углубить знания обучающихся по теме: Контрольно-измерительные приборы и автоматика безопасности в котельной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Вывести требования «Правил Устройства и безопасной эксплуатации паровых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водогрейных котлов» к манометрам и термометрам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4788000" y="457200"/>
            <a:ext cx="4356000" cy="63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Для наблюдения за давлением на котле, пароперегревателе, водяном экономайзере, паропроводах, питательных трубопроводах служат манометры, класс точности которых должен быть не ниже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,5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- при  рабочем давлении до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2,5 МПа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,5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– при рабочем давлении боле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,5 и до 14 МПа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,0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– при рабочем давлении боле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4 МП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52927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КЛАСС ТОЧНОСТИ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142920" y="1125360"/>
            <a:ext cx="4645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3628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ШКАЛА МАНОМЕТРА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435640" y="1341360"/>
            <a:ext cx="345744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Шкала установленного манометра должна быть такой, чтобы при разрешенном рабочем давлении стрелка манометра находилась во второй трети шкалы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icture 6" descr="http://stroyday.ru/wp-content/uploads/2015/04/%D0%9C%D0%B0%D0%BD%D0%BE%D0%BC%D0%B5%D1%82%D1%80.jpg"/>
          <p:cNvPicPr/>
          <p:nvPr/>
        </p:nvPicPr>
        <p:blipFill>
          <a:blip r:embed="rId1"/>
          <a:stretch/>
        </p:blipFill>
        <p:spPr>
          <a:xfrm>
            <a:off x="108000" y="1413000"/>
            <a:ext cx="532764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08000" y="981000"/>
            <a:ext cx="813600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а шкале манометра должна быть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анесена красная черта по делению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оответствующему разрешенному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рабочему давлению в котле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замен красной черты может быт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рикреплена к корпусу манометра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утем пайки металлическа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ластинка,  окрашенная в красны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цвет  и плотно  прилегающая к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теклу манометр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тегорически запрещаетс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аносить красную  черту непосредственно на стекло  манометр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Picture 5" descr="G:\с красной риской.jpg"/>
          <p:cNvPicPr/>
          <p:nvPr/>
        </p:nvPicPr>
        <p:blipFill>
          <a:blip r:embed="rId1"/>
          <a:stretch/>
        </p:blipFill>
        <p:spPr>
          <a:xfrm>
            <a:off x="5508720" y="1413000"/>
            <a:ext cx="3635280" cy="4392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КРАСНАЯ ЧЕРТА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УСТАНОВКА МАНОМЕТРА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7280" y="1916280"/>
            <a:ext cx="684072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Манометр должен быть установлен так, чтобы его показания были отчетливо видны обслуживающему персоналу, при этом шкала его должна быть расположена вертикально или с наклоном вперед до 30 градусов для улучшения видимости показани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G:\манометр на трубопроводе.jpg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5580000" y="333360"/>
            <a:ext cx="3564000" cy="39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Диаметр манометров зависит от высоты трубопровода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Picture 4" descr="G:\диаметры манометров.jpg"/>
          <p:cNvPicPr/>
          <p:nvPr/>
        </p:nvPicPr>
        <p:blipFill>
          <a:blip r:embed="rId1"/>
          <a:stretch/>
        </p:blipFill>
        <p:spPr>
          <a:xfrm>
            <a:off x="108000" y="189000"/>
            <a:ext cx="5472000" cy="3168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3644640"/>
            <a:ext cx="8928000" cy="33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14440" indent="-514440">
              <a:lnSpc>
                <a:spcPct val="100000"/>
              </a:lnSpc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а высот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 2 м.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т уровня площадки наблюдения за манометром, должен быть не мене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00мм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;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а высот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т 2-3 м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. – не мене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60 мм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;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а высот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т 3-5 м.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– не мене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50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мм.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ри установке манометра на высот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олее  5 м.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должен быть установлен сниженный манометр в качестве дублирующего.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ни должны быть хорошо освещены. 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4:00:48Z</dcterms:created>
  <dc:creator>Дмитрий</dc:creator>
  <dc:description/>
  <dc:language>en-US</dc:language>
  <cp:lastModifiedBy>Учетная запись Майкрософт</cp:lastModifiedBy>
  <dcterms:modified xsi:type="dcterms:W3CDTF">2022-11-26T07:14:55Z</dcterms:modified>
  <cp:revision>59</cp:revision>
  <dc:subject/>
  <dc:title>Манометры</dc:title>
</cp:coreProperties>
</file>