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CF9-DD2F-4893-B682-002BC846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E53-A0C4-4CC4-A445-54101E7C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A0D-A5B2-4429-A5A8-03286676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7BD-80E1-412E-9695-5D3B8E3F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2EB5-97C5-4A41-9049-87DC292B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FEF0-F8CC-45B1-B354-7A70062E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198A-6BC3-4FD5-83DA-B705CF2A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EF0D-F7D1-4569-AAAA-DCD4AC29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C51D-AAF4-454E-9B3D-78DB3A8E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CA12-9180-456A-8C02-1CEC6B61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23AB-5DCF-4754-A601-A101859A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D8D-EB67-480E-ACCC-75691C7E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D2BD-FA52-4F73-82D3-6E8AD7A9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9442-2A1E-4A30-B8D5-97C6B9A6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C59F-AEA9-47C5-8B01-83497D78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6C4C-C9BC-4E86-BF1D-6BC56297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3DD9-64AE-4E94-A0D6-4FB1D510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AD7-E740-4A1F-B592-8F50CF8B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909-9BF2-403E-91FE-E48C970F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299-B1B1-40B9-87A1-3E6F33F5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9D5-6447-4CE8-9B95-0F4226C3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BB2-D7B4-42B2-AF7A-3809EF3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965-B24F-42D1-8B87-38022579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753-E25A-41AF-BA75-B6DBA9B0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3348-CB93-4E4F-B13D-E030955A66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BE4E-80DB-4C76-9724-32035594E1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Users/&#1052;&#1072;&#1088;&#1080;&#1085;&#1072;/Desktop/&#1087;&#1086;&#1078;&#1072;&#1088;/1281893479_pravila-pozharnoj-bezopasnosti-dlya-doshkolnikov1.jpg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803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лассный час в 4 - классе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487840" y="4357800"/>
            <a:ext cx="283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агунова Л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КОУ СОШ №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. Преград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C:\Users\Марина\Desktop\пожар\1281893479_pravila-pozharnoj-bezopasnosti-dlya-doshkolnikov1.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5" descr="j0293238"/>
          <p:cNvPicPr/>
          <p:nvPr/>
        </p:nvPicPr>
        <p:blipFill>
          <a:blip r:embed="rId2"/>
          <a:stretch/>
        </p:blipFill>
        <p:spPr>
          <a:xfrm>
            <a:off x="5486400" y="3400560"/>
            <a:ext cx="2819520" cy="2082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1281893479_pravila-pozharnoj-bezopasnosti-dlya-doshkolnikov1"/>
          <p:cNvPicPr/>
          <p:nvPr/>
        </p:nvPicPr>
        <p:blipFill>
          <a:blip r:embed="rId3">
            <a:lum contrast="24000"/>
          </a:blip>
          <a:srcRect l="0" t="10499" r="0" b="7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ель: повторить  правила противопожарной безопасности и их применение в жизн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11" descr="крыша горит"/>
          <p:cNvPicPr/>
          <p:nvPr/>
        </p:nvPicPr>
        <p:blipFill>
          <a:blip r:embed="rId1"/>
          <a:stretch/>
        </p:blipFill>
        <p:spPr>
          <a:xfrm>
            <a:off x="4500720" y="2924280"/>
            <a:ext cx="44290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Овал 8"/>
          <p:cNvSpPr/>
          <p:nvPr/>
        </p:nvSpPr>
        <p:spPr>
          <a:xfrm>
            <a:off x="5072040" y="928800"/>
            <a:ext cx="171468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Лишение жил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Овал 10"/>
          <p:cNvSpPr/>
          <p:nvPr/>
        </p:nvSpPr>
        <p:spPr>
          <a:xfrm>
            <a:off x="5286240" y="5000760"/>
            <a:ext cx="171468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Стр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Овал 11"/>
          <p:cNvSpPr/>
          <p:nvPr/>
        </p:nvSpPr>
        <p:spPr>
          <a:xfrm>
            <a:off x="2428920" y="5072040"/>
            <a:ext cx="171432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Г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Овал 13"/>
          <p:cNvSpPr/>
          <p:nvPr/>
        </p:nvSpPr>
        <p:spPr>
          <a:xfrm>
            <a:off x="6715080" y="3000240"/>
            <a:ext cx="171468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Гиб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Овал 14"/>
          <p:cNvSpPr/>
          <p:nvPr/>
        </p:nvSpPr>
        <p:spPr>
          <a:xfrm>
            <a:off x="3214800" y="2714760"/>
            <a:ext cx="2857320" cy="1785960"/>
          </a:xfrm>
          <a:prstGeom prst="ellipse">
            <a:avLst/>
          </a:prstGeom>
          <a:solidFill>
            <a:srgbClr val="ffff59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Ого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98" name="Прямая со стрелкой 16"/>
          <p:cNvCxnSpPr/>
          <p:nvPr/>
        </p:nvCxnSpPr>
        <p:spPr>
          <a:xfrm>
            <a:off x="5286240" y="4357800"/>
            <a:ext cx="6433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9" name="Овал 15"/>
          <p:cNvSpPr/>
          <p:nvPr/>
        </p:nvSpPr>
        <p:spPr>
          <a:xfrm>
            <a:off x="2143080" y="1000080"/>
            <a:ext cx="171468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Д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Овал 18"/>
          <p:cNvSpPr/>
          <p:nvPr/>
        </p:nvSpPr>
        <p:spPr>
          <a:xfrm>
            <a:off x="785880" y="3143160"/>
            <a:ext cx="171432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Ожо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401" name="Прямая со стрелкой 19"/>
          <p:cNvCxnSpPr/>
          <p:nvPr/>
        </p:nvCxnSpPr>
        <p:spPr>
          <a:xfrm flipH="1">
            <a:off x="3714480" y="4428720"/>
            <a:ext cx="35784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2" name="Прямая со стрелкой 21"/>
          <p:cNvCxnSpPr/>
          <p:nvPr/>
        </p:nvCxnSpPr>
        <p:spPr>
          <a:xfrm flipH="1" flipV="1">
            <a:off x="3428640" y="1999800"/>
            <a:ext cx="635760" cy="77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3" name="Прямая со стрелкой 22"/>
          <p:cNvCxnSpPr>
            <a:endCxn id="400" idx="6"/>
          </p:cNvCxnSpPr>
          <p:nvPr/>
        </p:nvCxnSpPr>
        <p:spPr>
          <a:xfrm flipH="1">
            <a:off x="2499480" y="3702600"/>
            <a:ext cx="785160" cy="11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4" name="Прямая со стрелкой 23"/>
          <p:cNvCxnSpPr/>
          <p:nvPr/>
        </p:nvCxnSpPr>
        <p:spPr>
          <a:xfrm flipV="1">
            <a:off x="5285160" y="1999440"/>
            <a:ext cx="42156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5" name="Прямая со стрелкой 24"/>
          <p:cNvCxnSpPr/>
          <p:nvPr/>
        </p:nvCxnSpPr>
        <p:spPr>
          <a:xfrm>
            <a:off x="6072120" y="3499920"/>
            <a:ext cx="6962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начение ог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онь обеспечил тепло и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онь плавит руд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одит в движение автомашины, пароходы, самолет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огает вырабатывать электроэнерг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2" descr="http://www.tulankide.com/es/ik4-ideko-colabora-creando-nuevos-procesos-eco-eficientes-para-sectores-industriales-estrategicos-de-euskadi/image"/>
          <p:cNvPicPr/>
          <p:nvPr/>
        </p:nvPicPr>
        <p:blipFill>
          <a:blip r:embed="rId1"/>
          <a:stretch/>
        </p:blipFill>
        <p:spPr>
          <a:xfrm>
            <a:off x="1643040" y="4500720"/>
            <a:ext cx="3530520" cy="2357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img1.goodfon.ru/original/1440x900/8/10/raketa-rossiya-soyuz-tma.jpg"/>
          <p:cNvPicPr/>
          <p:nvPr/>
        </p:nvPicPr>
        <p:blipFill>
          <a:blip r:embed="rId2"/>
          <a:stretch/>
        </p:blipFill>
        <p:spPr>
          <a:xfrm>
            <a:off x="5143680" y="4500720"/>
            <a:ext cx="377172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в группах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Если горит телевизор.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Пожар на балконе (лоджии).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Дым в подъезде.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. Пожар в многоэтажном зда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авила пожарной безопасно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Огонь нельзя оставля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без присмот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Если увидишь пламя,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зови на помощ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зросл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Вызывай пожарных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 телефону 0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От огня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ельзя прятать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Из горящего помещения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до быстр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уй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Опасней всего при  пожаре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д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итог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251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http://1.bp.blogspot.com/-3ibf6Go8VqU/TqMznoJwWDI/AAAAAAAAAHo/ZTlT9obO6Is/s1600/5364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23:46:05Z</dcterms:created>
  <dc:creator>Admin</dc:creator>
  <dc:description/>
  <dc:language>en-US</dc:language>
  <cp:lastModifiedBy>User</cp:lastModifiedBy>
  <dcterms:modified xsi:type="dcterms:W3CDTF">2017-03-09T18:44:14Z</dcterms:modified>
  <cp:revision>71</cp:revision>
  <dc:subject/>
  <dc:title>«Берегите свой дом  от пожара»</dc:title>
</cp:coreProperties>
</file>