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2C8-CF0A-49D7-80D0-BB98C25E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168-00B7-4E4B-9972-9C2D604E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A20-A599-4098-B870-41369500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92B5-F6E0-43AF-9349-6966173A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FF86-07C8-4257-93F8-8513A02F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6C12-46B4-4C48-B38E-070A4169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9D6A-7D18-4E65-B308-0326403F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C0A9-DD1F-4768-8418-F3BB2920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B27B-C8BB-40EE-AA42-3E4C85EE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D85D-FD3D-4785-AD39-A99D93F6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3EC9-9217-4F38-B08A-A843B55C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33C-C432-48B7-8600-0A5D94D9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5877-FD7C-4BB3-B8E1-CD02107E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819E-F21E-482E-B9AA-B8653765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C1B7-D711-4C47-8D88-6F11EE90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909C-C13D-4EA1-A07B-10CDD9A5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B0E9-43D6-4E03-BF22-0022E78A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072-8449-40B7-B15C-D353E2CF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C80-BE9D-44F5-9E1B-E3DC6135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6E3E-697C-4ADA-9393-B5B18A80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667-D3FE-4F62-B7F8-4A41D058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EBD-80F0-4F13-B00F-0C393077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F05-486F-4879-9598-27345DDC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A29D-E369-42B6-A90C-D8ACBF2E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ABBA-6501-404F-B094-A5DFDEBF774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7A1F-8508-45C4-91EA-380D7ADEA51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Users/&#1052;&#1072;&#1088;&#1080;&#1085;&#1072;/Desktop/&#1087;&#1086;&#1078;&#1072;&#1088;/1281893479_pravila-pozharnoj-bezopasnosti-dlya-doshkolnikov1.jpg" TargetMode="Externa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2803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Классный час в 4 - классе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5487840" y="4357800"/>
            <a:ext cx="283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агунова Л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КОУ СОШ №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. Преград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C:\Users\Марина\Desktop\пожар\1281893479_pravila-pozharnoj-bezopasnosti-dlya-doshkolnikov1.jp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Picture 5" descr="j0293238"/>
          <p:cNvPicPr/>
          <p:nvPr/>
        </p:nvPicPr>
        <p:blipFill>
          <a:blip r:embed="rId2"/>
          <a:stretch/>
        </p:blipFill>
        <p:spPr>
          <a:xfrm>
            <a:off x="5486400" y="3400560"/>
            <a:ext cx="2819520" cy="2082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1281893479_pravila-pozharnoj-bezopasnosti-dlya-doshkolnikov1"/>
          <p:cNvPicPr/>
          <p:nvPr/>
        </p:nvPicPr>
        <p:blipFill>
          <a:blip r:embed="rId3">
            <a:lum contrast="24000"/>
          </a:blip>
          <a:srcRect l="0" t="10499" r="0" b="78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Цель: повторить  правила противопожарной безопасности и их применение в жизн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11" descr="крыша горит"/>
          <p:cNvPicPr/>
          <p:nvPr/>
        </p:nvPicPr>
        <p:blipFill>
          <a:blip r:embed="rId1"/>
          <a:stretch/>
        </p:blipFill>
        <p:spPr>
          <a:xfrm>
            <a:off x="4500720" y="2924280"/>
            <a:ext cx="442908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Овал 8"/>
          <p:cNvSpPr/>
          <p:nvPr/>
        </p:nvSpPr>
        <p:spPr>
          <a:xfrm>
            <a:off x="5072040" y="928800"/>
            <a:ext cx="1714680" cy="1143000"/>
          </a:xfrm>
          <a:prstGeom prst="ellipse">
            <a:avLst/>
          </a:prstGeom>
          <a:solidFill>
            <a:srgbClr val="e5e500"/>
          </a:solidFill>
          <a:ln w="255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Лишение жиль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Овал 10"/>
          <p:cNvSpPr/>
          <p:nvPr/>
        </p:nvSpPr>
        <p:spPr>
          <a:xfrm>
            <a:off x="5286240" y="5000760"/>
            <a:ext cx="1714680" cy="1143000"/>
          </a:xfrm>
          <a:prstGeom prst="ellipse">
            <a:avLst/>
          </a:prstGeom>
          <a:solidFill>
            <a:srgbClr val="e5e500"/>
          </a:solidFill>
          <a:ln w="255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Стр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Овал 11"/>
          <p:cNvSpPr/>
          <p:nvPr/>
        </p:nvSpPr>
        <p:spPr>
          <a:xfrm>
            <a:off x="2428920" y="5072040"/>
            <a:ext cx="1714320" cy="1143000"/>
          </a:xfrm>
          <a:prstGeom prst="ellipse">
            <a:avLst/>
          </a:prstGeom>
          <a:solidFill>
            <a:srgbClr val="e5e500"/>
          </a:solidFill>
          <a:ln w="255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Го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Овал 13"/>
          <p:cNvSpPr/>
          <p:nvPr/>
        </p:nvSpPr>
        <p:spPr>
          <a:xfrm>
            <a:off x="6715080" y="3000240"/>
            <a:ext cx="1714680" cy="1143000"/>
          </a:xfrm>
          <a:prstGeom prst="ellipse">
            <a:avLst/>
          </a:prstGeom>
          <a:solidFill>
            <a:srgbClr val="e5e500"/>
          </a:solidFill>
          <a:ln w="255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Гибе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Овал 14"/>
          <p:cNvSpPr/>
          <p:nvPr/>
        </p:nvSpPr>
        <p:spPr>
          <a:xfrm>
            <a:off x="3214800" y="2714760"/>
            <a:ext cx="2857320" cy="1785960"/>
          </a:xfrm>
          <a:prstGeom prst="ellipse">
            <a:avLst/>
          </a:prstGeom>
          <a:solidFill>
            <a:srgbClr val="ffff59"/>
          </a:solidFill>
          <a:ln w="255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Ого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398" name="Прямая со стрелкой 16"/>
          <p:cNvCxnSpPr/>
          <p:nvPr/>
        </p:nvCxnSpPr>
        <p:spPr>
          <a:xfrm>
            <a:off x="5286240" y="4357800"/>
            <a:ext cx="643320" cy="714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99" name="Овал 15"/>
          <p:cNvSpPr/>
          <p:nvPr/>
        </p:nvSpPr>
        <p:spPr>
          <a:xfrm>
            <a:off x="2143080" y="1000080"/>
            <a:ext cx="1714680" cy="1143000"/>
          </a:xfrm>
          <a:prstGeom prst="ellipse">
            <a:avLst/>
          </a:prstGeom>
          <a:solidFill>
            <a:srgbClr val="e5e500"/>
          </a:solidFill>
          <a:ln w="255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Д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Овал 18"/>
          <p:cNvSpPr/>
          <p:nvPr/>
        </p:nvSpPr>
        <p:spPr>
          <a:xfrm>
            <a:off x="785880" y="3143160"/>
            <a:ext cx="1714320" cy="1143000"/>
          </a:xfrm>
          <a:prstGeom prst="ellipse">
            <a:avLst/>
          </a:prstGeom>
          <a:solidFill>
            <a:srgbClr val="e5e500"/>
          </a:solidFill>
          <a:ln w="255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Ожог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401" name="Прямая со стрелкой 19"/>
          <p:cNvCxnSpPr/>
          <p:nvPr/>
        </p:nvCxnSpPr>
        <p:spPr>
          <a:xfrm flipH="1">
            <a:off x="3714480" y="4428720"/>
            <a:ext cx="357840" cy="64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2" name="Прямая со стрелкой 21"/>
          <p:cNvCxnSpPr/>
          <p:nvPr/>
        </p:nvCxnSpPr>
        <p:spPr>
          <a:xfrm flipH="1" flipV="1">
            <a:off x="3428640" y="1999800"/>
            <a:ext cx="635760" cy="77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3" name="Прямая со стрелкой 22"/>
          <p:cNvCxnSpPr>
            <a:endCxn id="400" idx="6"/>
          </p:cNvCxnSpPr>
          <p:nvPr/>
        </p:nvCxnSpPr>
        <p:spPr>
          <a:xfrm flipH="1">
            <a:off x="2499480" y="3702600"/>
            <a:ext cx="785160" cy="11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4" name="Прямая со стрелкой 23"/>
          <p:cNvCxnSpPr/>
          <p:nvPr/>
        </p:nvCxnSpPr>
        <p:spPr>
          <a:xfrm flipV="1">
            <a:off x="5285160" y="1999440"/>
            <a:ext cx="421560" cy="715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5" name="Прямая со стрелкой 24"/>
          <p:cNvCxnSpPr/>
          <p:nvPr/>
        </p:nvCxnSpPr>
        <p:spPr>
          <a:xfrm>
            <a:off x="6072120" y="3499920"/>
            <a:ext cx="6962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начение огн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гонь обеспечил тепло и св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гонь плавит руду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одит в движение автомашины, пароходы, самолет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могает вырабатывать электроэнерг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2" descr="http://www.tulankide.com/es/ik4-ideko-colabora-creando-nuevos-procesos-eco-eficientes-para-sectores-industriales-estrategicos-de-euskadi/image"/>
          <p:cNvPicPr/>
          <p:nvPr/>
        </p:nvPicPr>
        <p:blipFill>
          <a:blip r:embed="rId1"/>
          <a:stretch/>
        </p:blipFill>
        <p:spPr>
          <a:xfrm>
            <a:off x="1643040" y="4500720"/>
            <a:ext cx="3530520" cy="2357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http://img1.goodfon.ru/original/1440x900/8/10/raketa-rossiya-soyuz-tma.jpg"/>
          <p:cNvPicPr/>
          <p:nvPr/>
        </p:nvPicPr>
        <p:blipFill>
          <a:blip r:embed="rId2"/>
          <a:stretch/>
        </p:blipFill>
        <p:spPr>
          <a:xfrm>
            <a:off x="5143680" y="4500720"/>
            <a:ext cx="377172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бота в группах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Если горит телевизор. 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Пожар на балконе (лоджии). 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 Дым в подъезде. 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. Пожар в многоэтажном здани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авила пожарной безопасност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Огонь нельзя оставлять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без присмотр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Если увидишь пламя,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зови на помощ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зросл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Вызывай пожарных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о телефону 0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От огня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ельзя прятать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Из горящего помещения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до быстр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уй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Опасней всего при  пожаре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д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итог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251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http://1.bp.blogspot.com/-3ibf6Go8VqU/TqMznoJwWDI/AAAAAAAAAHo/ZTlT9obO6Is/s1600/5364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23:46:05Z</dcterms:created>
  <dc:creator>Admin</dc:creator>
  <dc:description/>
  <dc:language>en-US</dc:language>
  <cp:lastModifiedBy>User</cp:lastModifiedBy>
  <dcterms:modified xsi:type="dcterms:W3CDTF">2017-03-09T18:44:14Z</dcterms:modified>
  <cp:revision>71</cp:revision>
  <dc:subject/>
  <dc:title>«Берегите свой дом  от пожара»</dc:title>
</cp:coreProperties>
</file>