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2.wmf" ContentType="image/x-wmf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13.wmf" ContentType="image/x-wmf"/>
  <Override PartName="/ppt/media/image6.gif" ContentType="image/gif"/>
  <Override PartName="/ppt/media/image11.gif" ContentType="image/gif"/>
  <Override PartName="/ppt/media/image7.jpeg" ContentType="image/jpeg"/>
  <Override PartName="/ppt/media/image8.png" ContentType="image/pn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FE0-BA9D-4088-9761-E8D62E0D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676-0B9C-4EFF-9B39-396119D8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C4D-057B-44D7-8A66-8CA69460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1B5-D825-4C46-B5D3-D7CB3F76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9013-8599-4F42-A4FB-F5E7BF80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E697-111B-47A8-8721-D91EF6CD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479E-F2F5-4AC6-A619-76928B01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D464-F73B-4274-8E93-7CFB0129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86AF-ADCD-466D-8D14-F51B43BF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359F-51B8-48EA-8EFB-B2D2BABC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A56B-3A89-4FFF-B281-73127BC8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973-C4DB-4476-AB52-2101A659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4A21-9DFB-4198-88A9-A21B37E1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46F1-304C-4337-8002-CC3ACC6F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3C88-84C6-4BCB-BA16-107F9732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E905-DA7B-4FED-BDE8-2966FFEE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892F-F672-4E8C-95AB-8E88A8C9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B4FFF-6ABA-4CC1-8FE1-D68A5E93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C31CD-F12A-406B-8022-89272D18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2B0C7-4C6C-475B-BFE0-C913EC9E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1C6CC-C687-449A-9311-66F6DEC6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A192C-CE93-4D56-AE92-5585774B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61FA-A231-4CAF-8DD4-5589D167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6B306-9A30-495A-A085-E9B94317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0001E-77E8-4BA7-904E-9A31D9DF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C73C8-3254-4FEC-81CF-0EE72757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C3C80-13A7-4B34-96C1-B7327679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A3009-1BD5-4810-AEF3-A5DDB1C9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B224-B332-46CC-9000-EDAB616B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9322B-B5B6-4EF9-B28A-E2E46C3A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72AE97-3D32-4E2B-A6EA-4364352E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AF33E6-94F1-4F4D-AFF9-1122629B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CFA7B0-F978-4562-8346-9E65B9E6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16E-7AE0-4C53-A993-34583E17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839657-7389-4F9A-8E4D-04A1B56C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DAC18-037A-4B51-9512-D8117BA7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54C06C-0D13-410B-ACB0-F679AF23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48EEA9-4724-4D0A-A98A-2B7CA1F9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4ECC2-248C-46B2-BFB4-66EBA6E9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464B4C-DCF1-4B56-AB9B-6B73EF34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37BA54-AB16-41A3-9D43-FB57F7C7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10BA40-BAC1-418F-A1E5-89F72A48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E3483A-260F-44ED-893D-ABA4D76C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7D0-489F-4606-8640-43E37E02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C8D-B0D3-4F26-85A7-941DC28D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48E2-2642-430B-9F47-89E10251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90C-87A7-4E88-849E-10138F67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C1A-186F-43F5-A03A-D2330854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51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5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6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7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8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9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0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1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2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3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4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5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8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69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0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1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4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DD31-6D02-4F57-B5F0-A6A1DD00CAE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85BD-79ED-496A-9286-C2AF161690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60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9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0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1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2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3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4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5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6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7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8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9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0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1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2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3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4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5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6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7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8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9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0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1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2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3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4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5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6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7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8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9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00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01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02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03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04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05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206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207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08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09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10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11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12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13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14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15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16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17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18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19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20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21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22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223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224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25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26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27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28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29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30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231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8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9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2E64-B7F3-4770-B17F-37F89969F97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7FF3-EA2E-4BD9-AACF-A4B85023F7E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otki.yandex.ru/users/lenavoronova/view/20772/?page=7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../../Documents/Meeresreise/&#1055;&#1091;&#1090;&#1077;&#1096;&#1077;&#1089;&#1090;&#1074;&#1080;&#1077;%20&#1082;%20&#1085;&#1077;&#1080;&#1079;&#1074;&#1077;&#1076;&#1072;&#1085;&#1085;&#1086;&#1084;&#1091;%20&#1086;&#1089;&#1090;&#1088;&#1086;&#1074;&#1091;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MP900430443[1]"/>
          <p:cNvPicPr/>
          <p:nvPr/>
        </p:nvPicPr>
        <p:blipFill>
          <a:blip r:embed="rId1"/>
          <a:stretch/>
        </p:blipFill>
        <p:spPr>
          <a:xfrm>
            <a:off x="1908000" y="1413000"/>
            <a:ext cx="7236000" cy="5445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82789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908000" y="3860640"/>
            <a:ext cx="723600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Arial Narrow"/>
              </a:rPr>
              <a:t>             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Автор: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Григорьева Светлана Александровна,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учитель немецкого языка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МКОУ Николо-Погореловская СОШ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pic>
        <p:nvPicPr>
          <p:cNvPr id="318" name="Picture 7" descr="3"/>
          <p:cNvPicPr/>
          <p:nvPr/>
        </p:nvPicPr>
        <p:blipFill>
          <a:blip r:embed="rId2"/>
          <a:stretch/>
        </p:blipFill>
        <p:spPr>
          <a:xfrm>
            <a:off x="2268360" y="1557360"/>
            <a:ext cx="1659240" cy="1728720"/>
          </a:xfrm>
          <a:prstGeom prst="rect">
            <a:avLst/>
          </a:prstGeom>
          <a:ln w="0">
            <a:noFill/>
          </a:ln>
        </p:spPr>
      </p:pic>
      <p:sp>
        <p:nvSpPr>
          <p:cNvPr id="319" name="WordArt 9"/>
          <p:cNvSpPr txBox="1"/>
          <p:nvPr/>
        </p:nvSpPr>
        <p:spPr>
          <a:xfrm rot="183600">
            <a:off x="2771640" y="333360"/>
            <a:ext cx="6034320" cy="10080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Inselnreise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8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7" descr="germany_map"/>
          <p:cNvPicPr/>
          <p:nvPr/>
        </p:nvPicPr>
        <p:blipFill>
          <a:blip r:embed="rId1"/>
          <a:stretch/>
        </p:blipFill>
        <p:spPr>
          <a:xfrm>
            <a:off x="2411280" y="1773360"/>
            <a:ext cx="6732720" cy="50846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капитан"/>
          <p:cNvPicPr/>
          <p:nvPr/>
        </p:nvPicPr>
        <p:blipFill>
          <a:blip r:embed="rId2"/>
          <a:stretch/>
        </p:blipFill>
        <p:spPr>
          <a:xfrm>
            <a:off x="0" y="2349360"/>
            <a:ext cx="2411280" cy="45086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1"/>
          <p:cNvSpPr/>
          <p:nvPr/>
        </p:nvSpPr>
        <p:spPr>
          <a:xfrm>
            <a:off x="0" y="1125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  <a:ea typeface="Arial"/>
              </a:rPr>
              <a:t>Welche deutsche Städte sind hier?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49" name="WordArt 12"/>
          <p:cNvSpPr txBox="1"/>
          <p:nvPr/>
        </p:nvSpPr>
        <p:spPr>
          <a:xfrm>
            <a:off x="539640" y="0"/>
            <a:ext cx="81360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Städteinsel</a:t>
            </a:r>
            <a:endParaRPr b="0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Oval 6"/>
          <p:cNvSpPr/>
          <p:nvPr/>
        </p:nvSpPr>
        <p:spPr>
          <a:xfrm>
            <a:off x="2411280" y="2276640"/>
            <a:ext cx="4176720" cy="4581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351" name="Picture 5" descr="MC900416014[1]"/>
          <p:cNvPicPr/>
          <p:nvPr/>
        </p:nvPicPr>
        <p:blipFill>
          <a:blip r:embed="rId1"/>
          <a:stretch/>
        </p:blipFill>
        <p:spPr>
          <a:xfrm rot="1669200">
            <a:off x="3203280" y="3789360"/>
            <a:ext cx="1854000" cy="18032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MC900174821[1]"/>
          <p:cNvPicPr/>
          <p:nvPr/>
        </p:nvPicPr>
        <p:blipFill>
          <a:blip r:embed="rId2"/>
          <a:stretch/>
        </p:blipFill>
        <p:spPr>
          <a:xfrm>
            <a:off x="6659640" y="4869000"/>
            <a:ext cx="2484360" cy="1655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0" descr="MP900400376[1]"/>
          <p:cNvPicPr/>
          <p:nvPr/>
        </p:nvPicPr>
        <p:blipFill>
          <a:blip r:embed="rId3"/>
          <a:stretch/>
        </p:blipFill>
        <p:spPr>
          <a:xfrm>
            <a:off x="6659640" y="1989000"/>
            <a:ext cx="2484360" cy="1656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7" descr="MP900401345[1]"/>
          <p:cNvPicPr/>
          <p:nvPr/>
        </p:nvPicPr>
        <p:blipFill>
          <a:blip r:embed="rId4"/>
          <a:stretch/>
        </p:blipFill>
        <p:spPr>
          <a:xfrm>
            <a:off x="0" y="2205000"/>
            <a:ext cx="2484360" cy="1655640"/>
          </a:xfrm>
          <a:prstGeom prst="rect">
            <a:avLst/>
          </a:prstGeom>
          <a:ln w="0">
            <a:noFill/>
          </a:ln>
        </p:spPr>
      </p:pic>
      <p:sp>
        <p:nvSpPr>
          <p:cNvPr id="355" name="WordArt 20"/>
          <p:cNvSpPr txBox="1"/>
          <p:nvPr/>
        </p:nvSpPr>
        <p:spPr>
          <a:xfrm>
            <a:off x="539640" y="0"/>
            <a:ext cx="8136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Spielinsel</a:t>
            </a:r>
            <a:endParaRPr b="0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3059280" y="2924280"/>
            <a:ext cx="30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3300"/>
                </a:solidFill>
                <a:latin typeface="Arial"/>
                <a:ea typeface="Arial"/>
              </a:rPr>
              <a:t>„ </a:t>
            </a:r>
            <a:r>
              <a:rPr b="1" lang="de-DE" sz="4400" spc="-1" strike="noStrike">
                <a:solidFill>
                  <a:srgbClr val="003300"/>
                </a:solidFill>
                <a:latin typeface="Arial"/>
                <a:ea typeface="Arial"/>
              </a:rPr>
              <a:t>3 Inseln“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5"/>
          <p:cNvSpPr txBox="1"/>
          <p:nvPr/>
        </p:nvSpPr>
        <p:spPr>
          <a:xfrm>
            <a:off x="457200" y="0"/>
            <a:ext cx="822960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Lustige Insel</a:t>
            </a:r>
            <a:endParaRPr b="0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pic>
        <p:nvPicPr>
          <p:cNvPr id="358" name="Picture 15" descr="MP900431190[1]"/>
          <p:cNvPicPr/>
          <p:nvPr/>
        </p:nvPicPr>
        <p:blipFill>
          <a:blip r:embed="rId1"/>
          <a:stretch/>
        </p:blipFill>
        <p:spPr>
          <a:xfrm>
            <a:off x="1187280" y="1844640"/>
            <a:ext cx="69138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87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a10707"/>
                </a:solidFill>
                <a:latin typeface="Tahoma"/>
              </a:rPr>
              <a:t>Vielen Dank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5" descr="0_5288_c27af81_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276640"/>
            <a:ext cx="7921440" cy="4581360"/>
          </a:xfrm>
          <a:prstGeom prst="rect">
            <a:avLst/>
          </a:prstGeom>
          <a:ln w="0">
            <a:noFill/>
          </a:ln>
        </p:spPr>
      </p:pic>
      <p:sp>
        <p:nvSpPr>
          <p:cNvPr id="321" name="WordArt 6"/>
          <p:cNvSpPr txBox="1"/>
          <p:nvPr/>
        </p:nvSpPr>
        <p:spPr>
          <a:xfrm>
            <a:off x="684360" y="333360"/>
            <a:ext cx="7848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illkommen   zur   Inselnreise!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WordArt 115"/>
          <p:cNvSpPr txBox="1"/>
          <p:nvPr/>
        </p:nvSpPr>
        <p:spPr>
          <a:xfrm>
            <a:off x="395280" y="0"/>
            <a:ext cx="842472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Abc-Insel</a:t>
            </a:r>
            <a:endParaRPr b="0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979640" y="1440000"/>
          <a:ext cx="7164360" cy="5459400"/>
        </p:xfrm>
        <a:graphic>
          <a:graphicData uri="http://schemas.openxmlformats.org/drawingml/2006/table">
            <a:tbl>
              <a:tblPr/>
              <a:tblGrid>
                <a:gridCol w="1512720"/>
                <a:gridCol w="1440000"/>
                <a:gridCol w="1368360"/>
                <a:gridCol w="1497240"/>
                <a:gridCol w="1346040"/>
              </a:tblGrid>
              <a:tr h="91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A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Wir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K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e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G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i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N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de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D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gu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E 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e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O  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V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e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J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rei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X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ge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R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en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L 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Fr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B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i </a:t>
                      </a: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    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Y 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rn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P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Wir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M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u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T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ut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W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r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H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lfs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Z  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87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I 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be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Q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ler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F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und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U</a:t>
                      </a:r>
                      <a:r>
                        <a:rPr b="1" lang="ru-RU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ch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S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De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a10707"/>
                          </a:solidFill>
                          <a:latin typeface="Tahoma"/>
                          <a:ea typeface="Arial"/>
                        </a:rPr>
                        <a:t>C    </a:t>
                      </a: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d</a:t>
                      </a:r>
                      <a:endParaRPr b="0" lang="en-US" sz="32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66"/>
                      </a:solidFill>
                    </a:lnL>
                    <a:lnR w="18720">
                      <a:solidFill>
                        <a:srgbClr val="660066"/>
                      </a:solidFill>
                    </a:lnR>
                    <a:lnT w="18720">
                      <a:solidFill>
                        <a:srgbClr val="660066"/>
                      </a:solidFill>
                    </a:lnT>
                    <a:lnB w="18720">
                      <a:solidFill>
                        <a:srgbClr val="660066"/>
                      </a:solidFill>
                    </a:lnB>
                    <a:solidFill>
                      <a:srgbClr val="3366cc"/>
                    </a:solidFill>
                  </a:tcPr>
                </a:tc>
              </a:tr>
            </a:tbl>
          </a:graphicData>
        </a:graphic>
      </p:graphicFrame>
      <p:pic>
        <p:nvPicPr>
          <p:cNvPr id="324" name="Picture 615" descr="ученик 1"/>
          <p:cNvPicPr/>
          <p:nvPr/>
        </p:nvPicPr>
        <p:blipFill>
          <a:blip r:embed="rId1"/>
          <a:stretch/>
        </p:blipFill>
        <p:spPr>
          <a:xfrm>
            <a:off x="0" y="2133720"/>
            <a:ext cx="19080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5" descr="ученик 1"/>
          <p:cNvPicPr/>
          <p:nvPr/>
        </p:nvPicPr>
        <p:blipFill>
          <a:blip r:embed="rId1"/>
          <a:stretch/>
        </p:blipFill>
        <p:spPr>
          <a:xfrm>
            <a:off x="3132000" y="1844640"/>
            <a:ext cx="3527640" cy="3078360"/>
          </a:xfrm>
          <a:prstGeom prst="rect">
            <a:avLst/>
          </a:prstGeom>
          <a:ln w="0">
            <a:noFill/>
          </a:ln>
        </p:spPr>
      </p:pic>
      <p:sp>
        <p:nvSpPr>
          <p:cNvPr id="326" name="WordArt 6"/>
          <p:cNvSpPr txBox="1"/>
          <p:nvPr/>
        </p:nvSpPr>
        <p:spPr>
          <a:xfrm rot="20715000">
            <a:off x="1368360" y="980640"/>
            <a:ext cx="777564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Impact"/>
              </a:rPr>
              <a:t>ABC-Aufga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Impact"/>
              <a:ea typeface="Impact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250920" y="4221000"/>
            <a:ext cx="86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endParaRPr b="0" lang="en-US" sz="3600" spc="-1" strike="noStrike">
              <a:solidFill>
                <a:srgbClr val="ffcc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10707"/>
                </a:solidFill>
                <a:latin typeface="Arial"/>
                <a:ea typeface="Arial"/>
              </a:rPr>
              <a:t>Wir</a:t>
            </a:r>
            <a:r>
              <a:rPr b="0" lang="en-US" sz="3600" spc="-1" strike="noStrike">
                <a:solidFill>
                  <a:srgbClr val="a10707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a10707"/>
                </a:solidFill>
                <a:latin typeface="Arial"/>
                <a:ea typeface="Arial"/>
              </a:rPr>
              <a:t>sind  gute und hilfsbereite Freunde. Wir lernen Deutsch sehr gern.</a:t>
            </a:r>
            <a:endParaRPr b="0" lang="en-US" sz="36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5"/>
          <p:cNvSpPr txBox="1"/>
          <p:nvPr/>
        </p:nvSpPr>
        <p:spPr>
          <a:xfrm>
            <a:off x="468360" y="0"/>
            <a:ext cx="82296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10199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Matheinsel</a:t>
            </a:r>
            <a:endParaRPr b="0" lang="en-US" sz="2800" spc="1" strike="noStrike">
              <a:ln w="19080">
                <a:solidFill>
                  <a:srgbClr val="010199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329" name="Oval 17"/>
          <p:cNvSpPr/>
          <p:nvPr/>
        </p:nvSpPr>
        <p:spPr>
          <a:xfrm>
            <a:off x="1258920" y="2205000"/>
            <a:ext cx="6913440" cy="4653000"/>
          </a:xfrm>
          <a:prstGeom prst="ellipse">
            <a:avLst/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"/>
                <a:ea typeface="Arial"/>
              </a:rPr>
              <a:t>   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"/>
                <a:ea typeface="Arial"/>
              </a:rPr>
              <a:t>      </a:t>
            </a:r>
            <a:r>
              <a:rPr b="1" lang="ru-RU" sz="4400" spc="-1" strike="noStrike">
                <a:solidFill>
                  <a:srgbClr val="ffcc99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45</a:t>
            </a:r>
            <a:r>
              <a:rPr b="1" lang="ru-RU" sz="4400" spc="-1" strike="noStrike">
                <a:solidFill>
                  <a:srgbClr val="ffcc99"/>
                </a:solidFill>
                <a:latin typeface="Arial"/>
                <a:ea typeface="Arial"/>
              </a:rPr>
              <a:t>   </a:t>
            </a:r>
            <a:r>
              <a:rPr b="1" lang="ru-RU" sz="3600" spc="-1" strike="noStrike">
                <a:solidFill>
                  <a:srgbClr val="ffcc99"/>
                </a:solidFill>
                <a:latin typeface="Arial"/>
                <a:ea typeface="Arial"/>
              </a:rPr>
              <a:t>     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19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4069800" y="2637000"/>
            <a:ext cx="220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14</a:t>
            </a:r>
            <a:r>
              <a:rPr b="1" lang="ru-RU" sz="4400" spc="-1" strike="noStrike">
                <a:solidFill>
                  <a:srgbClr val="ffcc99"/>
                </a:solidFill>
                <a:latin typeface="Arial"/>
                <a:ea typeface="Arial"/>
              </a:rPr>
              <a:t>     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62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2771640" y="2924280"/>
            <a:ext cx="132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94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5653440" y="371628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32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33" name="Rectangle 22"/>
          <p:cNvSpPr/>
          <p:nvPr/>
        </p:nvSpPr>
        <p:spPr>
          <a:xfrm>
            <a:off x="4934160" y="54910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8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34" name="Rectangle 24"/>
          <p:cNvSpPr/>
          <p:nvPr/>
        </p:nvSpPr>
        <p:spPr>
          <a:xfrm>
            <a:off x="6661440" y="426708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76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2341800" y="38606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5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2700360" y="508464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11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3421440" y="40766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13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WordArt 5"/>
          <p:cNvSpPr txBox="1"/>
          <p:nvPr/>
        </p:nvSpPr>
        <p:spPr>
          <a:xfrm>
            <a:off x="539640" y="0"/>
            <a:ext cx="8136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Tanzinsel</a:t>
            </a:r>
            <a:endParaRPr b="0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pic>
        <p:nvPicPr>
          <p:cNvPr id="339" name="Picture 6" descr="танцевать"/>
          <p:cNvPicPr/>
          <p:nvPr/>
        </p:nvPicPr>
        <p:blipFill>
          <a:blip r:embed="rId1"/>
          <a:stretch/>
        </p:blipFill>
        <p:spPr>
          <a:xfrm>
            <a:off x="1258920" y="2349360"/>
            <a:ext cx="66261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MP900422307[1]"/>
          <p:cNvPicPr/>
          <p:nvPr/>
        </p:nvPicPr>
        <p:blipFill>
          <a:blip r:embed="rId1"/>
          <a:stretch/>
        </p:blipFill>
        <p:spPr>
          <a:xfrm>
            <a:off x="1258920" y="2133720"/>
            <a:ext cx="6697800" cy="4724280"/>
          </a:xfrm>
          <a:prstGeom prst="rect">
            <a:avLst/>
          </a:prstGeom>
          <a:ln w="0">
            <a:noFill/>
          </a:ln>
        </p:spPr>
      </p:pic>
      <p:sp>
        <p:nvSpPr>
          <p:cNvPr id="341" name="WordArt 14"/>
          <p:cNvSpPr txBox="1"/>
          <p:nvPr/>
        </p:nvSpPr>
        <p:spPr>
          <a:xfrm>
            <a:off x="539640" y="0"/>
            <a:ext cx="813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Tierinsel</a:t>
            </a:r>
            <a:endParaRPr b="0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WordArt 2"/>
          <p:cNvSpPr txBox="1"/>
          <p:nvPr/>
        </p:nvSpPr>
        <p:spPr>
          <a:xfrm>
            <a:off x="539640" y="0"/>
            <a:ext cx="813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Farbeninsel</a:t>
            </a:r>
            <a:endParaRPr b="0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pic>
        <p:nvPicPr>
          <p:cNvPr id="343" name="Picture 3" descr="MC900436170[1]"/>
          <p:cNvPicPr/>
          <p:nvPr/>
        </p:nvPicPr>
        <p:blipFill>
          <a:blip r:embed="rId1"/>
          <a:stretch/>
        </p:blipFill>
        <p:spPr>
          <a:xfrm>
            <a:off x="1187280" y="1916280"/>
            <a:ext cx="69138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6" descr="Message in a Bottle pictur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345" name="WordArt 9"/>
          <p:cNvSpPr txBox="1"/>
          <p:nvPr/>
        </p:nvSpPr>
        <p:spPr>
          <a:xfrm>
            <a:off x="468360" y="0"/>
            <a:ext cx="82296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Ein Zettel in der Flasche</a:t>
            </a:r>
            <a:endParaRPr b="0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1:20:34Z</dcterms:created>
  <dc:creator>Юля</dc:creator>
  <dc:description/>
  <dc:language>en-US</dc:language>
  <cp:lastModifiedBy>ГРИГОРЬВ</cp:lastModifiedBy>
  <dcterms:modified xsi:type="dcterms:W3CDTF">2013-06-12T19:39:00Z</dcterms:modified>
  <cp:revision>113</cp:revision>
  <dc:subject/>
  <dc:title>Willkommen zur Meeresreise! </dc:title>
</cp:coreProperties>
</file>