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13.wmf" ContentType="image/x-wmf"/>
  <Override PartName="/ppt/media/image6.gif" ContentType="image/gif"/>
  <Override PartName="/ppt/media/image11.gif" ContentType="image/gif"/>
  <Override PartName="/ppt/media/image7.jpeg" ContentType="image/jpe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336-3D58-4AB4-A408-8FD811ED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B6A-9307-4663-A6C3-2DD330FD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2E7-A4C7-42E4-8FEB-415C2228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2A9-2CA5-4761-841C-DD875D4F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7453-7EA1-448B-AE01-6AA9A741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DDF-D203-45D2-B4D5-0CBEF6DC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3224-F052-4D96-9CF3-B4942E42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175D-CA49-4135-858E-DC75D24F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0846-B3AB-46E7-A3ED-40A7C6DD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08E8-E6C5-4EBF-8B99-12FE3F71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B265-7695-48BC-AA02-6B48A79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D19-3D02-4DCB-9F2D-93856D27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0A66-2E69-4E37-A779-52F45BE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9327-DE53-438A-A17A-3AAB9EB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6B99-B40F-46C4-8761-B508F2C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C99E-2E95-4468-B504-97FAAACD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7BD-B77E-43B2-8CED-3D65DC24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012F-C3CC-4050-B64D-9E35AAA1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C17F-F979-4F5C-BBBA-5E11FB2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C9F2-ED24-4DCF-9A7D-233AFF4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E728-CB4D-4039-8325-ECA49DD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0172-A099-4126-AFCC-CF5753E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351-42F1-4DA0-9DE3-F6B4CD0F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10F2-719C-440C-A37D-8C28013C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F713-41A1-453E-A343-2FDDD842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BE5B-62FE-4021-BC30-A675532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E596-40AD-45F6-8F8E-F5C39305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0C8E-E110-45A7-A436-EE549FE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C7D3-1E4F-4638-9B44-72C67D41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EAEF-C15A-4CD4-9A3B-165A9B14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E7BB0-C27D-4182-82CD-B6B288FA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26FDF-B0AC-4FEF-98C3-253DBBBA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748A4-5DA4-469F-A704-2FDC083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C4C-48F6-44FD-BD05-7F5D7A12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F112A-5816-4B56-8596-C730308B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602DC-FF73-4A53-A2A4-D0BD432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3155E-3598-4355-8819-6F212AB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E0178-4ED2-46A5-AFEC-0B33EA2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D4B1F-F4E6-4CE3-8049-0C0C67B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B761B-3BCE-439D-9779-E7E6AFF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0B8B2-2BF9-4A2E-94DA-A75E88C6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4EB0C-76CA-4C6E-99A2-753E533F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DECE4-AF13-4C55-B56A-66889DA7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28E-D1D1-483B-945C-DF12D4A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030-AC92-4166-BB10-44D93EC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AFF-C7FD-41FE-B7D0-7EE94E5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5ED-74DB-4BB4-8EF3-5C3996EB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A93-40CB-4F67-8D6E-B0931DF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66F3-6C34-4012-85FA-005054171E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E04D-0AD2-4F12-A0B4-AAAC8A3069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60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4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5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6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0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0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1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2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3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4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5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6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7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8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9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0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1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2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3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4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5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206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207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08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09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0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1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2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3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4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5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6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7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8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9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0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1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2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3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224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5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6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7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8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0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231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D668-D3EE-479E-8E0A-AFD7343306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253-7284-44CB-B997-B935CDEECAF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lenavoronova/view/20772/?page=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Documents/Meeresreise/&#1055;&#1091;&#1090;&#1077;&#1096;&#1077;&#1089;&#1090;&#1074;&#1080;&#1077;%20&#1082;%20&#1085;&#1077;&#1080;&#1079;&#1074;&#1077;&#1076;&#1072;&#1085;&#1085;&#1086;&#1084;&#1091;%20&#1086;&#1089;&#1090;&#1088;&#1086;&#1074;&#1091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MP900430443[1]"/>
          <p:cNvPicPr/>
          <p:nvPr/>
        </p:nvPicPr>
        <p:blipFill>
          <a:blip r:embed="rId1"/>
          <a:stretch/>
        </p:blipFill>
        <p:spPr>
          <a:xfrm>
            <a:off x="1908000" y="1413000"/>
            <a:ext cx="7236000" cy="5445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82789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908000" y="3860640"/>
            <a:ext cx="72360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Arial Narrow"/>
              </a:rPr>
              <a:t>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Григорьева Светлана Александровна,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читель немецкого языка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МКОУ Николо-Погореловская СОШ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318" name="Picture 7" descr="3"/>
          <p:cNvPicPr/>
          <p:nvPr/>
        </p:nvPicPr>
        <p:blipFill>
          <a:blip r:embed="rId2"/>
          <a:stretch/>
        </p:blipFill>
        <p:spPr>
          <a:xfrm>
            <a:off x="2268360" y="1557360"/>
            <a:ext cx="1659240" cy="17287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9"/>
          <p:cNvSpPr txBox="1"/>
          <p:nvPr/>
        </p:nvSpPr>
        <p:spPr>
          <a:xfrm rot="183600">
            <a:off x="2771640" y="333360"/>
            <a:ext cx="603432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nselnreise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7" descr="germany_map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капитан"/>
          <p:cNvPicPr/>
          <p:nvPr/>
        </p:nvPicPr>
        <p:blipFill>
          <a:blip r:embed="rId2"/>
          <a:stretch/>
        </p:blipFill>
        <p:spPr>
          <a:xfrm>
            <a:off x="0" y="2349360"/>
            <a:ext cx="2411280" cy="4508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1"/>
          <p:cNvSpPr/>
          <p:nvPr/>
        </p:nvSpPr>
        <p:spPr>
          <a:xfrm>
            <a:off x="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Arial"/>
              </a:rPr>
              <a:t>Welche deutsche Städte sind hier?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49" name="WordArt 12"/>
          <p:cNvSpPr txBox="1"/>
          <p:nvPr/>
        </p:nvSpPr>
        <p:spPr>
          <a:xfrm>
            <a:off x="539640" y="0"/>
            <a:ext cx="813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Städte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6"/>
          <p:cNvSpPr/>
          <p:nvPr/>
        </p:nvSpPr>
        <p:spPr>
          <a:xfrm>
            <a:off x="2411280" y="2276640"/>
            <a:ext cx="4176720" cy="458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351" name="Picture 5" descr="MC900416014[1]"/>
          <p:cNvPicPr/>
          <p:nvPr/>
        </p:nvPicPr>
        <p:blipFill>
          <a:blip r:embed="rId1"/>
          <a:stretch/>
        </p:blipFill>
        <p:spPr>
          <a:xfrm rot="1669200">
            <a:off x="3203280" y="3789360"/>
            <a:ext cx="1854000" cy="1803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MC900174821[1]"/>
          <p:cNvPicPr/>
          <p:nvPr/>
        </p:nvPicPr>
        <p:blipFill>
          <a:blip r:embed="rId2"/>
          <a:stretch/>
        </p:blipFill>
        <p:spPr>
          <a:xfrm>
            <a:off x="6659640" y="4869000"/>
            <a:ext cx="24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MP900400376[1]"/>
          <p:cNvPicPr/>
          <p:nvPr/>
        </p:nvPicPr>
        <p:blipFill>
          <a:blip r:embed="rId3"/>
          <a:stretch/>
        </p:blipFill>
        <p:spPr>
          <a:xfrm>
            <a:off x="6659640" y="1989000"/>
            <a:ext cx="2484360" cy="165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MP900401345[1]"/>
          <p:cNvPicPr/>
          <p:nvPr/>
        </p:nvPicPr>
        <p:blipFill>
          <a:blip r:embed="rId4"/>
          <a:stretch/>
        </p:blipFill>
        <p:spPr>
          <a:xfrm>
            <a:off x="0" y="2205000"/>
            <a:ext cx="2484360" cy="1655640"/>
          </a:xfrm>
          <a:prstGeom prst="rect">
            <a:avLst/>
          </a:prstGeom>
          <a:ln w="0">
            <a:noFill/>
          </a:ln>
        </p:spPr>
      </p:pic>
      <p:sp>
        <p:nvSpPr>
          <p:cNvPr id="355" name="WordArt 20"/>
          <p:cNvSpPr txBox="1"/>
          <p:nvPr/>
        </p:nvSpPr>
        <p:spPr>
          <a:xfrm>
            <a:off x="539640" y="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Spiel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059280" y="29242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00"/>
                </a:solidFill>
                <a:latin typeface="Arial"/>
                <a:ea typeface="Arial"/>
              </a:rPr>
              <a:t>„ </a:t>
            </a:r>
            <a:r>
              <a:rPr b="1" lang="de-DE" sz="4400" spc="-1" strike="noStrike">
                <a:solidFill>
                  <a:srgbClr val="003300"/>
                </a:solidFill>
                <a:latin typeface="Arial"/>
                <a:ea typeface="Arial"/>
              </a:rPr>
              <a:t>3 Inseln“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5"/>
          <p:cNvSpPr txBox="1"/>
          <p:nvPr/>
        </p:nvSpPr>
        <p:spPr>
          <a:xfrm>
            <a:off x="457200" y="0"/>
            <a:ext cx="82296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Lustige 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358" name="Picture 15" descr="MP900431190[1]"/>
          <p:cNvPicPr/>
          <p:nvPr/>
        </p:nvPicPr>
        <p:blipFill>
          <a:blip r:embed="rId1"/>
          <a:stretch/>
        </p:blipFill>
        <p:spPr>
          <a:xfrm>
            <a:off x="1187280" y="1844640"/>
            <a:ext cx="6913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a10707"/>
                </a:solidFill>
                <a:latin typeface="Tahoma"/>
              </a:rPr>
              <a:t>Vielen Dank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_5288_c27af81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276640"/>
            <a:ext cx="7921440" cy="4581360"/>
          </a:xfrm>
          <a:prstGeom prst="rect">
            <a:avLst/>
          </a:prstGeom>
          <a:ln w="0">
            <a:noFill/>
          </a:ln>
        </p:spPr>
      </p:pic>
      <p:sp>
        <p:nvSpPr>
          <p:cNvPr id="321" name="WordArt 6"/>
          <p:cNvSpPr txBox="1"/>
          <p:nvPr/>
        </p:nvSpPr>
        <p:spPr>
          <a:xfrm>
            <a:off x="684360" y="333360"/>
            <a:ext cx="784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llkommen   zur   Inselnreise!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115"/>
          <p:cNvSpPr txBox="1"/>
          <p:nvPr/>
        </p:nvSpPr>
        <p:spPr>
          <a:xfrm>
            <a:off x="395280" y="0"/>
            <a:ext cx="84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Abc-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79640" y="1440000"/>
          <a:ext cx="7164360" cy="5459400"/>
        </p:xfrm>
        <a:graphic>
          <a:graphicData uri="http://schemas.openxmlformats.org/drawingml/2006/table">
            <a:tbl>
              <a:tblPr/>
              <a:tblGrid>
                <a:gridCol w="1512720"/>
                <a:gridCol w="1440000"/>
                <a:gridCol w="1368360"/>
                <a:gridCol w="1497240"/>
                <a:gridCol w="1346040"/>
              </a:tblGrid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A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Wi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K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G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i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N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d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D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u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E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O 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V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J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i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X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R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en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L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B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i </a:t>
                      </a: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Y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n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P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Wi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M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u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T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t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W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H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fs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Z 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I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Q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e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F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nd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U</a:t>
                      </a:r>
                      <a:r>
                        <a:rPr b="1" lang="ru-RU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ch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S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C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d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</a:tbl>
          </a:graphicData>
        </a:graphic>
      </p:graphicFrame>
      <p:pic>
        <p:nvPicPr>
          <p:cNvPr id="324" name="Picture 615" descr="ученик 1"/>
          <p:cNvPicPr/>
          <p:nvPr/>
        </p:nvPicPr>
        <p:blipFill>
          <a:blip r:embed="rId1"/>
          <a:stretch/>
        </p:blipFill>
        <p:spPr>
          <a:xfrm>
            <a:off x="0" y="2133720"/>
            <a:ext cx="19080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ученик 1"/>
          <p:cNvPicPr/>
          <p:nvPr/>
        </p:nvPicPr>
        <p:blipFill>
          <a:blip r:embed="rId1"/>
          <a:stretch/>
        </p:blipFill>
        <p:spPr>
          <a:xfrm>
            <a:off x="3132000" y="1844640"/>
            <a:ext cx="3527640" cy="3078360"/>
          </a:xfrm>
          <a:prstGeom prst="rect">
            <a:avLst/>
          </a:prstGeom>
          <a:ln w="0">
            <a:noFill/>
          </a:ln>
        </p:spPr>
      </p:pic>
      <p:sp>
        <p:nvSpPr>
          <p:cNvPr id="326" name="WordArt 6"/>
          <p:cNvSpPr txBox="1"/>
          <p:nvPr/>
        </p:nvSpPr>
        <p:spPr>
          <a:xfrm rot="20715000">
            <a:off x="1368360" y="980640"/>
            <a:ext cx="777564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ABC-Aufga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250920" y="4221000"/>
            <a:ext cx="86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0707"/>
                </a:solidFill>
                <a:latin typeface="Arial"/>
                <a:ea typeface="Arial"/>
              </a:rPr>
              <a:t>Wir</a:t>
            </a:r>
            <a:r>
              <a:rPr b="0" lang="en-US" sz="3600" spc="-1" strike="noStrike">
                <a:solidFill>
                  <a:srgbClr val="a1070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a10707"/>
                </a:solidFill>
                <a:latin typeface="Arial"/>
                <a:ea typeface="Arial"/>
              </a:rPr>
              <a:t>sind  gute und hilfsbereite Freunde. Wir lernen Deutsch sehr gern.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5"/>
          <p:cNvSpPr txBox="1"/>
          <p:nvPr/>
        </p:nvSpPr>
        <p:spPr>
          <a:xfrm>
            <a:off x="468360" y="0"/>
            <a:ext cx="82296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101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Matheinsel</a:t>
            </a:r>
            <a:endParaRPr b="0" lang="en-US" sz="2800" spc="1" strike="noStrike">
              <a:ln w="19080">
                <a:solidFill>
                  <a:srgbClr val="0101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1258920" y="2205000"/>
            <a:ext cx="6913440" cy="4653000"/>
          </a:xfrm>
          <a:prstGeom prst="ellipse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"/>
                <a:ea typeface="Arial"/>
              </a:rPr>
              <a:t>      </a:t>
            </a:r>
            <a:r>
              <a:rPr b="1" lang="ru-RU" sz="4400" spc="-1" strike="noStrike">
                <a:solidFill>
                  <a:srgbClr val="ffcc99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45</a:t>
            </a:r>
            <a:r>
              <a:rPr b="1" lang="ru-RU" sz="4400" spc="-1" strike="noStrike">
                <a:solidFill>
                  <a:srgbClr val="ffcc99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ffcc99"/>
                </a:solidFill>
                <a:latin typeface="Arial"/>
                <a:ea typeface="Arial"/>
              </a:rPr>
              <a:t>   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9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069800" y="2637000"/>
            <a:ext cx="22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4</a:t>
            </a:r>
            <a:r>
              <a:rPr b="1" lang="ru-RU" sz="4400" spc="-1" strike="noStrike">
                <a:solidFill>
                  <a:srgbClr val="ffcc99"/>
                </a:solidFill>
                <a:latin typeface="Arial"/>
                <a:ea typeface="Arial"/>
              </a:rPr>
              <a:t>   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62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771640" y="2924280"/>
            <a:ext cx="13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94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5653440" y="3716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32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4934160" y="5491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8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6661440" y="42670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76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41800" y="3860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5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700360" y="5084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1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3421440" y="4076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3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5"/>
          <p:cNvSpPr txBox="1"/>
          <p:nvPr/>
        </p:nvSpPr>
        <p:spPr>
          <a:xfrm>
            <a:off x="539640" y="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Tanz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339" name="Picture 6" descr="танцевать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MP900422307[1]"/>
          <p:cNvPicPr/>
          <p:nvPr/>
        </p:nvPicPr>
        <p:blipFill>
          <a:blip r:embed="rId1"/>
          <a:stretch/>
        </p:blipFill>
        <p:spPr>
          <a:xfrm>
            <a:off x="1258920" y="2133720"/>
            <a:ext cx="6697800" cy="4724280"/>
          </a:xfrm>
          <a:prstGeom prst="rect">
            <a:avLst/>
          </a:prstGeom>
          <a:ln w="0">
            <a:noFill/>
          </a:ln>
        </p:spPr>
      </p:pic>
      <p:sp>
        <p:nvSpPr>
          <p:cNvPr id="341" name="WordArt 14"/>
          <p:cNvSpPr txBox="1"/>
          <p:nvPr/>
        </p:nvSpPr>
        <p:spPr>
          <a:xfrm>
            <a:off x="539640" y="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Tier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2"/>
          <p:cNvSpPr txBox="1"/>
          <p:nvPr/>
        </p:nvSpPr>
        <p:spPr>
          <a:xfrm>
            <a:off x="539640" y="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Farben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343" name="Picture 3" descr="MC900436170[1]"/>
          <p:cNvPicPr/>
          <p:nvPr/>
        </p:nvPicPr>
        <p:blipFill>
          <a:blip r:embed="rId1"/>
          <a:stretch/>
        </p:blipFill>
        <p:spPr>
          <a:xfrm>
            <a:off x="1187280" y="1916280"/>
            <a:ext cx="6913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Message in a Bottle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345" name="WordArt 9"/>
          <p:cNvSpPr txBox="1"/>
          <p:nvPr/>
        </p:nvSpPr>
        <p:spPr>
          <a:xfrm>
            <a:off x="468360" y="0"/>
            <a:ext cx="82296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Ein Zettel in der Flasche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1:20:34Z</dcterms:created>
  <dc:creator>Юля</dc:creator>
  <dc:description/>
  <dc:language>en-US</dc:language>
  <cp:lastModifiedBy>ГРИГОРЬВ</cp:lastModifiedBy>
  <dcterms:modified xsi:type="dcterms:W3CDTF">2013-06-12T19:39:00Z</dcterms:modified>
  <cp:revision>113</cp:revision>
  <dc:subject/>
  <dc:title>Willkommen zur Meeresreise! </dc:title>
</cp:coreProperties>
</file>