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F3D-D943-475C-94F8-5A6B31F1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46E-3FD3-4DD9-8113-9AB78DCB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D7E-9ACD-4B5B-A9F5-CC919668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6AC-7FE2-4213-98C0-6C51AC23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921-CF51-4752-9079-C15C534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9AB-F22D-4752-A509-2D844342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73E-9F31-4BD9-9763-FCA763A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30D-2AEB-441F-B6D6-F86963F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EC7D-5AA7-4477-8902-6E3DEA05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FF0E-54B1-429D-861D-2BFAAA8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AFE3-484A-4F09-A41C-3A8AA41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C38-85BA-43FD-A8F9-1923922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CB99-B918-440E-9BFA-D1F61EE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963A-46C6-4840-ABED-A395A10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244-5F86-435F-A9A0-0876F5A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A72-0025-4359-9199-C3BB8A42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268-A80D-43EF-B8E2-B4B22772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895A-8A19-43DA-8770-272C13DA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791B-7D3F-42EB-BE1E-107B723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9410-9247-4393-9644-19E1EC3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19D7-2DBF-4091-9685-3D4D850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9A4A-F81A-4F48-B414-9EDEDC3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488-D644-4541-B751-A9C8F09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F354-E9BD-4B1B-838A-3B13DDD7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DA83-95C3-4109-88BE-2D2DD46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3153-0331-4A94-9929-11FD4C1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2209E-C3FD-4EAF-95F3-62F7E4F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716C-5E02-4BD8-AEA9-E70C819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89F1-02D3-42EC-AA01-D3B7F132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0C24-B028-474C-8A66-ED840E01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EA7D-2C70-4C67-BC3C-362BA63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5A19-B1F0-45E5-B166-7BC81DC6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44DE-242B-4CDB-988A-81C5F16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5EB-7FC8-43F5-B612-787FD64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0D00-D98E-4A5C-AE0E-FE332D12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4777-B3BB-4423-AFA3-AB4250AF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AA41-D4B8-476B-957C-46788E5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BE0F-8A1B-4B77-AB72-79AF42C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B219-3095-45B4-AAA5-E8203E3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865A-7777-4FEA-84C0-A0F6454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3380-8C49-4F7F-B8DF-9DA564F1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F9A8-A15C-40A9-8AB2-66AC0220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B8F5-2403-451E-A0F2-2E9425E3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123-A12A-4BC5-A0E9-18A5DB8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FBF-FB43-4353-9DD8-3D3EC56C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251-6393-4EC6-92F1-7F8B3DF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B04-3293-400A-BB93-F6B12C6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DD7-F463-46EE-A467-0C230D3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1393-9F37-4781-9203-8DFB12B1C40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070-10A2-4AC4-A474-F22717D6568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585-E78E-418F-A1B1-D24C1BA98F18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7DA-9420-40FD-815C-6B76B74B745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анры вокальной музы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 кла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тор:  Фатьянова О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" action="ppaction://hlinkshowjump?jump=nextslide"/>
          </p:cNvPr>
          <p:cNvSpPr/>
          <p:nvPr/>
        </p:nvSpPr>
        <p:spPr>
          <a:xfrm>
            <a:off x="712800" y="2349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533880" y="3348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инструм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716760" y="46134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орк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>
            <a:hlinkClick r:id="" action="ppaction://hlinkshowjump?jump=nextslide"/>
          </p:cNvPr>
          <p:cNvSpPr/>
          <p:nvPr/>
        </p:nvSpPr>
        <p:spPr>
          <a:xfrm>
            <a:off x="712800" y="2349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33880" y="3348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инструм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716760" y="46134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орк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15920" y="-92160"/>
            <a:ext cx="8577360" cy="1897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>
            <a:hlinkClick r:id="" action="ppaction://hlinkshowjump?jump=nextslide"/>
          </p:cNvPr>
          <p:cNvSpPr/>
          <p:nvPr/>
        </p:nvSpPr>
        <p:spPr>
          <a:xfrm>
            <a:off x="713520" y="234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27400" y="3348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кал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714240" y="4613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470160" y="37530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фон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8">
            <a:hlinkClick r:id="" action="ppaction://hlinkshowjump?jump=nextslide"/>
          </p:cNvPr>
          <p:cNvSpPr/>
          <p:nvPr/>
        </p:nvSpPr>
        <p:spPr>
          <a:xfrm>
            <a:off x="468720" y="4613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2"/>
          <p:cNvSpPr/>
          <p:nvPr/>
        </p:nvSpPr>
        <p:spPr>
          <a:xfrm>
            <a:off x="466560" y="2565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0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50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>
            <a:hlinkClick r:id="" action="ppaction://hlinkshowjump?jump=nextslide"/>
          </p:cNvPr>
          <p:cNvSpPr/>
          <p:nvPr/>
        </p:nvSpPr>
        <p:spPr>
          <a:xfrm>
            <a:off x="466560" y="3753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65840" y="46134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36" name="TextBox 2"/>
          <p:cNvSpPr/>
          <p:nvPr/>
        </p:nvSpPr>
        <p:spPr>
          <a:xfrm>
            <a:off x="464040" y="2565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кал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4872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530640" y="3568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на лу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469440" y="46134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в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44" name="TextBox 2">
            <a:hlinkClick r:id="" action="ppaction://hlinkshowjump?jump=nextslide"/>
          </p:cNvPr>
          <p:cNvSpPr/>
          <p:nvPr/>
        </p:nvSpPr>
        <p:spPr>
          <a:xfrm>
            <a:off x="465120" y="2565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на в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12000" cy="1384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-5040" y="35686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И. Гл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12960" y="46134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А. Римский-Корса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2">
            <a:hlinkClick r:id="" action="ppaction://hlinkshowjump?jump=nextslide"/>
          </p:cNvPr>
          <p:cNvSpPr/>
          <p:nvPr/>
        </p:nvSpPr>
        <p:spPr>
          <a:xfrm>
            <a:off x="5040" y="257184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Е. Варла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6T03:59:28Z</dcterms:created>
  <dc:creator>user</dc:creator>
  <dc:description/>
  <dc:language>en-US</dc:language>
  <cp:lastModifiedBy>оксана</cp:lastModifiedBy>
  <dcterms:modified xsi:type="dcterms:W3CDTF">2022-11-26T13:24:54Z</dcterms:modified>
  <cp:revision>23</cp:revision>
  <dc:subject/>
  <dc:title>Презентация PowerPoint</dc:title>
</cp:coreProperties>
</file>