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applause.wav" ContentType="audio/x-wav"/>
  <Override PartName="/ppt/media/drumroll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39D-7221-45F2-A476-69211B4E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01B-29C1-4C5D-B655-87D29FFB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EFB-97ED-4BC1-80AA-DF0D33E0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299-6CF5-46F1-9C5C-BB0EA9C4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1346-BABE-4017-B01B-5134E8BF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0762-91DD-4119-826E-2ADAC97A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8F53-32F7-4F8F-99D6-29841C4A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430D-5EA0-4E1E-95B9-23D11803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0A4C-4DD7-4D60-9264-9446840C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985A-0CC4-4201-A982-EF58701E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103A-D77A-4653-AE9E-92E793DF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2B7-7939-4648-980D-709D23D0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0CFD-D828-4CF3-8D98-02CC299C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2A32-D717-482B-8E93-DB6B8A69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1789-8947-4A4E-B25A-1C2C0D77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44B1-AC06-4C17-8B29-FB42D19D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B075-15D8-4421-808A-4D57D5AF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8369-CA8F-48A6-A173-AC61DB7A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3613-8A74-4CC7-88D6-EEFD3794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289E-C2D6-4B5C-B61A-F155BAF9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981C-871D-4FFE-86AA-89FF7830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B1886-0948-45C7-8782-153E6842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445-B5E4-4D9F-ACD5-386693F6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AC0F-60D3-4B66-9A96-26F3609F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9119-8F8A-449C-B547-2BE3D96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CCC65-A797-42F8-85FD-755B037A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1F30C-3575-4191-A72D-3DF02147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3A1F-516E-4F29-9281-4674AF2C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DE94-00CA-488E-BDFF-B5087156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C5ADF-7A16-462C-91AC-E876AC89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A6DE2-0E6E-4254-8BE8-02645F6B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B2F3-97D4-4954-9DED-88446D67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40A3D-B9D7-49AC-8111-15609F0F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9AB-FFD3-46E9-8932-FDB5DEC4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8BD7-82C7-46C9-9549-2DCBAAFA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BBC0-C6A1-4C68-957E-F87475D0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9D825-552D-48FC-A5C3-4E3E4ADF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05FA8-EE45-4CE8-8173-8013B881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05004-78C2-4FD6-921A-3C278C6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69B95-ABF7-4A9B-B448-E66EC56E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C1D35-E4CE-41A0-B902-6C9569B9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D8AE-0915-4294-AA75-1C2D7D72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7424-6CE5-4B7B-A1F4-0BFDC5FF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420-8E96-498D-B7CC-E0F26BC7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84D-46F2-43FF-AB4E-3E9B3485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190-CBD6-4939-8116-958AFDB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19C-22D2-4252-B112-D194B0E4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BF3-8444-48E6-9E2F-F1AFCA48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1C58-705D-458B-822C-00EB1B2891C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C518-FD37-4961-B138-C3F951E4259A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BCDC-8B39-4906-A2BE-2AF9CF774F69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B0C6-A35D-48A7-BE22-B8C537177652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анры вокальной музы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 кла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втор:  Фатьянова О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3080" y="706320"/>
            <a:ext cx="8692920" cy="1530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>
            <a:hlinkClick r:id="" action="ppaction://hlinkshowjump?jump=nextslide"/>
          </p:cNvPr>
          <p:cNvSpPr/>
          <p:nvPr/>
        </p:nvSpPr>
        <p:spPr>
          <a:xfrm>
            <a:off x="712800" y="234936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гол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533880" y="334800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инструм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716760" y="461340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оркест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50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73080" y="706320"/>
            <a:ext cx="8692920" cy="1530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>
            <a:hlinkClick r:id="" action="ppaction://hlinkshowjump?jump=nextslide"/>
          </p:cNvPr>
          <p:cNvSpPr/>
          <p:nvPr/>
        </p:nvSpPr>
        <p:spPr>
          <a:xfrm>
            <a:off x="712800" y="234936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гол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533880" y="334800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инструм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716760" y="461340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 для оркест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15920" y="-92160"/>
            <a:ext cx="8577360" cy="18972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>
            <a:hlinkClick r:id="" action="ppaction://hlinkshowjump?jump=nextslide"/>
          </p:cNvPr>
          <p:cNvSpPr/>
          <p:nvPr/>
        </p:nvSpPr>
        <p:spPr>
          <a:xfrm>
            <a:off x="713520" y="234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527400" y="3348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кали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714240" y="46134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50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553240" cy="1384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470160" y="375300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фониче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8">
            <a:hlinkClick r:id="" action="ppaction://hlinkshowjump?jump=nextslide"/>
          </p:cNvPr>
          <p:cNvSpPr/>
          <p:nvPr/>
        </p:nvSpPr>
        <p:spPr>
          <a:xfrm>
            <a:off x="468720" y="4613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  <p:sp>
        <p:nvSpPr>
          <p:cNvPr id="228" name="TextBox 2"/>
          <p:cNvSpPr/>
          <p:nvPr/>
        </p:nvSpPr>
        <p:spPr>
          <a:xfrm>
            <a:off x="466560" y="2565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азоч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100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50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553240" cy="13845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>
            <a:hlinkClick r:id="" action="ppaction://hlinkshowjump?jump=nextslide"/>
          </p:cNvPr>
          <p:cNvSpPr/>
          <p:nvPr/>
        </p:nvSpPr>
        <p:spPr>
          <a:xfrm>
            <a:off x="466560" y="3753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465840" y="46134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  <p:sp>
        <p:nvSpPr>
          <p:cNvPr id="236" name="TextBox 2"/>
          <p:cNvSpPr/>
          <p:nvPr/>
        </p:nvSpPr>
        <p:spPr>
          <a:xfrm>
            <a:off x="464040" y="256536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кали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748720" cy="1384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"/>
          <p:cNvSpPr/>
          <p:nvPr/>
        </p:nvSpPr>
        <p:spPr>
          <a:xfrm>
            <a:off x="530640" y="35686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я на лу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469440" y="46134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я в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  <p:sp>
        <p:nvSpPr>
          <p:cNvPr id="244" name="TextBox 2">
            <a:hlinkClick r:id="" action="ppaction://hlinkshowjump?jump=nextslide"/>
          </p:cNvPr>
          <p:cNvSpPr/>
          <p:nvPr/>
        </p:nvSpPr>
        <p:spPr>
          <a:xfrm>
            <a:off x="465120" y="256536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я на в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50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712000" cy="13845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-5040" y="35686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 И. Гл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12960" y="46134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 А. Римский-Корса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</a:tr>
            </a:tbl>
          </a:graphicData>
        </a:graphic>
      </p:graphicFrame>
      <p:sp>
        <p:nvSpPr>
          <p:cNvPr id="252" name="TextBox 2">
            <a:hlinkClick r:id="" action="ppaction://hlinkshowjump?jump=nextslide"/>
          </p:cNvPr>
          <p:cNvSpPr/>
          <p:nvPr/>
        </p:nvSpPr>
        <p:spPr>
          <a:xfrm>
            <a:off x="5040" y="257184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Е. Варлам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0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50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73080" y="706320"/>
            <a:ext cx="8692920" cy="153036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5" descr="C:\Users\user\Desktop\2-raznoczvetny_e_ostrova.jpg"/>
          <p:cNvPicPr/>
          <p:nvPr/>
        </p:nvPicPr>
        <p:blipFill>
          <a:blip r:embed="rId2"/>
          <a:stretch/>
        </p:blipFill>
        <p:spPr>
          <a:xfrm>
            <a:off x="4716360" y="1989000"/>
            <a:ext cx="4248360" cy="37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3851280" y="1989000"/>
          <a:ext cx="4968720" cy="384660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</a:tblGrid>
              <a:tr h="192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6T03:59:28Z</dcterms:created>
  <dc:creator>user</dc:creator>
  <dc:description/>
  <dc:language>en-US</dc:language>
  <cp:lastModifiedBy>оксана</cp:lastModifiedBy>
  <dcterms:modified xsi:type="dcterms:W3CDTF">2022-11-26T13:24:54Z</dcterms:modified>
  <cp:revision>23</cp:revision>
  <dc:subject/>
  <dc:title>Презентация PowerPoint</dc:title>
</cp:coreProperties>
</file>