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7709-92CA-4223-9BA5-600231448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BACD-180E-4EBC-A1C1-E6512A5E149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8C6-D24C-4E0C-BF92-AB4E82A0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88B-5866-4A18-A125-B0641B07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88F-2AD3-42DC-B4D1-5B001C67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772-E1AA-4FDB-884E-A80C8699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9AA-AD52-4C23-B6C5-20B809C4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8DF-F488-457F-ADCE-76381E5F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BE0D-C072-4255-A4D3-FB22DA95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87B-F438-40C7-AAEA-F06AD287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F1F-5A6D-4521-82E5-B73C91AC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38B-221C-41FC-969C-D2E4EB7B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3D7-B556-44BE-824D-9C2B914D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540-5BCC-40B3-BD92-2CF67DE2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49BD-E446-4669-B6F0-92BB1270CF4E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97960" y="549000"/>
            <a:ext cx="45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5b9bd5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411280" y="2349360"/>
            <a:ext cx="4071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4" descr=""/>
          <p:cNvPicPr/>
          <p:nvPr/>
        </p:nvPicPr>
        <p:blipFill>
          <a:blip r:embed="rId1"/>
          <a:stretch/>
        </p:blipFill>
        <p:spPr>
          <a:xfrm>
            <a:off x="676440" y="1122480"/>
            <a:ext cx="7791120" cy="5394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2"/>
          <a:stretch/>
        </p:blipFill>
        <p:spPr>
          <a:xfrm>
            <a:off x="1932120" y="369720"/>
            <a:ext cx="52797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одбери подписи к картинкам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5616720" cy="178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826920" y="2852640"/>
            <a:ext cx="73454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541440" y="404640"/>
            <a:ext cx="1008216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Вставь нужную форму глагола </a:t>
            </a:r>
            <a:r>
              <a:rPr b="1" lang="en-US" sz="3600" spc="-1" strike="noStrike">
                <a:solidFill>
                  <a:srgbClr val="000000"/>
                </a:solidFill>
                <a:latin typeface="Calibri Light"/>
              </a:rPr>
              <a:t> to be –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alibri Light"/>
              </a:rPr>
              <a:t>am, is</a:t>
            </a:r>
            <a:r>
              <a:rPr b="1" lang="en-US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 или </a:t>
            </a:r>
            <a:r>
              <a:rPr b="1" lang="en-US" sz="3600" spc="-1" strike="noStrike">
                <a:solidFill>
                  <a:srgbClr val="ff0000"/>
                </a:solidFill>
                <a:latin typeface="Calibri Light"/>
              </a:rPr>
              <a:t>are</a:t>
            </a:r>
            <a:r>
              <a:rPr b="1" lang="en-US" sz="3600" spc="-1" strike="noStrike">
                <a:solidFill>
                  <a:srgbClr val="000000"/>
                </a:solidFill>
                <a:latin typeface="Calibri Light"/>
              </a:rPr>
              <a:t>. </a:t>
            </a: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рочитай вслух предложения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-252360" y="1628640"/>
            <a:ext cx="9396360" cy="5040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908000" y="1557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1619280" y="263700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 flipV="1" rot="10800000">
            <a:off x="971640" y="3444120"/>
            <a:ext cx="385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1763640" y="4365720"/>
            <a:ext cx="31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 flipV="1" rot="10800000">
            <a:off x="1834920" y="536652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4520" y="1557360"/>
            <a:ext cx="838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by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 свидани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 </a:t>
            </a: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LUC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елаю удач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8200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548235"/>
                </a:solidFill>
                <a:latin typeface="Calibri Light"/>
              </a:rPr>
              <a:t>Read and answer! </a:t>
            </a:r>
            <a:r>
              <a:rPr b="1" lang="ru-RU" sz="3200" spc="-1" strike="noStrike">
                <a:solidFill>
                  <a:srgbClr val="548235"/>
                </a:solidFill>
                <a:latin typeface="Calibri Light"/>
              </a:rPr>
              <a:t>Прочитай и ответь на вопросы!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764640"/>
            <a:ext cx="78868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How are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What  is  your  na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How old are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Where are you fr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you a nur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you a clow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you  a pilo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you a pupi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you ba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you goo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you sa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you happ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Прямоугольник 5" descr=""/>
          <p:cNvPicPr/>
          <p:nvPr/>
        </p:nvPicPr>
        <p:blipFill>
          <a:blip r:embed="rId1"/>
          <a:stretch/>
        </p:blipFill>
        <p:spPr>
          <a:xfrm>
            <a:off x="4290840" y="2766960"/>
            <a:ext cx="48657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-171360"/>
            <a:ext cx="8424720" cy="63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Запомни правило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опрос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Который час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 английском языке может звучать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по-разном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Calibri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What time is it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Calibri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What’s the tim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s://img2.freepng.ru/20180524/ghs/kisspng-owl-bird-clip-art-5b073d05931081.0777537815272010296024.jpg"/>
          <p:cNvPicPr/>
          <p:nvPr/>
        </p:nvPicPr>
        <p:blipFill>
          <a:blip r:embed="rId1"/>
          <a:stretch/>
        </p:blipFill>
        <p:spPr>
          <a:xfrm>
            <a:off x="6372360" y="3716280"/>
            <a:ext cx="21222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88360" y="-601560"/>
            <a:ext cx="7923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79280" y="2602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смотри  видео и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втори, как  задавать вопрос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at time is it?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Который час?)  и отвечать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elling Time Chant for Kids - What Time Is It؟.mp4" descr=""/>
          <p:cNvPicPr/>
          <p:nvPr/>
        </p:nvPicPr>
        <p:blipFill>
          <a:blip r:embed="rId1"/>
          <a:stretch/>
        </p:blipFill>
        <p:spPr>
          <a:xfrm>
            <a:off x="1314360" y="1557360"/>
            <a:ext cx="64976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-115920" y="-6480"/>
            <a:ext cx="8796240" cy="1702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8" descr="https://i.pinimg.com/736x/6f/a8/68/6fa86805031a196c13986e569ea9eb99.jpg"/>
          <p:cNvPicPr/>
          <p:nvPr/>
        </p:nvPicPr>
        <p:blipFill>
          <a:blip r:embed="rId2"/>
          <a:stretch/>
        </p:blipFill>
        <p:spPr>
          <a:xfrm>
            <a:off x="900000" y="1125360"/>
            <a:ext cx="7488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56720" y="-1958040"/>
            <a:ext cx="503280" cy="59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755640" y="365040"/>
            <a:ext cx="828036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егодня мы  познакомим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 новым правилом чт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emember!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Сочетание бук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oo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2060"/>
                </a:solidFill>
                <a:latin typeface="Arial"/>
              </a:rPr>
              <a:t>может читаться как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dobe Fan Heiti Std B"/>
              </a:rPr>
              <a:t>uː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олгий у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5660640"/>
            <a:ext cx="78868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s://img2.freepng.ru/20180524/ghs/kisspng-owl-bird-clip-art-5b073d05931081.0777537815272010296024.jpg"/>
          <p:cNvPicPr/>
          <p:nvPr/>
        </p:nvPicPr>
        <p:blipFill>
          <a:blip r:embed="rId1"/>
          <a:stretch/>
        </p:blipFill>
        <p:spPr>
          <a:xfrm>
            <a:off x="7380360" y="4724280"/>
            <a:ext cx="14875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40720" y="-1958040"/>
            <a:ext cx="503280" cy="59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0920" y="1341360"/>
          <a:ext cx="8283600" cy="5121360"/>
        </p:xfrm>
        <a:graphic>
          <a:graphicData uri="http://schemas.openxmlformats.org/drawingml/2006/table">
            <a:tbl>
              <a:tblPr/>
              <a:tblGrid>
                <a:gridCol w="2592360"/>
                <a:gridCol w="2808360"/>
                <a:gridCol w="288288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t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uː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u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m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н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u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f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b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u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t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тинок, башм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sp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u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n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m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u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n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s</a:t>
                      </a: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Calibri"/>
                          <a:ea typeface="Adobe Fan Heiti Std B"/>
                        </a:rPr>
                        <a:t>k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u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l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n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ɑːftəˈn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u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n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после полудня, с 12.00 до 1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Прямоугольник 4"/>
          <p:cNvSpPr/>
          <p:nvPr/>
        </p:nvSpPr>
        <p:spPr>
          <a:xfrm>
            <a:off x="826920" y="260280"/>
            <a:ext cx="71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ерепиши  новые слова в слова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ослушай, повтори за диктором (248).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ыучи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248_S 60.mp3" descr=""/>
          <p:cNvPicPr/>
          <p:nvPr/>
        </p:nvPicPr>
        <p:blipFill>
          <a:blip r:embed="rId1"/>
          <a:stretch/>
        </p:blipFill>
        <p:spPr>
          <a:xfrm>
            <a:off x="752472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456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56720" y="-1958040"/>
            <a:ext cx="503280" cy="59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-252360" y="365040"/>
            <a:ext cx="928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emember!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in the afternoon -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нё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5660640"/>
            <a:ext cx="788688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s://img2.freepng.ru/20180524/ghs/kisspng-owl-bird-clip-art-5b073d05931081.0777537815272010296024.jpg"/>
          <p:cNvPicPr/>
          <p:nvPr/>
        </p:nvPicPr>
        <p:blipFill>
          <a:blip r:embed="rId1"/>
          <a:stretch/>
        </p:blipFill>
        <p:spPr>
          <a:xfrm>
            <a:off x="7380360" y="4724280"/>
            <a:ext cx="14875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97080" y="190440"/>
            <a:ext cx="979308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 упр.  4  на стр. 93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Прослушай (249),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прочитай вслух и переведи на русский язык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(отправь видео).</a:t>
            </a:r>
            <a:br>
              <a:rPr sz="4800"/>
            </a:br>
            <a:br>
              <a:rPr sz="48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095640" y="2492280"/>
            <a:ext cx="2952720" cy="399420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pic>
        <p:nvPicPr>
          <p:cNvPr id="79" name="249_S 60.mp3" descr=""/>
          <p:cNvPicPr/>
          <p:nvPr/>
        </p:nvPicPr>
        <p:blipFill>
          <a:blip r:embed="rId2"/>
          <a:stretch/>
        </p:blipFill>
        <p:spPr>
          <a:xfrm>
            <a:off x="781200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6529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2:55:11Z</dcterms:created>
  <dc:creator>1</dc:creator>
  <dc:description/>
  <dc:language>en-US</dc:language>
  <cp:lastModifiedBy>a092c</cp:lastModifiedBy>
  <dcterms:modified xsi:type="dcterms:W3CDTF">2020-05-09T05:02:57Z</dcterms:modified>
  <cp:revision>158</cp:revision>
  <dc:subject/>
  <dc:title>Слайд 1</dc:title>
</cp:coreProperties>
</file>