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D46-FFD0-49CE-A747-8739CCA92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5EF-581E-4D67-8730-504879B1B0A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C3E-987D-4943-9758-60F03E2B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BE1-A96C-45E4-880D-45B4C301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56B-D05E-4696-A058-3D6317DC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2FD-239F-440E-AC86-CBF819DD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4EE-E138-41E9-94EC-E312F18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84A-1ABF-42B9-A9AF-7AA4EF9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486-9BD5-4F79-94D4-0AE35CA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998-869D-4AEF-8E6C-57FA9F26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4E0-FA85-4654-9AA6-6DADEE4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F87-25C7-4584-AF35-008FE1A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6A8-CB84-49D3-92CA-C63D835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842-45C2-4544-B2F7-EB9A00F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403-223D-4514-BC08-DE514BC1DA9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6 на стр. 71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пиши предложения по образцу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mmodnaya.ru/wp-content/uploads/images/5192/7076802677_dd84408bc8_c.jpg"/>
          <p:cNvPicPr/>
          <p:nvPr/>
        </p:nvPicPr>
        <p:blipFill>
          <a:blip r:embed="rId1"/>
          <a:stretch/>
        </p:blipFill>
        <p:spPr>
          <a:xfrm>
            <a:off x="1495440" y="1268280"/>
            <a:ext cx="6027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59920"/>
            <a:ext cx="7886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 Light"/>
              </a:rPr>
              <a:t>Прочитай слова, правильно произнося звук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 Light"/>
              </a:rPr>
              <a:t>Устно переведи на русский язык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7640" y="1825200"/>
            <a:ext cx="8785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к языка к верхним зубам,                        Кончик языка к верхним зубам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ыдохе говорим звук [з].                                 на выдохе говорим звук [с]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ð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el-GR" sz="4000" spc="-1" strike="noStrike">
                <a:solidFill>
                  <a:srgbClr val="0070c0"/>
                </a:solidFill>
                <a:latin typeface="Calibri"/>
              </a:rPr>
              <a:t>θ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bro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mo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          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1 на стр. 68-69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y are 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 = they  are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59" name="224_S 52.mp3" descr=""/>
          <p:cNvPicPr/>
          <p:nvPr/>
        </p:nvPicPr>
        <p:blipFill>
          <a:blip r:embed="rId2"/>
          <a:stretch/>
        </p:blipFill>
        <p:spPr>
          <a:xfrm>
            <a:off x="7850160" y="1628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0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y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 not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pilots.           They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n’t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pilo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4" name="Стрелка: вправо 10"/>
          <p:cNvSpPr/>
          <p:nvPr/>
        </p:nvSpPr>
        <p:spPr>
          <a:xfrm flipV="1">
            <a:off x="4211640" y="2066760"/>
            <a:ext cx="720720" cy="201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и постарайся их запомнить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225_S 52.mp3" descr=""/>
          <p:cNvPicPr/>
          <p:nvPr/>
        </p:nvPicPr>
        <p:blipFill>
          <a:blip r:embed="rId1"/>
          <a:stretch/>
        </p:blipFill>
        <p:spPr>
          <a:xfrm>
            <a:off x="4267080" y="36957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0"/>
          <a:ext cx="7778880" cy="6791400"/>
        </p:xfrm>
        <a:graphic>
          <a:graphicData uri="http://schemas.openxmlformats.org/drawingml/2006/table">
            <a:tbl>
              <a:tblPr/>
              <a:tblGrid>
                <a:gridCol w="2522520"/>
                <a:gridCol w="2735280"/>
                <a:gridCol w="252108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ʃ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лил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ɪd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ənt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-1692360" y="3173400"/>
          <a:ext cx="360360" cy="14810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14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4205160" y="4330800"/>
            <a:ext cx="3119400" cy="20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7481880" y="584280"/>
            <a:ext cx="1355760" cy="176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954600" y="2690640"/>
            <a:ext cx="1355760" cy="179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660240" y="544680"/>
            <a:ext cx="2070360" cy="207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5416560" y="2443320"/>
            <a:ext cx="2395440" cy="177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1454040" y="2994120"/>
            <a:ext cx="79560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6207120" y="3913200"/>
            <a:ext cx="2857680" cy="21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1268280" y="4464000"/>
            <a:ext cx="109548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262320" y="5062680"/>
            <a:ext cx="1149480" cy="747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30600" y="579600"/>
            <a:ext cx="4022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Назови слова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4 на стр. 70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читай и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226_S 52.mp3" descr=""/>
          <p:cNvPicPr/>
          <p:nvPr/>
        </p:nvPicPr>
        <p:blipFill>
          <a:blip r:embed="rId1"/>
          <a:stretch/>
        </p:blipFill>
        <p:spPr>
          <a:xfrm>
            <a:off x="6156360" y="111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660840" y="273528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8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1T03:32:12Z</dcterms:modified>
  <cp:revision>44</cp:revision>
  <dc:subject/>
  <dc:title>Слайд 1</dc:title>
</cp:coreProperties>
</file>