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D65-F0C4-4F41-9763-D2B6EFE12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8976-44CF-4FA0-8A8D-42BC4DB0BBC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062-2C13-4BC8-A099-E0F8D9C4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7E5-ABC4-4AC8-AAED-0267DBA7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096-2A74-4BF1-AB07-E3FBD6E0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5B3-D7F1-4F80-A143-6C3319AE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DD6-A9A1-4457-A6D9-53A79A13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884-D499-40E8-AA0D-5EFCBA99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96F-93E7-48CE-8CC7-9688B604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E88-EA1C-419B-8C1B-3851E7B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1B1-B91C-49C7-9104-7AC94D8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65B-7816-495E-A57E-256E9C0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080-2D09-4A66-ABFF-DB2FD9A1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EFD-43AD-4668-A9AF-D8C8A33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9A27-15CC-4EBA-9BA4-4672AC6E747C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97960" y="54900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5b9bd5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411280" y="2349360"/>
            <a:ext cx="4071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в тетрад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письменно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6 на стр. 71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пиши предложения по образцу.</a:t>
            </a: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000" y="1268280"/>
            <a:ext cx="7988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9dc3e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2987640" y="1727280"/>
            <a:ext cx="2854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unt! </a:t>
            </a: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Посчитай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mmodnaya.ru/wp-content/uploads/images/5192/7076802677_dd84408bc8_c.jpg"/>
          <p:cNvPicPr/>
          <p:nvPr/>
        </p:nvPicPr>
        <p:blipFill>
          <a:blip r:embed="rId1"/>
          <a:stretch/>
        </p:blipFill>
        <p:spPr>
          <a:xfrm>
            <a:off x="1495440" y="1268280"/>
            <a:ext cx="6027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59920"/>
            <a:ext cx="7886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 Light"/>
              </a:rPr>
              <a:t>Прочитай слова, правильно произнося звуки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 Light"/>
              </a:rPr>
              <a:t>Устно переведи на русский язык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7640" y="1825200"/>
            <a:ext cx="8785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к языка к верхним зубам,                        Кончик языка к верхним зубам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ыдохе говорим звук [з].                                 на выдохе говорим звук [с]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ð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el-GR" sz="4000" spc="-1" strike="noStrike">
                <a:solidFill>
                  <a:srgbClr val="0070c0"/>
                </a:solidFill>
                <a:latin typeface="Calibri"/>
              </a:rPr>
              <a:t>θ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bro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mo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 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                                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1 на стр. 68-69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 Проверь себя, прослушав аудиозапись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000" y="1773000"/>
            <a:ext cx="79880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hey are n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 = they  aren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660840" y="2755800"/>
            <a:ext cx="2279520" cy="3083040"/>
          </a:xfrm>
          <a:prstGeom prst="rect">
            <a:avLst/>
          </a:prstGeom>
          <a:ln w="0">
            <a:noFill/>
          </a:ln>
        </p:spPr>
      </p:pic>
      <p:pic>
        <p:nvPicPr>
          <p:cNvPr id="59" name="224_S 52.mp3" descr=""/>
          <p:cNvPicPr/>
          <p:nvPr/>
        </p:nvPicPr>
        <p:blipFill>
          <a:blip r:embed="rId2"/>
          <a:stretch/>
        </p:blipFill>
        <p:spPr>
          <a:xfrm>
            <a:off x="7850160" y="1628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2 на стр. 70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9920" y="1773360"/>
            <a:ext cx="89740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hey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re not 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pilots.           They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ren’t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pilo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660840" y="2755800"/>
            <a:ext cx="2279520" cy="308304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4" name="Стрелка: вправо 10"/>
          <p:cNvSpPr/>
          <p:nvPr/>
        </p:nvSpPr>
        <p:spPr>
          <a:xfrm flipV="1">
            <a:off x="4211640" y="2066760"/>
            <a:ext cx="720720" cy="201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ерепиши новые слова в словарь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ослушай и постарайся их запомнить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225_S 52.mp3" descr=""/>
          <p:cNvPicPr/>
          <p:nvPr/>
        </p:nvPicPr>
        <p:blipFill>
          <a:blip r:embed="rId1"/>
          <a:stretch/>
        </p:blipFill>
        <p:spPr>
          <a:xfrm>
            <a:off x="4267080" y="36957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0"/>
          <a:ext cx="7778880" cy="6791400"/>
        </p:xfrm>
        <a:graphic>
          <a:graphicData uri="http://schemas.openxmlformats.org/drawingml/2006/table">
            <a:tbl>
              <a:tblPr/>
              <a:tblGrid>
                <a:gridCol w="2522520"/>
                <a:gridCol w="2735280"/>
                <a:gridCol w="2521080"/>
              </a:tblGrid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ʃ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а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летовый, лил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ɪd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а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ənt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ɜː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-1692360" y="3173400"/>
          <a:ext cx="360360" cy="148104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148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" descr="https://i.gifer.com/Bb6E.gif"/>
          <p:cNvPicPr/>
          <p:nvPr/>
        </p:nvPicPr>
        <p:blipFill>
          <a:blip r:embed="rId1"/>
          <a:stretch/>
        </p:blipFill>
        <p:spPr>
          <a:xfrm>
            <a:off x="4205160" y="4330800"/>
            <a:ext cx="3119400" cy="20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detsad118.ru/wp-content/uploads/0036-030-.png"/>
          <p:cNvPicPr/>
          <p:nvPr/>
        </p:nvPicPr>
        <p:blipFill>
          <a:blip r:embed="rId2"/>
          <a:stretch/>
        </p:blipFill>
        <p:spPr>
          <a:xfrm>
            <a:off x="7481880" y="584280"/>
            <a:ext cx="1355760" cy="176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s://pp.userapi.com/c638817/v638817581/10f44/_Cb3H80xgBE.jpg"/>
          <p:cNvPicPr/>
          <p:nvPr/>
        </p:nvPicPr>
        <p:blipFill>
          <a:blip r:embed="rId3"/>
          <a:stretch/>
        </p:blipFill>
        <p:spPr>
          <a:xfrm>
            <a:off x="3954600" y="2690640"/>
            <a:ext cx="1355760" cy="179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s.cafebazaar.ir/1/upload/icons/ir.parastarshim.korosh.png"/>
          <p:cNvPicPr/>
          <p:nvPr/>
        </p:nvPicPr>
        <p:blipFill>
          <a:blip r:embed="rId4"/>
          <a:stretch/>
        </p:blipFill>
        <p:spPr>
          <a:xfrm>
            <a:off x="660240" y="544680"/>
            <a:ext cx="2070360" cy="207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s://i.gifer.com/5tbH.gif"/>
          <p:cNvPicPr/>
          <p:nvPr/>
        </p:nvPicPr>
        <p:blipFill>
          <a:blip r:embed="rId5"/>
          <a:stretch/>
        </p:blipFill>
        <p:spPr>
          <a:xfrm>
            <a:off x="5416560" y="2443320"/>
            <a:ext cx="2395440" cy="177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i.mycdn.me/i?r=AzGBqNaF5OQp2lMpnhRx4DEFjPsyu2qtVLk978tdPH9DiO42WX_Beot7vNpkVOMAJJ4"/>
          <p:cNvPicPr/>
          <p:nvPr/>
        </p:nvPicPr>
        <p:blipFill>
          <a:blip r:embed="rId6"/>
          <a:stretch/>
        </p:blipFill>
        <p:spPr>
          <a:xfrm>
            <a:off x="1454040" y="2994120"/>
            <a:ext cx="795600" cy="793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atic.tumblr.com/a36385b18939226e9f5210da7c36b98f/hkorzwt/R8Tmhcmmk/tumblr_static_ariel___colour_by_sabakunotemari88-d4jcgt3.png"/>
          <p:cNvPicPr/>
          <p:nvPr/>
        </p:nvPicPr>
        <p:blipFill>
          <a:blip r:embed="rId7"/>
          <a:stretch/>
        </p:blipFill>
        <p:spPr>
          <a:xfrm>
            <a:off x="6207120" y="3913200"/>
            <a:ext cx="2857680" cy="21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www.playcast.ru/uploads/2014/11/22/10742183.gif"/>
          <p:cNvPicPr/>
          <p:nvPr/>
        </p:nvPicPr>
        <p:blipFill>
          <a:blip r:embed="rId8"/>
          <a:stretch/>
        </p:blipFill>
        <p:spPr>
          <a:xfrm>
            <a:off x="1268280" y="4464000"/>
            <a:ext cx="109548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http://www.playcast.ru/uploads/2018/07/05/25496989.gif"/>
          <p:cNvPicPr/>
          <p:nvPr/>
        </p:nvPicPr>
        <p:blipFill>
          <a:blip r:embed="rId9"/>
          <a:stretch/>
        </p:blipFill>
        <p:spPr>
          <a:xfrm>
            <a:off x="3262320" y="5062680"/>
            <a:ext cx="1149480" cy="747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30600" y="579600"/>
            <a:ext cx="4022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Назови слова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4 на стр. 70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Прочитай и проверь себя, прослушав аудиозапись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226_S 52.mp3" descr=""/>
          <p:cNvPicPr/>
          <p:nvPr/>
        </p:nvPicPr>
        <p:blipFill>
          <a:blip r:embed="rId1"/>
          <a:stretch/>
        </p:blipFill>
        <p:spPr>
          <a:xfrm>
            <a:off x="6156360" y="111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s://cdn.eksmo.ru/v2/DRF000000000722987/COVER/cover3d1.jpg"/>
          <p:cNvPicPr/>
          <p:nvPr/>
        </p:nvPicPr>
        <p:blipFill>
          <a:blip r:embed="rId2"/>
          <a:stretch/>
        </p:blipFill>
        <p:spPr>
          <a:xfrm>
            <a:off x="3660840" y="2735280"/>
            <a:ext cx="2279520" cy="3083040"/>
          </a:xfrm>
          <a:prstGeom prst="rect">
            <a:avLst/>
          </a:prstGeom>
          <a:ln w="0">
            <a:noFill/>
          </a:ln>
        </p:spPr>
      </p:pic>
      <p:cxnSp>
        <p:nvCxnSpPr>
          <p:cNvPr id="83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Миниса Рахматулина</cp:lastModifiedBy>
  <dcterms:modified xsi:type="dcterms:W3CDTF">2020-04-11T03:32:12Z</dcterms:modified>
  <cp:revision>44</cp:revision>
  <dc:subject/>
  <dc:title>Слайд 1</dc:title>
</cp:coreProperties>
</file>