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0.gif" ContentType="image/gif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3699-0334-40B6-8409-A902B7C0C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2E0-2DA5-453F-B39A-B5655A1680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81D-D642-4642-934B-6EBB4A0B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416-60F8-432E-B75E-A22468FD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12B-84AD-402F-9F13-A1122C8A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7C7-8B72-4AF1-B2A5-1B199283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0CA-BDCB-402F-B299-195EC371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EC6-5C22-4BBE-8421-62682583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71A-76E3-4B3E-9115-523BB7C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433-D5DA-483B-BC9B-5B73D1C8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10A-C82C-4CE3-8500-043C2810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F19-0481-48F1-BEB2-0368643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439-C3AD-4192-BF5D-65083EAF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51D-7F53-4CA7-AB85-A2DE086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1530-A940-4091-9363-ADDE90CAB6B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-674640"/>
            <a:ext cx="7886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спомни правило образования глагола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 Light"/>
              </a:rPr>
              <a:t>to be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!</a:t>
            </a: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Посмотри видеоурок и повтори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Rainbow English 2 класс. AM IS ARE [akdJjtPLSFs].mp4" descr=""/>
          <p:cNvPicPr/>
          <p:nvPr/>
        </p:nvPicPr>
        <p:blipFill>
          <a:blip r:embed="rId1"/>
          <a:stretch/>
        </p:blipFill>
        <p:spPr>
          <a:xfrm>
            <a:off x="404640" y="1068480"/>
            <a:ext cx="83347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1937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unt! </a:t>
            </a: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считай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050920" y="1690560"/>
            <a:ext cx="4800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89000"/>
            <a:ext cx="7886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ɜː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8560" y="765000"/>
          <a:ext cx="2359080" cy="5761080"/>
        </p:xfrm>
        <a:graphic>
          <a:graphicData uri="http://schemas.openxmlformats.org/drawingml/2006/table">
            <a:tbl>
              <a:tblPr/>
              <a:tblGrid>
                <a:gridCol w="2359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2" descr="https://i.gifer.com/Bb6E.gif"/>
          <p:cNvPicPr/>
          <p:nvPr/>
        </p:nvPicPr>
        <p:blipFill>
          <a:blip r:embed="rId1"/>
          <a:stretch/>
        </p:blipFill>
        <p:spPr>
          <a:xfrm>
            <a:off x="2862360" y="87480"/>
            <a:ext cx="2232000" cy="14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detsad118.ru/wp-content/uploads/0036-030-.png"/>
          <p:cNvPicPr/>
          <p:nvPr/>
        </p:nvPicPr>
        <p:blipFill>
          <a:blip r:embed="rId2"/>
          <a:stretch/>
        </p:blipFill>
        <p:spPr>
          <a:xfrm>
            <a:off x="4670280" y="804960"/>
            <a:ext cx="94464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s://pp.userapi.com/c638817/v638817581/10f44/_Cb3H80xgBE.jpg"/>
          <p:cNvPicPr/>
          <p:nvPr/>
        </p:nvPicPr>
        <p:blipFill>
          <a:blip r:embed="rId3"/>
          <a:stretch/>
        </p:blipFill>
        <p:spPr>
          <a:xfrm>
            <a:off x="3201840" y="1116000"/>
            <a:ext cx="646200" cy="14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s.cafebazaar.ir/1/upload/icons/ir.parastarshim.korosh.png"/>
          <p:cNvPicPr/>
          <p:nvPr/>
        </p:nvPicPr>
        <p:blipFill>
          <a:blip r:embed="rId4"/>
          <a:stretch/>
        </p:blipFill>
        <p:spPr>
          <a:xfrm>
            <a:off x="4379760" y="2138400"/>
            <a:ext cx="1203480" cy="12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s://i.gifer.com/5tbH.gif"/>
          <p:cNvPicPr/>
          <p:nvPr/>
        </p:nvPicPr>
        <p:blipFill>
          <a:blip r:embed="rId5"/>
          <a:stretch/>
        </p:blipFill>
        <p:spPr>
          <a:xfrm>
            <a:off x="3286080" y="3184560"/>
            <a:ext cx="8859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i.mycdn.me/i?r=AzGBqNaF5OQp2lMpnhRx4DEFjPsyu2qtVLk978tdPH9DiO42WX_Beot7vNpkVOMAJJ4"/>
          <p:cNvPicPr/>
          <p:nvPr/>
        </p:nvPicPr>
        <p:blipFill>
          <a:blip r:embed="rId6"/>
          <a:stretch/>
        </p:blipFill>
        <p:spPr>
          <a:xfrm>
            <a:off x="5184720" y="3692520"/>
            <a:ext cx="795240" cy="79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static.tumblr.com/a36385b18939226e9f5210da7c36b98f/hkorzwt/R8Tmhcmmk/tumblr_static_ariel___colour_by_sabakunotemari88-d4jcgt3.png"/>
          <p:cNvPicPr/>
          <p:nvPr/>
        </p:nvPicPr>
        <p:blipFill>
          <a:blip r:embed="rId7"/>
          <a:stretch/>
        </p:blipFill>
        <p:spPr>
          <a:xfrm>
            <a:off x="3487680" y="4627440"/>
            <a:ext cx="900000" cy="66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www.playcast.ru/uploads/2014/11/22/10742183.gif"/>
          <p:cNvPicPr/>
          <p:nvPr/>
        </p:nvPicPr>
        <p:blipFill>
          <a:blip r:embed="rId8"/>
          <a:stretch/>
        </p:blipFill>
        <p:spPr>
          <a:xfrm>
            <a:off x="5203800" y="4835520"/>
            <a:ext cx="776160" cy="120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playcast.ru/uploads/2018/07/05/25496989.gif"/>
          <p:cNvPicPr/>
          <p:nvPr/>
        </p:nvPicPr>
        <p:blipFill>
          <a:blip r:embed="rId9"/>
          <a:stretch/>
        </p:blipFill>
        <p:spPr>
          <a:xfrm>
            <a:off x="3467160" y="6037200"/>
            <a:ext cx="669960" cy="43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3367080" y="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очитай слова, правильно произнося звуки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Устно переведи на рус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2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72-7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000" y="1773000"/>
            <a:ext cx="79880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382840"/>
            <a:ext cx="2279520" cy="3083040"/>
          </a:xfrm>
          <a:prstGeom prst="rect">
            <a:avLst/>
          </a:prstGeom>
          <a:ln w="0">
            <a:noFill/>
          </a:ln>
        </p:spPr>
      </p:pic>
      <p:pic>
        <p:nvPicPr>
          <p:cNvPr id="69" name="228_S 53.mp3" descr=""/>
          <p:cNvPicPr/>
          <p:nvPr/>
        </p:nvPicPr>
        <p:blipFill>
          <a:blip r:embed="rId2"/>
          <a:stretch/>
        </p:blipFill>
        <p:spPr>
          <a:xfrm>
            <a:off x="81057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9920" y="1773360"/>
            <a:ext cx="89740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 на фразу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I like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мне нравится, я люблю.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Проверь себ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229_S 53.mp3" descr=""/>
          <p:cNvPicPr/>
          <p:nvPr/>
        </p:nvPicPr>
        <p:blipFill>
          <a:blip r:embed="rId1"/>
          <a:stretch/>
        </p:blipFill>
        <p:spPr>
          <a:xfrm>
            <a:off x="8077320" y="892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cdn.eksmo.ru/v2/DRF000000000722987/COVER/cover3d1.jpg"/>
          <p:cNvPicPr/>
          <p:nvPr/>
        </p:nvPicPr>
        <p:blipFill>
          <a:blip r:embed="rId2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77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3250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2 на стр. 75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 единственном числе 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 артикль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а(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an)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;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о  множественном числе – не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80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81" name="231_S 54.mp3" descr=""/>
          <p:cNvPicPr/>
          <p:nvPr/>
        </p:nvPicPr>
        <p:blipFill>
          <a:blip r:embed="rId2"/>
          <a:stretch/>
        </p:blipFill>
        <p:spPr>
          <a:xfrm>
            <a:off x="7451640" y="2484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ерепиши новые слова в словарь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остарайся их запомнить!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28560" y="1973160"/>
          <a:ext cx="7759800" cy="2895840"/>
        </p:xfrm>
        <a:graphic>
          <a:graphicData uri="http://schemas.openxmlformats.org/drawingml/2006/table">
            <a:tbl>
              <a:tblPr/>
              <a:tblGrid>
                <a:gridCol w="2516400"/>
                <a:gridCol w="2728800"/>
                <a:gridCol w="2514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иться, люб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mə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в тетрад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письменно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3 на стр. 76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Запиши предложения и переведи их  на русский язык.</a:t>
            </a: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000" y="1268280"/>
            <a:ext cx="7988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9dc3e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2987640" y="1727280"/>
            <a:ext cx="2854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Миниса Рахматулина</cp:lastModifiedBy>
  <dcterms:modified xsi:type="dcterms:W3CDTF">2020-04-15T23:54:15Z</dcterms:modified>
  <cp:revision>57</cp:revision>
  <dc:subject/>
  <dc:title>Слайд 1</dc:title>
</cp:coreProperties>
</file>