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154-83F7-476F-A679-B0103AE4A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FC4A-E88F-4697-9611-A3A1AC16C8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DB1-51E3-4EDC-9144-4EEAD27F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1A2-861F-4465-AB1A-CEDAD4A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B39-2625-41E1-831D-3438BA36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74C-0F42-4EAC-BB10-EF0089DA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9A2-4C5A-4FA9-AAF6-1E95791C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DD3-974C-47EA-8D75-7A66A05A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9A9-E92C-4FB7-8632-6987B896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E2B-352F-4D64-88DC-00785ED0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E1D-CE31-4B4B-A07F-3E882A4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56C-D11F-4F37-8F51-4C0D64C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C20-FEC8-4989-82C0-AA9E8B6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FF3-F750-4995-A8E9-86F7727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072-DDA9-4421-8BED-48AD720ED90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-674640"/>
            <a:ext cx="7886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спомни правило образования глагола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 Light"/>
              </a:rPr>
              <a:t>to be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!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Посмотри видеоурок и повтори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Rainbow English 2 класс. AM IS ARE [akdJjtPLSFs].mp4" descr=""/>
          <p:cNvPicPr/>
          <p:nvPr/>
        </p:nvPicPr>
        <p:blipFill>
          <a:blip r:embed="rId1"/>
          <a:stretch/>
        </p:blipFill>
        <p:spPr>
          <a:xfrm>
            <a:off x="404640" y="1068480"/>
            <a:ext cx="83347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937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50920" y="1690560"/>
            <a:ext cx="4800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8900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ɜː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8560" y="765000"/>
          <a:ext cx="2359080" cy="5761080"/>
        </p:xfrm>
        <a:graphic>
          <a:graphicData uri="http://schemas.openxmlformats.org/drawingml/2006/table">
            <a:tbl>
              <a:tblPr/>
              <a:tblGrid>
                <a:gridCol w="235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2862360" y="87480"/>
            <a:ext cx="2232000" cy="14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4670280" y="804960"/>
            <a:ext cx="94464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201840" y="1116000"/>
            <a:ext cx="64620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4379760" y="2138400"/>
            <a:ext cx="1203480" cy="12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3286080" y="3184560"/>
            <a:ext cx="8859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5184720" y="3692520"/>
            <a:ext cx="795240" cy="79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3487680" y="4627440"/>
            <a:ext cx="900000" cy="6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5203800" y="4835520"/>
            <a:ext cx="776160" cy="120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467160" y="6037200"/>
            <a:ext cx="66996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3367080" y="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очитай слова, правильно произнося звуки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стно переведи на 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2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72-7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38284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69" name="228_S 53.mp3" descr=""/>
          <p:cNvPicPr/>
          <p:nvPr/>
        </p:nvPicPr>
        <p:blipFill>
          <a:blip r:embed="rId2"/>
          <a:stretch/>
        </p:blipFill>
        <p:spPr>
          <a:xfrm>
            <a:off x="81057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 на фразу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I like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мне нравится, я люблю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верь себ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229_S 53.mp3" descr=""/>
          <p:cNvPicPr/>
          <p:nvPr/>
        </p:nvPicPr>
        <p:blipFill>
          <a:blip r:embed="rId1"/>
          <a:stretch/>
        </p:blipFill>
        <p:spPr>
          <a:xfrm>
            <a:off x="8077320" y="892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5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 единственном числе 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 артикль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а(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an)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о  множественном числе – не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81" name="231_S 54.mp3" descr=""/>
          <p:cNvPicPr/>
          <p:nvPr/>
        </p:nvPicPr>
        <p:blipFill>
          <a:blip r:embed="rId2"/>
          <a:stretch/>
        </p:blipFill>
        <p:spPr>
          <a:xfrm>
            <a:off x="7451640" y="2484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остарайся их запомнить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28560" y="1973160"/>
          <a:ext cx="7759800" cy="2895840"/>
        </p:xfrm>
        <a:graphic>
          <a:graphicData uri="http://schemas.openxmlformats.org/drawingml/2006/table">
            <a:tbl>
              <a:tblPr/>
              <a:tblGrid>
                <a:gridCol w="2516400"/>
                <a:gridCol w="2728800"/>
                <a:gridCol w="2514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ться, люб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mə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3 на стр. 76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Запиши предложения и переведи их  на русский язык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5T23:54:15Z</dcterms:modified>
  <cp:revision>57</cp:revision>
  <dc:subject/>
  <dc:title>Слайд 1</dc:title>
</cp:coreProperties>
</file>