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0.gif" ContentType="image/gif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C11F-C231-4004-99D7-0A3619D8F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EEFD-6F19-4045-A61D-5E97CDCDD56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67D-069E-4DC3-A9AA-3A130A22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9BF-C7BF-45E0-B898-D24B0B9F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BCA-18CA-4B80-8BB4-8B1FC55C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5DD-2ED5-4783-B272-AC426ECC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57A-90BA-4048-8BB0-AB0619E1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802-FA08-4C0F-9E4A-0121EBAC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936-CB93-4C36-9F8B-52D20CCE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434-B8F2-48FF-B123-AD3BA48E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9D2-44FC-4494-8100-1A0121B0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905-CE01-4541-9D6D-5C20E4D8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B39-C4D0-4F74-9A40-1C6A18B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636-4629-4F91-A9E6-4DD3D107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4C87-6FBD-448C-A62E-C1BDBE4C8258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97960" y="54900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5b9bd5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411280" y="2349360"/>
            <a:ext cx="4071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4" descr=""/>
          <p:cNvPicPr/>
          <p:nvPr/>
        </p:nvPicPr>
        <p:blipFill>
          <a:blip r:embed="rId1"/>
          <a:stretch/>
        </p:blipFill>
        <p:spPr>
          <a:xfrm>
            <a:off x="682560" y="112248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-674640"/>
            <a:ext cx="7886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спомни правило образования глагола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 Light"/>
              </a:rPr>
              <a:t>to be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!</a:t>
            </a: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Calibri Light"/>
              </a:rPr>
              <a:t>Посмотри видеоурок и повтори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Rainbow English 2 класс. AM IS ARE [akdJjtPLSFs].mp4" descr=""/>
          <p:cNvPicPr/>
          <p:nvPr/>
        </p:nvPicPr>
        <p:blipFill>
          <a:blip r:embed="rId1"/>
          <a:stretch/>
        </p:blipFill>
        <p:spPr>
          <a:xfrm>
            <a:off x="404640" y="1068480"/>
            <a:ext cx="833472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1937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ount! </a:t>
            </a: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Посчитай!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050920" y="1690560"/>
            <a:ext cx="4800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189000"/>
            <a:ext cx="7886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ɜː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28560" y="765000"/>
          <a:ext cx="2359080" cy="5761080"/>
        </p:xfrm>
        <a:graphic>
          <a:graphicData uri="http://schemas.openxmlformats.org/drawingml/2006/table">
            <a:tbl>
              <a:tblPr/>
              <a:tblGrid>
                <a:gridCol w="23590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2" descr="https://i.gifer.com/Bb6E.gif"/>
          <p:cNvPicPr/>
          <p:nvPr/>
        </p:nvPicPr>
        <p:blipFill>
          <a:blip r:embed="rId1"/>
          <a:stretch/>
        </p:blipFill>
        <p:spPr>
          <a:xfrm>
            <a:off x="2862360" y="87480"/>
            <a:ext cx="2232000" cy="148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detsad118.ru/wp-content/uploads/0036-030-.png"/>
          <p:cNvPicPr/>
          <p:nvPr/>
        </p:nvPicPr>
        <p:blipFill>
          <a:blip r:embed="rId2"/>
          <a:stretch/>
        </p:blipFill>
        <p:spPr>
          <a:xfrm>
            <a:off x="4670280" y="804960"/>
            <a:ext cx="94464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s://pp.userapi.com/c638817/v638817581/10f44/_Cb3H80xgBE.jpg"/>
          <p:cNvPicPr/>
          <p:nvPr/>
        </p:nvPicPr>
        <p:blipFill>
          <a:blip r:embed="rId3"/>
          <a:stretch/>
        </p:blipFill>
        <p:spPr>
          <a:xfrm>
            <a:off x="3201840" y="1116000"/>
            <a:ext cx="646200" cy="14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s.cafebazaar.ir/1/upload/icons/ir.parastarshim.korosh.png"/>
          <p:cNvPicPr/>
          <p:nvPr/>
        </p:nvPicPr>
        <p:blipFill>
          <a:blip r:embed="rId4"/>
          <a:stretch/>
        </p:blipFill>
        <p:spPr>
          <a:xfrm>
            <a:off x="4379760" y="2138400"/>
            <a:ext cx="1203480" cy="120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s://i.gifer.com/5tbH.gif"/>
          <p:cNvPicPr/>
          <p:nvPr/>
        </p:nvPicPr>
        <p:blipFill>
          <a:blip r:embed="rId5"/>
          <a:stretch/>
        </p:blipFill>
        <p:spPr>
          <a:xfrm>
            <a:off x="3286080" y="3184560"/>
            <a:ext cx="885960" cy="66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http://i.mycdn.me/i?r=AzGBqNaF5OQp2lMpnhRx4DEFjPsyu2qtVLk978tdPH9DiO42WX_Beot7vNpkVOMAJJ4"/>
          <p:cNvPicPr/>
          <p:nvPr/>
        </p:nvPicPr>
        <p:blipFill>
          <a:blip r:embed="rId6"/>
          <a:stretch/>
        </p:blipFill>
        <p:spPr>
          <a:xfrm>
            <a:off x="5184720" y="3692520"/>
            <a:ext cx="795240" cy="79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ttp://static.tumblr.com/a36385b18939226e9f5210da7c36b98f/hkorzwt/R8Tmhcmmk/tumblr_static_ariel___colour_by_sabakunotemari88-d4jcgt3.png"/>
          <p:cNvPicPr/>
          <p:nvPr/>
        </p:nvPicPr>
        <p:blipFill>
          <a:blip r:embed="rId7"/>
          <a:stretch/>
        </p:blipFill>
        <p:spPr>
          <a:xfrm>
            <a:off x="3487680" y="4627440"/>
            <a:ext cx="900000" cy="66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www.playcast.ru/uploads/2014/11/22/10742183.gif"/>
          <p:cNvPicPr/>
          <p:nvPr/>
        </p:nvPicPr>
        <p:blipFill>
          <a:blip r:embed="rId8"/>
          <a:stretch/>
        </p:blipFill>
        <p:spPr>
          <a:xfrm>
            <a:off x="5203800" y="4835520"/>
            <a:ext cx="776160" cy="1203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http://www.playcast.ru/uploads/2018/07/05/25496989.gif"/>
          <p:cNvPicPr/>
          <p:nvPr/>
        </p:nvPicPr>
        <p:blipFill>
          <a:blip r:embed="rId9"/>
          <a:stretch/>
        </p:blipFill>
        <p:spPr>
          <a:xfrm>
            <a:off x="3467160" y="6037200"/>
            <a:ext cx="669960" cy="434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3"/>
          <p:cNvSpPr/>
          <p:nvPr/>
        </p:nvSpPr>
        <p:spPr>
          <a:xfrm>
            <a:off x="3367080" y="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рочитай слова, правильно произнося звуки.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Устно переведи на русски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2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72-7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 Проверь себя, прослушав аудиозапись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000" y="1773000"/>
            <a:ext cx="79880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851280" y="2382840"/>
            <a:ext cx="2279520" cy="3083040"/>
          </a:xfrm>
          <a:prstGeom prst="rect">
            <a:avLst/>
          </a:prstGeom>
          <a:ln w="0">
            <a:noFill/>
          </a:ln>
        </p:spPr>
      </p:pic>
      <p:pic>
        <p:nvPicPr>
          <p:cNvPr id="69" name="228_S 53.mp3" descr=""/>
          <p:cNvPicPr/>
          <p:nvPr/>
        </p:nvPicPr>
        <p:blipFill>
          <a:blip r:embed="rId2"/>
          <a:stretch/>
        </p:blipFill>
        <p:spPr>
          <a:xfrm>
            <a:off x="810576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7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9920" y="1773360"/>
            <a:ext cx="897408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660840" y="2755800"/>
            <a:ext cx="2279520" cy="308304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68680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4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7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4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Обрати внимание на фразу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I like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мне нравится, я люблю.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Проверь себя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229_S 53.mp3" descr=""/>
          <p:cNvPicPr/>
          <p:nvPr/>
        </p:nvPicPr>
        <p:blipFill>
          <a:blip r:embed="rId1"/>
          <a:stretch/>
        </p:blipFill>
        <p:spPr>
          <a:xfrm>
            <a:off x="8077320" y="892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s://cdn.eksmo.ru/v2/DRF000000000722987/COVER/cover3d1.jpg"/>
          <p:cNvPicPr/>
          <p:nvPr/>
        </p:nvPicPr>
        <p:blipFill>
          <a:blip r:embed="rId2"/>
          <a:stretch/>
        </p:blipFill>
        <p:spPr>
          <a:xfrm>
            <a:off x="3851280" y="2997360"/>
            <a:ext cx="2279520" cy="3082680"/>
          </a:xfrm>
          <a:prstGeom prst="rect">
            <a:avLst/>
          </a:prstGeom>
          <a:ln w="0">
            <a:noFill/>
          </a:ln>
        </p:spPr>
      </p:pic>
      <p:cxnSp>
        <p:nvCxnSpPr>
          <p:cNvPr id="77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32508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2 на стр. 75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Обрати внимание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 единственном числе –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употребляем артикль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а(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an)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;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о  множественном числе – не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употребляем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851280" y="2997360"/>
            <a:ext cx="2279520" cy="3082680"/>
          </a:xfrm>
          <a:prstGeom prst="rect">
            <a:avLst/>
          </a:prstGeom>
          <a:ln w="0">
            <a:noFill/>
          </a:ln>
        </p:spPr>
      </p:pic>
      <p:cxnSp>
        <p:nvCxnSpPr>
          <p:cNvPr id="80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pic>
        <p:nvPicPr>
          <p:cNvPr id="81" name="231_S 54.mp3" descr=""/>
          <p:cNvPicPr/>
          <p:nvPr/>
        </p:nvPicPr>
        <p:blipFill>
          <a:blip r:embed="rId2"/>
          <a:stretch/>
        </p:blipFill>
        <p:spPr>
          <a:xfrm>
            <a:off x="7451640" y="2484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ерепиши новые слова в словарь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остарайся их запомнить!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28560" y="1973160"/>
          <a:ext cx="7759800" cy="2895840"/>
        </p:xfrm>
        <a:graphic>
          <a:graphicData uri="http://schemas.openxmlformats.org/drawingml/2006/table">
            <a:tbl>
              <a:tblPr/>
              <a:tblGrid>
                <a:gridCol w="2516400"/>
                <a:gridCol w="2728800"/>
                <a:gridCol w="25146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иться, люб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ˈ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æ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ˈ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mə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в тетрад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письменно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3 на стр. 76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 Light"/>
              </a:rPr>
              <a:t>Запиши предложения и переведи их  на русский язык.</a:t>
            </a: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000" y="1268280"/>
            <a:ext cx="79880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9dc3e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2987640" y="1727280"/>
            <a:ext cx="2854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Миниса Рахматулина</cp:lastModifiedBy>
  <dcterms:modified xsi:type="dcterms:W3CDTF">2020-04-15T23:54:15Z</dcterms:modified>
  <cp:revision>57</cp:revision>
  <dc:subject/>
  <dc:title>Слайд 1</dc:title>
</cp:coreProperties>
</file>