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0.gif" ContentType="image/gif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0E59-379A-48D3-85B2-9FDF98B06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FDF-ADBD-428F-A6E6-2B46DAA3169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B64-4D81-4D66-BFE5-8DFBACC9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435-61F8-4FF4-807B-81E7B364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15A-4ABC-407E-90A8-B4052587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722-1089-40E7-99D6-49052C57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5A3-7C2A-4C45-BDA5-3E121D36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03B-6A25-40A3-B018-20546CDF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839-12A4-4765-9CB4-D25E527B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A61-442D-49AE-AF0D-6EB8E08B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E25-41EE-4934-800B-F65BA6D7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927-BB72-49A7-98EA-DB84C63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82C-9185-4628-B266-37E2B3B2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8B3-E5D6-4033-8666-B4AB011F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2BC6-A5AC-4DF9-820D-A1D88C96E001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97960" y="54900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5b9bd5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411280" y="2349360"/>
            <a:ext cx="4071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1"/>
          <a:stretch/>
        </p:blipFill>
        <p:spPr>
          <a:xfrm>
            <a:off x="682560" y="1122480"/>
            <a:ext cx="77788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-674640"/>
            <a:ext cx="7886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спомни правило образования глагола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 Light"/>
              </a:rPr>
              <a:t>to be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!</a:t>
            </a: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Calibri Light"/>
              </a:rPr>
              <a:t>Посмотри видеоурок и повтори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Rainbow English 2 класс. AM IS ARE [akdJjtPLSFs].mp4" descr=""/>
          <p:cNvPicPr/>
          <p:nvPr/>
        </p:nvPicPr>
        <p:blipFill>
          <a:blip r:embed="rId1"/>
          <a:stretch/>
        </p:blipFill>
        <p:spPr>
          <a:xfrm>
            <a:off x="404640" y="1068480"/>
            <a:ext cx="83347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1937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4520" y="1557360"/>
            <a:ext cx="838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GOOD </a:t>
            </a:r>
            <a:r>
              <a:rPr b="1" lang="ru-RU" sz="36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LU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д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ount! </a:t>
            </a: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Посчитай!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050920" y="1690560"/>
            <a:ext cx="4800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189000"/>
            <a:ext cx="7886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ɜː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28560" y="765000"/>
          <a:ext cx="2359080" cy="5761080"/>
        </p:xfrm>
        <a:graphic>
          <a:graphicData uri="http://schemas.openxmlformats.org/drawingml/2006/table">
            <a:tbl>
              <a:tblPr/>
              <a:tblGrid>
                <a:gridCol w="2359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2" descr="https://i.gifer.com/Bb6E.gif"/>
          <p:cNvPicPr/>
          <p:nvPr/>
        </p:nvPicPr>
        <p:blipFill>
          <a:blip r:embed="rId1"/>
          <a:stretch/>
        </p:blipFill>
        <p:spPr>
          <a:xfrm>
            <a:off x="2862360" y="87480"/>
            <a:ext cx="2232000" cy="148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detsad118.ru/wp-content/uploads/0036-030-.png"/>
          <p:cNvPicPr/>
          <p:nvPr/>
        </p:nvPicPr>
        <p:blipFill>
          <a:blip r:embed="rId2"/>
          <a:stretch/>
        </p:blipFill>
        <p:spPr>
          <a:xfrm>
            <a:off x="4670280" y="804960"/>
            <a:ext cx="94464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s://pp.userapi.com/c638817/v638817581/10f44/_Cb3H80xgBE.jpg"/>
          <p:cNvPicPr/>
          <p:nvPr/>
        </p:nvPicPr>
        <p:blipFill>
          <a:blip r:embed="rId3"/>
          <a:stretch/>
        </p:blipFill>
        <p:spPr>
          <a:xfrm>
            <a:off x="3201840" y="1116000"/>
            <a:ext cx="646200" cy="14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s.cafebazaar.ir/1/upload/icons/ir.parastarshim.korosh.png"/>
          <p:cNvPicPr/>
          <p:nvPr/>
        </p:nvPicPr>
        <p:blipFill>
          <a:blip r:embed="rId4"/>
          <a:stretch/>
        </p:blipFill>
        <p:spPr>
          <a:xfrm>
            <a:off x="4379760" y="2138400"/>
            <a:ext cx="1203480" cy="120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s://i.gifer.com/5tbH.gif"/>
          <p:cNvPicPr/>
          <p:nvPr/>
        </p:nvPicPr>
        <p:blipFill>
          <a:blip r:embed="rId5"/>
          <a:stretch/>
        </p:blipFill>
        <p:spPr>
          <a:xfrm>
            <a:off x="3286080" y="3184560"/>
            <a:ext cx="885960" cy="66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i.mycdn.me/i?r=AzGBqNaF5OQp2lMpnhRx4DEFjPsyu2qtVLk978tdPH9DiO42WX_Beot7vNpkVOMAJJ4"/>
          <p:cNvPicPr/>
          <p:nvPr/>
        </p:nvPicPr>
        <p:blipFill>
          <a:blip r:embed="rId6"/>
          <a:stretch/>
        </p:blipFill>
        <p:spPr>
          <a:xfrm>
            <a:off x="5184720" y="3692520"/>
            <a:ext cx="795240" cy="79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static.tumblr.com/a36385b18939226e9f5210da7c36b98f/hkorzwt/R8Tmhcmmk/tumblr_static_ariel___colour_by_sabakunotemari88-d4jcgt3.png"/>
          <p:cNvPicPr/>
          <p:nvPr/>
        </p:nvPicPr>
        <p:blipFill>
          <a:blip r:embed="rId7"/>
          <a:stretch/>
        </p:blipFill>
        <p:spPr>
          <a:xfrm>
            <a:off x="3487680" y="4627440"/>
            <a:ext cx="900000" cy="66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www.playcast.ru/uploads/2014/11/22/10742183.gif"/>
          <p:cNvPicPr/>
          <p:nvPr/>
        </p:nvPicPr>
        <p:blipFill>
          <a:blip r:embed="rId8"/>
          <a:stretch/>
        </p:blipFill>
        <p:spPr>
          <a:xfrm>
            <a:off x="5203800" y="4835520"/>
            <a:ext cx="776160" cy="120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www.playcast.ru/uploads/2018/07/05/25496989.gif"/>
          <p:cNvPicPr/>
          <p:nvPr/>
        </p:nvPicPr>
        <p:blipFill>
          <a:blip r:embed="rId9"/>
          <a:stretch/>
        </p:blipFill>
        <p:spPr>
          <a:xfrm>
            <a:off x="3467160" y="6037200"/>
            <a:ext cx="669960" cy="434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3367080" y="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очитай слова, правильно произнося звуки.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Устно переведи на рус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2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72-7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 Проверь себя, прослушав аудиозапись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000" y="1773000"/>
            <a:ext cx="79880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851280" y="2382840"/>
            <a:ext cx="2279520" cy="3083040"/>
          </a:xfrm>
          <a:prstGeom prst="rect">
            <a:avLst/>
          </a:prstGeom>
          <a:ln w="0">
            <a:noFill/>
          </a:ln>
        </p:spPr>
      </p:pic>
      <p:pic>
        <p:nvPicPr>
          <p:cNvPr id="69" name="228_S 53.mp3" descr=""/>
          <p:cNvPicPr/>
          <p:nvPr/>
        </p:nvPicPr>
        <p:blipFill>
          <a:blip r:embed="rId2"/>
          <a:stretch/>
        </p:blipFill>
        <p:spPr>
          <a:xfrm>
            <a:off x="810576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68680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7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3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9920" y="1773360"/>
            <a:ext cx="89740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660840" y="2755800"/>
            <a:ext cx="2279520" cy="308304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68680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4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на стр. 7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4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Обрати внимание на фразу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I like </a:t>
            </a:r>
            <a:r>
              <a:rPr b="1" lang="en-US" sz="3200" spc="-1" strike="noStrike">
                <a:solidFill>
                  <a:srgbClr val="002060"/>
                </a:solidFill>
                <a:latin typeface="Calibri Light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мне нравится, я люблю.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Проверь себ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229_S 53.mp3" descr=""/>
          <p:cNvPicPr/>
          <p:nvPr/>
        </p:nvPicPr>
        <p:blipFill>
          <a:blip r:embed="rId1"/>
          <a:stretch/>
        </p:blipFill>
        <p:spPr>
          <a:xfrm>
            <a:off x="8077320" y="892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cdn.eksmo.ru/v2/DRF000000000722987/COVER/cover3d1.jpg"/>
          <p:cNvPicPr/>
          <p:nvPr/>
        </p:nvPicPr>
        <p:blipFill>
          <a:blip r:embed="rId2"/>
          <a:stretch/>
        </p:blipFill>
        <p:spPr>
          <a:xfrm>
            <a:off x="3851280" y="2997360"/>
            <a:ext cx="2279520" cy="3082680"/>
          </a:xfrm>
          <a:prstGeom prst="rect">
            <a:avLst/>
          </a:prstGeom>
          <a:ln w="0">
            <a:noFill/>
          </a:ln>
        </p:spPr>
      </p:pic>
      <p:cxnSp>
        <p:nvCxnSpPr>
          <p:cNvPr id="77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32508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 устно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 2 на стр. 75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Обрати внимание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 единственном числе –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употребляем артикль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а(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an)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;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во  множественном числе – не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употребляем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3851280" y="2997360"/>
            <a:ext cx="2279520" cy="3082680"/>
          </a:xfrm>
          <a:prstGeom prst="rect">
            <a:avLst/>
          </a:prstGeom>
          <a:ln w="0">
            <a:noFill/>
          </a:ln>
        </p:spPr>
      </p:pic>
      <p:cxnSp>
        <p:nvCxnSpPr>
          <p:cNvPr id="80" name="Прямая со стрелкой 8"/>
          <p:cNvCxnSpPr/>
          <p:nvPr/>
        </p:nvCxnSpPr>
        <p:spPr>
          <a:xfrm flipV="1">
            <a:off x="471240" y="1180800"/>
            <a:ext cx="20880" cy="165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pic>
        <p:nvPicPr>
          <p:cNvPr id="81" name="231_S 54.mp3" descr=""/>
          <p:cNvPicPr/>
          <p:nvPr/>
        </p:nvPicPr>
        <p:blipFill>
          <a:blip r:embed="rId2"/>
          <a:stretch/>
        </p:blipFill>
        <p:spPr>
          <a:xfrm>
            <a:off x="7451640" y="2484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ерепиши новые слова в словарь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Постарайся их запомнить!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28560" y="1973160"/>
          <a:ext cx="7759800" cy="2895840"/>
        </p:xfrm>
        <a:graphic>
          <a:graphicData uri="http://schemas.openxmlformats.org/drawingml/2006/table">
            <a:tbl>
              <a:tblPr/>
              <a:tblGrid>
                <a:gridCol w="2516400"/>
                <a:gridCol w="2728800"/>
                <a:gridCol w="25146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иться, люб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ˈ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æ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ˈ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mə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i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 Light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Выполни в тетради </a:t>
            </a: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письменно</a:t>
            </a: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упр. 3 на стр. 76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Запиши предложения и переведи их  на русский язык.</a:t>
            </a:r>
            <a:br>
              <a:rPr sz="3200"/>
            </a:br>
            <a:r>
              <a:rPr b="0" lang="ru-RU" sz="24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000" y="1268280"/>
            <a:ext cx="7988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9dc3e6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s://cdn.eksmo.ru/v2/DRF000000000722987/COVER/cover3d1.jpg"/>
          <p:cNvPicPr/>
          <p:nvPr/>
        </p:nvPicPr>
        <p:blipFill>
          <a:blip r:embed="rId1"/>
          <a:stretch/>
        </p:blipFill>
        <p:spPr>
          <a:xfrm>
            <a:off x="2987640" y="1727280"/>
            <a:ext cx="2854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2:55:11Z</dcterms:created>
  <dc:creator>1</dc:creator>
  <dc:description/>
  <dc:language>en-US</dc:language>
  <cp:lastModifiedBy>Миниса Рахматулина</cp:lastModifiedBy>
  <dcterms:modified xsi:type="dcterms:W3CDTF">2020-04-15T23:54:15Z</dcterms:modified>
  <cp:revision>57</cp:revision>
  <dc:subject/>
  <dc:title>Слайд 1</dc:title>
</cp:coreProperties>
</file>