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7226-1BCD-4ADF-8B5D-9DAB5872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5090-EA16-4312-ABA0-1FE19E06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6A6-8DDE-4AD9-9953-0576E6BD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CFAD-77D2-4B06-BAA9-D2E82B4E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BAC8-19CE-443B-883F-4C028C66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E630-6CFC-403E-96F5-7AF7FCAB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659E-4E90-4991-8DF4-76AB1A64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7F71-DCBF-474E-B622-98B88DD5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A5C1-C253-4525-9BE2-9BB30127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CEEC-72F9-4FC8-8156-A4EA950E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8BA1-6442-4A5E-B64C-1BD46958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800-D5C8-4BEC-B82B-FDBCBCE4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33B7-CCB9-4423-B187-2F106131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38FC-C3B7-4F8B-B224-0A5A9F1C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A5C0-605E-4C5D-AF6A-17AD33D8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CE1B-A438-4C4B-BFC2-11F4ACE5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3D06-A551-46B1-B928-25A29C93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71F-89B8-418A-B31B-7567D5B5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F732-EA5D-4DC8-B05A-880A58F8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F19E-1AB8-4003-A792-07342B99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D086-0D2C-4649-B600-BEB15C99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F2C0-091D-4A49-91E9-C32005E5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3492-5B71-4AF4-B027-B8A4F655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0379-6A10-4919-AE69-C84F5229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C043-8708-49F2-87B8-9B93D3C741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D98F-56EA-4CE9-A783-CEC9DBE7C5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8000" y="2060280"/>
            <a:ext cx="9144000" cy="216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Компьютерный практикум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для проведения логопедических занятий в начальной школ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-34920" y="580500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Разработан по заказу Управления образования Администрации Калининградской области в 2005 год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635280" y="1413000"/>
            <a:ext cx="5219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Варченко В.И., Ларина А.Б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4135680" cy="6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Актуальность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логопедические занятия отнимают дополнительное время и сил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у проблемных детей наблюдается снижение интереса к учебе, эмоциональная неустойчивость, быстрая истощаемость ресурсов внима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 начальной школе происходит смена ведущей деятельности ребёнка с игровой на учебную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компьютер – универсальная игруш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662472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Основные цели примене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16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редупреждение и исправление дисграфии и дислекс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осполнение пробелов изучения учебной программ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развитие восприятия, внимания, зрительной памяти, мышл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6337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остав практикум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84120"/>
            <a:ext cx="769608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20 компьютерных игр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конструктор уро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около 1300 дидактических упражнени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учебно-методическое пособие – 226 ст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1800360" cy="1355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1476360" y="3571920"/>
            <a:ext cx="1817640" cy="1369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3"/>
          <a:stretch/>
        </p:blipFill>
        <p:spPr>
          <a:xfrm>
            <a:off x="2266920" y="3943440"/>
            <a:ext cx="1800360" cy="1357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4"/>
          <a:stretch/>
        </p:blipFill>
        <p:spPr>
          <a:xfrm>
            <a:off x="3059280" y="4303800"/>
            <a:ext cx="1800000" cy="1357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5"/>
          <a:stretch/>
        </p:blipFill>
        <p:spPr>
          <a:xfrm>
            <a:off x="3924360" y="4592520"/>
            <a:ext cx="1800000" cy="1357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6"/>
          <a:stretch/>
        </p:blipFill>
        <p:spPr>
          <a:xfrm>
            <a:off x="4788000" y="4808520"/>
            <a:ext cx="1800000" cy="135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7"/>
          <a:stretch/>
        </p:blipFill>
        <p:spPr>
          <a:xfrm>
            <a:off x="5724360" y="4951440"/>
            <a:ext cx="1800360" cy="1357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"/>
          <p:cNvPicPr/>
          <p:nvPr/>
        </p:nvPicPr>
        <p:blipFill>
          <a:blip r:embed="rId8"/>
          <a:stretch/>
        </p:blipFill>
        <p:spPr>
          <a:xfrm>
            <a:off x="6659640" y="5024520"/>
            <a:ext cx="1800000" cy="1357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"/>
          <p:cNvPicPr/>
          <p:nvPr/>
        </p:nvPicPr>
        <p:blipFill>
          <a:blip r:embed="rId9"/>
          <a:stretch/>
        </p:blipFill>
        <p:spPr>
          <a:xfrm>
            <a:off x="7224840" y="3068640"/>
            <a:ext cx="1234800" cy="1728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"/>
          <p:cNvPicPr/>
          <p:nvPr/>
        </p:nvPicPr>
        <p:blipFill>
          <a:blip r:embed="rId10"/>
          <a:stretch/>
        </p:blipFill>
        <p:spPr>
          <a:xfrm>
            <a:off x="6035760" y="3645000"/>
            <a:ext cx="10573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6160" y="352080"/>
            <a:ext cx="626256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Компьютерная иг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98984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имеет дидактические цел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использует оптимальное сочетание учебных и развлекательных элемент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озволяет сохранять статистические результат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соответствует возрастным особенностям развития дете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имеет ограниченную длительность (3-5 мин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3:23:58Z</dcterms:created>
  <dc:creator>Хлам</dc:creator>
  <dc:description/>
  <dc:language>en-US</dc:language>
  <cp:lastModifiedBy>дмитрий</cp:lastModifiedBy>
  <dcterms:modified xsi:type="dcterms:W3CDTF">2015-02-28T09:37:00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