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98A-AAD7-410E-B80C-2C061D6F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A93-81C1-4457-A6CA-B5377E29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FDC-270D-4800-97BC-69C575B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279-6818-4212-8C37-468F316C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9A97-F640-4F5E-8E93-21B644C3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08D-014E-447E-960A-AF63EFD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0F9-1C16-4BFD-BA34-76DA79B0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35C-3D85-4980-A78C-3C90237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EDC-C483-4876-9D4C-A1B7CBA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1FE0-3DD6-42AF-8CE2-1496DBB8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683C-D761-4B07-B339-094F6A3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D97-C80E-4D4C-ADF6-C20DE99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2D5B-A9A0-42ED-8670-7848619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C81-6A74-45A4-A49B-D4EFD476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418-A69C-46AA-BE6D-B9E8CA1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BA41-BCC0-4644-B671-DB283F69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D6F2-747B-4FFB-87AE-775F8E16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4F8-470D-4CBE-8B9C-74434B8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D36-D9A7-4A02-97F2-2BFF53CC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BF3-BE43-40B2-A0E9-1B7D5EF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15F-AA5C-4858-8F15-671A4FE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395-26C9-4E4D-B782-C29F2F6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A1E-F3E3-456C-9C56-CA3203A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1F5-5D62-403B-A35A-9B84519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D7E-F354-4B52-96AE-7D38CF7967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558-4955-4CE2-8181-7A5B56B448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2060280"/>
            <a:ext cx="914400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мпьютерный практику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ля проведения логопедических занятий в начальной школ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4920" y="580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работан по заказу Управления образования Администрации Калининградской области в 2005 год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635280" y="1413000"/>
            <a:ext cx="52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арченко В.И., Ларина А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13568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опедические занятия отнимают дополнительное время и сил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 проблемных детей наблюдается снижение интереса к учебе, эмоциональная неустойчивость, быстрая истощаемость ресурсов вним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начальной школе происходит смена ведущей деятельности ребёнка с игровой на учебную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мпьютер – универсальная игруш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сновные цели приме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1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редупреждение и исправление дисграфии и дислекс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осполнение пробелов изучения учебной программ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развитие восприятия, внимания, зрительной памяти, мыш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337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остав практикум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84120"/>
            <a:ext cx="76960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20 компьютерных иг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структор уро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около 1300 дидактических упражн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чебно-методическое пособие – 226 ст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1476360" y="3571920"/>
            <a:ext cx="1817640" cy="1369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2266920" y="3943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3059280" y="430380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3924360" y="4592520"/>
            <a:ext cx="1800000" cy="135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tretch/>
        </p:blipFill>
        <p:spPr>
          <a:xfrm>
            <a:off x="4788000" y="4808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tretch/>
        </p:blipFill>
        <p:spPr>
          <a:xfrm>
            <a:off x="5724360" y="49514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8"/>
          <a:stretch/>
        </p:blipFill>
        <p:spPr>
          <a:xfrm>
            <a:off x="6659640" y="5024520"/>
            <a:ext cx="180000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9"/>
          <a:stretch/>
        </p:blipFill>
        <p:spPr>
          <a:xfrm>
            <a:off x="7224840" y="3068640"/>
            <a:ext cx="123480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10"/>
          <a:stretch/>
        </p:blipFill>
        <p:spPr>
          <a:xfrm>
            <a:off x="6035760" y="364500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6160" y="352080"/>
            <a:ext cx="62625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мпьютерная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9898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дидактические цел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спользует оптимальное сочетание учебных и развлекательных элемен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зволяет сохранять статистические результат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оответствует возрастным особенностям развития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меет ограниченную длительность (3-5 мин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3:23:58Z</dcterms:created>
  <dc:creator>Хлам</dc:creator>
  <dc:description/>
  <dc:language>en-US</dc:language>
  <cp:lastModifiedBy>дмитрий</cp:lastModifiedBy>
  <dcterms:modified xsi:type="dcterms:W3CDTF">2015-02-28T09:37:00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