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F5C-6EC5-4400-A723-0CA27269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FEE-7828-4F4B-ADFC-ABEE5342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990E-E1EC-4FA1-A37F-35C04776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AC2-EE36-4031-876E-48FABEEC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A735-D053-43F0-96A9-D1013BED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EF68-9ACC-4D24-AA8E-FA1F65EF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DE92-890A-47BB-AB34-C602B30B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3849-25B4-4732-970E-6F524E5A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A044-4C2B-4767-8C36-D33F67A6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D8CA-292D-498C-A492-BAE719E8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281F-4921-41FB-A2A4-4C5B08E5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328-3AC3-4863-A502-CA022406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54D2-8872-4034-B8BA-A584062A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74B5-4E5F-4C0E-A9B3-B4AA1A0A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60A2-695F-4F8B-BDF6-518F1A76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5E48-EBAC-498F-AB82-37E12A1D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D572-EDFF-4BEB-9305-47A8DA26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E0C-81E4-4819-929C-8A07CA28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819-8437-4B74-8DF5-90913871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07B-A513-42AF-BF6B-1C81AC71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8CE-2109-469A-8B6A-BEC1CF59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B3A-BF3E-498B-856D-0D3BEFFC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F92D-6CA4-4C34-8C9B-F86A5423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F40-B058-4916-A49B-EFFDF35F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A42D-4134-494F-94A9-4F4A46502F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0455-D61A-4559-B695-5F473F81C1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ogozavr.ru/" TargetMode="External"/><Relationship Id="rId2" Type="http://schemas.openxmlformats.org/officeDocument/2006/relationships/hyperlink" Target="mailto:info@logozavr.ru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000" y="2060280"/>
            <a:ext cx="9144000" cy="216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омпьютерный практикум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для проведения логопедических занятий в начальной школ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4920" y="580500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Разработан по заказу Управления образования Администрации Калининградской области в 2005 год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635280" y="1413000"/>
            <a:ext cx="521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Варченко В.И., Ларина А.Б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4720" y="475920"/>
            <a:ext cx="597528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нтерфейс игры: начал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13" descr=""/>
          <p:cNvPicPr/>
          <p:nvPr/>
        </p:nvPicPr>
        <p:blipFill>
          <a:blip r:embed="rId1"/>
          <a:stretch/>
        </p:blipFill>
        <p:spPr>
          <a:xfrm>
            <a:off x="1692360" y="1214280"/>
            <a:ext cx="698328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4360" y="475920"/>
            <a:ext cx="66229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нтерфейс игры: провед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6983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4360" y="475920"/>
            <a:ext cx="64069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нтерфейс игры: заверш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690560" y="1231920"/>
            <a:ext cx="698508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716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не требует существенной перестройки учебного процес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озволяет проводить занятия логопеду, обладающему минимальными навыками работы с компьютеро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озволяет работать вдвоём за одним компьютер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201080" cy="5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хнология использов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657000"/>
            <a:ext cx="755964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Учебно-методическое пособ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85800" y="1700280"/>
            <a:ext cx="72709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одготовительный этап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осполнение пробелов в развитии звуковой стороны реч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осполнение пробелов лексико-грамматического развит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осполнение пробелов в формировании связной реч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развитие индивидуальных качест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41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оставление программы занят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2" descr=""/>
          <p:cNvPicPr/>
          <p:nvPr/>
        </p:nvPicPr>
        <p:blipFill>
          <a:blip r:embed="rId1"/>
          <a:stretch/>
        </p:blipFill>
        <p:spPr>
          <a:xfrm>
            <a:off x="3708360" y="1484280"/>
            <a:ext cx="4500720" cy="281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"/>
          <p:cNvPicPr/>
          <p:nvPr/>
        </p:nvPicPr>
        <p:blipFill>
          <a:blip r:embed="rId2"/>
          <a:stretch/>
        </p:blipFill>
        <p:spPr>
          <a:xfrm>
            <a:off x="4427640" y="3309840"/>
            <a:ext cx="4140000" cy="271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Object 14"/>
          <p:cNvGraphicFramePr/>
          <p:nvPr/>
        </p:nvGraphicFramePr>
        <p:xfrm>
          <a:off x="797040" y="1484280"/>
          <a:ext cx="27669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040" y="1484280"/>
                    <a:ext cx="27669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60000" y="1197000"/>
            <a:ext cx="1295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Пак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45800" y="475920"/>
            <a:ext cx="63342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ежимы провед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3780000" y="1898640"/>
            <a:ext cx="4890960" cy="3668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900000" y="1927080"/>
            <a:ext cx="1800360" cy="1357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3"/>
          <a:stretch/>
        </p:blipFill>
        <p:spPr>
          <a:xfrm>
            <a:off x="1098720" y="2490840"/>
            <a:ext cx="1817640" cy="1369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"/>
          <p:cNvPicPr/>
          <p:nvPr/>
        </p:nvPicPr>
        <p:blipFill>
          <a:blip r:embed="rId4"/>
          <a:stretch/>
        </p:blipFill>
        <p:spPr>
          <a:xfrm>
            <a:off x="1332000" y="3009960"/>
            <a:ext cx="1800000" cy="1355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5"/>
          <a:stretch/>
        </p:blipFill>
        <p:spPr>
          <a:xfrm>
            <a:off x="1547640" y="3656160"/>
            <a:ext cx="1800360" cy="135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6"/>
          <a:stretch/>
        </p:blipFill>
        <p:spPr>
          <a:xfrm>
            <a:off x="1763640" y="4232160"/>
            <a:ext cx="1800360" cy="13575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5581800" y="1197000"/>
            <a:ext cx="1295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9280" y="2333520"/>
            <a:ext cx="799308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logozavr.r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e-mail: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info@logozavr.r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4360" y="657000"/>
            <a:ext cx="698328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йт технической поддержк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512720" y="4586400"/>
            <a:ext cx="62992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3:23:58Z</dcterms:created>
  <dc:creator>Хлам</dc:creator>
  <dc:description/>
  <dc:language>en-US</dc:language>
  <cp:lastModifiedBy>дмитрий</cp:lastModifiedBy>
  <dcterms:modified xsi:type="dcterms:W3CDTF">2015-02-28T09:37:33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