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CE36-1AA7-46B5-A05C-181D797E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55D3-B5A0-47E2-9D77-B8B23ED7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60B3-378C-4C68-8990-FB042AFE0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6241-7BD2-4578-AC5D-46C82296A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5A88-2433-49B3-BF5A-3628449A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A1C5-02F0-4965-B175-14300D2B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840B-BD5B-4093-AD20-A93203CD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6AC5-0AEC-4A85-8911-EE0A5CDE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E7DF-B922-4DFD-84D1-71BB426F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53C5-436A-4871-ABC9-1A092FAF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860E-1B1D-4C42-83BA-AC7B74F7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19D6-0DB2-4FF7-8C03-2D20378D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B8DC-4693-49B2-9354-DC70EC56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DA82-BADF-404C-A98C-EDE7AFE0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7686-EFF8-434E-9CC1-3AB057CF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03C8-7CEF-482E-9F84-EBE50F891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A410-69AC-4341-823C-92AF677AE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6B89-AE2A-4CE1-B863-24268186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746C-7EE5-4D81-825F-69162EC9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4EC7-1EC2-4452-A194-A31FA24A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7E3C-B0E3-419E-97CA-D5150C14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A06F-E7B9-403E-84DF-A6B94E7B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09F9-CCFF-43BF-9158-D0F44F18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952E-E3D2-4615-ADA7-29B2835F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C1BE-C063-4A5A-99F5-72D78B0B85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F229-09C0-4616-9A8A-B5A08065EF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logozavr.ru/" TargetMode="External"/><Relationship Id="rId2" Type="http://schemas.openxmlformats.org/officeDocument/2006/relationships/hyperlink" Target="mailto:info@logozavr.ru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8000" y="2060280"/>
            <a:ext cx="9144000" cy="2160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Компьютерный практикум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для проведения логопедических занятий в начальной школ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-34920" y="580500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Разработан по заказу Управления образования Администрации Калининградской области в 2005 год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3635280" y="1413000"/>
            <a:ext cx="5219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Варченко В.И., Ларина А.Б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44720" y="475920"/>
            <a:ext cx="597528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Интерфейс игры: начал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13" descr=""/>
          <p:cNvPicPr/>
          <p:nvPr/>
        </p:nvPicPr>
        <p:blipFill>
          <a:blip r:embed="rId1"/>
          <a:stretch/>
        </p:blipFill>
        <p:spPr>
          <a:xfrm>
            <a:off x="1692360" y="1214280"/>
            <a:ext cx="6983280" cy="52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4360" y="475920"/>
            <a:ext cx="662292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Интерфейс игры: провед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69832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4360" y="475920"/>
            <a:ext cx="640692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Интерфейс игры: заверш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1690560" y="1231920"/>
            <a:ext cx="698508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716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не требует существенной перестройки учебного процесс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позволяет проводить занятия логопеду, обладающему минимальными навыками работы с компьютером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позволяет работать вдвоём за одним компьютеро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042560" y="620640"/>
            <a:ext cx="7201080" cy="55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Технология использова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657000"/>
            <a:ext cx="755964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Учебно-методическое пособ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685800" y="1700280"/>
            <a:ext cx="72709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подготовительный этап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восполнение пробелов в развитии звуковой стороны реч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восполнение пробелов лексико-грамматического развит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восполнение пробелов в формировании связной реч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развитие индивидуальных качест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416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Составление программы занят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12" descr=""/>
          <p:cNvPicPr/>
          <p:nvPr/>
        </p:nvPicPr>
        <p:blipFill>
          <a:blip r:embed="rId1"/>
          <a:stretch/>
        </p:blipFill>
        <p:spPr>
          <a:xfrm>
            <a:off x="3708360" y="1484280"/>
            <a:ext cx="4500720" cy="281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"/>
          <p:cNvPicPr/>
          <p:nvPr/>
        </p:nvPicPr>
        <p:blipFill>
          <a:blip r:embed="rId2"/>
          <a:stretch/>
        </p:blipFill>
        <p:spPr>
          <a:xfrm>
            <a:off x="4427640" y="3309840"/>
            <a:ext cx="4140000" cy="271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Object 14"/>
          <p:cNvGraphicFramePr/>
          <p:nvPr/>
        </p:nvGraphicFramePr>
        <p:xfrm>
          <a:off x="797040" y="1484280"/>
          <a:ext cx="276696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040" y="1484280"/>
                    <a:ext cx="27669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260000" y="1197000"/>
            <a:ext cx="129564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Пак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045800" y="475920"/>
            <a:ext cx="633420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Режимы провед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3780000" y="1898640"/>
            <a:ext cx="4890960" cy="3668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2"/>
          <a:stretch/>
        </p:blipFill>
        <p:spPr>
          <a:xfrm>
            <a:off x="900000" y="1927080"/>
            <a:ext cx="1800360" cy="1357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"/>
          <p:cNvPicPr/>
          <p:nvPr/>
        </p:nvPicPr>
        <p:blipFill>
          <a:blip r:embed="rId3"/>
          <a:stretch/>
        </p:blipFill>
        <p:spPr>
          <a:xfrm>
            <a:off x="1098720" y="2490840"/>
            <a:ext cx="1817640" cy="1369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"/>
          <p:cNvPicPr/>
          <p:nvPr/>
        </p:nvPicPr>
        <p:blipFill>
          <a:blip r:embed="rId4"/>
          <a:stretch/>
        </p:blipFill>
        <p:spPr>
          <a:xfrm>
            <a:off x="1332000" y="3009960"/>
            <a:ext cx="1800000" cy="1355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"/>
          <p:cNvPicPr/>
          <p:nvPr/>
        </p:nvPicPr>
        <p:blipFill>
          <a:blip r:embed="rId5"/>
          <a:stretch/>
        </p:blipFill>
        <p:spPr>
          <a:xfrm>
            <a:off x="1547640" y="3656160"/>
            <a:ext cx="1800360" cy="1357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"/>
          <p:cNvPicPr/>
          <p:nvPr/>
        </p:nvPicPr>
        <p:blipFill>
          <a:blip r:embed="rId6"/>
          <a:stretch/>
        </p:blipFill>
        <p:spPr>
          <a:xfrm>
            <a:off x="1763640" y="4232160"/>
            <a:ext cx="1800360" cy="135756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2"/>
          <p:cNvSpPr/>
          <p:nvPr/>
        </p:nvSpPr>
        <p:spPr>
          <a:xfrm>
            <a:off x="5581800" y="1197000"/>
            <a:ext cx="1295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Меню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539280" y="2333520"/>
            <a:ext cx="7993080" cy="16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www.logozavr.r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e-mail:</a:t>
            </a: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info@logozavr.r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84360" y="657000"/>
            <a:ext cx="698328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Сайт технической поддержки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512720" y="4586400"/>
            <a:ext cx="62992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3:23:58Z</dcterms:created>
  <dc:creator>Хлам</dc:creator>
  <dc:description/>
  <dc:language>en-US</dc:language>
  <cp:lastModifiedBy>дмитрий</cp:lastModifiedBy>
  <dcterms:modified xsi:type="dcterms:W3CDTF">2015-02-28T09:37:33Z</dcterms:modified>
  <cp:revision>2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