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666-C046-4BD3-9802-20240881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F4F-1B4F-4020-9999-BC83A92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9A-EA2C-43CC-A388-AA8E0A88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D1E-7064-4BF1-A3F5-A9978C3D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7DE-C1B1-4BD7-B37F-AC7E8DE8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FAD0-07CC-46E0-AD96-D138C10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B1A-2196-428C-9234-F17197B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8B30-ACAE-4838-B356-E820D9FA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579B-BF8F-43C7-B705-DFC3CBF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5217-95A3-438D-A4BC-342E443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1F2-290C-483D-BEEE-F19228A2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CC2-9415-4EB3-B21F-8C09A2E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A947-3F9B-4DCE-B855-555D288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F50A-3724-4DDE-AEE1-F611E14A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460-7418-45C2-A3C7-B58DA0A5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537D-6CB3-43F7-B8FC-ECECF69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BDB-3BD8-4482-A199-ED666769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FB7A-AC7A-4270-ABBE-597763A7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4DFB-CFCC-457E-B25D-651E1A5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1B71-A8DE-4D8B-99A5-8B7371E5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8FD3-229D-4CF7-ADC3-4B58F355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CFE2-274B-40A9-973A-75F7FC9F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FC4-539A-41BF-A047-4E732171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23C6-FF3E-401A-9412-18142C3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6355-D41D-4B9C-86CF-15B19A1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15CE-797B-40EC-9CE2-4DEC542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2A6F-B8C2-4CA5-BB78-FC0B349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5DE5-6A9D-491D-8882-A4C735AA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3FAF-7506-44F0-A157-0F61D556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9C34-7E16-44AE-9103-93D4F0C9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4B41-DB6A-4EC9-9D30-79A4F54A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766E-E46A-42BD-8A7E-340A600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A744-D53B-4B2A-B1CA-14937B5B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691-261A-4A1E-82AC-3764D0A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F2D4-5BE0-4ADD-8D35-F623C97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A26C-96AF-4561-9DA6-BDB9B11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8EAE-FC4E-42AF-AA81-F13C029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A705-B307-4AF2-8D2F-BE480A0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E039-559D-44D2-BA30-804A5A3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BC6C-209C-4D21-A10D-28919B5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5FB7-E630-43AC-ADB2-394EB82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D628-2E8D-4EAD-B534-9FD08354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CB21-DA57-414C-9A55-521A6092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BC30-00FA-4C30-9C6B-C002169A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054-A71A-48CE-B06F-94F3B27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C14C2-2BA7-407B-B94E-4C90D6E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B614-411B-47B5-8E5E-E9B7BD0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DFE7-1B85-4643-9AE0-E602606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3D82-7B24-443D-9E3B-12B14FC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2342-DEC6-429A-8C34-9F33C200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0AD6-5E10-43B8-A41B-BC669BC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77B44-7BEB-40D8-A0C2-C166C0D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2CD8-DB7E-4A3E-910E-24ECD02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B641-1AE5-4E30-9C9D-D5A94B8C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AC7FA-6DF2-4BDD-9E55-1202670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ECF-D9B7-4F9A-8C6A-601D739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4C54-AA6F-437A-99B1-5C57FB38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B917-671A-4E08-81C6-1DE42716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A0A5-C29B-430D-9442-B0AA914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B9E6-6239-45EB-A001-8363E30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48DD-793B-400B-8F44-82728E34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06C6F-145D-4148-BBA0-93BF70E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28590-640F-4FC1-A5BA-1447869C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6100-D188-4AC5-8B4D-B0DD507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8DBC-B9B9-4157-8F05-02A8556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87D2-2488-4F0B-BE32-6920E3D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032-0C22-4DCD-8014-4EF6700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AEE0-D28A-41D0-8BE8-C0EE314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4827-7212-47B7-8460-54DF5640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5DC6-29CB-40C1-A024-B3AF6412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ECA9-2091-41DA-995D-715E9812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4F07-4688-4A9C-B09E-0C4F95C0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036AC-46FC-4337-AF4F-BF40C8B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F9A7-68E1-47EB-BBBD-63B00F1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FFEB0-815C-481C-8FDE-42969FAC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6023-4087-4CA6-8AEC-7A84C2C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89DE9-DAC2-4DA2-A9F6-AC9924A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4F5-8F82-47B5-A4B6-B180676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43BB-EC75-469F-82CD-31BBFA3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91FA-720D-4337-A9BD-CAA3AEF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F9EC-F8FC-45CF-B764-1950537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C95B8-1288-4EB1-8942-07D7E970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8E8C-F721-4058-AE4E-E27202C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E93B-D859-430E-ABD8-51F1AA31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4423-B472-4890-8BF9-9022595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DAF6-7E57-4DD3-818F-119E4DE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A2F9B-5DBE-4447-87DD-C71171DA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F38E-BFCD-410B-92BD-0657061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FD3-778B-4D37-A56C-F5AD92A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C0141-1AD2-4AC9-B2A9-06888FC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7478-EFC2-45A1-8C01-68024EF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A175-C1C7-4226-A2B7-1F6630E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5FC6D-297C-4674-A2FF-9C7CBA4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28F6-E6ED-4A0C-ACCE-3DBDE11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4085-5BB8-4FED-B340-02AC2E08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49A5-7B25-4513-9086-9ADE7928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4EE-8D08-4480-9C3D-04C6459D64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22A-594E-4FF8-A265-8DDB905B1F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160-C592-4D62-8D66-31D966416E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BF9-C2A1-47D2-A7AE-D4A6D49E2F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32C5-797E-4B56-A508-75A3765A70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5C5-8BF9-4D21-ACA1-2B07325E8E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C14-AE94-4509-B223-408E6C8126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60A9-F861-48F2-954C-A5C512F4E39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749600"/>
            <a:ext cx="7785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Lucida Sans Unicode"/>
              </a:rPr>
              <a:t>кит, шум, сок, мост, куст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осы, луна, очки, отряд, шалаш, санк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машина, колесо, собака, ножницы, тетради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диктант, милиционер, парикмахерская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Подойди к полке и возьми книгу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Поставь стул справа от стола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обака бежит за мальчиком.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Вопрос: Кто бежит впереди?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Урок физкультуры был после математики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(Вопрос: Какой урок был первым?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нашей деревне текут два ручейка. В них живе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ного раков. Мальчики ловят их руками под камнями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дырах между корнями или под берегом. Потом они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арят их и лакомятся ими. Одного рака я получил от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его друга, и он мне очень понравился, был очень вкусны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не тоже захотелось ловить раков. Но легко сказать,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о трудно сделать. У раков своё оружие - клешни,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оторыми они щиплются как следует. Кроме того, я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оялся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унуть руку в дыру между корнями. Ведь можно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коснуться к лягушке или даже змее! Мой друг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оветовал мне, как можно ловить раков совсем по-другом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ужно привязать на длинную палку тухлое мясо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к крепко схватит мясо, и затем его легко вытащит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з воды, как рыбу на удочке. Этот способ мне очен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равился, и поэтому я подготовил все нужные вещ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пруду я нашёл глубокое место и сунул палку в вод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жу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покойно. Вода чистая, но раков я не ви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игде. Вдруг я заметил усы, потом глаза и клешни, и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конец, весь рак медленно вылез к мясу. Потом схвати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ясо клешнями и разорвал его челюстями. Я очен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торожно вытянул свою удочку из воды - и рак лежит на трав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Я наловил много раков. Мама их сварила. Какими он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ыли красными! И очень вкусными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0" y="19080"/>
            <a:ext cx="91440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Вопросы для выяснения степени понимания смысла прочитанног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1. О чем этот рассказ? Или Расскажи, что ты запомни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2. Почему мальчику трудно было ловить раков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3 Как можно ловить раков по другому?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Lucida Sans Unicode"/>
              </a:rPr>
              <a:t>п, б, с, з, ш, ж, р, л, с, ц, к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Lucida Sans Unicode"/>
              </a:rPr>
              <a:t>Р , К , З,  В, С, Э, </a:t>
            </a:r>
            <a:r>
              <a:rPr b="1" i="1" lang="ru-RU" sz="8800" spc="-1" strike="noStrike">
                <a:solidFill>
                  <a:srgbClr val="000000"/>
                </a:solidFill>
                <a:latin typeface="Lucida Sans Unicode"/>
              </a:rPr>
              <a:t>Г</a:t>
            </a:r>
            <a:r>
              <a:rPr b="0" lang="ru-RU" sz="8800" spc="-1" strike="noStrike">
                <a:solidFill>
                  <a:srgbClr val="000000"/>
                </a:solidFill>
                <a:latin typeface="Lucida Sans Unicode"/>
              </a:rPr>
              <a:t>, Я, Ь,Ч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Я </a:t>
            </a: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Р      Ч        К                           З</a:t>
            </a: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"/>
          <p:cNvPicPr/>
          <p:nvPr/>
        </p:nvPicPr>
        <p:blipFill>
          <a:blip r:embed="rId3"/>
          <a:stretch/>
        </p:blipFill>
        <p:spPr>
          <a:xfrm>
            <a:off x="3657600" y="144792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542880" cy="8380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"/>
          <p:cNvPicPr/>
          <p:nvPr/>
        </p:nvPicPr>
        <p:blipFill>
          <a:blip r:embed="rId6"/>
          <a:stretch/>
        </p:blipFill>
        <p:spPr>
          <a:xfrm>
            <a:off x="1447920" y="23623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Х, К, Ж, Т, П, Н, Г, Ш, Щ, Ц, Л, М, О,С,Э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са шу ха ну ос ры да пе ню ря пу пы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ум ах ас ор ын ус ат омет ян ед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Lucida Sans Unicode"/>
              </a:rPr>
              <a:t>ста кро тру гло цви вру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та -тя  сы - си  ка – к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зу -зю  ло - лё  ву - вю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ма - мя ды - ди  по - пё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50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6:15:04Z</dcterms:created>
  <dc:creator>Ольга</dc:creator>
  <dc:description/>
  <dc:language>en-US</dc:language>
  <cp:lastModifiedBy>катрухин</cp:lastModifiedBy>
  <dcterms:modified xsi:type="dcterms:W3CDTF">2010-10-15T03:01:27Z</dcterms:modified>
  <cp:revision>4</cp:revision>
  <dc:subject/>
  <dc:title>Обследование чтения</dc:title>
</cp:coreProperties>
</file>