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D8B-319B-4A51-9EA4-D86E168D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75A-2D47-467E-8216-64313EA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797-F62B-494B-9C87-D9A86739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ECD-C6A8-4DBA-82E7-81946D1F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8BE-8E51-4949-88E6-FF456A45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1916-3F22-4F73-B9FD-3DD2B9B5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5E2B-BB11-4A18-B067-25CD3E8F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594D-3CDE-48F7-94E9-1BAC720C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B81B-CA53-4918-A64F-27D0A22F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AED0-6A8B-4FF6-93B8-0B7D692C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51C1-850E-4D53-B54F-8D37C15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EBE-A6F1-437C-95BE-D79F98DC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33D-15A2-4B6C-B0DD-BCE43BD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19B-46BE-40CB-953E-14B1839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732A-B862-4D53-BAE0-C6367A8E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2C2-C6B0-4285-A20A-EE888499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A4B3-FA93-4C17-AE8C-DF8AA55A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B1E2-70D7-4450-9719-8AC66F3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2830-308D-4246-9593-401DACF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3259-B575-4036-83C1-020CC0CA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8545-2E1C-4CB1-8F95-9CE6ED15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B929-58FA-4E43-BF97-4448D88A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951-2373-4232-A3D4-28D6CD3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897C-1B14-4C9A-B0B8-8885079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C511-43A3-4986-921F-1783A91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FAA6-87E7-497C-BD7E-7B3A3F4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BC4B-0BF9-4DF6-9AAF-1BE9B7D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A4D3-201F-46DC-8FDD-4B04F7D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9963-5BAB-40D7-B3D4-FC6E534A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367D-759A-4118-A4CE-B2DBA802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83D8-12D6-4EF4-973D-4BD05F7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B00A-8636-48E9-825A-AC25701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AF23-49B5-44A2-A46F-501FFCDE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95B-A099-44FB-A6C7-5C7FB9D0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C871-461F-44EC-BE67-195EB85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BA27-7A38-45F5-B546-09F8DECB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FF0D-5566-4F16-A612-1E114BF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4B2E-FD9D-4759-9BB7-A7FE45C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A488-D3F8-4186-9CC9-478D4A5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A7DE-B958-459E-BA96-20345A7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C779-C444-4CA4-97E4-29A50502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3153-A818-4D02-9D94-702103E9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A4AF-382D-4DB4-91C0-D2327B4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D91F-44B2-419B-8C86-055D48E7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C48-4215-4F35-88C1-BC27274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14D1F-9DDE-4676-8F7B-FCA4156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806F-5921-41CA-B5A3-295D9E2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F124-2D96-4DCC-8FAE-461AAE9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43C3E-2FBF-4D21-B92A-3B9CA71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A949-B220-403E-99A8-7EF603B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42152-4757-4C6D-AA40-3E22FD2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9565-7003-4F93-921F-D21747C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F6CD-62E1-4941-B32A-82C2ABE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D380-6D9F-471F-9A6C-5278BD9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275A-7431-49C8-826C-84E0557D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855-EE18-4A89-80EF-7C30CB25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B8C3-AAFA-45B4-9FA3-A8090604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DA11-870B-49A9-A10F-4341A59D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BDD00-FCB4-49EC-8746-6774256E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8BD9-BC5A-4995-BB10-FE4C76F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D039-E255-4818-8C57-90C7310B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DD19-7832-472B-A007-AEB9FF7A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D685-E2DA-44C8-8D41-BCD738CB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F383-939E-4389-89C4-2B5829D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8CF1-27F8-4634-9D5E-B69073A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92FB-CB0F-4BC6-ACCC-A8AC5C3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A51-A4CF-447E-986E-F23F3C3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0FBD-6570-4A97-BAFB-EFA5B1AF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DACF3-34A0-43FC-9AF5-E38B66F3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9417-3164-4FAA-99A2-9F21A873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BCD2-3A9E-4CF7-8F99-CF69DB07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D516-0A07-4D26-B9C7-B74E401E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9531A-1DD1-4DC3-81C1-6D21350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B27F-68F3-4EEC-98BC-8BD464F1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04C7-569D-4903-97B9-BE3C8169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4B9E-62F1-4392-AB92-8D489FE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30DE-A16B-4523-9C5B-861AEF1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E55-D476-4F25-8401-CAF8981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AB6B-0330-4456-9889-9D658F5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E1CD-79BE-4DAE-A0A4-1247287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88A3-9304-4FC5-BD4F-870B0094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B91E-A1C5-40B0-9C3D-F4B394A5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9A58-10C4-44C9-8BA7-D42D6BAC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F9CCA-8BC5-4CB7-914F-E24E94E1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70B2E-712A-4F76-A9DB-148E50D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77F6-EE82-4F6E-A1CB-C6B4B6BB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7F42-BDFB-4404-82B1-0CEB28A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E4AA-AC1B-4577-9A91-F9E2D48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BB4-4883-4B37-B408-03A52DC7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C1E21-3525-4278-A842-3154543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716F3-01FF-4162-8563-1BEE7E2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207A-E43A-4527-BF16-92FA8CE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EA5D0-CF0C-4C57-84CD-671F2ED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882B-026C-435E-A653-E07D16AB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A9D2-2FAB-4D19-83E3-543023FF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D3B45-37E9-4133-AAA5-C1176E41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BBD3-A9A7-41F9-AD85-AC7641CDC4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C219-4BAB-4088-8CF7-AFEEB88F305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A5A1-E88B-4A76-B09D-A9A1153A042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157-3111-4908-B4B3-A2395C3DAD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07B9-3337-4D32-8883-01A39242B2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92D2-5DE4-42B9-BB80-1D89E6F78B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CAF4-A0C8-4567-9A80-454A1B06DD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1E69-60F4-4540-BDB8-A1B7410AB2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749600"/>
            <a:ext cx="7785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Lucida Sans Unicode"/>
              </a:rPr>
              <a:t>кит, шум, сок, мост, куст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осы, луна, очки, отряд, шалаш, санк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машина, колесо, собака, ножницы, тетради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диктант, милиционер, парикмахерская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Подойди к полке и возьми книгу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Поставь стул справа от стола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обака бежит за мальчиком.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Вопрос: Кто бежит впереди?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Урок физкультуры был после математики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(Вопрос: Какой урок был первым?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нашей деревне текут два ручейка. В них живе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ного раков. Мальчики ловят их руками под камнями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дырах между корнями или под берегом. Потом они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арят их и лакомятся ими. Одного рака я получил от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его друга, и он мне очень понравился, был очень вкусны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не тоже захотелось ловить раков. Но легко сказать,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о трудно сделать. У раков своё оружие - клешни,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оторыми они щиплются как следует. Кроме того, я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оялся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унуть руку в дыру между корнями. Ведь можно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коснуться к лягушке или даже змее! Мой друг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оветовал мне, как можно ловить раков совсем по-другом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ужно привязать на длинную палку тухлое мясо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к крепко схватит мясо, и затем его легко вытащит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з воды, как рыбу на удочке. Этот способ мне очен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равился, и поэтому я подготовил все нужные вещ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пруду я нашёл глубокое место и сунул палку в вод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жу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покойно. Вода чистая, но раков я не ви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игде. Вдруг я заметил усы, потом глаза и клешни, и,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конец, весь рак медленно вылез к мясу. Потом схвати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ясо клешнями и разорвал его челюстями. Я очен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торожно вытянул свою удочку из воды - и рак лежит на трав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Я наловил много раков. Мама их сварила. Какими он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ыли красными! И очень вкусными!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0" y="19080"/>
            <a:ext cx="91440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Вопросы для выяснения степени понимания смысла прочитанног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1. О чем этот рассказ? Или Расскажи, что ты запомни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2. Почему мальчику трудно было ловить раков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Times New Roman"/>
              </a:rPr>
              <a:t>3 Как можно ловить раков по другому?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Lucida Sans Unicode"/>
              </a:rPr>
              <a:t>п, б, с, з, ш, ж, р, л, с, ц, к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Lucida Sans Unicode"/>
              </a:rPr>
              <a:t>Р , К , З,  В, С, Э, </a:t>
            </a:r>
            <a:r>
              <a:rPr b="1" i="1" lang="ru-RU" sz="8800" spc="-1" strike="noStrike">
                <a:solidFill>
                  <a:srgbClr val="000000"/>
                </a:solidFill>
                <a:latin typeface="Lucida Sans Unicode"/>
              </a:rPr>
              <a:t>Г</a:t>
            </a:r>
            <a:r>
              <a:rPr b="0" lang="ru-RU" sz="8800" spc="-1" strike="noStrike">
                <a:solidFill>
                  <a:srgbClr val="000000"/>
                </a:solidFill>
                <a:latin typeface="Lucida Sans Unicode"/>
              </a:rPr>
              <a:t>, Я, Ь,Ч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Я </a:t>
            </a: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Р      Ч        К                           З</a:t>
            </a: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"/>
          <p:cNvPicPr/>
          <p:nvPr/>
        </p:nvPicPr>
        <p:blipFill>
          <a:blip r:embed="rId3"/>
          <a:stretch/>
        </p:blipFill>
        <p:spPr>
          <a:xfrm>
            <a:off x="3657600" y="144792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5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6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542880" cy="8380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7" descr=""/>
          <p:cNvPicPr/>
          <p:nvPr/>
        </p:nvPicPr>
        <p:blipFill>
          <a:blip r:embed="rId6"/>
          <a:stretch/>
        </p:blipFill>
        <p:spPr>
          <a:xfrm>
            <a:off x="1447920" y="23623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Х, К, Ж, Т, П, Н, Г, Ш, Щ, Ц, Л, М, О,С,Э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са шу ха ну ос ры да пе ню ря пу пы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Lucida Sans Unicode"/>
              </a:rPr>
              <a:t>ум ах ас ор ын ус ат омет ян ед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Lucida Sans Unicode"/>
              </a:rPr>
              <a:t>ста кро тру гло цви вру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та -тя  сы - си  ка – кя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зу -зю  ло - лё  ву - вю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ма - мя ды - ди  по - пё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50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6:15:04Z</dcterms:created>
  <dc:creator>Ольга</dc:creator>
  <dc:description/>
  <dc:language>en-US</dc:language>
  <cp:lastModifiedBy>катрухин</cp:lastModifiedBy>
  <dcterms:modified xsi:type="dcterms:W3CDTF">2010-10-15T03:01:27Z</dcterms:modified>
  <cp:revision>4</cp:revision>
  <dc:subject/>
  <dc:title>Обследование чтения</dc:title>
</cp:coreProperties>
</file>