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CB29-B606-4E7C-A751-0443DA70E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7EF7-39F6-48E9-A9B6-A88F989B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01B2-4C3A-4D9F-9CB4-8AD2BDB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5011-3491-4A55-BA8E-09AC55252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141E-2F91-4062-9CE7-359CF0FE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E2E6-C582-4F9A-BCA5-FCF21F1B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3D47-7A1A-40CD-8A5B-80A8271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21D1-5C92-44FC-A500-EF5A3840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1F52-FD36-4E68-B909-0DC49F7A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71EB-B0E1-4966-AFD2-A4C60302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A346-C75F-4F69-95A8-336B3E04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E8E3-F4C9-4B9B-8F57-EB48CEA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5999C-FE16-4A0C-9318-73A33C314E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ы детских исследов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95280" y="836640"/>
            <a:ext cx="87487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о доминирующему в проекте методу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екториентированны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мпирическ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оретически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 количеству участников проектов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ы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рны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упповые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720" y="18900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исследовательск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328400"/>
            <a:ext cx="82263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 историю создания и применения пластиковых бут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, что такое магнит и магнитная с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снить, каким образом люди используют магниты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химические свойства пластиковых бут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историю создания мультип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процесс создания мультфи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учить исторические сведения о 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вести опыты с сол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задач 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57360"/>
            <a:ext cx="82263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нать, какое значение играет соль в жизни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знать какими свойствами обладают магн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анализировать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йти информацию о 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йти полезное применение исследуемому предм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делать сравнительный анализ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делать вывод по результатам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бщить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907560"/>
            <a:ext cx="82263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следования строится исходя из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.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жидаемый результат, предполагаемый вывод, который планируется получить в ходе экспериментальных исследова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лировке гипотезы обычно используются словес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 тип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…,то…», «так как…», «при условии что…», «предположим», «допустим», «возможно», «что, есл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Планета в пластиковой упаков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ы предполагаем, что забота о природе, хотя бы на бытовом уровне, может уменьшить отрицательное влияние на всю плане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 Может ли магнит потерять свою сил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сила магнита зависит от воздействия окружающей его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26792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т беспилотный автотранспо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изация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транспортных изме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 будущ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 интереса к изучению естественнонаучных дисциплин. Изучение законов физики через инженерное творчество, мой первый осознанный шаг в сторону изобрета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 обз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414080"/>
            <a:ext cx="8226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писание объекта и предмета исследования с научной точки 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бъяснение научных терминов, использованных в остальных частях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 конце пункта должно присутствовать несколько предложений, в которых описаны краткие выводы по анализу литературных да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альные исслед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98064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писание места и условий проведения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писание способов проведения экспериментальных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Изложение предварительных расчетов, проведенных автором исследования в случае их необход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Подробное описание экспериментов, наблюдений и т.д., то есть активной «фазы»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рафики, диаграммы, таблицы, рисунки, отражающие результаты экспериментальных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907560"/>
            <a:ext cx="8226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раткое вступительное слово, в одном- двух предложениях описывающее проблему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бщие выводы по результатам исслед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одведение итога по достижению цели исслед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заключительного раздела исследовательс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можно использовать следующие фразы и выражения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казали, что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выполненной работы свидетельствует 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позволяют сделать вывод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 доказано, чт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 подтвержден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ные в процессе выполнения работы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ная закономерность позволяет судить о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защиты исследовательских раб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95280" y="126828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чему избрана эта 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ую цель преследов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е ставил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ие гипотезы проверя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ова актуальность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ие использовали методы и сре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показал анализ литературных источ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кие экспериментальные исследования были провед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зультаты получ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Какие выводы сделаны по итог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Где возможно применить полученн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Что можно исследовать в этом направлении да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авнение в оформлении проекториентированных и эмпирических тем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4136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риентирова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овая ча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ектных рабо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ис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данный тип исследовательских работ направлен на создание продукт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спериментальные исследования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о должны быть включены разделы, содержащие подроб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я процес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продукта проекта, ег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вторск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ей использ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туп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08360" y="1414080"/>
            <a:ext cx="3174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овая ч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тупл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создать мультфильм в домашних условиях?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как делают мультфильмы и попробовать создать свой мультфильм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ультфильмы можно создать только в домашних услови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ультфильмы можно создать при помощи карандаша и бумаг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ультфильмы можно создать дома с помощью фотоаппарата и компьютера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ая работа состо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686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екстовой части – пояснительной за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представ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иментальной аппа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к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ов, являющихся продуктом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-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креты мыльных пузыре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крыть секреты мыльных пузырей в домашних условиях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Узнать, что такое мыльный пузыр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знакомиться с историей происхождения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брать информацию о секретах приготовления и свойствах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готовить растворы в домашних условиях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сти опыты по надуванию различных видов мыльных пузыр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равнить разные мыльные составы и выявить наилучший состав мыльного раствора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ив секреты приготовления и выдувания мыльного раствора, можно получить крупные и крепкие мыльные пузыр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текстовой части исследовательск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22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(не нумеруе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(1 – 1,5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Литературный обзор (2,5 – 3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Эксперименталь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ключение (не более 1,5 ст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при необходим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объём не должен превышать 15 страниц, без учёта при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 (1 – 1,5 стр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чина выбора темы работы (до 5 предлож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ое описание объекта и проблемы исследования (до 7 предлож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ель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дачи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ипот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Акту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е темы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8226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игры – хорошо это или плох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и в нашей жиз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: что эт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орабли не тону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ре солёно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душка мягкая, а пол твёрды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кисает моло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треляет попкорн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угроб полосаты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омпьютера на д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расит листья в зеленый цв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е темы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226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истья на деревьях осенью желтеют, а на комнатных растениях н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тарь — волшебные слезы деревье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вырастить растение в закрытой стеклянной банк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из каждого семени зарождается новая жизн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в воздухе вод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е исслед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о пы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а из со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а из медного купоро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кристаллов в домашних услови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ая схема составления цели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ой работы (проекта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одно из слов тип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исследовать, выяснить, выявить, определить, проанализировать, установить, показать, проверить, привлечь к проблеме, обосновать, обобщить, описать, узнать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ьте название объекта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формулировок цели исследовательской работы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6640"/>
            <a:ext cx="8226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одержание железа и меди в продуктах питания, употребляемых нами еже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значение пластиковых бутылок в жизни человека и приро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оцесс выращивания кристаллов из соли и медного купорос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соли, её свойства, качества и примен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закономерности явления 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Солнце и показать его значение в жизни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секреты создания мультипликационных фильм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ми свойствами обладают магниты и как их используют лю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исследовательской рабо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125360"/>
            <a:ext cx="822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тельской работы - это все последовательные этапы теоретической и экспериментальной работы учащегося с начало до ко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ределить задачи исследовательской работы, нужно последовательно отвечать себе на вопрос: «Что мне сделать, чтобы достичь цели исследовани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задачи исследовательского проекта перечисляются и начинаются слов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изучить, провести, узнать, проанализировать, исследовать, определить, рассмотреть, найти, предложить, выявить, измерить, сравнить, показать, собрать, сделать, составить, обобщить, описать, установить, разработать, познакомиться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0:37:43Z</dcterms:created>
  <dc:creator>оля</dc:creator>
  <dc:description/>
  <dc:language>en-US</dc:language>
  <cp:lastModifiedBy>USER</cp:lastModifiedBy>
  <dcterms:modified xsi:type="dcterms:W3CDTF">2022-11-27T18:05:44Z</dcterms:modified>
  <cp:revision>184</cp:revision>
  <dc:subject/>
  <dc:title>Как разработать и провести проект в начальной школе</dc:title>
</cp:coreProperties>
</file>