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206A9-B03C-4660-8253-21FA3220D3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1E84A-7A8B-4449-8931-8AC2D1F9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4CFAF-80EA-411D-AFC5-35E5EF4C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582D2-2504-4D4F-9DCF-8D1E08A630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8FF04-1968-4D52-ACF1-76B6B15B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EE1DE-52A6-4298-B885-7510D205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35990-382E-4514-BF78-0DC90F2C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07102-5133-450F-8351-3B92FA04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9568E-888E-4EE0-9673-56BF01F5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053CB-27D7-4C79-9CBB-2EB385E2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E70B7-C170-4C6A-AC0B-7318638B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CCF79-0DC6-4B03-8376-C463068B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751FF-4998-4C0F-8E6A-A3B8518633B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468360" y="0"/>
            <a:ext cx="82296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ы детских исследова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395280" y="836640"/>
            <a:ext cx="874872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По доминирующему в проекте методу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екториентированные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Эмпирические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еоретические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о количеству участников проектов: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ичностные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арные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Групповые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7720" y="18900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ы задач исследовательской работ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328400"/>
            <a:ext cx="822636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яснить историю создания и применения пластиковых бутыл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яснить, что такое магнит и магнитная си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яснить, каким образом люди используют магниты в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учить химические свойства пластиковых бутыл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учить историю создания мультиплик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учить процесс создания мультфиль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учить исторические сведения о со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вести опыты с сол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ы задач исследовательск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57360"/>
            <a:ext cx="822636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знать, какое значение играет соль в жизни челов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знать какими свойствами обладают магни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анализировать полученные результ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йти информацию о со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йти полезное применение исследуемому предм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делать сравнительный анализ 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делать вывод по результатам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общить полученные результ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907560"/>
            <a:ext cx="822636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следования строится исходя из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ты.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е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жидаемый результат, предполагаемый вывод, который планируется получить в ходе экспериментальных исследован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формулировке гипотезы обычно используются словесны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и типа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…,то…», «так как…», «при условии что…», «предположим», «допустим», «возможно», «что, если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проекта: Планета в пластиковой упаков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ы предполагаем, что забота о природе, хотя бы на бытовом уровне, может уменьшить отрицательное влияние на всю плане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проекта: Может ли магнит потерять свою силу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им, сила магнита зависит от воздействия окружающей его сре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ость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267920"/>
            <a:ext cx="822636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идит беспилотный автотранспор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рабо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ехнолог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отизация жи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транспортных измен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ь будуще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рабо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 интереса к изучению естественнонаучных дисциплин. Изучение законов физики через инженерное творчество, мой первый осознанный шаг в сторону изобретатель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тературный обз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414080"/>
            <a:ext cx="82263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Описание объекта и предмета исследования с научной точки зр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Объяснение научных терминов, использованных в остальных частях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 конце пункта должно присутствовать несколько предложений, в которых описаны краткие выводы по анализу литературных дан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периментальные исследова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980640"/>
            <a:ext cx="82263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Описание места и условий проведения экспериментальных исследо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Описание способов проведения экспериментальных исследо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Изложение предварительных расчетов, проведенных автором исследования в случае их необходим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Подробное описание экспериментов, наблюдений и т.д., то есть активной «фазы» иссле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Графики, диаграммы, таблицы, рисунки, отражающие результаты экспериментальных исследов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люч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907560"/>
            <a:ext cx="822636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раткое вступительное слово, в одном- двух предложениях описывающее проблему иссле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Общие выводы по результатам исследов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Подведение итога по достижению цели исследов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формирования заключительного раздела исследовательск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можно использовать следующие фразы и выражения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я показали, что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выполненной работы свидетельствует о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сследования позволяют сделать вывод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о доказано, что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 подтверждено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ные в процессе выполнения работы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ная закономерность позволяет судить о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 защиты исследовательских рабо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395280" y="126828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чему избрана эта те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кую цель преследов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акие ставили зада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акие гипотезы проверя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Какова актуальность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Какие использовали методы и сред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Что показал анализ литературных источни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Какие экспериментальные исследования были проведе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Какие результаты получе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Какие выводы сделаны по итог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Где возможно применить полученные дан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Что можно исследовать в этом направлении дал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авнение в оформлении проекториентированных и эмпирических тем исследов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341360"/>
            <a:ext cx="505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ориентирован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екстовая част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проектных рабо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писывае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 как данный тип исследовательских работ направлен на создание продукта про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дел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кспериментальные исследования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язательно должны быть включены разделы, содержащие подробност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я процесс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я продукта проекта, ег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вторски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ластей использ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ступле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508360" y="1414080"/>
            <a:ext cx="31748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пириче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екстовая ча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ступле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ли создать мультфильм в домашних условиях?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как делают мультфильмы и попробовать создать свой мультфильм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ультфильмы можно создать только в домашних условиях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ультфильмы можно создать при помощи карандаша и бумаги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ультфильмы можно создать дома с помощью фотоаппарата и компьютера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следовательская работа состои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6868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екстовой части – пояснительной запи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ается представл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кспериментальной аппара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ке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ектов, являющихся продуктом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о-исследовательск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22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креты мыльных пузырей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крыть секреты мыльных пузырей в домашних условиях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 Узнать, что такое мыльный пузырь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знакомиться с историей происхождения мыльных пузыре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брать информацию о секретах приготовления и свойствах мыльных пузыре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иготовить растворы в домашних условиях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овести опыты по надуванию различных видов мыльных пузыре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равнить разные мыльные составы и выявить наилучший состав мыльного раствора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енив секреты приготовления и выдувания мыльного раствора, можно получить крупные и крепкие мыльные пузыр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держание текстовой части исследовательской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600200"/>
            <a:ext cx="8226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ульный лист (не нумеруетс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а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(1 – 1,5 ст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Литературный обзор (2,5 – 3 ст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Экспериментальные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Заключение (не более 1,5 ст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(при необходимос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й объём не должен превышать 15 страниц, без учёта прилож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ведение (1 – 1,5 стр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чина выбора темы работы (до 5 предложени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раткое описание объекта и проблемы исследования (до 7 предложени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Цель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дачи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Гипоте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Актуа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ые темы проек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82263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ые игры – хорошо это или плохо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ки в нашей жиз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фильмы: что это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орабли не тонут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море солёно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подушка мягкая, а пол твёрдый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скисает молоко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стреляет попкорн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сугроб полосатый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компьютера на дет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красит листья в зеленый цвет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ые темы проек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226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листья на деревьях осенью желтеют, а на комнатных растениях нет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тарь — волшебные слезы деревье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ли вырастить растение в закрытой стеклянной банк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не из каждого семени зарождается новая жизнь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в воздухе вода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ные исследова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о пы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щивание кристалла из со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щивание кристалла из медного купорос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щивание кристаллов в домашних условия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стая схема составления цели 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следовательской работы (проекта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одно из слов тип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, исследовать, выяснить, выявить, определить, проанализировать, установить, показать, проверить, привлечь к проблеме, обосновать, обобщить, описать, узнать и д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ьте название объекта исслед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ы формулировок цели исследовательской работы: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196640"/>
            <a:ext cx="82263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содержание железа и меди в продуктах питания, употребляемых нами ежеднев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значение пластиковых бутылок в жизни человека и приро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роцесс выращивания кристаллов из соли и медного купорос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особенности соли, её свойства, качества и примене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закономерности явления .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, что такое Солнце и показать его значение в жизни челове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секреты создания мультипликационных фильмо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, какими свойствами обладают магниты и как их используют люд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исследовательской работ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125360"/>
            <a:ext cx="82263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исследовательской работы - это все последовательные этапы теоретической и экспериментальной работы учащегося с начало до кон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определить задачи исследовательской работы, нужно последовательно отвечать себе на вопрос: «Что мне сделать, чтобы достичь цели исследования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задачи исследовательского проекта перечисляются и начинаются слова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, изучить, провести, узнать, проанализировать, исследовать, определить, рассмотреть, найти, предложить, выявить, измерить, сравнить, показать, собрать, сделать, составить, обобщить, описать, установить, разработать, познакомиться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10:37:43Z</dcterms:created>
  <dc:creator>оля</dc:creator>
  <dc:description/>
  <dc:language>en-US</dc:language>
  <cp:lastModifiedBy>USER</cp:lastModifiedBy>
  <dcterms:modified xsi:type="dcterms:W3CDTF">2022-11-27T18:05:44Z</dcterms:modified>
  <cp:revision>184</cp:revision>
  <dc:subject/>
  <dc:title>Как разработать и провести проект в начальной школе</dc:title>
</cp:coreProperties>
</file>