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E93-15D0-4484-A766-ED93220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DD0-A6EC-4915-8626-09C34AE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1E1-9610-4492-AED3-4C9B4306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F7C-4437-4B30-ACCB-24942E6C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320-70F8-4243-B96B-C377E918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76B-38D0-4C92-85FC-966C9CBF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292-F527-4994-8F65-F70E7F5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CDC-CF40-4E8E-ABBE-7B61B3C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E46-E303-404B-BA98-7CD7B46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A6D-B356-4F3E-AFCE-2A0ADE9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3AC-FAD2-442E-ABAB-6B6BF24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02B-AD3F-4DAF-9848-6C22A7A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20F-F75F-4D50-AF1C-D244C5C85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542880" y="1627200"/>
            <a:ext cx="8058240" cy="317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7008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103400" y="895320"/>
            <a:ext cx="5181480" cy="1135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103400" y="2335320"/>
            <a:ext cx="479088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1103400" y="3846600"/>
            <a:ext cx="58579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4"/>
          <a:stretch/>
        </p:blipFill>
        <p:spPr>
          <a:xfrm>
            <a:off x="1103400" y="5291280"/>
            <a:ext cx="5857920" cy="1225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611280" y="189000"/>
            <a:ext cx="2286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вь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749772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627280"/>
            <a:ext cx="863136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596880" y="4425840"/>
            <a:ext cx="588312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вал 1"/>
          <p:cNvSpPr/>
          <p:nvPr/>
        </p:nvSpPr>
        <p:spPr>
          <a:xfrm>
            <a:off x="3643200" y="2428920"/>
            <a:ext cx="22147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+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060560" y="487440"/>
            <a:ext cx="166356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127160" y="2273400"/>
            <a:ext cx="167148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3"/>
          <a:stretch/>
        </p:blipFill>
        <p:spPr>
          <a:xfrm>
            <a:off x="1127160" y="4133880"/>
            <a:ext cx="1671480" cy="14684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3846600" y="4986360"/>
            <a:ext cx="166356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5"/>
          <a:stretch/>
        </p:blipFill>
        <p:spPr>
          <a:xfrm>
            <a:off x="6419880" y="4059360"/>
            <a:ext cx="1346040" cy="14698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6"/>
          <a:stretch/>
        </p:blipFill>
        <p:spPr>
          <a:xfrm>
            <a:off x="6486480" y="2200320"/>
            <a:ext cx="167004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7"/>
          <a:stretch/>
        </p:blipFill>
        <p:spPr>
          <a:xfrm>
            <a:off x="6486480" y="487440"/>
            <a:ext cx="1670040" cy="1469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8"/>
          <a:stretch/>
        </p:blipFill>
        <p:spPr>
          <a:xfrm>
            <a:off x="3773520" y="487440"/>
            <a:ext cx="1670040" cy="146988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0"/>
          <p:cNvSpPr/>
          <p:nvPr/>
        </p:nvSpPr>
        <p:spPr>
          <a:xfrm>
            <a:off x="3571920" y="2357280"/>
            <a:ext cx="2357280" cy="221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-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743760" y="285840"/>
            <a:ext cx="7956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а испекл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ов и разложила их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та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сколько пирожков лежит на каждой тарел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610000" y="5218200"/>
            <a:ext cx="3924000" cy="944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1274760"/>
            <a:ext cx="6643800" cy="134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06240" y="189000"/>
            <a:ext cx="7096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Лиды бы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ублей. Она купил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ирожк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ублей. Сколько денег осталось у Л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tunnel.ru/userfiles/ck/images/1104/122.jpg"/>
          <p:cNvPicPr/>
          <p:nvPr/>
        </p:nvPicPr>
        <p:blipFill>
          <a:blip r:embed="rId1"/>
          <a:stretch/>
        </p:blipFill>
        <p:spPr>
          <a:xfrm>
            <a:off x="857160" y="4143240"/>
            <a:ext cx="329400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tunnel.ru/userfiles/ck/images/1104/122.jpg"/>
          <p:cNvPicPr/>
          <p:nvPr/>
        </p:nvPicPr>
        <p:blipFill>
          <a:blip r:embed="rId2"/>
          <a:stretch/>
        </p:blipFill>
        <p:spPr>
          <a:xfrm>
            <a:off x="357120" y="3143160"/>
            <a:ext cx="3294000" cy="2405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4022640" y="5559480"/>
            <a:ext cx="400536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1285920" y="1773360"/>
            <a:ext cx="7169040" cy="104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12520" y="285840"/>
            <a:ext cx="8012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ремонта квартиры купили п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анки  и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г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банок. Сколько всего кг краски купили для ремо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3846600" y="5559480"/>
            <a:ext cx="4694040" cy="9507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2627280"/>
            <a:ext cx="823572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Валерия Гриценко</cp:lastModifiedBy>
  <dcterms:modified xsi:type="dcterms:W3CDTF">2022-11-27T16:43:33Z</dcterms:modified>
  <cp:revision>30</cp:revision>
  <dc:subject/>
  <dc:title>Слайд 1</dc:title>
</cp:coreProperties>
</file>