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329-4A90-48F9-959D-D8F750B8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286-B241-41FD-B2A4-3EB5BCF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C31-F856-4F40-A602-77FB66F6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561-2680-45AA-8400-56330D16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CA94F-CA0F-4D9F-ADE5-21AA61BC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D58A8-84B6-4EC2-A1BE-8AE036FF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5BCA-2C87-4601-B69C-0919084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A586-EC03-4E71-B887-92BD30C6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D7E1-BE9B-44F0-AC67-9127E59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5762F-67E2-459E-AEC0-7379007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3E876-8FC9-4003-B92F-E828293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D1D-76FA-42B4-B6B4-F47CBA7F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019DA-FDA0-4090-8E8A-FED6BBC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AF248-53DD-4B64-979F-3364BC7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13876-79D7-4CD5-A4A9-385A9CD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40353-FAB2-4B33-86B8-41A44D58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7A8F2-C030-4821-9F03-973E2B04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DB8-08FF-48EB-A436-6547F641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A40-7988-4EDB-A870-CE1338B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B8E-8571-40A4-8D3F-E209E09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E6C-D998-4B8C-A48B-08D954D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1AD-7424-41C7-BD49-C2940113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965-64E2-4F75-BCB9-FEAC1BF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F65-50DF-45FC-8D58-60E880E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A5237-B9AB-4870-8777-1D2A712895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73A892-F1EF-4841-8F24-75FE98F886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39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витие социокультурной компетенции при обучении диалогической ре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ель:Дудникова Наталья Алексеев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БОУ «СОШ № 97» г. Кемер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торой этап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Участие в микродиалоге (2-3 ДЕ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объема речевого поведения за сче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я репл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я количества Д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опоры на диалогический текст, на диалог-образец между учителем и учащимся или между двумя учащими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ct out the dialogue and make up your own conversatio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friends visited a pub and were going home when you met them. They began to discuss their visit to the pu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1-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hat do you think of a cucumber sandwic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 Well, I like it. I think it is very delici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Yes, not bad. Do you like this pub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Erm... not really. I think it is po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Well, yes, but I like friendly atmosphere and a landlord is very pol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Do you think so? I don't like hi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-   OK, next time you will choose a pu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-   OK, with plea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Put the parts of the dialogue in order. Role-play the dialogue.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In a restaur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25280" y="1888920"/>
            <a:ext cx="889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. Adams: Do you fancy a sta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Adams: Mmm... I think I'll have the prawn cockt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am very fond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awns. What about you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. Adams: I am not sure...I can't de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Adams: Oh, I'd have the trout if I were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 always say that you like trou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d you haven't it for a long tim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ий этап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умений создавать свои диалоги на основе предложенной коммуникативной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 в развернутых диалогах, отображающих стереотипные ситуации об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степени самостоятельности за счет уменьшения опор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содержательной структуры репл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 have  just returned from England. You lived in a host  family. Your  friends want to know something about this foreign country. Discuss the following points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full name of  the country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\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climate of the UK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ts  population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lture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ating habits, 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Thank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your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for att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иалогическая речь. Этапы формирования и развития навыков и уме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дготовительны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уле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)– обучение реплицированию с постепенным увеличением объема реплик участников диалог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вый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умения соединять реплики в разные виды диалогических единст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торой – развит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ния строить микродиалог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3920" indent="-3139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т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развитие умения создавать собственные диалоги разных типов на основе предложенных коммуникативных ситу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улевой этап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ирование навыков реплицировани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magine that you happened to be in England. What would you like to visit - a pub or an expensive restaura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: I would like to visit a pub, because I prefer simple dishes to exotic 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: I would like to visit a restaurant, because I prefer unusual exotic dishes to cheap and plain 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: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ply the waiter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o you like your tea strong? P: Yes, please./No, thank you./I am (not) very keen on.../It doesn't agree with me/Yes, I’d love 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 you still need the wine li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You don't seem to like a prawn cocktail. Shall I change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ill you have the strawberries with suga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 you take milk in your te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 recommend you English wi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ould you like some coffe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ould you like a mixed salad with the ve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 think you will like fish and chips. Shall I bring i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hich coffee do you prefer: black or whi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"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en in Rome do as the Romans d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does this proverb mea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 you have a similar proverb in your own langua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этап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владение навыками диалогических единств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бором речевых действ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цептивно-репродуктивные и репродуктивные условно-речевые упражнений на имитацию, подстановку, ответы на вопросы, на запрос определенной информации (по образцу), сообщение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1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friend from London came to visit you. You show him your city, then decide to have a snack in a cafe. He asks you about eating habits in your country. What will you answer hi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How about meals in your country? Do they differ greatly from our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a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I know that your dinner is quite substantial, isn't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It's quite nourishing. Do you prefer a heavy midday me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ake up questions concerning British food and ask somebody to answer them. Take turns to ask ques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1: Do you know how many meals a day the British people hav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2: They have 5 meals a day: breakfast, lunch, dinner, supper, tea. Do you know what people can buy in a pub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3: People can buy hard and soft drinks, lunches, fish and chi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 and your friend came to the restaurant. Study the menu, express your likes and make an order. Use the menu from the previous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1: I like fish that is why I will order fish and chips. And what about you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2: I prefer meat to fish that's why I will order hotpot. And what do you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: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3:34:15Z</dcterms:created>
  <dc:creator>UserXP</dc:creator>
  <dc:description/>
  <dc:language>en-US</dc:language>
  <cp:lastModifiedBy>Александр</cp:lastModifiedBy>
  <dcterms:modified xsi:type="dcterms:W3CDTF">2022-11-27T11:12:39Z</dcterms:modified>
  <cp:revision>34</cp:revision>
  <dc:subject/>
  <dc:title>Британия</dc:title>
</cp:coreProperties>
</file>