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209-4869-43DC-8A26-0BDEE96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243-A005-4317-BBA6-98BF6E96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3C6-FCE5-4F32-8A30-3EC5284E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7E2-7A2D-4674-A6C7-DA451C2D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8F866-D117-4A99-9779-BB2DD7E7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BC53-817C-4D06-9E3B-5E990FC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2226-BBAA-4ED2-9EFF-69DF587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046F9-E046-495B-97EB-F6C3950A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62E48-FEC0-4EBC-9AA9-60F19E2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B044-1333-486B-A197-A35216F0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BE7C-0DC2-4BF0-92CC-04946F1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69D-124F-40CA-A652-F14513F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9A21-CA2F-499A-8BE1-10AA520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361F3-9CA4-4BEE-90FD-1889F69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3E51-D285-4A67-A83F-1A710F7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B6CD-E483-4B53-AFEE-B790FB16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8950C-39B7-4758-80BA-9C9EC37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630-6C92-42C8-800A-F73513B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EF2-56C2-4A14-B8FD-20D9ED3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A3-DAF8-43EC-AA1A-2F9F923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C5B-0C3C-485D-8DBC-D1C8CD2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35E-FFDD-4D55-83F2-D9DAFEA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BAC-7752-46EE-99E7-0A2D7FB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2BB-49E3-4F6E-AAE5-C4ACECBE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2293C8-C331-473A-BD56-A20900DAF4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5BC8F9-581A-4D63-9493-898E6FE063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39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витие социокультурной компетенции при обучении диалогической ре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ель:Дудникова Наталья Алексеев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БОУ «СОШ № 97» г. Кемер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торой этап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Участие в микродиалоге (2-3 ДЕ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объема речевого поведения за сч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я репл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я количества Д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опоры на диалогический текст, на диалог-образец между учителем и учащимся или между двумя учащими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ct out the dialogue and make up your own conversa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friends visited a pub and were going home when you met them. They began to discuss their visit to the pu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1-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hat do you think of a cucumber sandwic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 Well, I like it. I think it is very delici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Yes, not bad. Do you like this pub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Erm... not really. I think it is po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Well, yes, but I like friendly atmosphere and a landlord is very pol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Do you think so? I don't like h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OK, next time you will choose a pu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 OK, with plea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Put the parts of the dialogue in order. Role-play the dialogue.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In a restaur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25280" y="1888920"/>
            <a:ext cx="889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. Adams: Do you fancy a sta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Adams: Mmm... I think I'll have the prawn cockt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am very fond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awns. What about you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. Adams: I am not sure...I can't de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Adams: Oh, I'd have the trout if I were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 always say that you like trou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d you haven't it for a long tim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ий этап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умений создавать свои диалоги на основе предложенной коммуникативной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 в развернутых диалогах, отображающих стереотипные ситуации об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степени самостоятельности за счет уменьшения опор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содержательной структуры репл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 have  just returned from England. You lived in a host  family. Your  friends want to know something about this foreign country. Discuss the following points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full name of  the country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\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climate of the UK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ts  population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lture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ating habits, 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Thank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for att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логическая речь. Этапы формирования и развития навыков и уме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дготовительн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уле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)– обучение реплицированию с постепенным увеличением объема реплик участников диалог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й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умения соединять реплики в разные виды диалогических единст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торой – развит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ния строить микродиалог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т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развитие умения создавать собственные диалоги разных типов на основе предложенных коммуникативных ситу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улевой этап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ирование навыков реплицировани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magine that you happened to be in England. What would you like to visit - a pub or an expensive restaura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: I would like to visit a pub, because I prefer simple dishes to exotic 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: I would like to visit a restaurant, because I prefer unusual exotic dishes to cheap and plain 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: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ply the waiter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o you like your tea strong? P: Yes, please./No, thank you./I am (not) very keen on.../It doesn't agree with me/Yes, I’d love 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 you still need the wine li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You don't seem to like a prawn cocktail. Shall I change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ll you have the strawberries with suga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 you take milk in your te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 recommend you English wi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ould you like some coffe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ould you like a mixed salad with the ve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 think you will like fish and chips. Shall I bring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hich coffee do you prefer: black or whi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"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en in Rome do as the Romans d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does this proverb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 you have a similar proverb in your own langua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этап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владение навыками диалогических единств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бором речевых действ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цептивно-репродуктивные и репродуктивные условно-речевые упражнений на имитацию, подстановку, ответы на вопросы, на запрос определенной информации (по образцу), сообщение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1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friend from London came to visit you. You show him your city, then decide to have a snack in a cafe. He asks you about eating habits in your country. What will you answer hi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How about meals in your country? Do they differ greatly from our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a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I know that your dinner is quite substantial, isn't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It's quite nourishing. Do you prefer a heavy midday me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ake up questions concerning British food and ask somebody to answer them. Take turns to ask ques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: Do you know how many meals a day the British people hav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: They have 5 meals a day: breakfast, lunch, dinner, supper, tea. Do you know what people can buy in a pub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3: People can buy hard and soft drinks, lunches, fish and chi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 and your friend came to the restaurant. Study the menu, express your likes and make an order. Use the menu from the previous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1: I like fish that is why I will order fish and chips. And what about you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2: I prefer meat to fish that's why I will order hotpot. And what do you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: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3:34:15Z</dcterms:created>
  <dc:creator>UserXP</dc:creator>
  <dc:description/>
  <dc:language>en-US</dc:language>
  <cp:lastModifiedBy>Александр</cp:lastModifiedBy>
  <dcterms:modified xsi:type="dcterms:W3CDTF">2022-11-27T11:12:39Z</dcterms:modified>
  <cp:revision>34</cp:revision>
  <dc:subject/>
  <dc:title>Британия</dc:title>
</cp:coreProperties>
</file>