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152-E010-4F79-B8DA-85043C1A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0CF-0D95-490F-9CC6-E197FF73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BDC2D-ADD5-448B-A709-8FD0640C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40139-EA82-4E90-AF71-FA0ACE8E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5BB27-62E1-411F-8E0A-C6CB35FD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A7A19-DAB9-41E7-8DA4-9D0B70C4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34EDD-FB14-4137-BE85-E592AB7C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120B9-8488-4BDC-9E6E-D84BF8AA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D0053-28FF-4C56-9D11-A76DEC02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441C-B359-40A3-A488-401F9DBB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986FF-FBBB-418D-BA04-ABA9AAC7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D8517-2056-4501-821E-172441E4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D3D-8F82-4064-A445-CB6355A7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3352C-E90C-4CF3-BF8A-02A5E0E6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DE50D-450E-4B11-B8A7-DF9ECEE4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A6E75-7672-457F-98A0-76016101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27C69-8F7C-42D8-90C1-42644581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BF2F0-27D6-4E61-BF4C-36AEB929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3F06D-00C9-46DD-8BE6-FE56B635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83663-3929-46FA-87CD-517A2BD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B1064-9F7F-442D-A07E-AEC9F8BB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AB505-5788-4A28-B8A9-5698643C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339B2-EEE5-40D6-9EDD-E9A18BF2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FF6-1E53-41FF-A494-E6159FA6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E4DDB-5492-474D-9B3B-49251E4A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EC0D9-2C67-410E-8E70-37500483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7D9E5-F7B6-4394-BF2C-C018E348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B0769-24E7-4EB5-ADC6-CD6116D4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31950-E289-4A9D-A27E-B1CD19BC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7FC08-0E6F-4D78-99D3-31D6A870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049BA-A1DD-440E-B354-2142117B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66D4C-A8EC-4F85-A945-7FE38A35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6474D-90BD-4159-A7C0-EEDD79AE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D7DBA-FE8C-4B87-83AE-6F57B78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D21E6-A681-4301-81C1-09F46897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CC827-F9C5-46F4-91F0-10E09166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79A13-6EC8-4B1B-9C66-68A87AD7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A1E10-6BBB-4514-B4A8-D9CC62BB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9B440-B393-40B5-AABA-270DAD2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CC2F2-C8F9-434B-AA8B-3B9572CD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9ACA3-1E23-4F52-A727-C8773449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05B17-E759-4029-B966-9DF7B802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60713-11E2-4FB4-8CC6-029D2110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9F7A3-C117-41B9-8EC8-0F7DC962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C510A-020B-464B-971C-73C167F7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07DCF-81E6-4A8F-96E7-F44BEC66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AB125-35E9-434B-B039-918DD7C6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E6490-790D-48D0-97BE-DEA29F67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53E62-4E6B-4F30-B28C-912C5EF5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26F-4E3C-4386-98EA-39784E20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0DAF-56A1-4F50-9728-962B0008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1D66-EE57-4C07-B53C-117703FE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BDE9-B2E9-46DD-B719-B3CCBBA7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C9C5-600E-43E0-A1CF-CA8FCE84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ACF6-B48D-496D-A53F-03C59FE7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70A-6D53-4E72-973F-0AF03A91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903F-B5AD-4621-BB8F-511D8489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0479-EA8F-409A-879B-C8440E89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4C9F-0AC8-483B-8155-20816DEA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0136-31E0-4C76-9208-B1E75B3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0EDD-DBE9-4461-BA2E-940985DF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04C6-1E9C-4B55-B74E-7393E8FF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FA34-A290-4664-805B-08515800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E41-BC0A-4CFC-9DC7-E0E6BA6D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9429-7586-4F49-8F97-7A7EAAFF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D25-0FAF-4F9C-BC53-9E7B6CCD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A4927-229D-4772-AFAC-BA3CDBAD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F4B8-B437-4C0B-BF79-329F4C69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221D-89B9-47A3-B0A5-71421CBF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C641-9679-4C99-83D8-50D35338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13F0-6219-4232-8D90-25718831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0158-2727-4DCC-9E9F-F87E771B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FA59-DD65-4209-AFA2-57A3DE08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C1D7-D30D-4CD7-8641-297340B3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1A05-0CBD-438A-9A03-97745C4A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DCA7B-ECD3-4946-8C2B-6DCEB9C0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DE6-DE0E-4FA7-808A-65190740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3B83-9B0E-4372-AA01-66D74B92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33C48-47F7-41C7-B88F-683B96C1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8F9C0-A0D0-4D3B-80F2-6E8073B8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274C0-8569-4362-AB09-22C4110A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64389-E174-4035-B801-7A3726B2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103FE-849E-4D33-BF8D-6FBC30B1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6197B-F336-49D0-AF6E-A9BDF1E8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86492-75E5-4643-AA76-31A8F6B5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CBF8-ED44-49E5-BB5C-CCB28BF1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BE036-D14F-4486-9DD2-196E523D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630-F379-4547-8D38-8AE84E72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46DF-F5A7-4BFA-9208-2260B06B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D4A9-5AD7-4AD1-BB06-31E907FD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40A4-A011-411E-BDE6-A6B2659C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73C62-F0DF-47C9-B1CC-83E1D7F1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4AD0-6EA9-4C49-8CF2-DC22BF60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76AEA-653F-4FF1-988A-D94F5369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94557-115F-4762-BB5B-943FCA1F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1AADD-62B8-44B8-BD19-8A5D4746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5C2AD-1F14-434D-B9F9-64D96795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5B2E-9B22-453A-8B56-8343C7D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C35-64F6-425A-B4DE-A7A47622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E5B86-DC32-4AE3-96CC-487B724A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8120C-A126-4E48-BD48-EF69C564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EA31-903D-423E-B3AE-28BF4B4E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FF322-8FA8-46F9-97E2-8B3B37ED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E0810-9AF0-486A-9147-B1205BD0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07388-0002-4354-B371-70838C5B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4DD41-1C45-4ED1-B161-A8323349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62121-ED50-4242-8150-E9F13B1B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87585-51F9-4728-8EFC-20901621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3FAEF-1A81-4948-954D-356BC55E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B29-6579-40AB-91DF-22640060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21993-B7A4-4D1C-81BD-607AC356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5CEED-E815-4A95-803E-0960BBA2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93FF2-7529-440C-A2DA-1F4FC3C0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2BDB9-2D10-4D1E-B8DB-5B234CB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DEA8E-E2F8-4426-AF39-04089225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0BF02-65ED-401F-A6FF-DAEE4374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9B7FB-0998-41B6-8A39-92B4BF7A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B9C2A-8DBD-4FED-85F2-7CA39AE5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6B457-7832-4F49-BFAB-59C20F4F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18731-E567-4256-BDD5-7C62D76E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3FB4-DCAF-4B69-8149-40585BD6F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9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53CC-7141-4F76-8900-C30F0BAF6B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A491-37BF-466F-A841-C7C8AB8D54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C341-53C7-47C7-B015-963B730F02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6200" y="1634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76200" y="144000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952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01680" indent="-339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985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25840" indent="-397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2584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2584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9AD2-01A7-4AA3-818B-2F6DD60AD68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6200" y="1634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76200" y="144000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952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01680" indent="-339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985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25840" indent="-397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2584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2584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6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D429-CEC0-42CD-9679-459FE9C2E5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F225-930C-4092-9B8C-F83A94C975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6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4810-007D-4C8C-99F5-78F81EAEFF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30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7AE9-242B-446E-9C61-CCDE9CAD9D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2E23-4CE8-4194-86CD-42F208AACA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Заголовок 3" descr=""/>
          <p:cNvPicPr/>
          <p:nvPr/>
        </p:nvPicPr>
        <p:blipFill>
          <a:blip r:embed="rId1"/>
          <a:stretch/>
        </p:blipFill>
        <p:spPr>
          <a:xfrm>
            <a:off x="493560" y="712800"/>
            <a:ext cx="7785360" cy="371304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000080" y="3285720"/>
            <a:ext cx="742968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Педагог- психолог Иванова С.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2022 г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В интеллектуальном плане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жизнестойкость проявляется как твердые убеждения человека, которые позволяют ему оставаться целостным, собранным и активным при любом развитии событий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В эмоциональном плане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жизнестойкость характеризуется способностью человека контролировать свои эмоции: поддерживать позитивный, оптимистический настрой, прогонять уныние, сдерживать вспышки гнева и ярости, преодолевать свои сомнения или страхи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В повседневном поведении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человека жизнестойкость проявляется 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как способность терпеливо достигать поставленных целей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. При этом, сталкиваясь с препятствиями, человек проявляет смекалку, творческий подход к делу, берет на себя личную ответственность, а при необходимости проявляет мужество. Он постоянно развивает умение действовать решительно, выверенно и результативно, сохранять внутреннее достоинство и верность своим принципам во всех сложных ситуациях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Если вы однажды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решите перейти к освоению жизнестойкости на практике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, то ваши повседневные усилия должны включать три основных направления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щефизическая (спортивная) подготовк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овершенствование эмоциональной и волевой саморегуляции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развитие интеллектуальной и духовной составляющих личност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Итак, подведем краткий итог: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развитие жизнестойкости – процесс непростой, но очень важный для каждого человека.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Если мы не будем стремиться к ее развитию, то окажемся неспособными контролировать свои эмоции, действовать уверенно и разумно, когда столкнемся с какими-либо проблемными ситуациями и тяжелыми испытаниями в жизни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егодня нам предстоит отправиться в 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путешествие в собственный внутренний мир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– в сказочную, фантастическую страну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ожалуйста, возьмите карандаш и дайте возможность своей руке нарисовать замкнутый контур страны. Каков ее ландшафт? Чтобы это увидеть, 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необходимо раскрасить внутреннее пространство страны, ограниченное контуром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. Главное – не думать долго, а просто дать своей руке возможность легко выбирать карандаши и раскрашивать карту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поляны раздумий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леса желаний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пещеры страхов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моря любви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реки мудрости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болота непонимания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пики достижений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горы препятствий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долина разочарований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пустыня поиск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озеро надежды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вершина успех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возвышенности достижений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ожалуйста, возьмите яркий карандаш или ручку, внимательно рассмотрите карту и отметьте флажком цель предполагаемого путешествия. То есть место на карте, в котором вы хотите оказаться. Этот значок назовем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«флажок цели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Теперь рассмотрите границы страны и отметьте особым флажком место, в котором вы планируете войти в эту страну. Этот значок назовем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«флажок входа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Итак, у вас есть два флажка: «флажок цели», обозначающий место, являющееся целью вашего пути, и «флажок входа», обозначающий место, с которого начнется ваш путь. Теперь нужно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проложить маршрут до цели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осмотрите, где находится «флажок цели» и как к нему лучше добраться. Как вы пойдете от «флажка входа» до «флажка цели»? Пожалуйста, обозначьте свой маршрут пунктиром или небольшими стрелочкам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утешествие всегда предполагает возвращение домой. Проложив маршрут к цели своего пути, опытный путешественник рассматривает варианты возвращения домой, выхода из страны. Пожалуйста, рассмотрите внимательно свою карту и отметьте особым флажком место, в котором вы планируете выйти из страны. Этот значок назовем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«флажок выхода».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Иногда он совпадает с «флажком входа», иногда – нет.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Проложите маршрут от «флажка цели» до «флажка выхода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Итак, у вас есть карта, есть цель пути и маршрут. А значит, есть готовность к путешествию по собственной внутренней стране. Но, говорят, если 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дробно рассмотришь маршрут своего путешествия, то, как будто бы, совершишь его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А теперь представьте себе, что вы возвратились из путешествия, положили перед собой лист бумаги и написали: «Это путешествие научило меня...» Пожалуйста, закончите фразу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А теперь взгляните на весь свой маршрут и 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отметьте каким- либо значком ту точку, в которой, как вам кажется, вы находитесь сейчас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Спасибо!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3" descr=""/>
          <p:cNvPicPr/>
          <p:nvPr/>
        </p:nvPicPr>
        <p:blipFill>
          <a:blip r:embed="rId1"/>
          <a:stretch/>
        </p:blipFill>
        <p:spPr>
          <a:xfrm>
            <a:off x="493560" y="682560"/>
            <a:ext cx="7785360" cy="17193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786800" cy="278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Жизнестойкость – это понятие, которое объединяет два известных всем слова – «жизнь» и «стойкость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И оно имеет прямое отношени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к каждому из нас!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925120" cy="14875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Упражнение «Стаканчик»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4e3b30"/>
                </a:solidFill>
                <a:latin typeface="Franklin Gothic Book"/>
              </a:rPr>
              <a:t>Обсуждение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1. Что вы почувствовали? Какое сейчас у вас состояние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2. Когда возникают такие же чувств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3. Кто ими управляет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4. Куда они деваются потом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4e3b30"/>
                </a:solidFill>
                <a:latin typeface="Franklin Gothic Book"/>
              </a:rPr>
              <a:t>Вывод.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То, что вы сейчас пережили - это реальный стресс, это реальное напряжение, и то, как вы это пережили, и есть ваша настоящая реакция на стресс, реакция на проблемы, которые возникают у вас, в том числе и в общении с другими людьми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304920" y="2143080"/>
            <a:ext cx="86868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Теперь давайте подумаем, как можно снять напряжение и беспокойство после перенесенного стресса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304920" y="149976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Узнать все, что возможно о том, что произошло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Отвлечься от происходящего (не застревать в стрессовой ситуации)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дготовить себя и к успеху, и к неудаче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Иметь запасной план – прекрасный способ уменьшить стресс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Снизить важность события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Расслабитьс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Мыслить позитивно (посмеяться или найти что-то полезное в случившемся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Выплеснуть накопившуюся негативную энергию наружу, например: помыть посуду, поиграть в футбол, побить «грушу» (подушку) и др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304920" y="149976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пражнение «Крик».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пражнение «Старая газета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пражнение «Сцепленные ладони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пражнение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«Выкинь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«Дыхательные техники»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спокаивающее дых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Расслабляющее дых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Толчковое дых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Огненное дых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Связывающее дых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Заголовок 3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000" spc="-1" strike="noStrike">
                <a:solidFill>
                  <a:srgbClr val="523227"/>
                </a:solidFill>
                <a:latin typeface="Franklin Gothic Book"/>
              </a:rPr>
              <a:t>Ж</a:t>
            </a:r>
            <a:r>
              <a:rPr b="1" lang="ru-RU" sz="2600" spc="-1" strike="noStrike">
                <a:solidFill>
                  <a:srgbClr val="523227"/>
                </a:solidFill>
                <a:latin typeface="Franklin Gothic Book"/>
              </a:rPr>
              <a:t>изнестойкость проявляется как способность терпеливо достигать поставленных целей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23227"/>
                </a:solidFill>
                <a:latin typeface="Franklin Gothic Book"/>
              </a:rPr>
              <a:t>	</a:t>
            </a:r>
            <a:r>
              <a:rPr b="1" lang="ru-RU" sz="2600" spc="-1" strike="noStrike">
                <a:solidFill>
                  <a:srgbClr val="523227"/>
                </a:solidFill>
                <a:latin typeface="Franklin Gothic Book"/>
              </a:rPr>
              <a:t>При этом, сталкиваясь с препятствиями, человек берет на себя личную ответственность, а при необходимости проявляет мужество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23227"/>
                </a:solidFill>
                <a:latin typeface="Franklin Gothic Book"/>
              </a:rPr>
              <a:t>	</a:t>
            </a:r>
            <a:r>
              <a:rPr b="1" lang="ru-RU" sz="2600" spc="-1" strike="noStrike">
                <a:solidFill>
                  <a:srgbClr val="523227"/>
                </a:solidFill>
                <a:latin typeface="Franklin Gothic Book"/>
              </a:rPr>
              <a:t>Он постоянно развивает умение действовать решительно, продуманно и результативно, сохранять внутреннее достоинство и верность своим принципам во всех сложных ситуациях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99680" y="100008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3600" spc="-1" strike="noStrike">
                <a:solidFill>
                  <a:srgbClr val="523227"/>
                </a:solidFill>
                <a:latin typeface="Franklin Gothic Book"/>
              </a:rPr>
              <a:t>Нередко люди приобретают жизненную стойкость после долгих и порой мучительных испытаний. Им приходится справляться с какими-либо суровыми вызовами судьбы, приходится подтверждать свою силу духа снова и снова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304920" y="149976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инкевич–Евстигнеева Т.Д. Практикум по сказкотерапии /СПб.: ООО Речь, - 2000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тодическое пособие/Тренинг по формированию жизнестойкости; Составитель: А.Ю.  Баранова.  –  Иркутск: Издательство ГАУ ЦППМиСП, 2017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ысова О.Ф. Формирование жизнестойкости у детей: некоторы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тодические подходы // Воспитание школьников. - 2013. – № 6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опель К. Как научит детей сотрудничать? В 4-х ч.: Психологические игры и упражнения. Практическое пособие для педагогов и школьных психологов/пер. с нем. – М., Генезис, 2003 г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Заголовок 3" descr=""/>
          <p:cNvPicPr/>
          <p:nvPr/>
        </p:nvPicPr>
        <p:blipFill>
          <a:blip r:embed="rId1"/>
          <a:stretch/>
        </p:blipFill>
        <p:spPr>
          <a:xfrm>
            <a:off x="493560" y="712800"/>
            <a:ext cx="7785360" cy="371304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1000080" y="3285720"/>
            <a:ext cx="742968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Педагог- психолог Иванова С.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2022 г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Заголовок 1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8894880" cy="1378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-360" y="1554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щение по принципу «здесь и сейчас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облюдаем конфиденциальность всего происходящего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оворим только от своего имени и только лично кому-то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оворим только то, что думаем и чувствуем, т.е. искренность  и такт в общен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оворим не о личностях, каких-либо отрицательных качествах человека, а о его действиях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Заголовок 1" descr=""/>
          <p:cNvPicPr/>
          <p:nvPr/>
        </p:nvPicPr>
        <p:blipFill>
          <a:blip r:embed="rId1"/>
          <a:stretch/>
        </p:blipFill>
        <p:spPr>
          <a:xfrm>
            <a:off x="450720" y="281160"/>
            <a:ext cx="8699760" cy="11509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пражнение «Атомы-Молекулы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e3b30"/>
                </a:solidFill>
                <a:latin typeface="Franklin Gothic Book"/>
              </a:rPr>
              <a:t>Упражнение: «Три слова о себе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Презентация «Жизнестойкость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пражнение: «Карта сказочной страны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пражнение: «Притча о жизни – разноцветная реальность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пражнения, способствующие улучшению эмоционального состояни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Мозговой штурм.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Закройте глаза и представьте, что каждый человек – маленький атом, а атомы, как известно, способны соединяться и образовывать молекулы, которые представляют собой достаточно устойчивые соединения. «Сейчас вы начнете беспорядочное движение в пространстве. Я скажу: «Молекулы - 2», вы объединитесь в молекулы по два человека-атома. Затем по моему сигналу «Атомы» молекулы вновь распадаются на отдельные атомы и свободно двигаются. Затем я снова дам сигнал, будьте внимательны к числам! Молекула – 5!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457200" y="1928880"/>
            <a:ext cx="86868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пишите себя несколькими словам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мя за слово не считаетс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Жизнестойкость - это характеристика личности, которая является ключом к стрессоустойчивости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3b30"/>
                </a:solidFill>
                <a:latin typeface="Franklin Gothic Book"/>
              </a:rPr>
              <a:t>Жизненная стойкость не может быть приобретена какой-то односторонней деятельностью, например, только развитием силы. Так, слон в тысячи раз сильнее черепахи, но она является более жизнестойкой, может жить как на суше, так и в воде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Жизнестойкость также не может быть освоена благодаря лишь чтению умных книжек, как некая красивая теория. Она накапливается постепенными и комплексными усилиями, как приобретается спортивный навык или профессиональное мастерство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e3b30"/>
                </a:solidFill>
                <a:latin typeface="Franklin Gothic Book"/>
              </a:rPr>
              <a:t>Нередко люди приобретают жизненную стойкость после долгих и порой мучительных испытаний. Им приходится справляться с какими-либо суровыми вызовами судьбы, приходится подтверждать свой выбор, свою силу духа снова и снов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В интеллектуальном плане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жизнестойкость проявляется как твердые убеждения человека, которые позволяют ему оставаться целостным, собранным и активным при любом развитии событий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В эмоциональном плане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жизнестойкость характеризуется способностью человека контролировать свои эмоции: поддерживать позитивный, оптимистический настрой, прогонять уныние, сдерживать вспышки гнева и ярости, преодолевать свои сомнения или страхи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5:23:28Z</dcterms:created>
  <dc:creator>Anton</dc:creator>
  <dc:description/>
  <dc:language>en-US</dc:language>
  <cp:lastModifiedBy>Светлана</cp:lastModifiedBy>
  <dcterms:modified xsi:type="dcterms:W3CDTF">2022-11-26T22:29:35Z</dcterms:modified>
  <cp:revision>91</cp:revision>
  <dc:subject/>
  <dc:title>ПРОЕКТНАЯ ДЕЯТЕЛЬНОСТЬ УЧАЩИХСЯ</dc:title>
</cp:coreProperties>
</file>