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97C-2BF7-4C38-8B9B-06260262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D7D-05C5-44EA-92CC-3AF5BA51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0408-53D1-4221-A25E-4358B43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70AED-D55B-4AD1-90DD-84EBBBE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B1FB-7BAF-4031-B1F5-A4AD67B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9672-3047-46F0-A73B-4E309207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D8F02-6109-4297-9313-44A540F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24C3-0540-408F-BAB4-B299C2CD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2339-C3DD-4851-BFB1-2649B28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CE69-0092-4C31-8843-5A0E664B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C177B-13CE-4AF7-B321-0B8A85D7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20D9A-D3A4-448E-BC3C-6056EBE2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9F4-C5AF-4222-884A-91D4CA7F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B8A6E-42AD-4A99-B6A8-FE73D76D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179D-00C4-42E8-A99C-5C080F8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3748-C20B-4302-8F10-8F6C10D3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86253-1C9B-4233-A33B-9F7BD24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D1DC-A998-426B-A9F7-3D4D4BAE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F2A6-EEE0-4463-9D2C-FDF74D0E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99D69-A56A-4F42-9F61-DDF362C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75CE7-CA73-407B-AD30-3E6C93E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4523-D525-47AB-AB82-BBB42CA2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4180-8716-4561-A2BA-FD4FDA4E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647-AD87-4662-93BA-EA5D170B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5BE4-026B-427F-A8A7-E0B02456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A9B78-D921-4579-9F38-A22D8147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5E27D-474E-497F-98AE-A2936872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AD99-9454-44F8-B3D1-AD166CE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AAF83-33E5-4B84-A4D4-F0A3DBA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7B1B1-5FE5-4A30-A2B4-7F6F50A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1171-185B-4438-8D72-CB2B81E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7FCA-722D-4993-9F49-6535E2A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2698-B4F0-4284-8F43-1F92503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1ABC-5EC0-4D12-BE5C-BA44126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8B6E-D3C6-4722-9027-F54260DB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4B14-8D6B-4BB7-B14C-59D43789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0DAB9-AC9C-4754-BEEC-668FAA48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FDD0-A6E3-41A1-B1B9-4F4499BE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70ABF-39EE-4E21-9211-3D30DFA3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AAC10-BA43-4C6F-8A28-D7AF52A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17CA-69D6-4EEC-A1B2-16F7B11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99B52-80F0-4A19-9CEF-5FADE413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BB8B7-EBF3-4622-862B-69BA83F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114A0-2C88-4F9B-9AC4-50B693E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D653E-0C0F-41E9-8304-5DCF7BC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3F25-E540-4468-BC85-75F805D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AE0A2-063F-4797-8F4F-15A7857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9687-621F-4074-934A-B1ABC0CE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06E46-AD99-4B0A-BA07-8562F109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CE7-24A6-4D6D-9FA7-7E54227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313E-1055-4A51-9BD5-9DB7F241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597-DBA9-40A9-9177-0D50BD2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AADD-7AB9-45B9-84CC-75FB952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D93-D861-47C0-AF0E-20501C6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6F4-442F-492D-8BAB-BC77DC5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DEC-7FC2-4A42-9585-3D290981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F47-3A52-4792-B5AA-C4617E6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E870-2DEA-449F-92FC-CC0DC3C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0873-F4B5-4390-8B66-0B80A81F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09A-701C-47BC-847D-8509142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36F1-987C-40DA-9072-08C830B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B82-0484-4BE5-9B8E-414D8500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1B7-3C15-4168-9507-9E9BDF81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787-469D-410E-A1FC-E6E371E7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9A85-E053-42FF-A8B0-EA9763C5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B02-C5A7-4470-A143-95EDFA16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779F-799B-42A2-A0FE-1D0B344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ACCD-510F-4A53-A888-AE7B97D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F2F4-0795-496A-BE0B-50F46033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A851-9266-4D47-9D54-D332CA73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DBBC-1B83-4C1E-BBE9-A280C3D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5B13-A8B3-41A3-B9B9-F13404E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6A4C-E136-4030-B1FD-7CD56547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614E-435C-424F-8457-D3763D07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BAF3-D406-4E4D-BBA9-A1A39C44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013F-217B-48C1-96D3-B616D446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19C-E4B3-4122-B6BC-E3614CC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7D14-26E8-4AE3-8D0C-C8EF9052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193F-A2C5-46EC-BE84-3B3589D8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7D12-9722-430A-BA6F-A51952E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C1FD-BBA1-4BCC-9A01-415D1A71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94F4-9995-492C-9E1A-CFEA69F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F7D2-E9D4-4A07-9054-E384ED9B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CF65-255A-4A23-A6DE-7CE1632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7010-087C-4143-A769-EB3D588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F68A-2BCF-43BF-BB7F-3F78E41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5E37-4C50-4689-8785-CF476C7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196-AD8A-4BD8-8BD1-26E7244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0546-590B-435E-84CC-040A2D2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A04F-9DE5-4815-9AF9-791264A0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B2CF-1AB5-4689-B891-B138A419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49C5-CCC5-4C97-914A-B13DAA4C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5A82-414C-47FE-B64D-FD412D2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82C1-650E-4A23-B8D0-1180E318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6C3D-AA49-49A0-9ED2-2B5509B0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CB6D1-2D9A-4245-90C4-1C996DE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13B1-7579-4A7C-94A4-87F09BA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3EBC-375E-4B9A-9CF5-1DACA41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870-5A09-4864-8B02-1D963FF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E228-75FC-47E5-A628-420720E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8C52-0560-44AE-9CD2-6B8E9BA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5DC7A-B243-468B-8057-D8C0D072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95EA-C1B3-4551-8AA9-14EB05FE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D7D3-57AB-4B8B-8B9C-E70EFEC9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E47F-6436-41C6-B6F4-87770B0F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8E6C3-73FD-450E-BC4C-0A5C9D4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23F2-556C-47A6-9E57-C65A758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AE39-BCB8-47AC-B7BD-F06CF54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32EB-B849-4539-B60B-84B8519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871-BEE0-4940-ADD9-F34B346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0DB1-9328-44A8-B873-FCB5993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DD5D-7450-4951-8D48-4C338CD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9B315-93B5-4975-AE3B-AD61C77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DF89-5E80-4B2C-B570-2D8A359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05F1-D36B-4839-A2EA-2BCF086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93DA5-538E-4ADE-A16B-6C72BCA2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3F003-3EAE-4FBF-8555-4FF012FC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2A8C1-74C8-49A6-9725-471E88DE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1E15-7A0D-4BFA-B5CA-447F497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BDDE-7CCE-4417-BA58-3FDE4CD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088C-5A35-4190-9296-D881F91B3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9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898-D994-4F87-816E-885467CBF7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523-FC46-41A9-A525-794A5DFD7D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B88-AC60-4DB0-BF81-2687054DC4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6200" y="1634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6200" y="144000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952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01680" indent="-339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985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25840" indent="-397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AC4-D317-42A6-A154-85C72043F9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6200" y="1634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76200" y="144000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3952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01680" indent="-339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14640" indent="-3985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25840" indent="-397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2584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6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9BF-E6FC-4E83-BF65-AE15007C39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08A-A743-4E33-A5A7-A1D8A835CA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6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0BB-1385-424D-B96F-2F05BD52AC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30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56B0-650C-4FD8-BF76-98597F9880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157-A390-4B82-A108-C59686B6A1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3" descr=""/>
          <p:cNvPicPr/>
          <p:nvPr/>
        </p:nvPicPr>
        <p:blipFill>
          <a:blip r:embed="rId1"/>
          <a:stretch/>
        </p:blipFill>
        <p:spPr>
          <a:xfrm>
            <a:off x="493560" y="712800"/>
            <a:ext cx="7785360" cy="37130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742968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Педагог- психолог Иванова С.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2022 г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интеллекту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проявляется как твердые убеждения человека, которые позволяют ему оставаться целостным, собранным и активным при любом развитии событий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эмоцион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характеризуется способностью человека контролировать свои эмоции: поддерживать позитивный, оптимистический настрой, прогонять уныние, сдерживать вспышки гнева и ярости, преодолевать свои сомнения или страхи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повседневном поведении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человека жизнестойкость проявляется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как способность терпеливо достигать поставленных целей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 При этом, сталкиваясь с препятствиями, человек проявляет смекалку, творческий подход к делу, берет на себя личную ответственность, а при необходимости проявляет мужество. Он постоянно развивает умение действовать решительно, выверенно и результативно, сохранять внутреннее достоинство и верность своим принципам во всех сложных ситуациях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Если вы однажды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решите перейти к освоению жизнестойкости на практике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то ваши повседневные усилия должны включать три основных направления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ефизическая (спортивная) подготовк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вершенствование эмоциональной и волевой саморегуляци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звитие интеллектуальной и духовной составляющих личнос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так, подведем краткий итог: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развитие жизнестойкости – процесс непростой, но очень важный для каждого человека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Если мы не будем стремиться к ее развитию, то окажемся неспособными контролировать свои эмоции, действовать уверенно и разумно, когда столкнемся с какими-либо проблемными ситуациями и тяжелыми испытаниями в жизн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егодня нам предстоит отправиться в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путешествие в собственный внутренний мир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– в сказочную, фантастическую страну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жалуйста, возьмите карандаш и дайте возможность своей руке нарисовать замкнутый контур страны. Каков ее ландшафт? Чтобы это увидеть,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необходимо раскрасить внутреннее пространство страны, ограниченное контуром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 Главное – не думать долго, а просто дать своей руке возможность легко выбирать карандаши и раскрашивать карту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оляны раздуми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леса желани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ещеры страхов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моря любви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реки мудрости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болота непонимания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ики достижений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горы препятств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долина разочарован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пустыня поиск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озеро надежды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вершина успех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Franklin Gothic Book"/>
              </a:rPr>
              <a:t>возвышенности достижен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жалуйста, возьмите яркий карандаш или ручку, внимательно рассмотрите карту и отметьте флажком цель предполагаемого путешествия. То есть место на карте, в котором вы хотите оказаться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цели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еперь рассмотрите границы страны и отметьте особым флажком место, в котором вы планируете войти в эту страну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входа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Итак, у вас есть два флажка: «флажок цели», обозначающий место, являющееся целью вашего пути, и «флажок входа», обозначающий место, с которого начнется ваш путь. Теперь нужно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оложить маршрут до цел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смотрите, где находится «флажок цели» и как к нему лучше добраться. Как вы пойдете от «флажка входа» до «флажка цели»? Пожалуйста, обозначьте свой маршрут пунктиром или небольшими стрелочкам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утешествие всегда предполагает возвращение домой. Проложив маршрут к цели своего пути, опытный путешественник рассматривает варианты возвращения домой, выхода из страны. Пожалуйста, рассмотрите внимательно свою карту и отметьте особым флажком место, в котором вы планируете выйти из страны. Этот значок назовем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«флажок выхода»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Иногда он совпадает с «флажком входа», иногда – нет.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оложите маршрут от «флажка цели» до «флажка выхода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Итак, у вас есть карта, есть цель пути и маршрут. А значит, есть готовность к путешествию по собственной внутренней стране. Но, говорят, если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дробно рассмотришь маршрут своего путешествия, то, как будто бы, совершишь его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А теперь представьте себе, что вы возвратились из путешествия, положили перед собой лист бумаги и написали: «Это путешествие научило меня...» Пожалуйста, закончите фразу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А теперь взгляните на весь свой маршрут и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отметьте каким- либо значком ту точку, в которой, как вам кажется, вы находитесь сейчас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Спасибо!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3" descr=""/>
          <p:cNvPicPr/>
          <p:nvPr/>
        </p:nvPicPr>
        <p:blipFill>
          <a:blip r:embed="rId1"/>
          <a:stretch/>
        </p:blipFill>
        <p:spPr>
          <a:xfrm>
            <a:off x="493560" y="682560"/>
            <a:ext cx="7785360" cy="17193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786800" cy="27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Жизнестойкость – это понятие, которое объединяет два известных всем слова – «жизнь» и «стойкость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И оно имеет прямое отношени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к каждому из нас!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25120" cy="14875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Упражнение «Стаканчик»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Franklin Gothic Book"/>
              </a:rPr>
              <a:t>Обсуждени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 Что вы почувствовали? Какое сейчас у вас состояние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 Когда возникают такие же чувств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 Кто ими управляет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4. Куда они деваются потом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4e3b30"/>
                </a:solidFill>
                <a:latin typeface="Franklin Gothic Book"/>
              </a:rPr>
              <a:t>Вывод.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То, что вы сейчас пережили - это реальный стресс, это реальное напряжение, и то, как вы это пережили, и есть ваша настоящая реакция на стресс, реакция на проблемы, которые возникают у вас, в том числе и в общении с другими людьм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4920" y="214308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Теперь давайте подумаем, как можно снять напряжение и беспокойство после перенесенного стресса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Узнать все, что возможно о том, что произошл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Отвлечься от происходящего (не застревать в стрессовой ситуации)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дготовить себя и к успеху, и к неудач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Иметь запасной план – прекрасный способ уменьшить стресс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Снизить важность событи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Расслабитьс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Мыслить позитивно (посмеяться или найти что-то полезное в случившемся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Выплеснуть накопившуюся негативную энергию наружу, например: помыть посуду, поиграть в футбол, побить «грушу» (подушку) и др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Крик».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Старая газета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«Сцепленные ладони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пражнение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«Выкинь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«Дыхательные техники»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спокаива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асслабля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Толчково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Огненно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Связывающее дых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523227"/>
                </a:solidFill>
                <a:latin typeface="Franklin Gothic Book"/>
              </a:rPr>
              <a:t>Ж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изнестойкость проявляется как способность терпеливо достигать поставленных целе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	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При этом, сталкиваясь с препятствиями, человек берет на себя личную ответственность, а при необходимости проявляет мужество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	</a:t>
            </a:r>
            <a:r>
              <a:rPr b="1" lang="ru-RU" sz="2600" spc="-1" strike="noStrike">
                <a:solidFill>
                  <a:srgbClr val="523227"/>
                </a:solidFill>
                <a:latin typeface="Franklin Gothic Book"/>
              </a:rPr>
              <a:t>Он постоянно развивает умение действовать решительно, продуманно и результативно, сохранять внутреннее достоинство и верность своим принципам во всех сложных ситуациях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99680" y="100008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600" spc="-1" strike="noStrike">
                <a:solidFill>
                  <a:srgbClr val="523227"/>
                </a:solidFill>
                <a:latin typeface="Franklin Gothic Book"/>
              </a:rPr>
              <a:t>Нередко люди приобретают жизненную стойкость после долгих и порой мучительных испытаний. Им приходится справляться с какими-либо суровыми вызовами судьбы, приходится подтверждать свою силу духа снова и снов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304920" y="14997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инкевич–Евстигнеева Т.Д. Практикум по сказкотерапии /СПб.: ООО Речь, - 2000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ческое пособие/Тренинг по формированию жизнестойкости; Составитель: А.Ю.  Баранова.  –  Иркутск: Издательство ГАУ ЦППМиСП, 2017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ысова О.Ф. Формирование жизнестойкости у детей: некоторы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ческие подходы // Воспитание школьников. - 2013. – № 6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опель К. Как научит детей сотрудничать? В 4-х ч.: Психологические игры и упражнения. Практическое пособие для педагогов и школьных психологов/пер. с нем. – М., Генезис, 2003 г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3" descr=""/>
          <p:cNvPicPr/>
          <p:nvPr/>
        </p:nvPicPr>
        <p:blipFill>
          <a:blip r:embed="rId1"/>
          <a:stretch/>
        </p:blipFill>
        <p:spPr>
          <a:xfrm>
            <a:off x="493560" y="712800"/>
            <a:ext cx="7785360" cy="37130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000080" y="3285720"/>
            <a:ext cx="742968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Педагог- психолог Иванова С.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Franklin Gothic Book"/>
              </a:rPr>
              <a:t>2022 г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894880" cy="1378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ение по принципу «здесь и сейчас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блюдаем конфиденциальность всего происходящег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только от своего имени и только лично кому-то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только то, что думаем и чувствуем, т.е. искренность  и такт в общен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оворим не о личностях, каких-либо отрицательных качествах человека, а о его действиях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 «Атомы-Молекулы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Три слова о себе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езентация «Жизнестойкость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Карта сказочной страны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е: «Притча о жизни – разноцветная реальность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пражнения, способствующие улучшению эмоционального состоя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Мозговой штурм.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Закройте глаза и представьте, что каждый человек – маленький атом, а атомы, как известно, способны соединяться и образовывать молекулы, которые представляют собой достаточно устойчивые соединения. «Сейчас вы начнете беспорядочное движение в пространстве. Я скажу: «Молекулы - 2», вы объединитесь в молекулы по два человека-атома. Затем по моему сигналу «Атомы» молекулы вновь распадаются на отдельные атомы и свободно двигаются. Затем я снова дам сигнал, будьте внимательны к числам! Молекула – 5!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9288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пишите себя несколькими слов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мя за слово не считает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Жизнестойкость - это характеристика личности, которая является ключом к стрессоустойчивост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Жизненная стойкость не может быть приобретена какой-то односторонней деятельностью, например, только развитием силы. Так, слон в тысячи раз сильнее черепахи, но она является более жизнестойкой, может жить как на суше, так и в воде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также не может быть освоена благодаря лишь чтению умных книжек, как некая красивая теория. Она накапливается постепенными и комплексными усилиями, как приобретается спортивный навык или профессиональное мастерство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e3b30"/>
                </a:solidFill>
                <a:latin typeface="Franklin Gothic Book"/>
              </a:rPr>
              <a:t>Нередко люди приобретают жизненную стойкость после долгих и порой мучительных испытаний. Им приходится справляться с какими-либо суровыми вызовами судьбы, приходится подтверждать свой выбор, свою силу духа снова и снов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интеллекту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проявляется как твердые убеждения человека, которые позволяют ему оставаться целостным, собранным и активным при любом развитии событий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В эмоциональном плане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жизнестойкость характеризуется способностью человека контролировать свои эмоции: поддерживать позитивный, оптимистический настрой, прогонять уныние, сдерживать вспышки гнева и ярости, преодолевать свои сомнения или страхи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23:28Z</dcterms:created>
  <dc:creator>Anton</dc:creator>
  <dc:description/>
  <dc:language>en-US</dc:language>
  <cp:lastModifiedBy>Светлана</cp:lastModifiedBy>
  <dcterms:modified xsi:type="dcterms:W3CDTF">2022-11-26T22:29:35Z</dcterms:modified>
  <cp:revision>91</cp:revision>
  <dc:subject/>
  <dc:title>ПРОЕКТНАЯ ДЕЯТЕЛЬНОСТЬ УЧАЩИХСЯ</dc:title>
</cp:coreProperties>
</file>