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6240" y="-360"/>
            <a:ext cx="29430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63520" y="1240920"/>
            <a:ext cx="4464000" cy="33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75040"/>
            <a:ext cx="54324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3000"/>
            <a:ext cx="294336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000"/>
            <a:ext cx="29430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D5A8-9A0F-4BFB-A3BD-54081E272A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3520" y="124128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5040"/>
            <a:ext cx="54324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6600" y="9423360"/>
            <a:ext cx="2943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D98-BADE-43F3-986D-7B2C70825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27AF-D3C4-43BE-ABF2-641E5DEB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D315-119A-4186-94D9-CD3DB69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935D-EB85-4A79-9DBA-7462A37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839C-A9BB-439B-8241-85BC4906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72EB-C10B-417D-8311-8338A877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E703-0EDE-4A0B-BB9C-72C1159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2686-F324-499A-9795-8492473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2599-E682-45D2-8D3F-8B44433B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F0C-82B0-4FDB-A96A-E76059D1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4982-1034-4DF0-A75C-BBFFA8F4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9000-3984-4699-85A4-40B6E36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36BF-B196-4C6E-8EBB-4FF0A7D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7D7F-16F8-43F5-9465-9311D0B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4A5-96C4-4A57-88B2-015877D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F39-4AEE-4BA2-84C2-271E4567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D30C-F611-4834-9428-3AD29569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C6D-AFFC-494F-A762-6AB29C21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83ED-B154-4ADE-8645-80E0EC4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F671-C127-4079-8270-253BFBD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F657-7E25-491C-A7A6-1F6D70B6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8B53-B43B-4B39-89C5-4C9F6A9C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EA2C-7934-45E5-96DD-0953A7C0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FFB1-B17D-4B3C-9AC3-95DAC11B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8B03-8BCE-43F6-B9C1-51D417C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D891-B547-42FC-B9B6-FF5E8A4422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DF0C-84D1-468D-9FDE-CCC3BD3718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1700280"/>
            <a:ext cx="6950160" cy="30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br>
              <a:rPr sz="20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фровые образовательные ресурс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рамках непрерыв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педагогических работников    образовательной организаци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4284720" y="4797360"/>
            <a:ext cx="4444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Гиматдинова Гульчачак Вазих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проект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Цифровая образовательная среда»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читель будущего»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«одного окна» («Современная цифровая образовательная среда в РФ») 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ритетный проект в области образования. Его целью является качественное и доступное онлайн-обучение граждан страны с помощью цифров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262160" y="3133800"/>
            <a:ext cx="6619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988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проект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Цифровая образовательная среда»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читель будущего»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0024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arning.hse.ru/project_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ый ресурс «Единый ур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ый урок РФ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защищенный информационный портал для педагогического состава учебных заведений. Сайт занимается проведением онлайн-занятий и мероприятий в сфере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311120" y="3200400"/>
            <a:ext cx="65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800"/>
            <a:ext cx="800244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цифры – это всероссийский образовательный проект в сфере цифровой эконом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цифры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89080" y="2998800"/>
            <a:ext cx="6985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4120" y="355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002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м работникам школы зарегистрироваться и изучить современные цифровые образователь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«одного окна» («Современная цифровая образовательная среда в РФ») -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arning.hse.ru/project_scos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ый ресурс Единый урок РФ - единыйурок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й проект Урок цифры - урокцифры.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3120" cy="23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08:53Z</dcterms:created>
  <dc:creator>USER</dc:creator>
  <dc:description/>
  <dc:language>en-US</dc:language>
  <cp:lastModifiedBy>Гиматдинова Гульчачак Вазиховна</cp:lastModifiedBy>
  <cp:lastPrinted>2022-11-27T06:36:28Z</cp:lastPrinted>
  <dcterms:modified xsi:type="dcterms:W3CDTF">2022-11-27T06:37:31Z</dcterms:modified>
  <cp:revision>110</cp:revision>
  <dc:subject/>
  <dc:title>Слайд 1</dc:title>
</cp:coreProperties>
</file>