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6240" y="-360"/>
            <a:ext cx="29430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63520" y="1240920"/>
            <a:ext cx="4464000" cy="334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75040"/>
            <a:ext cx="54324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3000"/>
            <a:ext cx="294336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000"/>
            <a:ext cx="294300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2CE3-C3FC-440C-AA18-F4517279E5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63520" y="1241280"/>
            <a:ext cx="4464000" cy="3348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75040"/>
            <a:ext cx="54324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46600" y="9423360"/>
            <a:ext cx="2943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1E11-6CF7-4CBE-893D-2DCF52FBCF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3BF2E-F4CE-45E6-840F-49C65F2E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36BA-2C0F-4542-BEC5-F46299A1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EFBA-BE79-40B1-8F7E-C5A4A5CF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480C-B47A-40C4-BBA9-189ECFFD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1BF9-831D-44A9-823B-A8ECACD9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9BBD-858F-4689-8F6A-D51854F3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2DA0-4EFB-4A43-9BE0-486FEFD4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842D-1A72-4F9D-AF7B-327F8D6C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D34A-64BF-44AE-9561-109AD472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B2E8-C6BF-4A98-9CC2-F520DD8D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BDA0-B033-4D6D-8258-DE702CC3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3BD4-520F-4EED-8A3C-B26878F3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EBCB-88D1-4B1A-A0C2-48350F46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4509-49E1-4C52-9D43-EFE4A5FB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4C69-ECD2-4196-A7C7-20DFF874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0FFE-FD24-422E-83E2-ED63BC08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55CA-2397-474C-91FB-E559E8FE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2B1D-4927-481A-AC36-2B77AF09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9E308-8F51-44F2-8290-5E0E8182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A63C-7E83-4982-8837-9942D944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C5980-CB5D-441B-803B-8FA1FE6F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8F0F-CB47-4CB4-95B4-1A0CB895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2B96D-36D3-403D-883C-9F332B9D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0734-92E3-4B7A-A6EF-E04D47B8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878C-16B8-4FB6-AABB-935673B34F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DAFC-D64E-4772-A024-8840622626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1700280"/>
            <a:ext cx="6950160" cy="30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br>
              <a:rPr sz="20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фровые образовательные ресурс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рамках непрерыв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педагогических работников    образовательной организации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5"/>
          <p:cNvSpPr/>
          <p:nvPr/>
        </p:nvSpPr>
        <p:spPr>
          <a:xfrm>
            <a:off x="4284720" y="4797360"/>
            <a:ext cx="44449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Гиматдинова Гульчачак Вазих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иональный проект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Цифровая образовательная среда» 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читель будущего» национального проекта «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ый ресурс «одного окна» («Современная цифровая образовательная среда в РФ») -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ритетный проект в области образования. Его целью является качественное и доступное онлайн-обучение граждан страны с помощью цифровы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1262160" y="3133800"/>
            <a:ext cx="66196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9880" y="1125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иональный проект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Цифровая образовательная среда» 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читель будущего» национального проекта «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2349360"/>
            <a:ext cx="800244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earning.hse.ru/project_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ормационный ресурс «Единый ур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ый урок РФ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защищенный информационный портал для педагогического состава учебных заведений. Сайт занимается проведением онлайн-занятий и мероприятий в сфере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1311120" y="3200400"/>
            <a:ext cx="65217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828800"/>
            <a:ext cx="800244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цифры – это всероссийский образовательный проект в сфере цифровой экономи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цифры.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189080" y="2998800"/>
            <a:ext cx="69850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355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002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им работникам школы зарегистрироваться и изучить современные цифровые образовательные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ый ресурс «одного окна» («Современная цифровая образовательная среда в РФ») -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earning.hse.ru/project_scos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ый ресурс Единый урок РФ - единыйурок.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ый проект Урок цифры - урокцифры.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57200" y="774720"/>
            <a:ext cx="8223120" cy="2352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1:08:53Z</dcterms:created>
  <dc:creator>USER</dc:creator>
  <dc:description/>
  <dc:language>en-US</dc:language>
  <cp:lastModifiedBy>Гиматдинова Гульчачак Вазиховна</cp:lastModifiedBy>
  <cp:lastPrinted>2022-11-27T06:36:28Z</cp:lastPrinted>
  <dcterms:modified xsi:type="dcterms:W3CDTF">2022-11-27T06:37:31Z</dcterms:modified>
  <cp:revision>110</cp:revision>
  <dc:subject/>
  <dc:title>Слайд 1</dc:title>
</cp:coreProperties>
</file>