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8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904-2DDF-4430-84F2-2A16B1F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183-63C6-4E4A-8300-C91C5116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53C-2B91-4165-953B-0F2B9A28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6CB-C30F-47C5-AADB-605437ED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F2C-A083-4CD5-BFFB-9AE51FE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56A-80A3-4E27-9E8E-F179F37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285-E0C5-4AE0-BCAE-744EE31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8F0-63FA-4B5E-A399-05AA91B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706-2C85-4878-9B5F-5D9610C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2FB-B892-4158-AB14-360C280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AA5-EDA4-4823-9A4B-98B3AD1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C97-68BE-4CEE-9200-B611CE0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D3F3-AF29-4848-BC76-9CC70B487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jpe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layer.myshared.ru/24/1272171/slides/slide_16.jpg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428760" y="47149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ЕСОЧНАЯ ТЕРАПИЯ – путь к психологическому здоровью ребё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666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7000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714760" y="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ка рисования на пе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528624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2054160" cy="14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1143000" y="328608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1143000" y="2928960"/>
            <a:ext cx="188136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143760" y="192888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143760" y="1500120"/>
            <a:ext cx="264312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0" y="428760"/>
            <a:ext cx="221940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221472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10"/>
          <a:stretch/>
        </p:blipFill>
        <p:spPr>
          <a:xfrm>
            <a:off x="3214800" y="1357200"/>
            <a:ext cx="235728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11"/>
          <a:stretch/>
        </p:blipFill>
        <p:spPr>
          <a:xfrm>
            <a:off x="3214800" y="785880"/>
            <a:ext cx="242892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2"/>
          <a:stretch/>
        </p:blipFill>
        <p:spPr>
          <a:xfrm>
            <a:off x="6215040" y="498492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3"/>
          <a:stretch/>
        </p:blipFill>
        <p:spPr>
          <a:xfrm>
            <a:off x="6143760" y="4214880"/>
            <a:ext cx="2817720" cy="65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samopoznanie.ru/avatars/objects/3-159690_1_6.jpg?1478570846"/>
          <p:cNvPicPr/>
          <p:nvPr/>
        </p:nvPicPr>
        <p:blipFill>
          <a:blip r:embed="rId14"/>
          <a:stretch/>
        </p:blipFill>
        <p:spPr>
          <a:xfrm>
            <a:off x="0" y="5286240"/>
            <a:ext cx="275436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1500120" y="5000760"/>
            <a:ext cx="2786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рисов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layer.myshared.ru/10/978298/slides/slide_8.jpg"/>
          <p:cNvPicPr/>
          <p:nvPr/>
        </p:nvPicPr>
        <p:blipFill>
          <a:blip r:embed="rId15"/>
          <a:stretch/>
        </p:blipFill>
        <p:spPr>
          <a:xfrm>
            <a:off x="3643200" y="1571760"/>
            <a:ext cx="3333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ФФЕКТ ПЕСОЧНОЙ 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1071720"/>
            <a:ext cx="357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рмонизация психо -эмоциональн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тей, снятие психическ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143760" y="10954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лучшение контакта с близкими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flipH="1">
            <a:off x="5857920" y="40766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тие взаимодействия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072120" y="285264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ация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0" y="3573360"/>
            <a:ext cx="4786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ожительная динам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развит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разного мышлени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ктильной чувстви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рительно-моторной  координ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риентировки в пространстве, сенсор -мотор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28800" y="2858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714240" y="1143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 – Евстигнеева Т. Д. Чудеса на песке. Практикум по песочной игротерапии. – СПб.  Реч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-Евстигнеева Т. Д. Коррекционные, развивающие и  адаптирующие игры. — СПб.  Детство-Прес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йц М. Пишем и рисуем на пе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ева С. Песочная терапия. //Ребенок в детском саду. – 2006. -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ова Н. Песок – вода – ладошки. //Ребенок в детском саду. – 2010. -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layer.myshared.ru/24/1272171/slides/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-237960" y="2120760"/>
            <a:ext cx="9619920" cy="2262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0" y="407196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амая лучшая игрушка для детей – кучка песка»      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14240" y="214200"/>
            <a:ext cx="792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данного 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 с нетрадиционным направлением здоровьесберегающих технологий –техникой игры и рисования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особствовать внедрению в практику работы педагогов инновационных методик и технологий, направленных на сохранение здоровья до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500120" y="2142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МНОГО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00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 принцип терапии песком был предложен ещё Карлом Густавом Юнгом, замечательным психотерапевтом, основателем аналитическо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920" y="2571840"/>
            <a:ext cx="51433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асто руки знают, как распутать то, над чем тщетно бьётся раз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рл Густав 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1875 – 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.Г. Юнг утверждал, что процесс "игры в песок" высвобождает заблокированную энергию и "активизирует возможности самоисцеления, заложенные в человеческой псих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by-time.ru/upload/iblock/e05/25751367.jpg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2152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183280" y="178596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85840" y="185724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ужно для игры в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нужно в сущности ,так м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ейший ящик из 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да вольётся дивной ск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грушек малень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ьмём в игру… Подобно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.Фролов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0960" y="0"/>
            <a:ext cx="8722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3643200" y="1500120"/>
            <a:ext cx="550080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5072040"/>
            <a:ext cx="30002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онепроницаемый деревянный ящик (50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70x8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и чистый просеян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50012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638520" y="2706840"/>
            <a:ext cx="5511960" cy="26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cs7058.vk.me/c540108/v540108872/19386/P37DDDsb08s.jpg"/>
          <p:cNvPicPr/>
          <p:nvPr/>
        </p:nvPicPr>
        <p:blipFill>
          <a:blip r:embed="rId6"/>
          <a:stretch/>
        </p:blipFill>
        <p:spPr>
          <a:xfrm>
            <a:off x="3143160" y="4803840"/>
            <a:ext cx="221472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v3toys.ru/kiwi-public-data/Kiwi_Img/sands_alive_sunken_castle_discovery_2508.jpg"/>
          <p:cNvPicPr/>
          <p:nvPr/>
        </p:nvPicPr>
        <p:blipFill>
          <a:blip r:embed="rId7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4992840" y="506556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28760" y="3571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ДАЧИ ПЕСОЧ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57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2459160" cy="4533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Прямоугольник 5"/>
          <p:cNvSpPr/>
          <p:nvPr/>
        </p:nvSpPr>
        <p:spPr>
          <a:xfrm>
            <a:off x="2981160" y="1071720"/>
            <a:ext cx="31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 разви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5290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643800" y="8571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6286680" y="1571760"/>
            <a:ext cx="264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06320" y="334800"/>
            <a:ext cx="771228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2746440" cy="37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2143080"/>
            <a:ext cx="2435400" cy="24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3357720" y="1785960"/>
            <a:ext cx="214308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6"/>
          <a:stretch/>
        </p:blipFill>
        <p:spPr>
          <a:xfrm>
            <a:off x="3368520" y="2286000"/>
            <a:ext cx="2132280" cy="16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7"/>
          <a:stretch/>
        </p:blipFill>
        <p:spPr>
          <a:xfrm>
            <a:off x="5715000" y="1785960"/>
            <a:ext cx="2889360" cy="37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1143000" y="5521320"/>
            <a:ext cx="641844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5"/>
          <p:cNvSpPr/>
          <p:nvPr/>
        </p:nvSpPr>
        <p:spPr>
          <a:xfrm>
            <a:off x="3697200" y="4721400"/>
            <a:ext cx="174960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 НА ПЕ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49320" y="-571680"/>
            <a:ext cx="9193320" cy="7643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14680" y="-64296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игр на пе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18018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85840" y="1916280"/>
            <a:ext cx="20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Экологические  и ге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для ознакомлен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Фанта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ст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-экскурсии по го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241720" cy="500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429000" y="191628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тактильно-кинестетической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фонематического слуха и коррекцию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572160" y="642960"/>
            <a:ext cx="217008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429240" y="1989000"/>
            <a:ext cx="250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ндивидуальные и групповые игры для осуществления педагогической диагностики, коррекции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08080"/>
            <a:ext cx="6297840" cy="93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0" y="2143080"/>
            <a:ext cx="43308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262400" y="1214280"/>
            <a:ext cx="4881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9:09:57Z</dcterms:created>
  <dc:creator>Русич</dc:creator>
  <dc:description/>
  <dc:language>en-US</dc:language>
  <cp:lastModifiedBy>Звездочка</cp:lastModifiedBy>
  <dcterms:modified xsi:type="dcterms:W3CDTF">2020-07-15T09:33:4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f0000000000010290110207f7000400038000</vt:lpwstr>
  </property>
</Properties>
</file>