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8FF1-4B86-4993-A080-D0BD90290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80FA-37F9-498E-A4D7-CB3669E9B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18E8-E6DB-4A24-9BD0-BEFCEF90F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E6CB-E496-4AC2-BC22-D66948F1C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8997-2477-439A-BCE4-9BD652D9A4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4310-FED7-4126-8248-913726ECF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DE27-0ECA-466D-AC94-6176CC5D2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1145-DA90-404B-BC14-408902894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239D-FD2A-4EAC-A6D9-68AD5543A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10A9-0FE4-482B-841A-3AF78C150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E0E0-2CB6-4EB8-97BA-9D4373B3D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5AE7-DA09-48EF-B18F-C76F1C372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D3587-D3BD-401F-88A2-04C2CCA6CE1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324000" y="1628640"/>
            <a:ext cx="813564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Урок русского языка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305080" y="514440"/>
            <a:ext cx="289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332000" y="260280"/>
            <a:ext cx="645948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835280" y="333360"/>
            <a:ext cx="53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пределить часть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332000" y="1627200"/>
            <a:ext cx="6356160" cy="1154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884320" y="1798560"/>
            <a:ext cx="28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6156360" y="2852640"/>
            <a:ext cx="1440" cy="63972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4356000" y="981000"/>
            <a:ext cx="1800" cy="64152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2843280" y="4653000"/>
            <a:ext cx="1440" cy="78588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1187280" y="3510000"/>
            <a:ext cx="335448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4871880" y="3510000"/>
            <a:ext cx="301320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547640" y="378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Женский 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871880" y="3767040"/>
            <a:ext cx="29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Мужской 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2700360" y="2852640"/>
            <a:ext cx="1440" cy="63972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2387520" y="5479920"/>
            <a:ext cx="91116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554200" y="5565600"/>
            <a:ext cx="5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5783400" y="5479920"/>
            <a:ext cx="911160" cy="711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031080" y="547992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6031080" y="5560920"/>
            <a:ext cx="496800" cy="363600"/>
          </a:xfrm>
          <a:prstGeom prst="line">
            <a:avLst/>
          </a:prstGeom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 flipH="1" flipV="1">
            <a:off x="5943240" y="5560920"/>
            <a:ext cx="506520" cy="363600"/>
          </a:xfrm>
          <a:prstGeom prst="line">
            <a:avLst/>
          </a:prstGeom>
          <a:ln cap="sq"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6227640" y="4653000"/>
            <a:ext cx="1800" cy="79200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332000" y="162864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Если это существительное с шипящим на конце– определить р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"/>
          <p:cNvSpPr/>
          <p:nvPr/>
        </p:nvSpPr>
        <p:spPr>
          <a:xfrm>
            <a:off x="46836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ил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192720" y="63849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М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4716360" y="3498840"/>
            <a:ext cx="1819440" cy="3333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1800000" cy="2535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7020000" y="3284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Цирка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908000" y="623736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Мане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"/>
          <p:cNvSpPr/>
          <p:nvPr/>
        </p:nvSpPr>
        <p:spPr>
          <a:xfrm>
            <a:off x="179280" y="476280"/>
            <a:ext cx="1871640" cy="158436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50920" y="2565360"/>
            <a:ext cx="1871640" cy="1584360"/>
          </a:xfrm>
          <a:prstGeom prst="smileyFace">
            <a:avLst>
              <a:gd name="adj" fmla="val 9282"/>
            </a:avLst>
          </a:prstGeom>
          <a:solidFill>
            <a:srgbClr val="00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50920" y="4508640"/>
            <a:ext cx="1871640" cy="158436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195640" y="6922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 меня на уроке все получилось, я все поня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11280" y="27082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 меня на уро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все получилось, но были некоторые труд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556000" y="4797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не было трудно на уроке, я ничего не поня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8">
            <a:hlinkClick r:id="" action="ppaction://hlinkshowjump?jump=lastslide"/>
          </p:cNvPr>
          <p:cNvSpPr/>
          <p:nvPr/>
        </p:nvSpPr>
        <p:spPr>
          <a:xfrm>
            <a:off x="8028000" y="5950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5166" y="3794"/>
                </a:moveTo>
                <a:lnTo>
                  <a:pt x="19179" y="10800"/>
                </a:lnTo>
                <a:lnTo>
                  <a:pt x="51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>
            <a:off x="1042920" y="1916280"/>
            <a:ext cx="6985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6659640" y="3645000"/>
            <a:ext cx="215100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588960" y="115920"/>
            <a:ext cx="81597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традь наклонно положу 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чку правильно держ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посадкою слеж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чистотою я дружу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«отлично» напишу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 rot="20520000">
            <a:off x="612360" y="4241520"/>
            <a:ext cx="1330560" cy="166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16720" y="1905120"/>
            <a:ext cx="2232000" cy="21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3051000" y="4221000"/>
            <a:ext cx="4053240" cy="21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1"/>
          <p:cNvSpPr/>
          <p:nvPr/>
        </p:nvSpPr>
        <p:spPr>
          <a:xfrm>
            <a:off x="468360" y="4762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>
            <a:off x="539640" y="1844640"/>
            <a:ext cx="8280360" cy="180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39640" y="342900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468360" y="59500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 rot="20400000">
            <a:off x="6443280" y="45100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par>
              <p:cTn id="19" nodeType="interactiveSeq" fill="hold">
                <p:childTnLst>
                  <p:par>
                    <p:cTn id="20" nodeType="clickEffect" fill="hold">
                      <p:childTnLst>
                        <p:par>
                          <p:cTn id="2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3.68178 -6 L -0.2165 -0.22618 E">
                                      <p:cBhvr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childTnLst>
                        <p:par>
                          <p:cTn id="2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179280" y="314172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4000" y="364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796000" y="314172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56360" y="335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означает  мягкость соглас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1830240" y="2349360"/>
            <a:ext cx="1378080" cy="792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5580000" y="2349360"/>
            <a:ext cx="1511280" cy="790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39640" y="4869000"/>
            <a:ext cx="792360" cy="72072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2050920" y="4869000"/>
            <a:ext cx="792360" cy="720720"/>
          </a:xfrm>
          <a:prstGeom prst="ellipse">
            <a:avLst/>
          </a:prstGeom>
          <a:solidFill>
            <a:srgbClr val="ff00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332000" y="479736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7740720" y="4869000"/>
            <a:ext cx="792000" cy="72072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6300720" y="4869000"/>
            <a:ext cx="792360" cy="72072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093080" y="4797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7"/>
          <p:cNvSpPr/>
          <p:nvPr/>
        </p:nvSpPr>
        <p:spPr>
          <a:xfrm>
            <a:off x="6372360" y="5734080"/>
            <a:ext cx="792000" cy="72072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7164360" y="5661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3203640" y="1197000"/>
            <a:ext cx="2376360" cy="19159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067280" y="170028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1438200" y="47628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1" name="Oval 5"/>
          <p:cNvSpPr/>
          <p:nvPr/>
        </p:nvSpPr>
        <p:spPr>
          <a:xfrm>
            <a:off x="3348000" y="1125360"/>
            <a:ext cx="2374920" cy="2014560"/>
          </a:xfrm>
          <a:prstGeom prst="ellipse">
            <a:avLst/>
          </a:prstGeom>
          <a:solidFill>
            <a:srgbClr val="ff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140360" y="177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250920" y="328464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4000" y="3789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ительны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5724360" y="342900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156360" y="3573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означение мягкости соглас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2987640" y="4581360"/>
            <a:ext cx="3168720" cy="158292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140360" y="4869000"/>
            <a:ext cx="93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3851280" y="1773360"/>
            <a:ext cx="216000" cy="215640"/>
          </a:xfrm>
          <a:prstGeom prst="ellipse">
            <a:avLst/>
          </a:prstGeom>
          <a:solidFill>
            <a:srgbClr val="0099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4859280" y="1773360"/>
            <a:ext cx="216000" cy="215640"/>
          </a:xfrm>
          <a:prstGeom prst="ellipse">
            <a:avLst/>
          </a:prstGeom>
          <a:solidFill>
            <a:srgbClr val="0099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 rot="9600000">
            <a:off x="3998520" y="2351160"/>
            <a:ext cx="974880" cy="504720"/>
          </a:xfrm>
          <a:custGeom>
            <a:avLst/>
            <a:gdLst>
              <a:gd name="textAreaLeft" fmla="*/ 0 w 974880"/>
              <a:gd name="textAreaRight" fmla="*/ 975240 w 9748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087" h="21600">
                <a:moveTo>
                  <a:pt x="0" y="564"/>
                </a:moveTo>
                <a:cubicBezTo>
                  <a:pt x="1607" y="189"/>
                  <a:pt x="3253" y="-1"/>
                  <a:pt x="4904" y="0"/>
                </a:cubicBezTo>
                <a:cubicBezTo>
                  <a:pt x="15204" y="0"/>
                  <a:pt x="24071" y="7272"/>
                  <a:pt x="26086" y="17374"/>
                </a:cubicBezTo>
              </a:path>
              <a:path stroke="0" w="26087" h="21600">
                <a:moveTo>
                  <a:pt x="0" y="564"/>
                </a:moveTo>
                <a:cubicBezTo>
                  <a:pt x="1607" y="189"/>
                  <a:pt x="3253" y="-1"/>
                  <a:pt x="4904" y="0"/>
                </a:cubicBezTo>
                <a:cubicBezTo>
                  <a:pt x="15204" y="0"/>
                  <a:pt x="24071" y="7272"/>
                  <a:pt x="26086" y="17374"/>
                </a:cubicBezTo>
                <a:lnTo>
                  <a:pt x="4904" y="21600"/>
                </a:lnTo>
                <a:lnTo>
                  <a:pt x="0" y="564"/>
                </a:lnTo>
                <a:close/>
              </a:path>
            </a:pathLst>
          </a:custGeom>
          <a:noFill/>
          <a:ln cap="sq"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438200" y="333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2406240" y="2421000"/>
            <a:ext cx="1017720" cy="863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5651640" y="2492280"/>
            <a:ext cx="1152360" cy="9367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4500720" y="3141720"/>
            <a:ext cx="1440" cy="1439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00" name="Oval 5"/>
          <p:cNvSpPr/>
          <p:nvPr/>
        </p:nvSpPr>
        <p:spPr>
          <a:xfrm>
            <a:off x="250920" y="328464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378936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ите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5724360" y="3357720"/>
            <a:ext cx="316872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156360" y="350028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казывает на мягкость соглас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2843280" y="4653000"/>
            <a:ext cx="3384360" cy="1582560"/>
          </a:xfrm>
          <a:prstGeom prst="ellipse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843280" y="508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ществительное ж.р. С шипящими на ко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3276720" y="1125360"/>
            <a:ext cx="2376360" cy="201636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162864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262160" y="404640"/>
            <a:ext cx="757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Роль мягкого знака в слов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H="1">
            <a:off x="2550960" y="2637000"/>
            <a:ext cx="873360" cy="7207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4427640" y="3141720"/>
            <a:ext cx="1440" cy="1511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5508720" y="2637000"/>
            <a:ext cx="1079280" cy="7920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324000" y="1484280"/>
            <a:ext cx="842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ягкий знак 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онце существительных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ле шипящих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1547640" y="620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Наши учебные задач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9280" y="1700280"/>
            <a:ext cx="871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2001"/>
              </a:spcBef>
              <a:buClr>
                <a:srgbClr val="0000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учиться правильно употреблять мягкий знак на конце существительных после шипящи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2001"/>
              </a:spcBef>
              <a:buClr>
                <a:srgbClr val="0000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Разработать алгоритм употребления мягкого знака на конце существительных после шипящ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404640"/>
          <a:ext cx="8294760" cy="5262840"/>
        </p:xfrm>
        <a:graphic>
          <a:graphicData uri="http://schemas.openxmlformats.org/drawingml/2006/table">
            <a:tbl>
              <a:tblPr/>
              <a:tblGrid>
                <a:gridCol w="3898800"/>
                <a:gridCol w="4395960"/>
              </a:tblGrid>
              <a:tr h="1314720">
                <a:tc>
                  <a:txBody>
                    <a:bodyPr lIns="90000" rIns="90000" tIns="1832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24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8120">
                <a:tc>
                  <a:txBody>
                    <a:bodyPr lIns="90000" rIns="90000" tIns="203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еж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пи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ыш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ж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щ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3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ш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9"/>
          <p:cNvSpPr/>
          <p:nvPr/>
        </p:nvSpPr>
        <p:spPr>
          <a:xfrm>
            <a:off x="154764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5580000" y="83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5219640" y="1744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16680" y="2295360"/>
            <a:ext cx="5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5219640" y="29192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5124600" y="349092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5411880" y="40784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135400" y="4653000"/>
            <a:ext cx="9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6:45:58Z</dcterms:created>
  <dc:creator>учитель</dc:creator>
  <dc:description/>
  <dc:language>en-US</dc:language>
  <cp:lastModifiedBy>маша</cp:lastModifiedBy>
  <dcterms:modified xsi:type="dcterms:W3CDTF">2022-11-27T23:14:22Z</dcterms:modified>
  <cp:revision>29</cp:revision>
  <dc:subject/>
  <dc:title>Слайд 1</dc:title>
</cp:coreProperties>
</file>