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ED0-8659-4FEE-A246-A7ACA701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4E2-CF8D-4506-AFE1-34F8CD06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C30-BA6C-4882-A5C9-A3A5E796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32E-19C0-4D44-9B6F-0AF74F16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8B5-6D68-4723-B4E8-ECB2942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505-213D-4C48-AFC4-10DF451B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41D-0ED6-4918-9FE3-3B8C4C6D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48C-8036-44E3-89DE-E054515D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FD5-8C4A-4E64-8A5D-A9837E5E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8FF-BBEA-479C-B221-650D34C5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6E1-076A-447E-96F7-18E56D1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A9F-C3D6-4DF2-8F62-B572D6A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1C036-D94E-49FA-B2D6-F18547A202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ГБДОУ детский сад №15 Калининского района города Санкт-Петербург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Инструктор по физической культуре: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Бурова Н.В.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Воспитатель: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 </a:t>
            </a: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Шаулина Е.С.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93760" y="3430440"/>
            <a:ext cx="594072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</a:rPr>
              <a:t>Подвижная игра «Собери ягодки в корзинку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Развивать двигательные способности: силу, быстроту, выносливость, гибкость, координацию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72000" y="3024360"/>
            <a:ext cx="3384720" cy="368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55640" y="2879640"/>
            <a:ext cx="3024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</a:rPr>
              <a:t>Подвижная игра «Снежки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Развивать меткость, глазомер, терпение, координацию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0720" y="3429000"/>
            <a:ext cx="4103640" cy="304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7480" y="3168720"/>
            <a:ext cx="38433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2120" y="2142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  <a:ea typeface="Times New Roman"/>
              </a:rPr>
              <a:t>Актуальность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вижные игры, в основе которых лежат разнообразные движения, наиболее удовлетворяют потребность растущего организма в активных действиях и являются жизненной потребностью для детей младшего дошкольного возраста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ольшая ценность подвижных игр заключается в общей подвижности детей, в одновременной работе различных групп мышц и, следовательно, в более равномерном их развитии. В игре развиваются физические силы ребёнка, твёрже делается рука, развиваются сообразительность, находчивость,</a:t>
            </a: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рабатываются организационные навыки, выдержка и т.п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ни имеют большое значение в воспитании взаимоотношений, лучшим средством воспитания личности ребёнка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Цель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итие умений детей играть в подвижные игры, в ходе которых совершенствуются основные движения (бег, ходьба, прыжки, ползание, метание, упражнения в равновесии)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82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Задачи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формировать необходимые навыки движения, умение передавать простейшие действия некоторых персонажей (попрыгать как зайчики, побежали как мышки и т.д.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4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ивать и обогащать двигательные умения детей, используя подвижные игры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4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ивать у детей желание играть вместе со сверстниками и воспитателем в подвижные игры с простым содержанием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4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ивать речь и обогащать активный и пассивный словарь детей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4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креплять и оздоравливать организм детей, создание условий для радостных эмоциональных переживаний детей.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0028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одвижная игра «Птички и автомобили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вершенствовать ходьбу в разных направлениях, по ограниченной поверхности. Развивать внимание, умение реагировать на сигнал. Побуждать к активному взаимодействию со сверстниками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47640" y="3384720"/>
            <a:ext cx="3840120" cy="32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72000" y="2879640"/>
            <a:ext cx="2735280" cy="39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0028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одвижная игра «Проползи в воротики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пражнять  ползать под предметами, не задевая их. Побуждать к самостоятельному выполнению движений. Поощрять за успешные действия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19280" y="3360600"/>
            <a:ext cx="441648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0028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одвижная игра «Птички в гнездышках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пражнять  спрыгивать с небольшой высоты, бегать врассыпную. Развивать внимание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16000" y="3095640"/>
            <a:ext cx="522468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</a:rPr>
              <a:t>Подвижная игра «Солнышко и дождик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вершенствовать бег. Развивать внимание, умение реагировать на сигнал. Побуждать к активному взаимодействию со сверстникам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44720" y="3311640"/>
            <a:ext cx="2303280" cy="360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59280" y="3168720"/>
            <a:ext cx="251964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</a:rPr>
              <a:t>Подвижная игра «Совушка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Развитие у детей двигательной активности, внимательности, быстроты реакции, учит соотносить движение с текстом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5040" y="3095640"/>
            <a:ext cx="3054600" cy="388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71640" y="3240000"/>
            <a:ext cx="28083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3T18:39:32Z</dcterms:created>
  <dc:creator/>
  <dc:description/>
  <dc:language>en-US</dc:language>
  <cp:lastModifiedBy/>
  <cp:revision>1</cp:revision>
  <dc:subject/>
  <dc:title/>
</cp:coreProperties>
</file>