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23F-ECEB-4C9F-A5B2-7738FBC7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443-855E-4227-9227-81218DA0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01F-6E5C-47E2-B3BC-9CAD7C95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5D4-D07B-4076-BA45-0D62FCB2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220-2601-4D76-96F4-FC33C39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112-6591-4096-94C9-DCDAB16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C42-46BB-44EB-A632-D0DF060C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406-8AD1-43F7-AD15-FFB4C481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32B-395F-4140-947C-95FAB42F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3BA-D344-4A21-9E71-F23B4581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CEE-1911-4E9A-8C0C-10052267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A7B-49FC-48D6-B474-BB7A041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5F64B-EBB1-41AD-9BAB-47C96CAFE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ГБДОУ детский сад №15 Калининского района города Санкт-Петербург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960" bIns="0" anchor="ctr">
            <a:noAutofit/>
          </a:bodyPr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Инструктор по физической культуре: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Бурова Н.В.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Воспитатель: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 </a:t>
            </a:r>
            <a:r>
              <a:rPr b="0" lang="ru-RU" sz="1600" spc="-1" strike="noStrike">
                <a:solidFill>
                  <a:srgbClr val="99284c"/>
                </a:solidFill>
                <a:latin typeface="Bookman Old Style"/>
                <a:ea typeface="Bookman Old Style"/>
              </a:rPr>
              <a:t>Шаулина Е.С.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93760" y="3430440"/>
            <a:ext cx="59407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бери ягодки в корзинку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вать двигательные способности: силу, быстроту, выносливость, гибкость, координацию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72000" y="3024360"/>
            <a:ext cx="3384720" cy="368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55640" y="2879640"/>
            <a:ext cx="302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нежк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вать меткость, глазомер, терпение, координацию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0720" y="3429000"/>
            <a:ext cx="4103640" cy="304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7480" y="3168720"/>
            <a:ext cx="38433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2120" y="2142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Times New Roman"/>
              </a:rPr>
              <a:t>Актуальность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вижные игры, в основе которых лежат разнообразные движения, наиболее удовлетворяют потребность растущего организма в активных действиях и являются жизненной потребностью для детей младшего дошкольного возраста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ольшая ценность подвижных игр заключается в общей подвижности детей, в одновременной работе различных групп мышц и, следовательно, в более равномерном их развитии. В игре развиваются физические силы ребёнка, твёрже делается рука, развиваются сообразительность, находчивость,</a:t>
            </a: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рабатываются организационные навыки, выдержка и т.п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и имеют большое значение в воспитании взаимоотношений, лучшим средством воспитания личности ребёнка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Цель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тие умений детей играть в подвижные игры, в ходе которых совершенствуются основные движения (бег, ходьба, прыжки, ползание, метание, упражнения в равновесии)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82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Задачи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формировать необходимые навыки движения, умение передавать простейшие действия некоторых персонажей (попрыгать как зайчики, побежали как мышки и т.д.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и обогащать двигательные умения детей, используя подвижные игры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у детей желание играть вместе со сверстниками и воспитателем в подвижные игры с простым содержанием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ивать речь и обогащать активный и пассивный словарь детей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43000"/>
              </a:lnSpc>
              <a:buNone/>
              <a:tabLst>
                <a:tab algn="l" pos="0"/>
                <a:tab algn="l" pos="388620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креплять и оздоравливать организм детей, создание условий для радостных эмоциональных переживаний детей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тички и автомобил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вершенствовать ходьбу в разных направлениях, по ограниченной поверхности. Развивать внимание, умение реагировать на сигнал. Побуждать к активному взаимодействию со сверстниками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7640" y="3384720"/>
            <a:ext cx="3840120" cy="32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72000" y="2879640"/>
            <a:ext cx="2735280" cy="39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роползи в воротики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пражнять  ползать под предметами, не задевая их. Побуждать к самостоятельному выполнению движений. Поощрять за успешные действия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9280" y="3360600"/>
            <a:ext cx="441648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0028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Подвижная игра «Птички в гнездышках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пражнять  спрыгивать с небольшой высоты, бегать врассыпную. Развивать внимание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6000" y="3095640"/>
            <a:ext cx="52246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лнышко и дождик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вершенствовать бег. Развивать внимание, умение реагировать на сигнал. Побуждать к активному взаимодействию со сверстника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44720" y="3311640"/>
            <a:ext cx="2303280" cy="36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59280" y="3168720"/>
            <a:ext cx="25196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Times New Roman"/>
              </a:rPr>
              <a:t>Подвижная игра «Совушка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Развитие у детей двигательной активности, внимательности, быстроты реакции, учит соотносить движение с текстом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5040" y="3095640"/>
            <a:ext cx="3054600" cy="388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71640" y="324000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3T18:39:32Z</dcterms:created>
  <dc:creator/>
  <dc:description/>
  <dc:language>en-US</dc:language>
  <cp:lastModifiedBy/>
  <cp:revision>1</cp:revision>
  <dc:subject/>
  <dc:title/>
</cp:coreProperties>
</file>