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8B94-60E9-4391-AC1F-04B18B36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7A6A-6BF7-45F5-9119-A155A236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922-EA16-4F39-A80E-AE1EB444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28F9-73F6-4859-86AC-2BD30744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BCE-EE74-4DBC-B75B-EA404929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B7D1-0DDD-432E-AB92-D04D79B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5A5-FB02-4474-BBCE-78492F9C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593-3C0A-4F27-8AF5-D36BCC86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FBB-7672-4921-AA40-FD189400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02F-96F9-4CF4-9EBB-E1C01450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EF6C-5A57-420B-A888-8C0DEBC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F7A9-E66E-44A6-82AF-43F126B3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A1ED-8E1F-4B13-B36F-AF7940A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9083-1F80-443B-B0A3-CC7279D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88B-5FC9-42D8-8135-33AAF70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E0B-C36D-4578-8131-3BCAD534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965C-D944-4CB5-ACD7-D8ADE90D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7B42-C343-4212-A5EA-BC7D7898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255B-0B39-456F-8F80-79610CA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3274-3775-493B-9A70-FDBBED4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3964-2F90-4514-8EAF-1CF6C3C8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8932-63C2-4330-B5C2-B5734F4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31E8-A00D-472B-8E63-240C9DC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8F9E-F742-4F6E-8DD7-15BCE4B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7A11-4C49-488E-B700-BCCF9F6873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2165-85E0-4634-B2EF-43BEB97950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3733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Организация спортивно-оздоровительной работ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114800" y="60195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ргуткина М.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учитель физкультуры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Холстовская 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2895480" y="251460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ограмма «Школа территория здоровья»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преде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6781680" y="1028880"/>
            <a:ext cx="1600200" cy="609480"/>
          </a:xfrm>
          <a:prstGeom prst="borderCallout1">
            <a:avLst>
              <a:gd name="adj1" fmla="val 18750"/>
              <a:gd name="adj2" fmla="val -8333"/>
              <a:gd name="adj3" fmla="val 199740"/>
              <a:gd name="adj4" fmla="val -8868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6781680" y="4343400"/>
            <a:ext cx="1828800" cy="609480"/>
          </a:xfrm>
          <a:prstGeom prst="borderCallout1">
            <a:avLst>
              <a:gd name="adj1" fmla="val 18750"/>
              <a:gd name="adj2" fmla="val -8333"/>
              <a:gd name="adj3" fmla="val -128907"/>
              <a:gd name="adj4" fmla="val -6414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876240"/>
            <a:ext cx="1600200" cy="609840"/>
          </a:xfrm>
          <a:prstGeom prst="borderCallout1">
            <a:avLst>
              <a:gd name="adj1" fmla="val 18750"/>
              <a:gd name="adj2" fmla="val -8333"/>
              <a:gd name="adj3" fmla="val 246092"/>
              <a:gd name="adj4" fmla="val 19176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380880" y="3238560"/>
            <a:ext cx="1219320" cy="609480"/>
          </a:xfrm>
          <a:prstGeom prst="borderCallout1">
            <a:avLst>
              <a:gd name="adj1" fmla="val 18750"/>
              <a:gd name="adj2" fmla="val -8333"/>
              <a:gd name="adj3" fmla="val 18750"/>
              <a:gd name="adj4" fmla="val 20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1447920" y="5181480"/>
            <a:ext cx="2361960" cy="723960"/>
          </a:xfrm>
          <a:prstGeom prst="borderCallout1">
            <a:avLst>
              <a:gd name="adj1" fmla="val 18750"/>
              <a:gd name="adj2" fmla="val -8333"/>
              <a:gd name="adj3" fmla="val -184208"/>
              <a:gd name="adj4" fmla="val 11868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Реализация через на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228600" y="2133720"/>
            <a:ext cx="3276720" cy="3733560"/>
          </a:xfrm>
          <a:prstGeom prst="rightArrowCallout">
            <a:avLst>
              <a:gd name="adj1" fmla="val 28488"/>
              <a:gd name="adj2" fmla="val 28485"/>
              <a:gd name="adj3" fmla="val 16667"/>
              <a:gd name="adj4" fmla="val 6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80880" y="3124080"/>
            <a:ext cx="182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вная цель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охранить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 укрепить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доровье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3581280" y="1143000"/>
            <a:ext cx="2286000" cy="609480"/>
          </a:xfrm>
          <a:prstGeom prst="borderCallout1">
            <a:avLst>
              <a:gd name="adj1" fmla="val 18750"/>
              <a:gd name="adj2" fmla="val -8333"/>
              <a:gd name="adj3" fmla="val 287500"/>
              <a:gd name="adj4" fmla="val -26666"/>
            </a:avLst>
          </a:prstGeom>
          <a:solidFill>
            <a:srgbClr val="cc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агностиче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4800600" y="1905120"/>
            <a:ext cx="3124080" cy="876240"/>
          </a:xfrm>
          <a:prstGeom prst="borderCallout1">
            <a:avLst>
              <a:gd name="adj1" fmla="val 18750"/>
              <a:gd name="adj2" fmla="val -8333"/>
              <a:gd name="adj3" fmla="val 134782"/>
              <a:gd name="adj4" fmla="val -46342"/>
            </a:avLst>
          </a:prstGeom>
          <a:solidFill>
            <a:srgbClr val="cc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ицинское обслуживание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профи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8"/>
          <p:cNvSpPr/>
          <p:nvPr/>
        </p:nvSpPr>
        <p:spPr>
          <a:xfrm>
            <a:off x="5562720" y="2895480"/>
            <a:ext cx="3200400" cy="838440"/>
          </a:xfrm>
          <a:prstGeom prst="borderCallout1">
            <a:avLst>
              <a:gd name="adj1" fmla="val 18750"/>
              <a:gd name="adj2" fmla="val -8333"/>
              <a:gd name="adj3" fmla="val 104546"/>
              <a:gd name="adj4" fmla="val -59523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доровительная работ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урочн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9"/>
          <p:cNvSpPr/>
          <p:nvPr/>
        </p:nvSpPr>
        <p:spPr>
          <a:xfrm>
            <a:off x="4876920" y="3809880"/>
            <a:ext cx="3047760" cy="914400"/>
          </a:xfrm>
          <a:prstGeom prst="borderCallout1">
            <a:avLst>
              <a:gd name="adj1" fmla="val 18750"/>
              <a:gd name="adj2" fmla="val -8333"/>
              <a:gd name="adj3" fmla="val 12500"/>
              <a:gd name="adj4" fmla="val -39273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ртивно-оздоровительны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0"/>
          <p:cNvSpPr/>
          <p:nvPr/>
        </p:nvSpPr>
        <p:spPr>
          <a:xfrm>
            <a:off x="2514600" y="5105520"/>
            <a:ext cx="121932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906" y="-2416"/>
                </a:moveTo>
                <a:lnTo>
                  <a:pt x="22950" y="1705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гитацион-ная работа по пропаганде ЗО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4038480" y="5105520"/>
            <a:ext cx="129564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124" y="-3789"/>
                </a:moveTo>
                <a:lnTo>
                  <a:pt x="22871" y="1705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ивно-массовы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2"/>
          <p:cNvSpPr/>
          <p:nvPr/>
        </p:nvSpPr>
        <p:spPr>
          <a:xfrm>
            <a:off x="5638680" y="5105520"/>
            <a:ext cx="144792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826" y="-4026"/>
                </a:moveTo>
                <a:lnTo>
                  <a:pt x="22737" y="1705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ивные круж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"/>
          <p:cNvSpPr/>
          <p:nvPr/>
        </p:nvSpPr>
        <p:spPr>
          <a:xfrm>
            <a:off x="7543800" y="5105520"/>
            <a:ext cx="137160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25" y="-3458"/>
                </a:moveTo>
                <a:lnTo>
                  <a:pt x="-1200" y="1705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здорови-тельные лаге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гитацион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ы со специ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ы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урочны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j0196374"/>
          <p:cNvPicPr/>
          <p:nvPr/>
        </p:nvPicPr>
        <p:blipFill>
          <a:blip r:embed="rId5"/>
          <a:stretch/>
        </p:blipFill>
        <p:spPr>
          <a:xfrm>
            <a:off x="5257800" y="4876920"/>
            <a:ext cx="1724040" cy="1809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BD00023_"/>
          <p:cNvPicPr/>
          <p:nvPr/>
        </p:nvPicPr>
        <p:blipFill>
          <a:blip r:embed="rId6"/>
          <a:stretch/>
        </p:blipFill>
        <p:spPr>
          <a:xfrm>
            <a:off x="5334120" y="1600200"/>
            <a:ext cx="1731960" cy="1577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BD00025_"/>
          <p:cNvPicPr/>
          <p:nvPr/>
        </p:nvPicPr>
        <p:blipFill>
          <a:blip r:embed="rId7"/>
          <a:stretch/>
        </p:blipFill>
        <p:spPr>
          <a:xfrm>
            <a:off x="7315200" y="4876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j0240719"/>
          <p:cNvPicPr/>
          <p:nvPr/>
        </p:nvPicPr>
        <p:blipFill>
          <a:blip r:embed="rId8"/>
          <a:stretch/>
        </p:blipFill>
        <p:spPr>
          <a:xfrm>
            <a:off x="7467480" y="1371600"/>
            <a:ext cx="1452600" cy="1979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2" descr="j0219117"/>
          <p:cNvPicPr/>
          <p:nvPr/>
        </p:nvPicPr>
        <p:blipFill>
          <a:blip r:embed="rId9"/>
          <a:stretch/>
        </p:blipFill>
        <p:spPr>
          <a:xfrm flipH="1">
            <a:off x="4419720" y="3062160"/>
            <a:ext cx="1838160" cy="1509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" descr="j0205393"/>
          <p:cNvPicPr/>
          <p:nvPr/>
        </p:nvPicPr>
        <p:blipFill>
          <a:blip r:embed="rId10"/>
          <a:stretch/>
        </p:blipFill>
        <p:spPr>
          <a:xfrm flipH="1">
            <a:off x="6248160" y="3581280"/>
            <a:ext cx="152388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портивно – оздоровительные 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евнуе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с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ам 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"/>
          <p:cNvSpPr/>
          <p:nvPr/>
        </p:nvSpPr>
        <p:spPr>
          <a:xfrm>
            <a:off x="4602240" y="1600200"/>
            <a:ext cx="3504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илометр нам не по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робежим мы все без с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учше, круче и быст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рассу раза в три длин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4876920" y="358128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брались вмес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тар и ма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сех размес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портивный 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ция «Добрая суббо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Объект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845080" cy="213336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4" descr=""/>
          <p:cNvPicPr/>
          <p:nvPr/>
        </p:nvPicPr>
        <p:blipFill>
          <a:blip r:embed="rId2"/>
          <a:stretch/>
        </p:blipFill>
        <p:spPr>
          <a:xfrm>
            <a:off x="152280" y="3319560"/>
            <a:ext cx="2857680" cy="330984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5" descr=""/>
          <p:cNvPicPr/>
          <p:nvPr/>
        </p:nvPicPr>
        <p:blipFill>
          <a:blip r:embed="rId3"/>
          <a:stretch/>
        </p:blipFill>
        <p:spPr>
          <a:xfrm>
            <a:off x="3382920" y="1219320"/>
            <a:ext cx="2378160" cy="317160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6" descr=""/>
          <p:cNvPicPr/>
          <p:nvPr/>
        </p:nvPicPr>
        <p:blipFill>
          <a:blip r:embed="rId4"/>
          <a:stretch/>
        </p:blipFill>
        <p:spPr>
          <a:xfrm>
            <a:off x="6394320" y="1177920"/>
            <a:ext cx="2384640" cy="317988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7" descr=""/>
          <p:cNvPicPr/>
          <p:nvPr/>
        </p:nvPicPr>
        <p:blipFill>
          <a:blip r:embed="rId5"/>
          <a:stretch/>
        </p:blipFill>
        <p:spPr>
          <a:xfrm>
            <a:off x="3110040" y="4513320"/>
            <a:ext cx="2923920" cy="211608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8" descr=""/>
          <p:cNvPicPr/>
          <p:nvPr/>
        </p:nvPicPr>
        <p:blipFill>
          <a:blip r:embed="rId6"/>
          <a:stretch/>
        </p:blipFill>
        <p:spPr>
          <a:xfrm>
            <a:off x="6062760" y="4513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Оздоровительные лагеря </a:t>
            </a: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на каникулах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ижные игры на свежем возд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в дальние дере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улки по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1" descr=""/>
          <p:cNvPicPr/>
          <p:nvPr/>
        </p:nvPicPr>
        <p:blipFill>
          <a:blip r:embed="rId5"/>
          <a:stretch/>
        </p:blipFill>
        <p:spPr>
          <a:xfrm>
            <a:off x="3581280" y="3278160"/>
            <a:ext cx="538344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Первые результаты наше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и травматизма –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сутству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и учебных заняти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болезни –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меньшаю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ы и призовые мест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айонных соревнованиях –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мею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Главный ит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ев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яд оптим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дрость, свежесть, 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2438280" y="4267080"/>
            <a:ext cx="4343400" cy="2286000"/>
          </a:xfrm>
          <a:prstGeom prst="horizont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743200" y="46483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ы будем дальше так же 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 спортом, играми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доровью говорим мы : «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егодня, завтра и 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rFree</cp:lastModifiedBy>
  <dcterms:modified xsi:type="dcterms:W3CDTF">2022-11-28T17:21:2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