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E87-AA33-46CC-A462-56FD48B8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635-EF6A-4F77-A9F1-A44BE63E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B31-B451-4BED-817C-FA4ACAEB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444-77BB-44F6-93BB-76F8C27C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08C3C-55E2-438D-A6C1-D5B4CC4B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B1DFD-E95E-47BF-8998-B66EE4AF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BE50F-387D-4DB7-8796-16B495BC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DAD9A-F82B-44CD-8D90-3DA804AF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16FF0-774E-4837-AC3A-CB1EFDB4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BF04B-232C-4E8B-B07E-32ED05B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1FA99-FC22-4216-8CCB-34368FE1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395-896B-494E-B5B8-707A23D6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EFFB3-11F6-4496-A6E5-0BE3D10D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51812-6EC8-493A-8D9D-772EE6FA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23E06-F515-4746-AB69-B02734E0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86761-D4AE-4866-945A-086A7FF2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0B14A-6B76-4F3D-BA9E-07D38E31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11E8D-BAC3-4C0B-80C0-A50A0A3C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EEE81-F054-4486-914A-6B8DB391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785C-8A98-4EF7-A59B-9E0D0107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1C80-EA7E-4C91-A051-0C92C69B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2ADB-CA27-4693-BB9D-9427923B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976-B304-45E8-A3D9-3D6E1454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EEAB-9BF6-41F4-8A87-B1446F62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BC891-D5AE-4675-9D45-FB7ECF9F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8799-32CB-46E3-A478-53E22FA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A104-36F3-40BB-BB3D-0FCEA0E0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1ACE5-3E31-4CC8-8FDA-5327444A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BCCC-5230-4548-B29B-E4C89501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EC6E-2F2D-4612-BB7B-CDD2FE0E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9F9-C0E0-435D-80D0-A9B84764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78F-7B63-4D3C-AAB4-E0DFA228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4AA-EF0A-4AC4-BB98-AAC9033F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527-53D3-44A0-A763-7507CBF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3DF-EED5-4A15-9ADC-28EA0518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4ED-0936-451D-B59C-45F9F14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9E6F-247F-426A-9B58-DAA7A717DD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18C8-62F3-4F74-8E1D-9ACB3D6E25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D83E-B086-40E4-B713-C784540B3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Нравственно- патриотическое воспитание детей дошкольного возра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403280" y="3573360"/>
            <a:ext cx="648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imes New Roman"/>
              </a:rPr>
              <a:t>Путешествие в историю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патриотическом воспитании огромное значение имеет пример взрослых, в особенности же близких людей. На конкретных фактах из жизни старших членов семьи (дедушек и бабушек, участников Великой Отечественной войны, их фронтовых и трудовых подвигов) необходимо привить детям такие важные понятия, как "долг перед Родиной", "любовь к Отечеству", "трудовой подвиг" и т.д. Важно подвести ребенка к пониманию, что мы победили потому, что любим свою Отчизну, 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CIMG0385"/>
          <p:cNvPicPr/>
          <p:nvPr/>
        </p:nvPicPr>
        <p:blipFill>
          <a:blip r:embed="rId2"/>
          <a:stretch/>
        </p:blipFill>
        <p:spPr>
          <a:xfrm>
            <a:off x="250920" y="18900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MG_0725"/>
          <p:cNvPicPr/>
          <p:nvPr/>
        </p:nvPicPr>
        <p:blipFill>
          <a:blip r:embed="rId3"/>
          <a:stretch/>
        </p:blipFill>
        <p:spPr>
          <a:xfrm>
            <a:off x="179280" y="3933720"/>
            <a:ext cx="3652920" cy="2739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IMG_0728"/>
          <p:cNvPicPr/>
          <p:nvPr/>
        </p:nvPicPr>
        <p:blipFill>
          <a:blip r:embed="rId4"/>
          <a:stretch/>
        </p:blipFill>
        <p:spPr>
          <a:xfrm>
            <a:off x="5364000" y="39337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IMG_0727"/>
          <p:cNvPicPr/>
          <p:nvPr/>
        </p:nvPicPr>
        <p:blipFill>
          <a:blip r:embed="rId5"/>
          <a:stretch/>
        </p:blipFill>
        <p:spPr>
          <a:xfrm>
            <a:off x="2843280" y="2205000"/>
            <a:ext cx="3435120" cy="257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CIMG0386"/>
          <p:cNvPicPr/>
          <p:nvPr/>
        </p:nvPicPr>
        <p:blipFill>
          <a:blip r:embed="rId6"/>
          <a:stretch/>
        </p:blipFill>
        <p:spPr>
          <a:xfrm>
            <a:off x="5651640" y="11592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7f4c"/>
                </a:solidFill>
                <a:latin typeface="Times New Roman"/>
              </a:rPr>
              <a:t>Патриотизм – это преданность и любовь к своему отечеству, к своему народу.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ечество наше сильное, непобедимое, великое. Ребята пока ещё маленькие – должны беречь каждый куст, каждое дерев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4" descr="IMG_0184"/>
          <p:cNvPicPr/>
          <p:nvPr/>
        </p:nvPicPr>
        <p:blipFill>
          <a:blip r:embed="rId2"/>
          <a:stretch/>
        </p:blipFill>
        <p:spPr>
          <a:xfrm>
            <a:off x="468360" y="270828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IMG0586"/>
          <p:cNvPicPr/>
          <p:nvPr/>
        </p:nvPicPr>
        <p:blipFill>
          <a:blip r:embed="rId3"/>
          <a:stretch/>
        </p:blipFill>
        <p:spPr>
          <a:xfrm>
            <a:off x="4643280" y="2708280"/>
            <a:ext cx="396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На занятиях передо мной стояла задача научить детей жить и трудиться, так чтобы Родина гордилась ими.</a:t>
            </a:r>
            <a:br>
              <a:rPr sz="18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Миллионы сыновей нашей Родины пали за то, чтобы мир не был, ввергнут в фашистское рабство. Наш народ пережил самую страшную войну, об этой войне ребята узнают больше, когда подрастут и пойдут в школу.</a:t>
            </a: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90" name="Picture 7" descr="IMG_0777"/>
          <p:cNvPicPr/>
          <p:nvPr/>
        </p:nvPicPr>
        <p:blipFill>
          <a:blip r:embed="rId2"/>
          <a:stretch/>
        </p:blipFill>
        <p:spPr>
          <a:xfrm>
            <a:off x="611280" y="2349360"/>
            <a:ext cx="4324320" cy="324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IMG_0762"/>
          <p:cNvPicPr/>
          <p:nvPr/>
        </p:nvPicPr>
        <p:blipFill>
          <a:blip r:embed="rId3"/>
          <a:stretch/>
        </p:blipFill>
        <p:spPr>
          <a:xfrm>
            <a:off x="5435640" y="2349360"/>
            <a:ext cx="31179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трана, где мы живём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6436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должением данной работы является знакомство детей с другими городами России, со столицей нашей Родины, с гимном, флагом и гербом государст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24000" y="4797360"/>
            <a:ext cx="842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сюду люди трудятся для всех (учителя учат детей; врачи лечат больных; рабочие делают машины и т.д.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езде соблюдаются традиции: Родина помнит героев, защитивших ее от врагов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сюду живут люди разных национальностей, совместно трудятся и помогают друг другу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юди берегут и охраняют природу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сть общие профессиональные и общественные праздники и т.д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5" name="Picture 6" descr="77"/>
          <p:cNvPicPr/>
          <p:nvPr/>
        </p:nvPicPr>
        <p:blipFill>
          <a:blip r:embed="rId2"/>
          <a:stretch/>
        </p:blipFill>
        <p:spPr>
          <a:xfrm>
            <a:off x="971640" y="2421000"/>
            <a:ext cx="2687400" cy="20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reative_Wallpaper_Flag_and_National_Emblem_of_Russia_018578_"/>
          <p:cNvPicPr/>
          <p:nvPr/>
        </p:nvPicPr>
        <p:blipFill>
          <a:blip r:embed="rId3"/>
          <a:stretch/>
        </p:blipFill>
        <p:spPr>
          <a:xfrm>
            <a:off x="5003640" y="2421000"/>
            <a:ext cx="2697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c0439"/>
                </a:solidFill>
                <a:latin typeface="Times New Roman"/>
              </a:rPr>
              <a:t>Я – РОССИЯНИН, Я ГОРЖУСЬ СВОЕЙ СТРАНОЙ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триотиз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это преданность и любовь к своему отечеству, к своему наро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красные возможности в воспитании патриотизма предоставляет нам родная природа, именно она воспитывает у детей эмоциональную отзывчивость, чувство прекрасно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ние патриотизма невозможно также без формирования чувств: удовлетворения и привязанности к месту рождения и жительства, определенному кругу людей, которое расширяется и углубляется от встреч и общения с другими взрослыми: жителями дома, поселка, работниками образовательной школы и детской школы искусств, библиотеки, музея, при знакомстве с местными достопримечательностя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10be"/>
                </a:solidFill>
                <a:latin typeface="Times New Roman"/>
              </a:rPr>
              <a:t>Взаимосвязь с родителям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ормирование патриотических чувств проходит эффективнее, если детский сад устанавливает тесну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связь с семьёй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обходимость подключения семьи к процессу ознакомления дошкольников с социальным окружением объясняется особыми педагогическими возможностями, которыми обладает семья и которые не может заменить дошкольное учреждение: любовь и привязанность к детям, эмоционально-нравственная насыщенность отношений, их общественная, а не эгоистическая направленность и др. Всё это создаёт благоприятные условия для воспитания высших нравственных чувств. Детский сад в своей работе с семьёй должен опираться на родителей не только как на помощников детского учреждения, а как на равноправных участников формирования детской лич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7" descr="CIMG0628"/>
          <p:cNvPicPr/>
          <p:nvPr/>
        </p:nvPicPr>
        <p:blipFill>
          <a:blip r:embed="rId2"/>
          <a:stretch/>
        </p:blipFill>
        <p:spPr>
          <a:xfrm>
            <a:off x="2428920" y="3786120"/>
            <a:ext cx="374472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6"/>
          <p:cNvSpPr txBox="1"/>
          <p:nvPr/>
        </p:nvSpPr>
        <p:spPr>
          <a:xfrm>
            <a:off x="1214280" y="2500200"/>
            <a:ext cx="612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34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0000"/>
                </a:solidFill>
                <a:latin typeface="Georgia"/>
              </a:rPr>
              <a:t>Задачи патриотического воспитания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спитание у ребенка любви и привязанности к своей семье, дому, детскому саду, улице, город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ирование бережного отношения к природе и всему живом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спитание уважения к труд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тие интереса к русским традициям и промысла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ирование элементарных знаний о правах челове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ширение представлений о городах Росс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накомство детей с символами государства (герб, флаг, гимн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тие чувства ответственности и гордости за достижения стра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чувства уважения к другим народам, их традици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2" descr="C:\Documents and Settings\Владелец\Мои документы\КАРТИНКИ\Анимация 2\Animations\flag10.gif"/>
          <p:cNvPicPr/>
          <p:nvPr/>
        </p:nvPicPr>
        <p:blipFill>
          <a:blip r:embed="rId2"/>
          <a:stretch/>
        </p:blipFill>
        <p:spPr>
          <a:xfrm>
            <a:off x="6948360" y="333360"/>
            <a:ext cx="1533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c0439"/>
                </a:solidFill>
                <a:latin typeface="Times New Roman"/>
              </a:rPr>
              <a:t>С чего начинается Родина?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увство Родины... Оно начинается у ребенка с отношения к семье, к самым близким людям — к матери, отцу, бабушке, дедушке. Это корни, связывающие его с родным домом и ближайшим окружением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детей дошкольного возраста, Родина является абстрактным понятием, которое невозможно потрогать, увидеть. 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3" name="Picture 8" descr="IMG_0006"/>
          <p:cNvPicPr/>
          <p:nvPr/>
        </p:nvPicPr>
        <p:blipFill>
          <a:blip r:embed="rId2"/>
          <a:stretch/>
        </p:blipFill>
        <p:spPr>
          <a:xfrm>
            <a:off x="-3230640" y="-2422440"/>
            <a:ext cx="2882880" cy="2162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рис"/>
          <p:cNvPicPr/>
          <p:nvPr/>
        </p:nvPicPr>
        <p:blipFill>
          <a:blip r:embed="rId3"/>
          <a:stretch/>
        </p:blipFill>
        <p:spPr>
          <a:xfrm>
            <a:off x="2268360" y="2924280"/>
            <a:ext cx="48974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вое с чего начинается познание мира ребенком, - это ласковая материнская улыбка, тихая колыбельная песня, добрые глаза и теплые материнские рук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 считаю, что невозможно воспитать в ребенке патриотические чувства к Родине без таких понятий как: «любовь к матери», к дому, к детскому саду, к своему району…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6" name="Picture 4" descr="IMG_0004"/>
          <p:cNvPicPr/>
          <p:nvPr/>
        </p:nvPicPr>
        <p:blipFill>
          <a:blip r:embed="rId2"/>
          <a:stretch/>
        </p:blipFill>
        <p:spPr>
          <a:xfrm>
            <a:off x="539640" y="306864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IMG_0598"/>
          <p:cNvPicPr/>
          <p:nvPr/>
        </p:nvPicPr>
        <p:blipFill>
          <a:blip r:embed="rId3"/>
          <a:stretch/>
        </p:blipFill>
        <p:spPr>
          <a:xfrm>
            <a:off x="4716360" y="306864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Наше наследие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 каждого народа свои сказки, и все они передают от поколения 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колению основные нравственные ценности: добро, дружб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заимопомощь, трудолюбие. «Это — первые и блестящие попыт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сской народной педагогики, — писал К.Д. Ушинский, — и я не думаю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тобы кто-нибудь был в состоянии состязаться в этом случае 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дагогическим гением народа". Не случайно К.Д. Ушин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черкивал, что "... воспитание, если оно не хочет быть бессильны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лжно быть народным". Произведения устного народного творчества 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лько формируют любовь к традициям своего народа, но 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особствуют развитию личности в духе патриотиз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8" descr="CIMG0607"/>
          <p:cNvPicPr/>
          <p:nvPr/>
        </p:nvPicPr>
        <p:blipFill>
          <a:blip r:embed="rId2"/>
          <a:stretch/>
        </p:blipFill>
        <p:spPr>
          <a:xfrm>
            <a:off x="971640" y="4005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IMG0615"/>
          <p:cNvPicPr/>
          <p:nvPr/>
        </p:nvPicPr>
        <p:blipFill>
          <a:blip r:embed="rId3"/>
          <a:stretch/>
        </p:blipFill>
        <p:spPr>
          <a:xfrm>
            <a:off x="4859280" y="3860640"/>
            <a:ext cx="351000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Моя малая Родина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«Я живу в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 ЯНАУЛЕ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малое значение для воспитания у детей интереса и любви к родному краю имеет ближайшее окруже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311280" cy="2592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148360" y="2133720"/>
            <a:ext cx="37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132000" y="4437000"/>
            <a:ext cx="31813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imes New Roman"/>
              </a:rPr>
              <a:t>Знакомство детей  с представителями животного и растительного мира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68" name="Picture 4" descr="рис"/>
          <p:cNvPicPr/>
          <p:nvPr/>
        </p:nvPicPr>
        <p:blipFill>
          <a:blip r:embed="rId2"/>
          <a:stretch/>
        </p:blipFill>
        <p:spPr>
          <a:xfrm>
            <a:off x="1835280" y="3860640"/>
            <a:ext cx="5838840" cy="2752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684360" y="25653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красные возможности в воспитании патриотизма предоставляет нам родная природа, именно она воспитывает у детей эмоциональную отзывчивость, чувство прекрасного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гда дети начали понимать и самостоятельно разбираться в этом понятии, перед нами теперь стояла задача научить их любить все, что их окружает. Это и есть Родина. В возрасте 4-5 лет дети должны знать, что каждое дерево, куст рядом с домом, - это уже Родина и её надо любить и береч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5" descr="IMG_0172"/>
          <p:cNvPicPr/>
          <p:nvPr/>
        </p:nvPicPr>
        <p:blipFill>
          <a:blip r:embed="rId2"/>
          <a:stretch/>
        </p:blipFill>
        <p:spPr>
          <a:xfrm>
            <a:off x="539640" y="177336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_0312"/>
          <p:cNvPicPr/>
          <p:nvPr/>
        </p:nvPicPr>
        <p:blipFill>
          <a:blip r:embed="rId3"/>
          <a:stretch/>
        </p:blipFill>
        <p:spPr>
          <a:xfrm>
            <a:off x="4859280" y="1773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IMG_0622"/>
          <p:cNvPicPr/>
          <p:nvPr/>
        </p:nvPicPr>
        <p:blipFill>
          <a:blip r:embed="rId4"/>
          <a:stretch/>
        </p:blipFill>
        <p:spPr>
          <a:xfrm>
            <a:off x="2843280" y="4365720"/>
            <a:ext cx="31464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976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Какие сведения и понятия о родном городе способны усвоить дети?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иапазон объектов, с которыми знакомят средних дошкольников расширяется — это район и город в целом, его достопримечательности, исторические места и памятники. Детям объясняют, в честь кого они воздвигнуты. Дошкольник должен знать название своего города, своей улицы, прилегающих к ней улиц, а также в честь кого они названы. Ему объясняют, что у каждого человека есть родной дом и город, где он родился и живет. Для этого необходимы экскурсии по городу, на природу, наблюдения за трудом взрослых, где каждый ребенок начинает осознавать, что труд объединяет людей, требует от них слаженности, взаимопомощи, знания своего дела. И здесь большое значение приобретает знакомство детей с народными промыслами края, народными умельц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8" descr="CIMG0616"/>
          <p:cNvPicPr/>
          <p:nvPr/>
        </p:nvPicPr>
        <p:blipFill>
          <a:blip r:embed="rId2"/>
          <a:stretch/>
        </p:blipFill>
        <p:spPr>
          <a:xfrm>
            <a:off x="5867280" y="429264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IMG0618"/>
          <p:cNvPicPr/>
          <p:nvPr/>
        </p:nvPicPr>
        <p:blipFill>
          <a:blip r:embed="rId3"/>
          <a:stretch/>
        </p:blipFill>
        <p:spPr>
          <a:xfrm>
            <a:off x="6372360" y="692280"/>
            <a:ext cx="2536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3:06:11Z</dcterms:created>
  <dc:creator>ANNA</dc:creator>
  <dc:description/>
  <dc:language>en-US</dc:language>
  <cp:lastModifiedBy>admin</cp:lastModifiedBy>
  <dcterms:modified xsi:type="dcterms:W3CDTF">2019-02-05T06:08:09Z</dcterms:modified>
  <cp:revision>22</cp:revision>
  <dc:subject/>
  <dc:title>Патриотическое воспитание детей старшего дошкольного возраста</dc:title>
</cp:coreProperties>
</file>