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5B87-9982-423E-97AE-1660F320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0FC-1D77-4B12-BE5D-9D342435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D74-4EBB-4808-B44E-58B72AAB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D6BD-A5D0-4B22-907F-6220B022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24C73-3753-4E1A-89D1-794B6B16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474BD-F09D-4736-9494-CDD98656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97535-E6FD-49C7-A02F-D1FEC813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FC8E9-2F3B-4018-97D5-6264C674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890A0-1BD1-4968-A8E2-8EE5F576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365A9-CA3C-48BE-BB87-095B7DF8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D40DD-0C5E-47BE-B4A8-2949EDAB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3B5-495A-40E3-B9F2-FB3A5744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366E9-D7C0-47B6-BDE9-D26CDE4D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34FF8-CABE-4CDA-A8A1-27B322D3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2D392-0509-41A6-8560-5C621EB7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91ED1-DF14-4E38-9417-B5F0B496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9D936-A2D6-4906-A452-EAE03D86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C657-0AB0-4A2A-B488-493AB41D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3D843-E966-4791-8AD9-E614DC48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83204-0E6D-4490-AC87-C8653229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B3E1D-02DE-4B84-BBE9-92575E50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B4267-92A1-486E-842C-68F72E94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9E1-C41A-40FC-8532-92202626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5415B-8935-4B39-A90A-C30E7845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503CA-9F26-47C0-BFF8-56F34BA5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1F2E9-AEE4-4BAD-BFA8-CA1C4502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4BC7B-DBF2-4C9D-A354-767A75F4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0A736-924E-4972-9732-019EC208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739F8-3781-4D71-B524-F514AD30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B8B98-427B-4D59-8FD5-76C33204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E30-3DF9-4E7C-8E54-5B2220FB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9D9-4D44-4B7A-943D-84494FE1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50B-8C3F-4199-AAA6-DD0AE8D9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1C1-F92B-4996-A6B8-84F3541C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7CD-CC45-4D1D-9915-A74B0315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9B2D-E8B6-46D9-A9BA-B24E7CEB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1F71-844E-451D-971E-A269866963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D1A9-4DAD-4772-B1C3-34F7C6B53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AC2A-D729-4F3D-8359-808301A7A0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Нравственно- патриотическое воспитание детей дошкольного возра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403280" y="3573360"/>
            <a:ext cx="648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imes New Roman"/>
              </a:rPr>
              <a:t>Путешествие в историю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патриотическом воспитании огромное значение имеет пример взрослых, в особенности же близких людей. На конкретных фактах из жизни старших членов семьи (дедушек и бабушек, участников Великой Отечественной войны, их фронтовых и трудовых подвигов) необходимо привить детям такие важные понятия, как "долг перед Родиной", "любовь к Отечеству", "трудовой подвиг" и т.д. Важно подвести ребенка к пониманию, что мы победили потому, что любим свою Отчизну, Родина чтит своих героев, отдавших жизнь за счастье людей. Их имена увековечены в названиях городов, улиц, площадей, в их честь воздвигнуты памятн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CIMG0385"/>
          <p:cNvPicPr/>
          <p:nvPr/>
        </p:nvPicPr>
        <p:blipFill>
          <a:blip r:embed="rId2"/>
          <a:stretch/>
        </p:blipFill>
        <p:spPr>
          <a:xfrm>
            <a:off x="250920" y="18900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MG_0725"/>
          <p:cNvPicPr/>
          <p:nvPr/>
        </p:nvPicPr>
        <p:blipFill>
          <a:blip r:embed="rId3"/>
          <a:stretch/>
        </p:blipFill>
        <p:spPr>
          <a:xfrm>
            <a:off x="179280" y="3933720"/>
            <a:ext cx="3652920" cy="2739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IMG_0728"/>
          <p:cNvPicPr/>
          <p:nvPr/>
        </p:nvPicPr>
        <p:blipFill>
          <a:blip r:embed="rId4"/>
          <a:stretch/>
        </p:blipFill>
        <p:spPr>
          <a:xfrm>
            <a:off x="5364000" y="39337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IMG_0727"/>
          <p:cNvPicPr/>
          <p:nvPr/>
        </p:nvPicPr>
        <p:blipFill>
          <a:blip r:embed="rId5"/>
          <a:stretch/>
        </p:blipFill>
        <p:spPr>
          <a:xfrm>
            <a:off x="2843280" y="2205000"/>
            <a:ext cx="3435120" cy="2576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CIMG0386"/>
          <p:cNvPicPr/>
          <p:nvPr/>
        </p:nvPicPr>
        <p:blipFill>
          <a:blip r:embed="rId6"/>
          <a:stretch/>
        </p:blipFill>
        <p:spPr>
          <a:xfrm>
            <a:off x="5651640" y="11592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7f4c"/>
                </a:solidFill>
                <a:latin typeface="Times New Roman"/>
              </a:rPr>
              <a:t>Патриотизм – это преданность и любовь к своему отечеству, к своему народу.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ечество наше сильное, непобедимое, великое. Ребята пока ещё маленькие – должны беречь каждый куст, каждое дерев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4" descr="IMG_0184"/>
          <p:cNvPicPr/>
          <p:nvPr/>
        </p:nvPicPr>
        <p:blipFill>
          <a:blip r:embed="rId2"/>
          <a:stretch/>
        </p:blipFill>
        <p:spPr>
          <a:xfrm>
            <a:off x="468360" y="270828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IMG0586"/>
          <p:cNvPicPr/>
          <p:nvPr/>
        </p:nvPicPr>
        <p:blipFill>
          <a:blip r:embed="rId3"/>
          <a:stretch/>
        </p:blipFill>
        <p:spPr>
          <a:xfrm>
            <a:off x="4643280" y="2708280"/>
            <a:ext cx="396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1471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На занятиях передо мной стояла задача научить детей жить и трудиться, так чтобы Родина гордилась ими.</a:t>
            </a:r>
            <a:br>
              <a:rPr sz="18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Миллионы сыновей нашей Родины пали за то, чтобы мир не был, ввергнут в фашистское рабство. Наш народ пережил самую страшную войну, об этой войне ребята узнают больше, когда подрастут и пойдут в школу.</a:t>
            </a: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90" name="Picture 7" descr="IMG_0777"/>
          <p:cNvPicPr/>
          <p:nvPr/>
        </p:nvPicPr>
        <p:blipFill>
          <a:blip r:embed="rId2"/>
          <a:stretch/>
        </p:blipFill>
        <p:spPr>
          <a:xfrm>
            <a:off x="611280" y="2349360"/>
            <a:ext cx="4324320" cy="3243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IMG_0762"/>
          <p:cNvPicPr/>
          <p:nvPr/>
        </p:nvPicPr>
        <p:blipFill>
          <a:blip r:embed="rId3"/>
          <a:stretch/>
        </p:blipFill>
        <p:spPr>
          <a:xfrm>
            <a:off x="5435640" y="2349360"/>
            <a:ext cx="311796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Страна, где мы живём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06436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должением данной работы является знакомство детей с другими городами России, со столицей нашей Родины, с гимном, флагом и гербом государст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324000" y="4797360"/>
            <a:ext cx="842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сюду люди трудятся для всех (учителя учат детей; врачи лечат больных; рабочие делают машины и т.д.)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езде соблюдаются традиции: Родина помнит героев, защитивших ее от врагов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сюду живут люди разных национальностей, совместно трудятся и помогают друг другу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юди берегут и охраняют природу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сть общие профессиональные и общественные праздники и т.д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5" name="Picture 6" descr="77"/>
          <p:cNvPicPr/>
          <p:nvPr/>
        </p:nvPicPr>
        <p:blipFill>
          <a:blip r:embed="rId2"/>
          <a:stretch/>
        </p:blipFill>
        <p:spPr>
          <a:xfrm>
            <a:off x="971640" y="2421000"/>
            <a:ext cx="2687400" cy="201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reative_Wallpaper_Flag_and_National_Emblem_of_Russia_018578_"/>
          <p:cNvPicPr/>
          <p:nvPr/>
        </p:nvPicPr>
        <p:blipFill>
          <a:blip r:embed="rId3"/>
          <a:stretch/>
        </p:blipFill>
        <p:spPr>
          <a:xfrm>
            <a:off x="5003640" y="2421000"/>
            <a:ext cx="2697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c0439"/>
                </a:solidFill>
                <a:latin typeface="Times New Roman"/>
              </a:rPr>
              <a:t>Я – РОССИЯНИН, Я ГОРЖУСЬ СВОЕЙ СТРАНОЙ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триотиз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это преданность и любовь к своему отечеству, к своему народ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красные возможности в воспитании патриотизма предоставляет нам родная природа, именно она воспитывает у детей эмоциональную отзывчивость, чувство прекрасног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спитание патриотизма невозможно также без формирования чувств: удовлетворения и привязанности к месту рождения и жительства, определенному кругу людей, которое расширяется и углубляется от встреч и общения с другими взрослыми: жителями дома, поселка, работниками образовательной школы и детской школы искусств, библиотеки, музея, при знакомстве с местными достопримечательностя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10be"/>
                </a:solidFill>
                <a:latin typeface="Times New Roman"/>
              </a:rPr>
              <a:t>Взаимосвязь с родителями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ормирование патриотических чувств проходит эффективнее, если детский сад устанавливает тесну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связь с семьёй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обходимость подключения семьи к процессу ознакомления дошкольников с социальным окружением объясняется особыми педагогическими возможностями, которыми обладает семья и которые не может заменить дошкольное учреждение: любовь и привязанность к детям, эмоционально-нравственная насыщенность отношений, их общественная, а не эгоистическая направленность и др. Всё это создаёт благоприятные условия для воспитания высших нравственных чувств. Детский сад в своей работе с семьёй должен опираться на родителей не только как на помощников детского учреждения, а как на равноправных участников формирования детской лич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Picture 7" descr="CIMG0628"/>
          <p:cNvPicPr/>
          <p:nvPr/>
        </p:nvPicPr>
        <p:blipFill>
          <a:blip r:embed="rId2"/>
          <a:stretch/>
        </p:blipFill>
        <p:spPr>
          <a:xfrm>
            <a:off x="2428920" y="3786120"/>
            <a:ext cx="374472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6"/>
          <p:cNvSpPr txBox="1"/>
          <p:nvPr/>
        </p:nvSpPr>
        <p:spPr>
          <a:xfrm>
            <a:off x="1214280" y="2500200"/>
            <a:ext cx="6121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34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Задачи патриотического воспитания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спитание у ребенка любви и привязанности к своей семье, дому, детскому саду, улице, город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рмирование бережного отношения к природе и всему живом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спитание уважения к труд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витие интереса к русским традициям и промысла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рмирование элементарных знаний о правах челове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сширение представлений о городах Росс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накомство детей с символами государства (герб, флаг, гимн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витие чувства ответственности и гордости за достижения стран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чувства уважения к другим народам, их традиция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2" descr="C:\Documents and Settings\Владелец\Мои документы\КАРТИНКИ\Анимация 2\Animations\flag10.gif"/>
          <p:cNvPicPr/>
          <p:nvPr/>
        </p:nvPicPr>
        <p:blipFill>
          <a:blip r:embed="rId2"/>
          <a:stretch/>
        </p:blipFill>
        <p:spPr>
          <a:xfrm>
            <a:off x="6948360" y="333360"/>
            <a:ext cx="1533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c0439"/>
                </a:solidFill>
                <a:latin typeface="Times New Roman"/>
              </a:rPr>
              <a:t>С чего начинается Родина?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увство Родины... Оно начинается у ребенка с отношения к семье, к самым близким людям — к матери, отцу, бабушке, дедушке. Это корни, связывающие его с родным домом и ближайшим окружением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ля детей дошкольного возраста, Родина является абстрактным понятием, которое невозможно потрогать, увидеть. 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53" name="Picture 8" descr="IMG_0006"/>
          <p:cNvPicPr/>
          <p:nvPr/>
        </p:nvPicPr>
        <p:blipFill>
          <a:blip r:embed="rId2"/>
          <a:stretch/>
        </p:blipFill>
        <p:spPr>
          <a:xfrm>
            <a:off x="-3230640" y="-2422440"/>
            <a:ext cx="2882880" cy="2162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рис"/>
          <p:cNvPicPr/>
          <p:nvPr/>
        </p:nvPicPr>
        <p:blipFill>
          <a:blip r:embed="rId3"/>
          <a:stretch/>
        </p:blipFill>
        <p:spPr>
          <a:xfrm>
            <a:off x="2268360" y="2924280"/>
            <a:ext cx="48974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19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рвое с чего начинается познание мира ребенком, - это ласковая материнская улыбка, тихая колыбельная песня, добрые глаза и теплые материнские руки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Я считаю, что невозможно воспитать в ребенке патриотические чувства к Родине без таких понятий как: «любовь к матери», к дому, к детскому саду, к своему району…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56" name="Picture 4" descr="IMG_0004"/>
          <p:cNvPicPr/>
          <p:nvPr/>
        </p:nvPicPr>
        <p:blipFill>
          <a:blip r:embed="rId2"/>
          <a:stretch/>
        </p:blipFill>
        <p:spPr>
          <a:xfrm>
            <a:off x="539640" y="306864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IMG_0598"/>
          <p:cNvPicPr/>
          <p:nvPr/>
        </p:nvPicPr>
        <p:blipFill>
          <a:blip r:embed="rId3"/>
          <a:stretch/>
        </p:blipFill>
        <p:spPr>
          <a:xfrm>
            <a:off x="4716360" y="3068640"/>
            <a:ext cx="38671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Наше наследие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 каждого народа свои сказки, и все они передают от поколения 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колению основные нравственные ценности: добро, дружб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заимопомощь, трудолюбие. «Это — первые и блестящие попыт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усской народной педагогики, — писал К.Д. Ушинский, — и я не думаю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тобы кто-нибудь был в состоянии состязаться в этом случае 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дагогическим гением народа". Не случайно К.Д. Ушин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черкивал, что "... воспитание, если оно не хочет быть бессильным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лжно быть народным". Произведения устного народного творчества н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олько формируют любовь к традициям своего народа, но 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пособствуют развитию личности в духе патриотизм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8" descr="CIMG0607"/>
          <p:cNvPicPr/>
          <p:nvPr/>
        </p:nvPicPr>
        <p:blipFill>
          <a:blip r:embed="rId2"/>
          <a:stretch/>
        </p:blipFill>
        <p:spPr>
          <a:xfrm>
            <a:off x="971640" y="4005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IMG0615"/>
          <p:cNvPicPr/>
          <p:nvPr/>
        </p:nvPicPr>
        <p:blipFill>
          <a:blip r:embed="rId3"/>
          <a:stretch/>
        </p:blipFill>
        <p:spPr>
          <a:xfrm>
            <a:off x="4859280" y="3860640"/>
            <a:ext cx="351000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Моя малая Родина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«Я живу в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 ЯНАУЛЕ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малое значение для воспитания у детей интереса и любви к родному краю имеет ближайшее окруже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3311280" cy="2592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148360" y="2133720"/>
            <a:ext cx="37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132000" y="4437000"/>
            <a:ext cx="31813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18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imes New Roman"/>
              </a:rPr>
              <a:t>Знакомство детей  с представителями животного и растительного мира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68" name="Picture 4" descr="рис"/>
          <p:cNvPicPr/>
          <p:nvPr/>
        </p:nvPicPr>
        <p:blipFill>
          <a:blip r:embed="rId2"/>
          <a:stretch/>
        </p:blipFill>
        <p:spPr>
          <a:xfrm>
            <a:off x="1835280" y="3860640"/>
            <a:ext cx="5838840" cy="2752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684360" y="2565360"/>
            <a:ext cx="78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красные возможности в воспитании патриотизма предоставляет нам родная природа, именно она воспитывает у детей эмоциональную отзывчивость, чувство прекрасного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гда дети начали понимать и самостоятельно разбираться в этом понятии, перед нами теперь стояла задача научить их любить все, что их окружает. Это и есть Родина. В возрасте 4-5 лет дети должны знать, что каждое дерево, куст рядом с домом, - это уже Родина и её надо любить и береч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5" descr="IMG_0172"/>
          <p:cNvPicPr/>
          <p:nvPr/>
        </p:nvPicPr>
        <p:blipFill>
          <a:blip r:embed="rId2"/>
          <a:stretch/>
        </p:blipFill>
        <p:spPr>
          <a:xfrm>
            <a:off x="539640" y="177336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_0312"/>
          <p:cNvPicPr/>
          <p:nvPr/>
        </p:nvPicPr>
        <p:blipFill>
          <a:blip r:embed="rId3"/>
          <a:stretch/>
        </p:blipFill>
        <p:spPr>
          <a:xfrm>
            <a:off x="4859280" y="17733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IMG_0622"/>
          <p:cNvPicPr/>
          <p:nvPr/>
        </p:nvPicPr>
        <p:blipFill>
          <a:blip r:embed="rId4"/>
          <a:stretch/>
        </p:blipFill>
        <p:spPr>
          <a:xfrm>
            <a:off x="2843280" y="4365720"/>
            <a:ext cx="314640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5976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Какие сведения и понятия о родном городе способны усвоить дети?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96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иапазон объектов, с которыми знакомят средних дошкольников расширяется — это район и город в целом, его достопримечательности, исторические места и памятники. Детям объясняют, в честь кого они воздвигнуты. Дошкольник должен знать название своего города, своей улицы, прилегающих к ней улиц, а также в честь кого они названы. Ему объясняют, что у каждого человека есть родной дом и город, где он родился и живет. Для этого необходимы экскурсии по городу, на природу, наблюдения за трудом взрослых, где каждый ребенок начинает осознавать, что труд объединяет людей, требует от них слаженности, взаимопомощи, знания своего дела. И здесь большое значение приобретает знакомство детей с народными промыслами края, народными умельца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8" descr="CIMG0616"/>
          <p:cNvPicPr/>
          <p:nvPr/>
        </p:nvPicPr>
        <p:blipFill>
          <a:blip r:embed="rId2"/>
          <a:stretch/>
        </p:blipFill>
        <p:spPr>
          <a:xfrm>
            <a:off x="5867280" y="4292640"/>
            <a:ext cx="3071880" cy="2303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IMG0618"/>
          <p:cNvPicPr/>
          <p:nvPr/>
        </p:nvPicPr>
        <p:blipFill>
          <a:blip r:embed="rId3"/>
          <a:stretch/>
        </p:blipFill>
        <p:spPr>
          <a:xfrm>
            <a:off x="6372360" y="692280"/>
            <a:ext cx="2536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3:06:11Z</dcterms:created>
  <dc:creator>ANNA</dc:creator>
  <dc:description/>
  <dc:language>en-US</dc:language>
  <cp:lastModifiedBy>admin</cp:lastModifiedBy>
  <dcterms:modified xsi:type="dcterms:W3CDTF">2019-02-05T06:08:09Z</dcterms:modified>
  <cp:revision>22</cp:revision>
  <dc:subject/>
  <dc:title>Патриотическое воспитание детей старшего дошкольного возраста</dc:title>
</cp:coreProperties>
</file>