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63E-CA91-4D71-96C0-F9E8B83B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9CF-80CC-4186-91BE-E0DB3C2E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ABA-E9B8-468C-AEC9-2B86DCC5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682-1BE1-4FC0-8998-138A15F4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205F-BF31-4F7E-BB14-CAF340F5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8D22-6024-4FFD-8543-678B2EC7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CAE-B4FF-43AF-BD67-E1824444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51E2-DA6C-4022-BC9A-E96DCC4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73D8-82BF-4DC7-968F-1D5FA9B3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3A15-9C3D-4429-9E72-F4FE980E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A3C0-E787-421F-9608-9C83FB19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797-A091-4BC5-83D4-3E32A530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E9C3-CD91-45B1-B480-F77E709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C0FA-B312-43B3-AF7F-152C7A62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FD8B-AE52-4AAA-BCA9-5A5E261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884E-3791-488D-8CBF-1B6C9B08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5F40-55DD-4EA6-9A35-62859D37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27F6-749A-41B9-8DF0-53980CFE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BF34-25EB-4578-AB37-82BFFA7D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D44C-A036-49E0-87C9-115878F1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640A-D0D5-46EE-803F-FADC197C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8F62-8AC2-484B-A3AF-D3CAC3FC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B26-033E-43EA-B497-F6B98E82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44D8-747E-4EE8-806C-40B0954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22A5-E686-456D-ACEB-C80DDB1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9831-C959-467D-B93D-B680D45C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B19A-243E-448B-A29A-DD4EE93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A467-614F-487B-BE39-F9C050A0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2E76-7FC5-41C5-956E-45EAC0DC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DB3A-8BE1-4A1B-A761-6CF0DA61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6EBE8-7455-4D3E-B1F2-1D133943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6BAE-EDEF-4555-BDA1-8A53B14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78E9-2B37-449E-B655-DB1FE362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B8E-E85B-4B2A-BFCB-D131E97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927A-0F40-40A0-970E-08511A0A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F082-EFD0-458D-81B0-EE4FDA41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C3A8-7936-473E-BDD9-F8A9CD12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00CC-2F4F-428E-892D-6C34151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32439-9D8F-4BC6-8106-88FFDF1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42DD-4D90-4929-8BC9-B377AF3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7131-77EB-4B6C-AEBC-2484EDB0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795E-E0BA-4ED5-A4FF-B758B829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5EF7-C5E4-4833-A1D6-387AE8CA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A3E52-52BF-4848-AD5F-E2A6EB64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544-14D8-46AB-9642-4861F1F2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77C50-7605-4A17-8AF6-5269FCBB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310F-8A13-403E-8F64-B987441D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405B-E3F0-4912-B36B-F37CCE5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AC76-DAC9-4A87-B5DD-1035585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6D40-4A9F-4ED4-83E4-97219186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F1B7E-D0F4-4C03-9758-CC06227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D6DC-65F9-406E-A653-CF2E1DFD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1BD4-208D-4BE9-A16F-FB099228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F3C70-9EC6-4893-85EA-BDEF30F6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2C81-E20B-456E-8FBA-D7D5DABC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979-661B-4F90-A2FA-E061D9C0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7199-A137-472F-84C0-BA06C5B2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A3678-278D-4A2B-BFA9-56619830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3EFF-9447-427A-B591-040AA7A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AEFF-7305-4514-A5C5-F8EAEBB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4E89-2A7F-4B60-BBC7-0F271CF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0B2D-B0CD-43D8-90D9-D13ADC66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6F2F1-ED99-462A-92B9-2B331494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60A0-C822-44FA-9F56-E9D0CA20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C52DE-632A-4868-B1E3-648AE90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40611-CB6D-4F8F-ADB5-A8EB7F1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71C-3DEA-4094-90C9-C014B9E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D7EBC-8511-4EF3-AD0F-E4680687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A30D9-CCC9-45D4-B33B-2DBEC7C4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9E971-D22D-4C75-BD82-13C62EAD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DEE-7173-4F51-AD7C-9DDD7E8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0B0-4EA6-4222-AA61-D32D4168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C59-4AF3-4563-BFA8-B1F8C4AC986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FAD9-2882-479A-BFA5-A43958464D6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BAB-BA48-427E-A69F-6D9B680CDC0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B67-0712-49F0-81E7-752398E4B7A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8EA-C08E-4D49-B98A-2D3B6772E40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CBA2-B79B-49B7-9C2B-81EABC852D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26960" y="3200400"/>
            <a:ext cx="695484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Что мы знаем о н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1" descr=""/>
          <p:cNvPicPr/>
          <p:nvPr/>
        </p:nvPicPr>
        <p:blipFill>
          <a:blip r:embed="rId2"/>
          <a:stretch/>
        </p:blipFill>
        <p:spPr>
          <a:xfrm>
            <a:off x="714240" y="4067280"/>
            <a:ext cx="28530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000ff"/>
                </a:solidFill>
                <a:latin typeface="Franklin Gothic Book"/>
              </a:rPr>
              <a:t>Киберугроз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кибербуллинг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то запугивание и травля с использованием цифровых технологий. Он может проходить в социальных сетях, в приложениях для обмена сообщениями, на игровых платформах и мобильных телефонах. Это повторяющиеся эпизоды, цель которых - напугать, разозлить или опозорить тех, кого преследую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Алина, ты глупая! У тебя ничего не получится, ты - неудачница! Таких как ты ничего хорошего не ждет! И вообще, если ты кому-нибудь покажешь это сообщение, то у твоей бабушки, твоей дорогой бабушки, будут неприятности, а точнее проблемы!!!! Хотя нет! Даже если ты никому не покажешь это письмо, то у твоей бабушки, а потом и у тебя, будут проблемы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дравляем !!!! Вы стали счастливым обладателем выигрыша в лотерее магазина «Пятрочка». Вы выиграли новый смартфон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ealme 9 Pro. Отправьте нам в сообщении своё имя, фамилию и адрес проживания, чтобы бы могли выслать вам ваш смартфо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0000"/>
                </a:solidFill>
                <a:latin typeface="Arial"/>
              </a:rPr>
              <a:t>Правила безопасного интернет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С грубиянами в с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говор не завод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у и сам не оплошай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го не обижай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0000"/>
                </a:solidFill>
                <a:latin typeface="Arial"/>
              </a:rPr>
              <a:t>Правила безопасного интернет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Злые люди в Интернет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авляют свои се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 незнакомыми людь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на встречу не иди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Правила безопасного интерне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Если что-то непонят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шно или неприят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о к взрослым поспеш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кажи и покаж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проблемы в Интерн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месте взрослые и де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ут все решить всег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особого труд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8:23:52Z</dcterms:created>
  <dc:creator>User</dc:creator>
  <dc:description/>
  <dc:language>en-US</dc:language>
  <cp:lastModifiedBy>Валентина</cp:lastModifiedBy>
  <dcterms:modified xsi:type="dcterms:W3CDTF">2022-11-17T15:47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