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8B9-419F-48B1-8066-C8089155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624-0B5F-4F4C-ABAD-3CF060B8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13F-94FA-4090-BDCF-03E43B84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9B7-1AD8-45C9-A30B-B2CF612E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C418-F6F9-4722-9D60-0316C143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B719-9A37-4258-A58F-2C057943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1E52-FFA9-4EE9-89D6-3F2440A0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5CA5-E689-489C-9A2F-B16B0C7C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BA9E-DFD3-43D0-8BF3-2BC58D2A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843C-249B-4687-A593-BD73485B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7255-17BC-441C-9657-B8605E6F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D114-DA33-47D8-8F7E-4CF4F71F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6278-A09D-41E9-A9B8-247FB89F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E2B8-66CE-4B08-8BB7-91D075CA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9D78-64B7-453F-9014-1E2D21EB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B006-F22C-4CCC-9C85-826014AF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AAD7-446E-446E-AB8C-D3485280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B6B7A-FA07-46AB-B5B0-60FE1620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EE27A-6B50-4A43-9671-03054372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6B54C-83E1-4099-B963-7BD3D7AC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60C1B-1A8C-4F0B-80A6-30E83601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4B88F-3346-477D-9E9C-7B0DA5EB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829-4D04-4688-8D2D-3EAB26D5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871CC-C355-4923-AB8D-C7596AF9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E5FFD-03DF-409A-B9A3-7D3F9ECC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EA897-C277-4DE3-86AC-748ABBF7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DCF5D-0325-4CC8-861F-83DB6A6B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40CCD-962A-44A9-9AD3-5F4712B7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E957F-A4B4-4B21-A12B-F8FC05A6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9878E-2494-40D8-8B2E-DE6C3591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AB940-163D-437D-A98A-4FA26DB4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9C492-ECAA-402B-BE0B-5ACAAA74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96008-76F3-4823-A109-1DED9410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D44-6AA1-4AA7-8472-D9E2CB8C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6130A-0100-4727-8983-B7E2946A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A85B9-8713-4F80-944F-D9EE6337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4789B-42E4-41A3-B9F6-BD9ABFE8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70334-5577-4385-AEF5-E1C01FFE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9E892-D779-46A6-A3B6-63BD4580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33046-0A13-4B48-A383-030FF82E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CA6AD-9B7F-49BF-B658-09477D8B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DC38D-C21A-4DF0-83F4-B75C7DFD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16676-653C-471E-B75F-4C9B82F2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FAC62-6412-4655-B302-ECB2FF78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889C-C4D0-4BC7-9B82-91332A9D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D20C2-FFB6-420C-B5BE-4E7B95E1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09821-71D9-454A-BF86-68297EB8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44423-FACC-4998-B642-CD47F310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4EF1F-DB29-4856-B587-5B0216E5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00C35-78FD-44F2-8C9C-7CFDCB25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B6B9B-BDF8-473E-921A-76C828FA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A4A30-B326-4765-9265-95930F85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E4874-3DDB-420B-A83D-92F411BA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9E975-E0FE-430C-883C-2736E8E0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65D51-72DE-437D-8978-C6C7C8F8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C9F-9532-48BF-BADE-FDA896FA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5BAE7-BAB6-4C5E-95A4-B4EC8942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14495-F55C-45B6-8BB7-D433D4D1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597A5-E2ED-4B53-8AC1-A2703290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0BA27-C11C-4F96-9BDE-92124E55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AAC0C-90C9-4B42-BD77-F1B8142C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300AA-EC5B-4C13-92B8-DB0832D4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5638B-47F2-4D92-863A-19D22921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CCDEB-F5B0-40DE-A6B6-D09C98CD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65FCA-A7A2-4115-B9FA-7A24D3D0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20A6A-C31D-4C1E-A3FF-DF4F2FAC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52A-B1EB-4BB1-8624-18FAA566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65A73-0B04-4F4C-8FD2-68927EAF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E2144-E2F2-4401-9057-8AEE5FEC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25532-BAF0-40FE-8FD9-6A614115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81E-4572-4113-BC96-D60FAA29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AC46-57CB-4915-9193-9582B13C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8A4F-DA5E-45A1-AABD-AA3D266E573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11A1-DFF9-444F-BE82-585384B800D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D367-CC73-442B-B961-E086DEA112F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47E2-ACB5-4D67-9534-EA02F6FA0D2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A01E-FA06-4021-B456-BE0365AF90E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5A8D-3490-4921-8715-7FF7F28172A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426960" y="3200400"/>
            <a:ext cx="6954840" cy="24382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Что мы знаем о ни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Рисунок 1" descr=""/>
          <p:cNvPicPr/>
          <p:nvPr/>
        </p:nvPicPr>
        <p:blipFill>
          <a:blip r:embed="rId2"/>
          <a:stretch/>
        </p:blipFill>
        <p:spPr>
          <a:xfrm>
            <a:off x="714240" y="4067280"/>
            <a:ext cx="285300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0000ff"/>
                </a:solidFill>
                <a:latin typeface="Franklin Gothic Book"/>
              </a:rPr>
              <a:t>Киберугроз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cc0000"/>
                </a:solidFill>
                <a:uFillTx/>
                <a:latin typeface="Arial"/>
              </a:rPr>
              <a:t>кибербуллинг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 –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это запугивание и травля с использованием цифровых технологий. Он может проходить в социальных сетях, в приложениях для обмена сообщениями, на игровых платформах и мобильных телефонах. Это повторяющиеся эпизоды, цель которых - напугать, разозлить или опозорить тех, кого преследуют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- Алина, ты глупая! У тебя ничего не получится, ты - неудачница! Таких как ты ничего хорошего не ждет! И вообще, если ты кому-нибудь покажешь это сообщение, то у твоей бабушки, твоей дорогой бабушки, будут неприятности, а точнее проблемы!!!! Хотя нет! Даже если ты никому не покажешь это письмо, то у твоей бабушки, а потом и у тебя, будут проблемы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здравляем !!!! Вы стали счастливым обладателем выигрыша в лотерее магазина «Пятрочка». Вы выиграли новый смартфон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ealme 9 Pro. Отправьте нам в сообщении своё имя, фамилию и адрес проживания, чтобы бы могли выслать вам ваш смартфон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c0000"/>
                </a:solidFill>
                <a:latin typeface="Arial"/>
              </a:rPr>
              <a:t>Правила безопасного интернета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С грубиянами в се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говор не завод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у и сам не оплошай 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икого не обижай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c0000"/>
                </a:solidFill>
                <a:latin typeface="Arial"/>
              </a:rPr>
              <a:t>Правила безопасного интернета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Злые люди в Интернет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авляют свои се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 незнакомыми людь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ы на встречу не иди!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Правила безопасного интерне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Если что-то непонятн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ашно или неприятн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стро к взрослым поспеш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кажи и покаж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проблемы в Интерне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месте взрослые и де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гут все решить всег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особого труда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2T08:23:52Z</dcterms:created>
  <dc:creator>User</dc:creator>
  <dc:description/>
  <dc:language>en-US</dc:language>
  <cp:lastModifiedBy>Валентина</cp:lastModifiedBy>
  <dcterms:modified xsi:type="dcterms:W3CDTF">2022-11-17T15:47:3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