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5E3B-6CC3-48FF-A1EA-9BF7BDFC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F0A-7B9D-408D-BE39-4D661B07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789-4B07-4D53-ABFA-9207BD80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99F-EB1D-4A37-889A-78376DB2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9E04-F617-452D-92CF-D10CEB24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FC8-02F9-4112-839B-1E35A4CE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083-3055-4BF3-B6D4-94526447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3014-324D-4E21-B1CD-995C56A3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BEB-1C6F-4545-B109-B922ECB3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8F4-308A-48F7-A266-A3F5F36B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C64-A5EF-4081-A2D5-83809724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DAC-2C1B-4AF2-BC81-BD00564A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EAD3-8B86-4135-9746-A26C9DFCEC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412640"/>
            <a:ext cx="6674040" cy="31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униципальное бюджетное дошколь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ский сад  «Золотая рыбка»</a:t>
            </a: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632523"/>
                </a:solidFill>
                <a:latin typeface="Bookman Old Style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600"/>
            </a:br>
            <a:r>
              <a:rPr b="1" lang="ru-RU" sz="2400" spc="-1" strike="noStrike">
                <a:solidFill>
                  <a:srgbClr val="953735"/>
                </a:solidFill>
                <a:latin typeface="Bookman Old Style"/>
              </a:rPr>
              <a:t>Консультация для педагогов ДОУ.</a:t>
            </a:r>
            <a:br>
              <a:rPr sz="2400"/>
            </a:br>
            <a:r>
              <a:rPr b="1" lang="ru-RU" sz="2400" spc="-1" strike="noStrike">
                <a:solidFill>
                  <a:srgbClr val="953735"/>
                </a:solidFill>
                <a:latin typeface="Bookman Old Style"/>
              </a:rPr>
              <a:t>Профессиональный стандарт «Педагог»</a:t>
            </a:r>
            <a:br>
              <a:rPr sz="2400"/>
            </a:b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 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дготовила: воспитатель Дадельцева А.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000" y="5300640"/>
            <a:ext cx="5543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Bookman Old Style"/>
              </a:rPr>
              <a:t>с. Печерс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Bookman Old Style"/>
              </a:rPr>
              <a:t>2022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979280" y="189000"/>
            <a:ext cx="67071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бходимые зн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ФГОС Д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ные закономерности возрастного развития, стадии и кризисы развития, социализация личности, индикаторы индивидуальных особенностей де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ные принципы деятельностного подхода, виды и приемы современных педагогических технолог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Рабочая программа и методика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Конвенция о правах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Трудовое законодатель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Трудовая функция. Воспит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58560" y="1268280"/>
            <a:ext cx="7777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удовые действ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Регулирование поведения обучающихся для обеспечения безопасной образовательной ср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Проектирование и реализация воспитательных програ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Проектирование ситуаций и событий, развивающих эмоционально-ценностную сферу ребенка (культуру переживаний и ценностные ориентации ребенк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Развитие у обучающихся познавательной активности, самостоятельности, инициативы, творческих способностей, формирование гражданской пози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258560" y="259920"/>
            <a:ext cx="78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бходимые ум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Строить воспитательную деятельность с учетом культурных различий детей, половозрастных и индивидуальных особен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бщаться с детьми, признавать их достоинство, понимая и принимая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Создавать в группах разновозрастные детско-взрослые общности обучающихся, их родителей (законных представителей) и педагогических работ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Защищать достоинство и интересы обучающихся, помогать детям, оказавшимся в конфликтной ситу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Сотрудничать с другими педагогическими работниками и другими специалистами в решении воспитательных 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332000" y="115560"/>
            <a:ext cx="763272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бходимые зн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ы законодательства о правах ребенка, законы в сфере образования и ФГОС Д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ы психодидактики, поликультурного образования, закономерностей поведения в социальных сет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ы методики воспитательной работы, основные принципы деятельностного подхода, виды и приемы современных педагогических технолог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Нормативные правовые, руководящие и инструктивные документы, регулирующие организацию и проведение мероприятий за пределами территории образовательной организации (экскурси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Трудовая функция. Развивающая деятельность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560" y="1125000"/>
            <a:ext cx="8137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удовые действ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ыявление в ходе наблюдения поведенческих и личностных проблем обучающихся, связанных с особенностями их разви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Применение инструментария и методов диагностики и оценки показателей уровня и динамики развития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воение и применение психолого-педагогических технологий (в том числе инклюзивных), необходимых для адресной работы с различными контингентами обучающ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Взаимодействие с другими специалистами в рамках психолого-медико-педагогического консилиу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258560" y="115560"/>
            <a:ext cx="7705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бходимые ум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Владеть профессиональной установкой на оказание помощи любому ребенку вне зависимости от его особенностей, состояния психического и физического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Составлять (совместно с психологом и другими специалистами) психолого-педагогическую характеристику (портрет) личности обучающего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Разрабатывать и реализовывать индивидуальные образовательные маршруты, индивидуальные программы разви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Владеть стандартизированными методами психодиагностики личностных характеристик и возрастных особенностей обучаю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547280" y="475920"/>
            <a:ext cx="7139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бходимые зн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Педагогические закономерности организации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Теория и технологии учета возрастных особенностей обучаю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ные закономерности семейных отношений, позволяющие эффективно работать с родительской общественнос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ы психодиагностики и основные признаки отклонения в развитии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Социально-психологические особенности и закономерности развития детско-взрослых сооб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Трудовая функция. Педагогическая деятельность по реализации программ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258560" y="1557360"/>
            <a:ext cx="777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удовые действ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Участие в разработке ООП образовательной организации в соответствии с ФГОС Д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Участие в создании безопасной и психологически комфортной образовательной среды образовательной организ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ланирование и реализация образовательной работы в группе детей раннего и/или дошкольного возраста в соответствии с ФГ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Организация и проведение педагогического мониторинга освоения детьми образовательной програм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258560" y="189000"/>
            <a:ext cx="7777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Формирование психологической готовности к школьному обуч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Создание позитивного психологического климата в группе и условий для доброжелательных отношений между деть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рганизация видов деятельности, осуществляемых в раннем и дошкольном возра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Активное использование недирективной помощи и поддержка детской инициативы и самостоятельности в разных видах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рганизация образовательного процесса на основе непосредственного общения с каждым ребенком с учетом его особых образовательных потреб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187280" y="88920"/>
            <a:ext cx="7786800" cy="67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бходимые ум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рганизовывать виды деятельности, осуществляемые в раннем и дошкольном возра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Применять методы физического, познавательного и личностного развития детей раннего и дошкольного возраста в соответствии с образовательной программ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Использовать методы и средства анализа психолого-педагогического мониторин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Владеть всеми видами развивающих деятельностей дошкольника (игровой, продуктивной, познавательно-исследовательско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Выстраивать партнерское взаимодействие с родителями (законными представителям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Владеть ИКТ-компетентност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85840"/>
            <a:ext cx="79214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Профессиональный стандарт педаг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47640" y="1412640"/>
            <a:ext cx="734544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окумент, регламентирующий требования к профессиональным знаниям и навыкам педаго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обходим дл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установления  квалификационного  уровня  педагог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формирования  должностных инструк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00000" y="115920"/>
            <a:ext cx="8136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бходимые зн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Специфика дошкольного образования и особенностей организации работы с детьми раннего и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ные психологические подходы: культурно-исторический, деятельностный и личностный; основы дошкольной педагог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бщие закономерности развития ребенка в раннем и дошкольном возра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обенности становления и развития детских деятельностей в раннем и дошкольном возра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ы теории физического, познавательного и личностного развития детей раннего и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Современные тенденции развития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Bookman Old Style"/>
              </a:rPr>
              <a:t>Источн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03280" y="1483920"/>
            <a:ext cx="756144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https://profstandart.rosmintrud.ru/obshchiy-informatsionnyy-blok/natsionalnyy-reestr-professionalnykh-standartov/reestr-professionalnykh-standartov/index.php?ELEMENT_ID=563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https://profstandart.rosmintrud.ru/upload/iblock/444/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С%20Педагог.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oc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22160" y="571320"/>
            <a:ext cx="7772400" cy="6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979640" y="1279800"/>
            <a:ext cx="66960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11111"/>
                </a:solidFill>
                <a:latin typeface="Bookman Old Style"/>
                <a:ea typeface="Calibri"/>
              </a:rPr>
              <a:t>Стандарт</a:t>
            </a:r>
            <a:r>
              <a:rPr b="0" lang="ru-RU" sz="2400" spc="-1" strike="noStrike">
                <a:solidFill>
                  <a:srgbClr val="111111"/>
                </a:solidFill>
                <a:latin typeface="Bookman Old Style"/>
                <a:ea typeface="Calibri"/>
              </a:rPr>
              <a:t> - это перечень требований, определяющих квалификацию работника, необходимую для качественного выполнения возложенных на него обязан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рофессиональный стандарт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 – характеристика квалификации, которая необходима работнику для осуществления определенного вида профессиональной деятельности или выполнения трудовой 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76000" y="260280"/>
            <a:ext cx="7310520" cy="81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Цели профессионального стандар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хема 4" descr=""/>
          <p:cNvPicPr/>
          <p:nvPr/>
        </p:nvPicPr>
        <p:blipFill>
          <a:blip r:embed="rId1"/>
          <a:stretch/>
        </p:blipFill>
        <p:spPr>
          <a:xfrm>
            <a:off x="1682640" y="1341360"/>
            <a:ext cx="715032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85560" y="500040"/>
            <a:ext cx="727236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Содержание  профессионального стандар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050920" y="2060640"/>
            <a:ext cx="61930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аздел 1. Общие с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бщие данные о специальности, для которой разрабатывался данный станда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едагогические работники в дошкольном образов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618920" y="500040"/>
            <a:ext cx="69390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Содержание  профессионального станд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143000" y="1357200"/>
            <a:ext cx="724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аздел  2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удовые 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хема 4" descr=""/>
          <p:cNvPicPr/>
          <p:nvPr/>
        </p:nvPicPr>
        <p:blipFill>
          <a:blip r:embed="rId1"/>
          <a:stretch/>
        </p:blipFill>
        <p:spPr>
          <a:xfrm>
            <a:off x="2073240" y="2048040"/>
            <a:ext cx="6278760" cy="40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26920" y="260280"/>
            <a:ext cx="777240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Bookman Old Style"/>
              </a:rPr>
              <a:t>Раздел   3. Характеристика обобщенных трудовых функц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332000" y="907920"/>
            <a:ext cx="7561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ебования к образованию и обучению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. Высшее образование или среднее профессиональное образо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ебования к опыту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актической работы не предъявля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собые условия допуска к рабо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 допускаются к работе в ДО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Лица, лишённые по приговору суда права заниматься педагогической деятельностью; имеющие судимость текущую или погашенную; признанные решением суда недееспособны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Лица, имеющие медицинские  противопоказания для занятия педагогической деятельность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0024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Общепедагогическая функция. Обу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000" y="980640"/>
            <a:ext cx="75596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удовые действ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Разработка и реализация программ  в рамках основной общеобразовательной програм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уществление профессиональной деятельности в соответствии с требованиями ФГОС Д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Участие в разработке и реализации программы развития образовательной организации в целях создания безопасной и комфортной образовательной среды. Планирование и проведение учебных занят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рганизация, осуществление контроля и оценки учебных достижений, текущих и итоговых результатов освоения ООП обучающими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259920"/>
            <a:ext cx="8640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бходимые ум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Владеть формами и методами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бъективно оценивать знания обучающихся на основе мониторинга и других методов контроля в соответствии с реальными  возможностями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Разрабатывать (осваивать) и применять современные психолого-педагогические технолог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Использовать и апробировать специальные подходы к обучению в целях включения в образовательный процесс всех обучающихся, в том числе с особыми потребностями в образовании: обучающихся, проявивших выдающиеся способности, обучающихся с ОВ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Владеть ИКТ-компетентностями: общепользовательская ИКТ-компетентность; общепедагогическая ИКТ-компетент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Анастасия Дадельцева</cp:lastModifiedBy>
  <dcterms:modified xsi:type="dcterms:W3CDTF">2022-10-02T13:38:36Z</dcterms:modified>
  <cp:revision>64</cp:revision>
  <dc:subject/>
  <dc:title>Шаблон презентации</dc:title>
</cp:coreProperties>
</file>