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8E8-077F-4335-BE97-FF35D75E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370-DCDC-4E7D-826F-8A269352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DDE-E40B-4717-B7CC-4DE0FAF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ECA-74EF-4C4E-AC06-A4A48CF0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48E-554D-4CF1-AEFC-845FD332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E24-45BD-4890-80DA-83CCAFF8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A8C-2E85-498C-99A0-02AF0E00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33B-5762-4367-9D5B-5150C57A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DDB-B762-4143-8917-7B7BB34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C25-918B-45B6-AD83-5C41A23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195-1580-4972-9FEF-E998AD6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7BC-D0A6-467C-97D4-A7CC333D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CDB-612A-4EB3-BB2B-18C770BE5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412640"/>
            <a:ext cx="6674040" cy="31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кий сад  «Золотая рыбка»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32523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Консультация для педагогов ДОУ.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Профессиональный стандарт «Педагог»</a:t>
            </a:r>
            <a:br>
              <a:rPr sz="24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готовила: воспитатель Дадельцева А.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530064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Bookman Old Style"/>
              </a:rPr>
              <a:t>с. Печерс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Bookman Old Style"/>
              </a:rPr>
              <a:t>2022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79280" y="189000"/>
            <a:ext cx="6707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закономерности возрастного развития, стадии и кризисы развития, социализация личности, индикаторы индивидуальных особенностей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принципы деятельностного подхода, виды и приемы современ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бочая программа и методика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Конвенция о правах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Трудовое законодатель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Трудовая функция. Воспит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560" y="1268280"/>
            <a:ext cx="777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егулирование поведения обучающихся для обеспечения безопасной образовательно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оектирование и реализация воспитательных пр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оектирование ситуаций и событий, развивающих эмоционально-ценностную сферу ребенка (культуру переживаний и ценностные ориентации ребен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витие у обучающихся познавательной активности, самостоятельности, инициативы, творческих способностей, формирование граждан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258560" y="259920"/>
            <a:ext cx="78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троить воспитательную деятельность с учетом культурных различий детей, половозрастных и индивидуальных особ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щаться с детьми, признавать их достоинство, понимая и принимая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здавать в группах разновозрастные детско-взрослые общности обучающихся, их родителей (законных представителей) и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Защищать достоинство и интересы обучающихся, помогать детям, оказавшимся в конфликтной ситу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трудничать с другими педагогическими работниками и другими специалистами в решении воспитатель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32000" y="115560"/>
            <a:ext cx="76327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законодательства о правах ребенка, законы в сфере образования и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психодидактики, поликультурного образования, закономерностей поведения в социальных сет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методики воспитательной работы, основные принципы деятельностного подхода, виды и приемы современ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Нормативные правовые, руководящие и инструктивные документы, регулирующие организацию и проведение мероприятий за пределами территории образовательной организации (экскурс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Трудовая функция. Развивающая деятельность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560" y="1125000"/>
            <a:ext cx="813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ыявление в ходе наблюдения поведенческих и личностных проблем обучающихся, связанных с особенностями их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именение инструментария и методов диагностики и оценки показателей уровня и динамики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воение и применение психолого-педагогических технологий (в том числе инклюзивных), необходимых для адресной работы с различными контингентами обучающ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заимодействие с другими специалистами в рамках психолого-медико-педагогического консилиу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58560" y="115560"/>
            <a:ext cx="7705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профессиональной установкой на оказание помощи любому ребенку вне зависимости от его особенностей, состояния психического и физического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ставлять (совместно с психологом и другими специалистами) психолого-педагогическую характеристику (портрет) личности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атывать и реализовывать индивидуальные образовательные маршруты, индивидуальные программы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стандартизированными методами психодиагностики личностных характеристик и возраст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547280" y="475920"/>
            <a:ext cx="7139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едагогические закономерности организации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Теория и технологии учета возраст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закономерности семейных отношений, позволяющие эффективно работать с родительской обществен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психодиагностики и основные признаки отклонения в развит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циально-психологические особенности и закономерности развития детско-взрослых сооб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Трудовая функция. Педагогическая деятельность по реализации программ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58560" y="155736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разработке ООП образовательной организации в соответствии с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создании безопасной и психологически комфортной образовательной среды образовательной орган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ланирование и реализация образовательной работы в группе детей раннего и/или дошкольного возраста в соответствии с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Организация и проведение педагогического мониторинга освоения детьми 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58560" y="189000"/>
            <a:ext cx="7777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ормирование психологической готовности к школьному обу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здание позитивного психологического климата в группе и условий для доброжелательных отношений между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 видов деятельности, осуществляемых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Активное использование недирективной помощи и поддержка детской инициативы и самостоятельности в разн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 образовательного процесса на основе непосредственного общения с каждым ребенком с учетом его особых образовательных потре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87280" y="88920"/>
            <a:ext cx="778680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овывать виды деятельности, осуществляемые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Применять методы физического, познавательного и личностного развития детей раннего и дошкольного возраста в соответствии с образовательной программ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Использовать методы и средства анализа психолого-педагогического монитор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всеми видами развивающих деятельностей дошкольника (игровой, продуктивной, познавательно-исследовательск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ыстраивать партнерское взаимодействие с родителями (законными представител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ИКТ-компетентност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85840"/>
            <a:ext cx="79214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Профессиональный стандарт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640" y="1412640"/>
            <a:ext cx="73454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окумент, регламентирующий требования к профессиональным знаниям и навыкам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обходим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становления  квалификационного  уровня  педаг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формирования  должностных инстру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00000" y="115920"/>
            <a:ext cx="81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зн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пецифика дошкольного образования и особенностей организации работы с детьми раннего и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ные психологические подходы: культурно-исторический, деятельностный и личностный; основы дошкольной педагог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щие закономерности развития ребенка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обенности становления и развития детских деятельностей в раннем и дошкольном возра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новы теории физического, познавательного и личностного развития детей раннего и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Современные тенденции развития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Bookman Old Style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03280" y="1483920"/>
            <a:ext cx="75614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ttps://profstandart.rosmintrud.ru/obshchiy-informatsionnyy-blok/natsionalnyy-reestr-professionalnykh-standartov/reestr-professionalnykh-standartov/index.php?ELEMENT_ID=56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ttps://profstandart.rosmintrud.ru/upload/iblock/444/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С%20Педагог.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57132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979640" y="1279800"/>
            <a:ext cx="6696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11111"/>
                </a:solidFill>
                <a:latin typeface="Bookman Old Style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111111"/>
                </a:solidFill>
                <a:latin typeface="Bookman Old Style"/>
                <a:ea typeface="Calibri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 обяза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ональны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310520" cy="8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Цели профессионального стандар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4" descr=""/>
          <p:cNvPicPr/>
          <p:nvPr/>
        </p:nvPicPr>
        <p:blipFill>
          <a:blip r:embed="rId1"/>
          <a:stretch/>
        </p:blipFill>
        <p:spPr>
          <a:xfrm>
            <a:off x="1682640" y="1341360"/>
            <a:ext cx="715032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5560" y="500040"/>
            <a:ext cx="72723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держание  профессионального стандар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0920" y="2060640"/>
            <a:ext cx="6193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дел 1. Общ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ие данные о специальности, для которой разрабатывался данный станда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дагогические работники в дошкольном образ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18920" y="500040"/>
            <a:ext cx="6939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143000" y="135720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аздел  2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хема 4" descr=""/>
          <p:cNvPicPr/>
          <p:nvPr/>
        </p:nvPicPr>
        <p:blipFill>
          <a:blip r:embed="rId1"/>
          <a:stretch/>
        </p:blipFill>
        <p:spPr>
          <a:xfrm>
            <a:off x="2073240" y="2048040"/>
            <a:ext cx="62787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920" y="260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Раздел   3. Характеристика обобщенных труд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332000" y="907920"/>
            <a:ext cx="75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бования к образованию и обучению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 Высшее образование или среднее профессиональное образ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бования к опыту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актической работы не предъявля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обые условия допуска к рабо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 допускаются к работе в ДО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Лица, лишённые по приговору суда права заниматься педагогической деятельностью; имеющие судимость текущую или погашенную; признанные решением суда недееспособ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Лица, имеющие медицинские  противопоказания для занятия педагогической деятель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0024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Общепедагогическая функция.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отка и реализация программ  в рамках основной общеобразовательной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существление профессиональной деятельности в соответствии с требованиями ФГОС 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Участие в разработке и реализации программы развития образовательной организации в целях создания безопасной и комфортной образовательной среды. Планирование и проведение учебных зан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рганизация, осуществление контроля и оценки учебных достижений, текущих и итоговых результатов освоения ООП обучающими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59920"/>
            <a:ext cx="8640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формами и методами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Объективно оценивать знания обучающихся на основе мониторинга и других методов контроля в соответствии с реальными  возможностям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Разрабатывать (осваивать) и применять современные психолого-педагогические технолог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Использовать и апробировать специальные подходы к обучению в целях включения в образовательный процесс всех обучающихся, в том числе с особыми потребностями в образовании: обучающихся, проявивших выдающиеся способности, обучающихся с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Владеть ИКТ-компетентностями: общепользовательская ИКТ-компетентность; общепедагогическая ИКТ-компетент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Анастасия Дадельцева</cp:lastModifiedBy>
  <dcterms:modified xsi:type="dcterms:W3CDTF">2022-10-02T13:38:36Z</dcterms:modified>
  <cp:revision>64</cp:revision>
  <dc:subject/>
  <dc:title>Шаблон презентации</dc:title>
</cp:coreProperties>
</file>